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AAC-033C-45FB-A205-45FDDA9B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0DE-0816-479D-9900-BB887A1B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7EE-33E1-4705-A031-ADE6ACC2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BBFC-85D2-4712-AB05-6B5DBFAF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72C0-DE80-460D-AA0B-9E1E8BA3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E3B-F2E7-41ED-A770-757ACC96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06F1-0695-4AEE-916A-C0B1ECD9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F8F3-FA86-4B31-B924-A074C528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CBF-9622-421A-8BB4-77ADA066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765F-E52A-4480-959E-399E464B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BA6-B0C5-4305-A74F-73FB206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2FB-6BF4-4D0F-96E8-E0CF6456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14F7-BB28-45A3-A62C-06BEB92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206E-DC03-4ACD-8DDD-9014588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D7DA-99C5-4009-B9B1-EBA777B2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B96E-75B1-404A-A52B-E4AD6416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E724-EE69-47DE-930C-16CB1DB8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E37-1E31-4704-9077-C928AD56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4BA-468B-4E1E-8323-0A1989F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A52-7BA2-4DE6-963A-AFD7722E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1B6-8338-4FEE-BDAD-090D8E51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6F3-C40A-4107-9A4C-4EBD329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3F2-0AF8-4DB4-88AB-220D4657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0B-E78C-4332-9BA0-8BC6B39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767-6B0B-4462-9C36-417F60B34E9E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5355360" y="6488280"/>
            <a:ext cx="38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4F2-71FC-454E-8665-3222904387DD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0BB7-2BDE-4BD9-9D7C-F65B26A88606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(Düz/Çapraz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8510-24D8-4095-9C4B-04F24EAA63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arılı çiftleri çöz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2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çözerek renk sırasına diz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step2"/>
          <p:cNvPicPr/>
          <p:nvPr/>
        </p:nvPicPr>
        <p:blipFill>
          <a:blip r:embed="rId1"/>
          <a:stretch/>
        </p:blipFill>
        <p:spPr>
          <a:xfrm>
            <a:off x="1447920" y="2743200"/>
            <a:ext cx="6095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7E53-8B9E-404E-B604-5509076ED15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3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renk sırasına dizm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62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A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A/EIA 568B: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step3"/>
          <p:cNvPicPr/>
          <p:nvPr/>
        </p:nvPicPr>
        <p:blipFill>
          <a:blip r:embed="rId1"/>
          <a:stretch/>
        </p:blipFill>
        <p:spPr>
          <a:xfrm>
            <a:off x="2195640" y="3284640"/>
            <a:ext cx="48765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040-8360-4D0A-9AB3-61BD7FAA8CB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4. Adı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ellerin uçlarını aynı hizaya getir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aklaşı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½”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zunluğunda soyulmuş kısım bırakı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step4"/>
          <p:cNvPicPr/>
          <p:nvPr/>
        </p:nvPicPr>
        <p:blipFill>
          <a:blip r:embed="rId1"/>
          <a:stretch/>
        </p:blipFill>
        <p:spPr>
          <a:xfrm>
            <a:off x="1547640" y="2781360"/>
            <a:ext cx="6400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D47-B654-442F-9188-2ED7F7E6350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5. Adım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–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Telleri konnektöre sok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ı bozmadan konnektöre sok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daki şekilde sol üst 1 numar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4" descr="step5"/>
          <p:cNvPicPr/>
          <p:nvPr/>
        </p:nvPicPr>
        <p:blipFill>
          <a:blip r:embed="rId1"/>
          <a:stretch/>
        </p:blipFill>
        <p:spPr>
          <a:xfrm>
            <a:off x="5105520" y="1600200"/>
            <a:ext cx="2516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264-B5E2-43EB-9674-147CF70AE72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6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özle k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675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üm teller könnektörün sonuna değiyor m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lıtım plastiği şekilde görüldüğü gibi içeri girdi m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tep6"/>
          <p:cNvPicPr/>
          <p:nvPr/>
        </p:nvPicPr>
        <p:blipFill>
          <a:blip r:embed="rId1"/>
          <a:stretch/>
        </p:blipFill>
        <p:spPr>
          <a:xfrm>
            <a:off x="900000" y="3141720"/>
            <a:ext cx="74678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585-B6CD-4439-8818-625E339B70D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ık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2818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ü sıkma pensesin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P)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içine yerleştir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ittirirken penseyi sıkıca sıkı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crimp-1"/>
          <p:cNvPicPr/>
          <p:nvPr/>
        </p:nvPicPr>
        <p:blipFill>
          <a:blip r:embed="rId1"/>
          <a:stretch/>
        </p:blipFill>
        <p:spPr>
          <a:xfrm>
            <a:off x="1254240" y="347040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rimp-2"/>
          <p:cNvPicPr/>
          <p:nvPr/>
        </p:nvPicPr>
        <p:blipFill>
          <a:blip r:embed="rId2"/>
          <a:stretch/>
        </p:blipFill>
        <p:spPr>
          <a:xfrm>
            <a:off x="5356080" y="4038480"/>
            <a:ext cx="32385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0A8-25DB-4937-A3A0-55E8EFE8E97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8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çalışıyor m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step8"/>
          <p:cNvPicPr/>
          <p:nvPr/>
        </p:nvPicPr>
        <p:blipFill>
          <a:blip r:embed="rId1"/>
          <a:stretch/>
        </p:blipFill>
        <p:spPr>
          <a:xfrm>
            <a:off x="1398600" y="3043080"/>
            <a:ext cx="74851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773-DC78-48A7-B8EE-63DFF852591F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apısal Kablola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890C-9928-4E13-A661-13CDB6E7BD2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İÇERİ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pısal Kablolama Standart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ata Kablo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uvar Priz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Patch Pane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Kanallar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inet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iketleme-Dokümantasy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 Öner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16B1-83C7-4754-87D5-5ACC172EEE3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DATA KABLOLAMA STANDARTLA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IA /EIA 5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Uluslarar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SO /IEC – 11801 ISO /IEC – 118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vrupa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N 50173 EN 5017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5B7C-3F37-42EF-87C2-0D1DA0FFF1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Bağlantı Kur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Picture 4" descr="cable-use"/>
          <p:cNvPicPr/>
          <p:nvPr/>
        </p:nvPicPr>
        <p:blipFill>
          <a:blip r:embed="rId1"/>
          <a:stretch/>
        </p:blipFill>
        <p:spPr>
          <a:xfrm>
            <a:off x="826920" y="2349360"/>
            <a:ext cx="799308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A6DE-5B1F-4FB0-A527-CE49B317954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Yapısal Kablolama Genel Yapısal Kablolama Genel Görünü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40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7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FA2-B88F-4BBB-9066-A554AA5942E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ata Kablo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0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5-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at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8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745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C82-D979-4E89-8A6C-BA6AE5C96D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CAT6 Kablo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84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ahoma"/>
              </a:rPr>
              <a:t>Ayırıcı parça ile kablo çiftlerinin birbiri ile etkileşimi en az seviyeye düşürülmüştü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576108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593E-239D-4D1A-B676-25CAE6FB101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uvar Priz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leşen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ıva Üstü – Sıva Alt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aklı-Kapaksız, Açıl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plama, 50 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/B Renk Ko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Ürün Kalit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İşçilik Özellik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da İçi Y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282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E1F2-8EDA-4CD5-844E-49D5544829B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5" descr="PL13 24 PORT, RJ45, CAT. 6 110 Punch Down Patch Panels"/>
          <p:cNvPicPr/>
          <p:nvPr/>
        </p:nvPicPr>
        <p:blipFill>
          <a:blip r:embed="rId1"/>
          <a:stretch/>
        </p:blipFill>
        <p:spPr>
          <a:xfrm>
            <a:off x="684360" y="2349360"/>
            <a:ext cx="4751280" cy="3508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cat6%2096%20port%20patch%20panel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4470-437E-40EB-9C05-9B101A25395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pp-19-16-s"/>
          <p:cNvPicPr/>
          <p:nvPr/>
        </p:nvPicPr>
        <p:blipFill>
          <a:blip r:embed="rId1"/>
          <a:stretch/>
        </p:blipFill>
        <p:spPr>
          <a:xfrm>
            <a:off x="179280" y="2133720"/>
            <a:ext cx="5761080" cy="3909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tkppc48"/>
          <p:cNvPicPr/>
          <p:nvPr/>
        </p:nvPicPr>
        <p:blipFill>
          <a:blip r:embed="rId2"/>
          <a:stretch/>
        </p:blipFill>
        <p:spPr>
          <a:xfrm>
            <a:off x="5148360" y="5157720"/>
            <a:ext cx="3809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44E0-AFAD-4EF3-8316-3E0CD15DA26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5" descr="voiceppback"/>
          <p:cNvPicPr/>
          <p:nvPr/>
        </p:nvPicPr>
        <p:blipFill>
          <a:blip r:embed="rId1"/>
          <a:stretch/>
        </p:blipFill>
        <p:spPr>
          <a:xfrm>
            <a:off x="468360" y="213372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1(01B-2)"/>
          <p:cNvPicPr/>
          <p:nvPr/>
        </p:nvPicPr>
        <p:blipFill>
          <a:blip r:embed="rId2"/>
          <a:stretch/>
        </p:blipFill>
        <p:spPr>
          <a:xfrm>
            <a:off x="5292720" y="2133720"/>
            <a:ext cx="3672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04D3-DB01-44B0-8141-93CD070D76C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tch Panel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1" name="Picture 5" descr="backofpanelcloseup"/>
          <p:cNvPicPr/>
          <p:nvPr/>
        </p:nvPicPr>
        <p:blipFill>
          <a:blip r:embed="rId1"/>
          <a:stretch/>
        </p:blipFill>
        <p:spPr>
          <a:xfrm>
            <a:off x="1182600" y="2279520"/>
            <a:ext cx="3810240" cy="3589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KRONE"/>
          <p:cNvPicPr/>
          <p:nvPr/>
        </p:nvPicPr>
        <p:blipFill>
          <a:blip r:embed="rId2"/>
          <a:stretch/>
        </p:blipFill>
        <p:spPr>
          <a:xfrm>
            <a:off x="5284800" y="3021120"/>
            <a:ext cx="3530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2D0A-493A-4BD7-BD66-BAF6E316E91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Kanal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38102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Ölçüler, Bölmeli-Bölmes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önüş-Ekleme Parça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uvar Geçişle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Çapraz Vidalama, Kablo Bağlar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Sıvama, Onarı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van Kanalları, Kablo Tutu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ekoratifl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Tam Kapalılık, Diğer Kablolar, Elektr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anal İçi Boşlu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3116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F75C-C906-4BE1-AACD-5F77119DF5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inet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38102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lçüler: 19’’ , U , (450,600,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er ve Duvar Ti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ilit, Ön ve Yan Kapak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ack Demirleri Hare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ermostat, Fan ve Sessizliğ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inet İçi Elektrik Düze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 Organizasyo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lara Toplu P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44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3206-B251-467E-B6B0-37906C86823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Bilgisayar Arası Çapraz (Cross) Bağlant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030804figure3"/>
          <p:cNvPicPr/>
          <p:nvPr/>
        </p:nvPicPr>
        <p:blipFill>
          <a:blip r:embed="rId1"/>
          <a:stretch/>
        </p:blipFill>
        <p:spPr>
          <a:xfrm>
            <a:off x="250920" y="2205000"/>
            <a:ext cx="8424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A09-7F59-4957-9082-BA357236757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iketleme - Dokümantasy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Etiketleme Malzeme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Cihaz ve Fiş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izim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otoğraf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Etiketle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D22-0402-4860-957E-CD73EE5B503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Çizim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04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D36-00D8-4E75-B75D-4957A541ADF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enel Öneri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ek Merkezde Topl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90 + 10 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GK Deste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Yedek Malzeme Bulundur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Patch Kablo Sayı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Numune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aranti Süresi (3 + 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85B4-B245-45F1-948F-1C8452CA5D5B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INTERNETWO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EE84-7C84-4987-BE9A-04CA8A0393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(Umumi)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çok faklı ağın temel problemi aşikardı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ağın üyesi olan bir bilgisayar yalnızca kendisi ile aynı ağa bağlı olan bilgisayarl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ygınlaşan bilgisayar ağları farklı ağlardaki bilgisayarların birbirleri ile haberleşmesi ihtiyacını doğurd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amaçla yapılan çalışmalara genel manâda üniversal servis oluşturma denild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C5F-2F6F-4C78-BBC1-9D8F9234981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Üniversal Servis Kavra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kavramı internetworking’in temel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Üniversal servis oluşturma çalışmaları neticesinde birbirlerinden farklı ağları birbirlerine bağlamak işlemi internetworking olarak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birlerine bağlanmış faklı ağlardan oluşan nihai sistem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work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veya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interne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 diye adlandırıld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ünya üzerinde birçok faklı internet mevcuttur; birkaç ağ içereninden binlerce ağ içeren internetlere kad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DED3-4859-4644-BBB6-998A3B58A06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Router’ları Kullanarak Ağların Fiziksel Bağlantısını Gerçekleştir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Heterojen ağları birbirlerine fiziksel  olarak bağlamak için kullanılan temel cihaz 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route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’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Fiziksel olarak router’lar bridge’lere benzerler. İki ağı birbirlerine bağla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lar bridge’lerden farklı olarak iki veya daha fazla farklı ağı birbirine bağlar. Bridge ise aynı türden ağları birbirine bağlayabil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33D-2CDF-4F0C-B8DA-60EB3F0E282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Router’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 ağları birbirlerine bağlamak üzere üretilmiş özel amaçlı bir bilgisay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endi CPU’su RAM’i ve birbirlerine bağlayacağı her ağ için bir giriş/çıkış arayüzü mevcut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daki bilgisayarlar router’ın varlığından haberdar olmak zorundadır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’a bağlantıları diğer herhangi bir bilgisayara olduğu gibi gerçekleşi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C009-1537-41C4-AC99-19C951C2900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fiziksel ağın router ile birbirlerine bağlan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in her iki ağa da bağlanmak için iki ayrı ağ arayüz donanımı mevcutt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outer’lar faklı veri iletim ortamı kullanan, farklı fiziksel adres biçimlerine sahip olan ve farklı frame formatları bulunan birden fazla ağı birbirlerine bağlamak için kullanılır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763640" y="4221000"/>
            <a:ext cx="5832360" cy="1871640"/>
            <a:chOff x="1763640" y="4221000"/>
            <a:chExt cx="5832360" cy="1871640"/>
          </a:xfrm>
        </p:grpSpPr>
        <p:graphicFrame>
          <p:nvGraphicFramePr>
            <p:cNvPr id="239" name="Object 5"/>
            <p:cNvGraphicFramePr/>
            <p:nvPr/>
          </p:nvGraphicFramePr>
          <p:xfrm>
            <a:off x="1763640" y="4221000"/>
            <a:ext cx="2243160" cy="1871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6"/>
            <p:cNvGraphicFramePr/>
            <p:nvPr/>
          </p:nvGraphicFramePr>
          <p:xfrm>
            <a:off x="5352840" y="4221000"/>
            <a:ext cx="2243160" cy="18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2840" y="4221000"/>
                      <a:ext cx="22431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Rectangle 7"/>
            <p:cNvSpPr/>
            <p:nvPr/>
          </p:nvSpPr>
          <p:spPr>
            <a:xfrm>
              <a:off x="4455360" y="4776840"/>
              <a:ext cx="44856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3966840" y="5172120"/>
              <a:ext cx="44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04280" y="514800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Line 10"/>
          <p:cNvSpPr/>
          <p:nvPr/>
        </p:nvSpPr>
        <p:spPr>
          <a:xfrm flipV="1">
            <a:off x="3635280" y="566064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059280" y="6237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3EB-459E-40EE-B0FC-043F2907284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working’in amacı heterojen ağlar arasında üniversal servis sağlamakt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’teki bütün bilgisayarlar arasında üniversal servisi sağlamak için router’lar, bir ağdaki bir bilgisayardan iletilen bir bilgiyi diğer bir ağdaki hedef bilgisayara ulaştırabilmek için, aralarında aldıkları bilgileri iletmek üzere anlaşmış olmalıdır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Netice olarak, universal servisin sağlanabilmesi için bütün router’lar ve bilgisayarlar üzerinde çalışan ortak bir protokol yazılımı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rotokol yazılımlarına genel olarak internet yazılımı veya protokolü den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F7A3-B0B1-4ECE-BE0D-11E46421AF3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Dü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Straight-Through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34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A&lt;-&gt;568A veya 568B&lt;-&gt;568B olmalıd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ethcable568a"/>
          <p:cNvPicPr/>
          <p:nvPr/>
        </p:nvPicPr>
        <p:blipFill>
          <a:blip r:embed="rId1"/>
          <a:stretch/>
        </p:blipFill>
        <p:spPr>
          <a:xfrm>
            <a:off x="179280" y="2924280"/>
            <a:ext cx="420552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thcable568b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27C6-D06B-4383-8FBE-8BB227325F2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, ağa bağlı bilgisayar veya kullanıcı tarafından görülen yönü ile birçok bilgisayarın bağlı olduğu tek bir ağ görünümü sağ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e bağlı olan her bir bilgisayarın bir adresi vardır ve hangi ağa bağlı olduğu fark etmeksizin internete bağlı diğer bir ağdaki herhangi bir bilgisayar ile haberleş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Internet yazılımı kullanıcıları ve bilgisayarda çalışan ağ uygulamalarını alt katmanlardaki fiziksel yapılardan adresleme biçimlerinden soyut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5B7D-C23F-42C7-83CC-833894E3827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Şekilde görüldüğü gibi internetin sanal bir ağ sistemi olduğu söylenebil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619280" y="3284640"/>
            <a:ext cx="5904000" cy="2808000"/>
            <a:chOff x="1619280" y="3284640"/>
            <a:chExt cx="5904000" cy="2808000"/>
          </a:xfrm>
        </p:grpSpPr>
        <p:graphicFrame>
          <p:nvGraphicFramePr>
            <p:cNvPr id="258" name="Object 5"/>
            <p:cNvGraphicFramePr/>
            <p:nvPr/>
          </p:nvGraphicFramePr>
          <p:xfrm>
            <a:off x="2537640" y="3953160"/>
            <a:ext cx="3673440" cy="192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7640" y="3953160"/>
                      <a:ext cx="3673440" cy="19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Rectangle 6"/>
            <p:cNvSpPr/>
            <p:nvPr/>
          </p:nvSpPr>
          <p:spPr>
            <a:xfrm>
              <a:off x="1619280" y="582552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7"/>
            <p:cNvSpPr/>
            <p:nvPr/>
          </p:nvSpPr>
          <p:spPr>
            <a:xfrm flipV="1">
              <a:off x="1881360" y="5424480"/>
              <a:ext cx="78696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7129440" y="5700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7260840" y="4755600"/>
              <a:ext cx="26244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342480" y="355176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4374360" y="3284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12"/>
            <p:cNvSpPr/>
            <p:nvPr/>
          </p:nvSpPr>
          <p:spPr>
            <a:xfrm>
              <a:off x="2800080" y="3418200"/>
              <a:ext cx="262080" cy="26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>
              <a:off x="1619280" y="4220640"/>
              <a:ext cx="262080" cy="2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1881360" y="4354560"/>
              <a:ext cx="78696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3062160" y="3551760"/>
              <a:ext cx="3934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4505400" y="35517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H="1">
              <a:off x="5817600" y="3819600"/>
              <a:ext cx="65592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Line 18"/>
            <p:cNvSpPr/>
            <p:nvPr/>
          </p:nvSpPr>
          <p:spPr>
            <a:xfrm flipH="1">
              <a:off x="6080040" y="4889520"/>
              <a:ext cx="11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 flipH="1" flipV="1">
              <a:off x="5554800" y="5424480"/>
              <a:ext cx="1574280" cy="40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451-5656-4524-B21D-29597CEAAFE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Tahoma"/>
              </a:rPr>
              <a:t>Üniversal Servisi Gerçekleştirm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görünümün altında yatan fiziksel yapı. Her bilgisayar kendi ağına bağlı ve ağlar arası bağlantı router’lar vasıtası ile yapılmış durum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403280" y="2781360"/>
            <a:ext cx="6192720" cy="3743280"/>
            <a:chOff x="1403280" y="2781360"/>
            <a:chExt cx="6192720" cy="3743280"/>
          </a:xfrm>
        </p:grpSpPr>
        <p:graphicFrame>
          <p:nvGraphicFramePr>
            <p:cNvPr id="278" name="Object 5"/>
            <p:cNvGraphicFramePr/>
            <p:nvPr/>
          </p:nvGraphicFramePr>
          <p:xfrm>
            <a:off x="2091240" y="3280320"/>
            <a:ext cx="4949640" cy="3018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1240" y="3280320"/>
                      <a:ext cx="4949640" cy="30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Rectangle 6"/>
            <p:cNvSpPr/>
            <p:nvPr/>
          </p:nvSpPr>
          <p:spPr>
            <a:xfrm>
              <a:off x="6357600" y="290592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7"/>
            <p:cNvSpPr/>
            <p:nvPr/>
          </p:nvSpPr>
          <p:spPr>
            <a:xfrm>
              <a:off x="732096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8"/>
            <p:cNvSpPr/>
            <p:nvPr/>
          </p:nvSpPr>
          <p:spPr>
            <a:xfrm>
              <a:off x="718344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4155480" y="27813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2366280" y="303084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11"/>
            <p:cNvSpPr/>
            <p:nvPr/>
          </p:nvSpPr>
          <p:spPr>
            <a:xfrm>
              <a:off x="1403280" y="390420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1540800" y="5151960"/>
              <a:ext cx="27504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4430880" y="397368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5054760" y="45169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4293360" y="440352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293360" y="4971960"/>
              <a:ext cx="136800" cy="12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1815840" y="515196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1678320" y="4029120"/>
              <a:ext cx="11008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2641680" y="3280320"/>
              <a:ext cx="55044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20"/>
            <p:cNvSpPr/>
            <p:nvPr/>
          </p:nvSpPr>
          <p:spPr>
            <a:xfrm flipH="1">
              <a:off x="3880080" y="3030840"/>
              <a:ext cx="41292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21"/>
            <p:cNvSpPr/>
            <p:nvPr/>
          </p:nvSpPr>
          <p:spPr>
            <a:xfrm flipH="1">
              <a:off x="5806800" y="3155400"/>
              <a:ext cx="68796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22"/>
            <p:cNvSpPr/>
            <p:nvPr/>
          </p:nvSpPr>
          <p:spPr>
            <a:xfrm flipH="1">
              <a:off x="6082200" y="4029120"/>
              <a:ext cx="12384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23"/>
            <p:cNvSpPr/>
            <p:nvPr/>
          </p:nvSpPr>
          <p:spPr>
            <a:xfrm flipH="1" flipV="1">
              <a:off x="5669280" y="5151960"/>
              <a:ext cx="151380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41554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25"/>
            <p:cNvSpPr/>
            <p:nvPr/>
          </p:nvSpPr>
          <p:spPr>
            <a:xfrm>
              <a:off x="4430880" y="5027400"/>
              <a:ext cx="1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26"/>
            <p:cNvSpPr/>
            <p:nvPr/>
          </p:nvSpPr>
          <p:spPr>
            <a:xfrm flipV="1">
              <a:off x="5118840" y="465300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27"/>
            <p:cNvSpPr/>
            <p:nvPr/>
          </p:nvSpPr>
          <p:spPr>
            <a:xfrm flipV="1">
              <a:off x="5118840" y="4392360"/>
              <a:ext cx="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28"/>
            <p:cNvSpPr/>
            <p:nvPr/>
          </p:nvSpPr>
          <p:spPr>
            <a:xfrm flipV="1">
              <a:off x="3742920" y="4527720"/>
              <a:ext cx="55044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 flipV="1">
              <a:off x="4430880" y="4278600"/>
              <a:ext cx="55044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155480" y="40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4568400" y="4029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319212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Text Box 33"/>
            <p:cNvSpPr/>
            <p:nvPr/>
          </p:nvSpPr>
          <p:spPr>
            <a:xfrm>
              <a:off x="3192120" y="402912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843800" y="490248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5118840" y="3904200"/>
              <a:ext cx="68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Net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36"/>
            <p:cNvSpPr/>
            <p:nvPr/>
          </p:nvSpPr>
          <p:spPr>
            <a:xfrm flipV="1">
              <a:off x="4369680" y="5104800"/>
              <a:ext cx="0" cy="49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4155480" y="565128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38"/>
            <p:cNvSpPr/>
            <p:nvPr/>
          </p:nvSpPr>
          <p:spPr>
            <a:xfrm flipV="1">
              <a:off x="3329640" y="5401800"/>
              <a:ext cx="0" cy="8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9"/>
            <p:cNvSpPr/>
            <p:nvPr/>
          </p:nvSpPr>
          <p:spPr>
            <a:xfrm>
              <a:off x="2917080" y="6275160"/>
              <a:ext cx="963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000" spc="-1" strike="noStrike">
                  <a:solidFill>
                    <a:srgbClr val="000000"/>
                  </a:solidFill>
                  <a:latin typeface="Tahoma"/>
                </a:rPr>
                <a:t>Fiziksel ağ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8D28-2944-4E18-9C96-A834518654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Internetlerde kullanılmak üzere birçok protokol yazılımı geliştirilmiş olmasına rağmen, bunlardan bir tanesi internetworking için en çok kullanılan protokol olarak karşımıza çık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 protokol yazılımı resmi adıyla T</a:t>
            </a:r>
            <a:r>
              <a:rPr b="0" i="1" lang="tr-TR" sz="2800" spc="-1" strike="noStrike">
                <a:solidFill>
                  <a:srgbClr val="000000"/>
                </a:solidFill>
                <a:latin typeface="Tahoma"/>
              </a:rPr>
              <a:t>CP/IP Internet Protokolleridir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Çoğu ağ uzmanı kişi tarafından bu isim kısaca TCP/IP olarak kullanılı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2D1B-E443-4668-81A4-7C4266C91F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99"/>
                </a:solidFill>
                <a:latin typeface="Tahoma"/>
              </a:rPr>
              <a:t>Internetworking Protokoller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CP/IP bir internette kullanılmak için ilk geliştirilen protokoldü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Geliştirilmesine 1970’li yıllarda başlanmışt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merikan Savunma Bakanlığının desteği ile geliştirilen proje 1980’li yıllarda birçok kuruluş tarafından desteklenir hale gelmiş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DA0B-03A9-40B1-A28E-33EE87F3CD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333399"/>
                </a:solidFill>
                <a:latin typeface="Tahoma"/>
              </a:rPr>
              <a:t>Çapraz Kablo (</a:t>
            </a:r>
            <a:r>
              <a:rPr b="0" lang="tr-TR" sz="3500" spc="-1" strike="noStrike">
                <a:solidFill>
                  <a:srgbClr val="000000"/>
                </a:solidFill>
                <a:latin typeface="Tahoma"/>
              </a:rPr>
              <a:t>Crossover Ethernet Cable)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74176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568B&lt;-&gt;568A olm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cross"/>
          <p:cNvPicPr/>
          <p:nvPr/>
        </p:nvPicPr>
        <p:blipFill>
          <a:blip r:embed="rId1"/>
          <a:stretch/>
        </p:blipFill>
        <p:spPr>
          <a:xfrm>
            <a:off x="3635280" y="2060640"/>
            <a:ext cx="5113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9DA-E8F2-4D12-B4B2-5AE6649064D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J45 conn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3" descr="rj45"/>
          <p:cNvPicPr/>
          <p:nvPr/>
        </p:nvPicPr>
        <p:blipFill>
          <a:blip r:embed="rId1"/>
          <a:stretch/>
        </p:blipFill>
        <p:spPr>
          <a:xfrm>
            <a:off x="1547640" y="1979640"/>
            <a:ext cx="630108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85EE-CF1D-44D1-A8E7-C3E8DD5C12D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raç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42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UTP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5/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e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/6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J45 </a:t>
            </a: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nektör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soyu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Yan ke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 pens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crimper"/>
          <p:cNvPicPr/>
          <p:nvPr/>
        </p:nvPicPr>
        <p:blipFill>
          <a:blip r:embed="rId1"/>
          <a:stretch/>
        </p:blipFill>
        <p:spPr>
          <a:xfrm>
            <a:off x="4500720" y="19162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D209-BE02-4CC3-A811-88CE7F9176D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Bağlantıları Yap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dım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blo ucunu soy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rılı çiftleri çö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renk sırasına diz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uygun ve eşit ölçüye getir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Telleri konnektöre so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özle k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ık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65920" indent="-5659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CC9B-C3B6-4B94-98BC-6F70C62F8A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. Adı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blo ucunu soy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2017800"/>
            <a:ext cx="8351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dış yalıtım kısmını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½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Soyma esnasında içerideki tellerin dışındaki yalıtım kesilmemesine dikkat ed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step1"/>
          <p:cNvPicPr/>
          <p:nvPr/>
        </p:nvPicPr>
        <p:blipFill>
          <a:blip r:embed="rId1"/>
          <a:stretch/>
        </p:blipFill>
        <p:spPr>
          <a:xfrm>
            <a:off x="914400" y="3357720"/>
            <a:ext cx="701028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7:55:06Z</dcterms:created>
  <dc:creator>göksu</dc:creator>
  <dc:description/>
  <dc:language>en-US</dc:language>
  <cp:lastModifiedBy>Bilal</cp:lastModifiedBy>
  <dcterms:modified xsi:type="dcterms:W3CDTF">2012-11-27T15:56:36Z</dcterms:modified>
  <cp:revision>16</cp:revision>
  <dc:subject/>
  <dc:title>Yapısal Kablolama</dc:title>
</cp:coreProperties>
</file>