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FBB6-D50A-4F61-A541-9D00DCCD1E35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B75C-5EAE-4ECE-B632-B9A621812CAF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128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RPAnet was developed by the military to be a means of communications in the event that regular channels broke down.  Since the ARPAnet was a network of nodes, if any one node was out, the messages could be rerouted through another 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6501-68CB-4EE9-A2C3-C862F692F209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767F-8EBA-479C-B9C0-5947CAA72E1E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4743-8C11-4CB6-82EC-797BBC12AE96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08DC-FBB5-4E34-9AD5-150463871C81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88FF-5748-4E72-A3BB-8C62E18F0E0A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D883-0B9C-4D08-B55A-E1BC78345E97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UB: Uygulama Başlığı (Application Head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VK: Veri Kuyruğ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E3C3-D1D4-4158-B593-F02CE215F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61AC-1D79-4ABA-BDF2-EE4F6228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6568-DE63-4335-B8FD-3DBF995B5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AC29-8F54-4B9C-9ADC-1A1D80A80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8454-A5C0-4C53-83AF-D90D414D0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7DF9-4D5D-49B9-9345-91E7600C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EC44-D5F1-4A22-8F05-7EC291D3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A0F0-94E6-4C47-896B-A0145644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B649-B159-4E6C-9597-CBFC4561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EE7F-7867-4E71-A4ED-B27A0352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DEE8-7C49-41BE-BD15-37360BE7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BE44-BADF-45FC-88D1-15E50CE8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2AA7-82B0-4823-A70A-82A066F0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6B6F-C893-4C0F-8B80-74BF4EBD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1026-EE4E-4BBD-9BA2-72865593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D0FD-5FB4-4B21-B4CE-E7B38FF17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05A6-DD77-44CB-82D7-C668E41BA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AFAA-1FD6-46B9-8A69-EA0B40F3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573C-8655-4105-B2BD-3544CD07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84CB-F0D3-453D-B835-4EC5C264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E2BB-F3AA-4711-A091-EB8AA728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B941-0A6E-4E77-A7D8-6378491C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F822-DCF6-4CD5-84FB-7C75C997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2B3F-D2D2-409E-A217-FF9C48E5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7FAA-F63C-4A03-A5DC-60FDB068319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13 Dikdörtgen"/>
          <p:cNvSpPr/>
          <p:nvPr/>
        </p:nvSpPr>
        <p:spPr>
          <a:xfrm>
            <a:off x="5613120" y="648828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ttp://www.bilisimogretmeni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24 Dikdörtgen"/>
          <p:cNvSpPr/>
          <p:nvPr/>
        </p:nvSpPr>
        <p:spPr>
          <a:xfrm>
            <a:off x="5613120" y="648828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ttp://www.bilisimogretmeni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9D40-C483-412D-AEFF-333DE82D68F7}" type="slidenum">
              <a:rPr b="0" lang="tr-T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CP/I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79A7-9129-46FA-A49A-2443A0158BD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TCP Başlığı (TCP Header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539640" y="2187720"/>
          <a:ext cx="8209080" cy="4557600"/>
        </p:xfrm>
        <a:graphic>
          <a:graphicData uri="http://schemas.openxmlformats.org/drawingml/2006/table">
            <a:tbl>
              <a:tblPr/>
              <a:tblGrid>
                <a:gridCol w="2051280"/>
                <a:gridCol w="2054160"/>
                <a:gridCol w="2050920"/>
                <a:gridCol w="2052720"/>
              </a:tblGrid>
              <a:tr h="57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Kaynak portu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16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def portu (16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Sıra numarası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32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Alındı bilgisi numarası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32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i ofseti (4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yrılmış (6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yraklar (6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Pencere 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16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6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Checksum</a:t>
                      </a: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(Kontrol Toplamı – 16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il İşaretçiler (16 bi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siyonlar – Değişkenl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468F-5DBB-448B-8CFB-392396DC385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TCP/IP Başlı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94920" y="2133360"/>
            <a:ext cx="8497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ynak ve hedef </a:t>
            </a:r>
            <a:r>
              <a:rPr b="0" lang="tr-TR" sz="2800" spc="-1" strike="noStrike" u="sng">
                <a:solidFill>
                  <a:srgbClr val="ff0000"/>
                </a:solidFill>
                <a:uFillTx/>
                <a:latin typeface="Tahoma"/>
              </a:rPr>
              <a:t>port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u: Gönderici ve alıcı pc’lerin </a:t>
            </a:r>
            <a:r>
              <a:rPr b="0" lang="tr-TR" sz="2800" spc="-1" strike="noStrike" u="sng">
                <a:solidFill>
                  <a:srgbClr val="ff0000"/>
                </a:solidFill>
                <a:uFillTx/>
                <a:latin typeface="Tahoma"/>
              </a:rPr>
              <a:t>port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numaras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ıra numarası:Paketin hangi bölümü olduğunu göster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Alındı bilgisi numarası: Bir sonraki gelecek olan paket bölüm numaras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Pencere: Alıcının daha ne kadar paket bölümü alacağını belirl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Checksum: İletim biriminden geçen bit'lerin sayısı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8F5F-9245-4075-BB37-1D8AE12DA18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Ağ Katmanı Protokolleri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8569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CMP (Internet Control Message Protocol)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aketin gönderilmesi sırasında hata oluştuğunda mesaj veya rapor gönder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Ping komu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ARP (Address Resolution Protoc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Yerel ağdaki adresleri veya donanım adreslerini (MAC adres) ön bellekl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MAC adresi ağ adresine ve ağ adresini de MAC adresine çevir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GMP (Internet Group Management Protoc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elli bir gruptaki hostları, multicast (Bir gönderici ile ağ üzerinde birden fazla alıcı arasında kurulan iletişim</a:t>
            </a:r>
            <a:r>
              <a:rPr b="0" lang="tr-T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ir grup) router’a bildiri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2" dur="1" fill="hold"/>
                                  <p:tgtEl>
                                    <p:spTgt spid="26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E3DA-38FB-4593-90E8-F9672F57CBA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Ağ Katmanı Protokolleri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332000" y="1844640"/>
            <a:ext cx="7632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IP (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Internet Protocol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IP adresi bir ağa bağlı bilgisayarların ağ üzerinden birbirlerine veri yollamak için kullandıkları adrestir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IP Başlığı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684360" y="2997360"/>
          <a:ext cx="8137440" cy="3687480"/>
        </p:xfrm>
        <a:graphic>
          <a:graphicData uri="http://schemas.openxmlformats.org/drawingml/2006/table">
            <a:tbl>
              <a:tblPr/>
              <a:tblGrid>
                <a:gridCol w="1923840"/>
                <a:gridCol w="1924200"/>
                <a:gridCol w="453960"/>
                <a:gridCol w="279360"/>
                <a:gridCol w="1438200"/>
                <a:gridCol w="238320"/>
                <a:gridCol w="187956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P versiy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P başlık uzunluğ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Hizmet tür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plam uzunlu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Kiml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çalanma durum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çalanma Ofse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T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tok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Başlık kontrol toplamı </a:t>
                      </a: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Checksu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aynak Adre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def Adre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siyonl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CFFE-215F-420B-8E3F-273D12DEC067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IP Başlığı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497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Hizmet türü: Host’un ne tür bir hizmet istediği: Hızlı (örneğin ses), hatasız (örneğin dosya) veya güvenli iletim gib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imlik: Paket bölümünün bağlı olduğu bölümün kimliği, o pakete ait olan bölümlerin hepsinde aynı tanım yaz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TL (Time to Live): Paketin ömr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aşlık kontrol toplamı: Sadece paketin kontrolünü sağl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B1C2-AA51-494D-ABA7-96780C37117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IP (</a:t>
            </a:r>
            <a:r>
              <a:rPr b="0" lang="tr-TR" sz="4000" spc="-1" strike="noStrike">
                <a:solidFill>
                  <a:srgbClr val="333399"/>
                </a:solidFill>
                <a:latin typeface="Times New Roman"/>
              </a:rPr>
              <a:t>Internet Protocol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24000" y="2204640"/>
            <a:ext cx="8640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aygın olarak IPv4 adresler kullanılıy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oplam 32 bit ve noktalarla ayrılmış 4 adet 8 bitlik sayı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Örnek bir IP adresi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00000 10011100 00001110 000001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w.x.y.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.156.14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P adresleri dünyada 2</a:t>
            </a:r>
            <a:r>
              <a:rPr b="0" lang="tr-TR" sz="2800" spc="-1" strike="noStrike" baseline="30000">
                <a:solidFill>
                  <a:srgbClr val="000000"/>
                </a:solidFill>
                <a:latin typeface="Tahoma"/>
              </a:rPr>
              <a:t>32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= 4 milyardı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inamik ip adresleri : Evden modem ile bağlan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tatik ip adresleri: I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1" dur="1" fill="hold"/>
                                  <p:tgtEl>
                                    <p:spTgt spid="27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7ECD-99BF-45B9-AA84-E6B357CDC75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P Adresi Hiyerarşi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ahoma"/>
              </a:rPr>
              <a:t>Bir IP adresi iki kısımdan oluşur. Bu kısımlar prefix (ön ek) ve suffix (son ek olarak) adlandırılı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ahoma"/>
              </a:rPr>
              <a:t>Bu iki seviyeli hiyerarşi iletilen paketin yönlendirme işinin kolayca yapılabilmesi içind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4473-1AB4-4392-BC77-1D716962134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P Adresi Hiyerarşisi (Prefix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Prefix: IP adresinin prefix kısmı bir bilgisayarın bağlı bulunduğu ağın fiziksel adresid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u da internete bağlı olan her bir fiziksel ağın ayrı birer adresi bulunması gerektiğini göster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u adrese </a:t>
            </a:r>
            <a:r>
              <a:rPr b="1" i="1" lang="tr-TR" sz="2800" spc="-1" strike="noStrike" u="sng">
                <a:solidFill>
                  <a:srgbClr val="000000"/>
                </a:solidFill>
                <a:uFillTx/>
                <a:latin typeface="Tahoma"/>
              </a:rPr>
              <a:t>ağ adresi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(network address) denil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u adres bir ağa bağlı tüm bilgisayarların IP adreslerinde prefix (ön ek) olarak yazılacak olan adrest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A76F-710A-4F62-9941-1FCAA5F1660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P Adresi Hiyerarşisi (Suffix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uffix: IP adresinin suffix kısmı bir ağ içinde bir bilgisayarı diğerlerinden ayıran kısım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ir ağa bağlı tüm bilgisayarların prefixleri aynı olmak zorunda olduğuna göre, bir ağ içinde kullanılan tüm suffixler farklı olmak zorunda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Fakat iki farklı ağ içindeki iki bilgisayarın suffix kısımları aynı olabil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P adresinin suffix kısmına </a:t>
            </a:r>
            <a:r>
              <a:rPr b="1" i="1" lang="tr-TR" sz="2800" spc="-1" strike="noStrike" u="sng">
                <a:solidFill>
                  <a:srgbClr val="000000"/>
                </a:solidFill>
                <a:uFillTx/>
                <a:latin typeface="Tahoma"/>
              </a:rPr>
              <a:t>host adresi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denil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A41F-33D0-45A5-B815-865B0588716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P Adresi Hiyerarşi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IP adresi hiyerarşisi bize iki şeyi temin ede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Birincisi internete bağlı her bilgisayarın farklı bir adresi olmasını sağl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İkinci olarak ağ adreslerinin tek bir merkezden dağıtılmasını gerekli kılmakla beraber, host adreslerinin seçimini ağ adreslerini alan kişilere bırakır.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DAD5-4F09-4B03-B817-D184A6EBD18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000000"/>
                </a:solidFill>
                <a:latin typeface="Times New Roman"/>
              </a:rPr>
              <a:t>Internet’in Kısa Tarihçesi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5694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İlk geniş alan ağı olan ARPANET 1960’lı yılların ortasında askeri amaçlarla ortaya çıktı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Problem:  Nükleer bir savaş esnasında telefon hatlarının çoğunun tahrip olması durumunda bilgisayar iletişiminin sürdürülmesi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Çözüm: Paul Baran, Rand Corp. tarafından geliştirildi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Baran paket-anahtarlamalı  ağ fikrini geliştird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Her mesaj küçük parçalara bölünmesi ve bu parçaların varış noktasına başarı ile ulaşıp orijinal mesajın oluşturulması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Küçük parçalara bölünen mesajlar hızlı hatlar üzerinden yollanı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1969’de ağın detayları ARPA’ya (Advanced Research Projects Agency) sunuldu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1972, ağların ağı ortaya çıkmaya başladı. 40 bilgisayardan oluşan bir ARPANET gösterisi yapıldı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" dur="1" fill="hold"/>
                                  <p:tgtEl>
                                    <p:spTgt spid="11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3289-DEC7-4F71-A728-AA48CBD9A10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P adres sınıf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IP adreslerinin 32 bit olduğunu daha önce belirtmişti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Peki bu 32 bitin kaç biti prefix yani ağ adresi ve kaç biti suffix yani host adresi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Farklı ağ teknolojilerinden dolayı çok host içerebilen ağlar olabileceği gibi host sayısı az olan ağlar da olacaktır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A98D-5551-4144-B888-E6341A11E8C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P adres sınıf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refix ve suffix in uzunluk seçimi internete bağlanabilecek olan ağ sayısını ve bir ağdaki host sayısını doğrudan etkilediği için uzunluk seçimi dikkatli yapılmalı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P adresleri tasarlanırken prefix ve suffix için sabit uzunluk olmasının ihtiyaçları karşılamayacağı görülmüş ve IP adresleri prefix ve suffix bitlerinin sayısına göre </a:t>
            </a:r>
            <a:r>
              <a:rPr b="1" i="1" lang="tr-TR" sz="2400" spc="-1" strike="noStrike" u="sng">
                <a:solidFill>
                  <a:srgbClr val="000000"/>
                </a:solidFill>
                <a:uFillTx/>
                <a:latin typeface="Tahoma"/>
              </a:rPr>
              <a:t>üç temel sınıfa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ayrılmışlar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nun yanısıra </a:t>
            </a:r>
            <a:r>
              <a:rPr b="1" i="1" lang="tr-TR" sz="2400" spc="-1" strike="noStrike" u="sng">
                <a:solidFill>
                  <a:srgbClr val="000000"/>
                </a:solidFill>
                <a:uFillTx/>
                <a:latin typeface="Tahoma"/>
              </a:rPr>
              <a:t>iki de özel amaçlı sınıf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oluşturulmuştu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P sınıfları sonraki slaytta gösterildiği gibi başlangıçtaki 4 bit ile birbirlerinden ayrılırla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09C2-ECD0-4036-B79B-151F099BB91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P adres sınıf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79280" y="2349360"/>
          <a:ext cx="8713800" cy="2963880"/>
        </p:xfrm>
        <a:graphic>
          <a:graphicData uri="http://schemas.openxmlformats.org/drawingml/2006/table">
            <a:tbl>
              <a:tblPr/>
              <a:tblGrid>
                <a:gridCol w="793800"/>
                <a:gridCol w="250920"/>
                <a:gridCol w="250920"/>
                <a:gridCol w="253800"/>
                <a:gridCol w="322200"/>
                <a:gridCol w="720720"/>
                <a:gridCol w="1871640"/>
                <a:gridCol w="2089440"/>
                <a:gridCol w="216036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t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1   2    3            7  8                             15 16                                 23 24                             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Sınıf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f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ff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 Sınıf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f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ff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 Sınıf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f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ff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 Sınıf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lticast Adre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 Sınıf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İleride Kullanılmak Üzere Ayrılmı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9A8F-22C2-4F28-8AB8-4B5624B4CE1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IPv4 Adreslem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68360" y="2708280"/>
          <a:ext cx="7907400" cy="2894040"/>
        </p:xfrm>
        <a:graphic>
          <a:graphicData uri="http://schemas.openxmlformats.org/drawingml/2006/table">
            <a:tbl>
              <a:tblPr/>
              <a:tblGrid>
                <a:gridCol w="842760"/>
                <a:gridCol w="1155960"/>
                <a:gridCol w="825480"/>
                <a:gridCol w="857160"/>
                <a:gridCol w="880920"/>
                <a:gridCol w="1121040"/>
                <a:gridCol w="2224080"/>
              </a:tblGrid>
              <a:tr h="90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ını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P ad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ğ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st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ğ bit sayıs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st bit sayıs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ğdaki PC Sayıs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-1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.y.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tr-TR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= 16,777,2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-1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.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.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tr-TR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=655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2-2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.x.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tr-TR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= 25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1D38-2B56-4358-918C-02B6FE5E5AF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Pv4 Adresle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9640" y="2349000"/>
            <a:ext cx="8415360" cy="424836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D sınıfı 224-239 ve ağ 28 bit ile gösteril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240 ve üzeri E sınıf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C91F-8238-4590-8013-BAC7EC5EB97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A Sınıfı (1-12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-361800" y="553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4"/>
          <p:cNvGrpSpPr/>
          <p:nvPr/>
        </p:nvGrpSpPr>
        <p:grpSpPr>
          <a:xfrm>
            <a:off x="1167480" y="2422440"/>
            <a:ext cx="2669400" cy="1278720"/>
            <a:chOff x="1167480" y="2422440"/>
            <a:chExt cx="2669400" cy="1278720"/>
          </a:xfrm>
        </p:grpSpPr>
        <p:sp>
          <p:nvSpPr>
            <p:cNvPr id="303" name="Text Box 5"/>
            <p:cNvSpPr/>
            <p:nvPr/>
          </p:nvSpPr>
          <p:spPr>
            <a:xfrm>
              <a:off x="1167480" y="2563560"/>
              <a:ext cx="21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     </a:t>
              </a: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ağ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       ho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6"/>
            <p:cNvSpPr/>
            <p:nvPr/>
          </p:nvSpPr>
          <p:spPr>
            <a:xfrm>
              <a:off x="1596960" y="2427120"/>
              <a:ext cx="1973160" cy="704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7"/>
            <p:cNvSpPr/>
            <p:nvPr/>
          </p:nvSpPr>
          <p:spPr>
            <a:xfrm>
              <a:off x="2236680" y="2422440"/>
              <a:ext cx="0" cy="70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8"/>
            <p:cNvSpPr/>
            <p:nvPr/>
          </p:nvSpPr>
          <p:spPr>
            <a:xfrm>
              <a:off x="1747800" y="3241440"/>
              <a:ext cx="171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8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       24 b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9"/>
            <p:cNvSpPr/>
            <p:nvPr/>
          </p:nvSpPr>
          <p:spPr>
            <a:xfrm>
              <a:off x="3652560" y="27349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10"/>
          <p:cNvGrpSpPr/>
          <p:nvPr/>
        </p:nvGrpSpPr>
        <p:grpSpPr>
          <a:xfrm>
            <a:off x="956880" y="3933720"/>
            <a:ext cx="6198840" cy="2018880"/>
            <a:chOff x="956880" y="3933720"/>
            <a:chExt cx="6198840" cy="2018880"/>
          </a:xfrm>
        </p:grpSpPr>
        <p:sp>
          <p:nvSpPr>
            <p:cNvPr id="309" name="Rectangle 11"/>
            <p:cNvSpPr/>
            <p:nvPr/>
          </p:nvSpPr>
          <p:spPr>
            <a:xfrm>
              <a:off x="1847880" y="4712400"/>
              <a:ext cx="171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18.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26.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12"/>
            <p:cNvSpPr/>
            <p:nvPr/>
          </p:nvSpPr>
          <p:spPr>
            <a:xfrm flipV="1" rot="5400000">
              <a:off x="2500200" y="3920040"/>
              <a:ext cx="476280" cy="1218960"/>
            </a:xfrm>
            <a:custGeom>
              <a:avLst/>
              <a:gdLst>
                <a:gd name="textAreaLeft" fmla="*/ 304200 w 476280"/>
                <a:gd name="textAreaRight" fmla="*/ 476640 w 47628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13"/>
            <p:cNvSpPr/>
            <p:nvPr/>
          </p:nvSpPr>
          <p:spPr>
            <a:xfrm>
              <a:off x="956880" y="5492880"/>
              <a:ext cx="53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a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4"/>
            <p:cNvSpPr/>
            <p:nvPr/>
          </p:nvSpPr>
          <p:spPr>
            <a:xfrm flipV="1">
              <a:off x="1282680" y="5065920"/>
              <a:ext cx="762120" cy="51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15"/>
            <p:cNvSpPr/>
            <p:nvPr/>
          </p:nvSpPr>
          <p:spPr>
            <a:xfrm>
              <a:off x="2245320" y="3933720"/>
              <a:ext cx="100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32-b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16"/>
            <p:cNvSpPr/>
            <p:nvPr/>
          </p:nvSpPr>
          <p:spPr>
            <a:xfrm>
              <a:off x="4175280" y="5454720"/>
              <a:ext cx="29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Host</a:t>
              </a:r>
              <a:r>
                <a:rPr b="0" lang="tr-TR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 (Pc veya cihaz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7"/>
            <p:cNvSpPr/>
            <p:nvPr/>
          </p:nvSpPr>
          <p:spPr>
            <a:xfrm flipH="1" flipV="1">
              <a:off x="2901600" y="5085000"/>
              <a:ext cx="1352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Text Box 18"/>
          <p:cNvSpPr/>
          <p:nvPr/>
        </p:nvSpPr>
        <p:spPr>
          <a:xfrm>
            <a:off x="4932360" y="2276640"/>
            <a:ext cx="3780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IP adres: 18.26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ğ adresi: 18.0.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lt Ağ maskesi: 255.0.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Broadcast adres: 18.255.255.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2E00-B834-4D8F-9B9B-5B67046DAD6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B Sınıfı (128-191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-361800" y="553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4"/>
          <p:cNvGrpSpPr/>
          <p:nvPr/>
        </p:nvGrpSpPr>
        <p:grpSpPr>
          <a:xfrm>
            <a:off x="1037160" y="2854440"/>
            <a:ext cx="2669400" cy="1278720"/>
            <a:chOff x="1037160" y="2854440"/>
            <a:chExt cx="2669400" cy="1278720"/>
          </a:xfrm>
        </p:grpSpPr>
        <p:sp>
          <p:nvSpPr>
            <p:cNvPr id="321" name="Text Box 5"/>
            <p:cNvSpPr/>
            <p:nvPr/>
          </p:nvSpPr>
          <p:spPr>
            <a:xfrm>
              <a:off x="1037160" y="2995560"/>
              <a:ext cx="21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     </a:t>
              </a: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ağ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       ho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6"/>
            <p:cNvSpPr/>
            <p:nvPr/>
          </p:nvSpPr>
          <p:spPr>
            <a:xfrm>
              <a:off x="1466640" y="2859120"/>
              <a:ext cx="1973160" cy="704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7"/>
            <p:cNvSpPr/>
            <p:nvPr/>
          </p:nvSpPr>
          <p:spPr>
            <a:xfrm>
              <a:off x="2266920" y="2854440"/>
              <a:ext cx="0" cy="70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8"/>
            <p:cNvSpPr/>
            <p:nvPr/>
          </p:nvSpPr>
          <p:spPr>
            <a:xfrm>
              <a:off x="1574280" y="3673440"/>
              <a:ext cx="188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16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       </a:t>
              </a:r>
              <a:r>
                <a:rPr b="0" lang="tr-TR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16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 b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9"/>
            <p:cNvSpPr/>
            <p:nvPr/>
          </p:nvSpPr>
          <p:spPr>
            <a:xfrm>
              <a:off x="3522600" y="31672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10"/>
          <p:cNvGrpSpPr/>
          <p:nvPr/>
        </p:nvGrpSpPr>
        <p:grpSpPr>
          <a:xfrm>
            <a:off x="812160" y="4365720"/>
            <a:ext cx="6199200" cy="2018520"/>
            <a:chOff x="812160" y="4365720"/>
            <a:chExt cx="6199200" cy="2018520"/>
          </a:xfrm>
        </p:grpSpPr>
        <p:sp>
          <p:nvSpPr>
            <p:cNvPr id="327" name="Rectangle 11"/>
            <p:cNvSpPr/>
            <p:nvPr/>
          </p:nvSpPr>
          <p:spPr>
            <a:xfrm>
              <a:off x="1703160" y="5144040"/>
              <a:ext cx="171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18</a:t>
              </a: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.</a:t>
              </a:r>
              <a:r>
                <a:rPr b="0" lang="en-US" sz="2400" spc="-1" strike="noStrike">
                  <a:solidFill>
                    <a:srgbClr val="ffff66"/>
                  </a:solidFill>
                  <a:latin typeface="Comic Sans MS"/>
                  <a:ea typeface="Arial"/>
                </a:rPr>
                <a:t>26.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12"/>
            <p:cNvSpPr/>
            <p:nvPr/>
          </p:nvSpPr>
          <p:spPr>
            <a:xfrm flipV="1" rot="5400000">
              <a:off x="2355480" y="4352040"/>
              <a:ext cx="476280" cy="1218960"/>
            </a:xfrm>
            <a:custGeom>
              <a:avLst/>
              <a:gdLst>
                <a:gd name="textAreaLeft" fmla="*/ 304200 w 476280"/>
                <a:gd name="textAreaRight" fmla="*/ 476640 w 47628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13"/>
            <p:cNvSpPr/>
            <p:nvPr/>
          </p:nvSpPr>
          <p:spPr>
            <a:xfrm>
              <a:off x="812160" y="5924520"/>
              <a:ext cx="53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a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14"/>
            <p:cNvSpPr/>
            <p:nvPr/>
          </p:nvSpPr>
          <p:spPr>
            <a:xfrm flipV="1">
              <a:off x="1137960" y="5497200"/>
              <a:ext cx="762120" cy="514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15"/>
            <p:cNvSpPr/>
            <p:nvPr/>
          </p:nvSpPr>
          <p:spPr>
            <a:xfrm>
              <a:off x="2100600" y="4365720"/>
              <a:ext cx="100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32-b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16"/>
            <p:cNvSpPr/>
            <p:nvPr/>
          </p:nvSpPr>
          <p:spPr>
            <a:xfrm>
              <a:off x="4030920" y="5886720"/>
              <a:ext cx="29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Host</a:t>
              </a:r>
              <a:r>
                <a:rPr b="0" lang="tr-TR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 (Pc veya cihaz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17"/>
            <p:cNvSpPr/>
            <p:nvPr/>
          </p:nvSpPr>
          <p:spPr>
            <a:xfrm flipH="1" flipV="1">
              <a:off x="3003120" y="5516640"/>
              <a:ext cx="13525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 Box 18"/>
          <p:cNvSpPr/>
          <p:nvPr/>
        </p:nvSpPr>
        <p:spPr>
          <a:xfrm>
            <a:off x="4932360" y="2492280"/>
            <a:ext cx="3708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IP adres: 181.26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ğ adresi: 181.26.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lt Ağ maskesi: 255.255.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Broadcast adres: 181.26.255.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AF83-ECAF-4A87-BA75-31338ACBC7A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C Sınıfı (192-223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-361800" y="553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1121760" y="263376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     </a:t>
            </a:r>
            <a:r>
              <a:rPr b="0" lang="tr-T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ağ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      </a:t>
            </a:r>
            <a:r>
              <a:rPr b="0" lang="tr-TR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1539720" y="2496960"/>
            <a:ext cx="1973520" cy="704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6"/>
          <p:cNvSpPr/>
          <p:nvPr/>
        </p:nvSpPr>
        <p:spPr>
          <a:xfrm>
            <a:off x="2700360" y="2492280"/>
            <a:ext cx="0" cy="704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1696320" y="331164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24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      </a:t>
            </a:r>
            <a:r>
              <a:rPr b="0" lang="tr-TR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8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3595680" y="28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9"/>
          <p:cNvSpPr/>
          <p:nvPr/>
        </p:nvSpPr>
        <p:spPr>
          <a:xfrm>
            <a:off x="1776240" y="478188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1</a:t>
            </a:r>
            <a:r>
              <a:rPr b="0" lang="tr-T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94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.26.</a:t>
            </a:r>
            <a:r>
              <a:rPr b="0" lang="tr-T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5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.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0"/>
          <p:cNvSpPr/>
          <p:nvPr/>
        </p:nvSpPr>
        <p:spPr>
          <a:xfrm flipV="1" rot="5400000">
            <a:off x="2428920" y="3989880"/>
            <a:ext cx="476280" cy="1219320"/>
          </a:xfrm>
          <a:custGeom>
            <a:avLst/>
            <a:gdLst>
              <a:gd name="textAreaLeft" fmla="*/ 304200 w 476280"/>
              <a:gd name="textAreaRight" fmla="*/ 476640 w 476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1"/>
          <p:cNvSpPr/>
          <p:nvPr/>
        </p:nvSpPr>
        <p:spPr>
          <a:xfrm>
            <a:off x="885600" y="556272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a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2"/>
          <p:cNvSpPr/>
          <p:nvPr/>
        </p:nvSpPr>
        <p:spPr>
          <a:xfrm flipV="1">
            <a:off x="1211400" y="5135040"/>
            <a:ext cx="761760" cy="514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3"/>
          <p:cNvSpPr/>
          <p:nvPr/>
        </p:nvSpPr>
        <p:spPr>
          <a:xfrm>
            <a:off x="2173680" y="400356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32-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4"/>
          <p:cNvSpPr/>
          <p:nvPr/>
        </p:nvSpPr>
        <p:spPr>
          <a:xfrm>
            <a:off x="4104000" y="552456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Host</a:t>
            </a:r>
            <a:r>
              <a:rPr b="0" lang="tr-TR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(Pc veya ciha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5"/>
          <p:cNvSpPr/>
          <p:nvPr/>
        </p:nvSpPr>
        <p:spPr>
          <a:xfrm flipH="1" flipV="1">
            <a:off x="3363480" y="5154480"/>
            <a:ext cx="13525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6"/>
          <p:cNvSpPr/>
          <p:nvPr/>
        </p:nvSpPr>
        <p:spPr>
          <a:xfrm>
            <a:off x="5076720" y="2133720"/>
            <a:ext cx="349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IP adres: 194.26.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ğ adresi: 194.26.5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lt Ağ maskesi: 255.255.255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Broadcast adres: 194.26.5.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51E3-0116-4702-9EF9-509F7E9A1E6E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rnek Bir İnternet Uygulamas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53" name="Group 4"/>
          <p:cNvGrpSpPr/>
          <p:nvPr/>
        </p:nvGrpSpPr>
        <p:grpSpPr>
          <a:xfrm>
            <a:off x="179280" y="2133720"/>
            <a:ext cx="8785440" cy="4723920"/>
            <a:chOff x="179280" y="2133720"/>
            <a:chExt cx="8785440" cy="4723920"/>
          </a:xfrm>
        </p:grpSpPr>
        <p:graphicFrame>
          <p:nvGraphicFramePr>
            <p:cNvPr id="354" name="Object 5"/>
            <p:cNvGraphicFramePr/>
            <p:nvPr/>
          </p:nvGraphicFramePr>
          <p:xfrm>
            <a:off x="5512680" y="2133720"/>
            <a:ext cx="2577600" cy="1031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5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12680" y="2133720"/>
                      <a:ext cx="2577600" cy="103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6" name="Object 6"/>
            <p:cNvGraphicFramePr/>
            <p:nvPr/>
          </p:nvGraphicFramePr>
          <p:xfrm>
            <a:off x="284040" y="4871880"/>
            <a:ext cx="2577600" cy="1031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7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4040" y="4871880"/>
                      <a:ext cx="2577600" cy="103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8" name="Object 7"/>
            <p:cNvGraphicFramePr/>
            <p:nvPr/>
          </p:nvGraphicFramePr>
          <p:xfrm>
            <a:off x="5850000" y="4963680"/>
            <a:ext cx="2577600" cy="1031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9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850000" y="4963680"/>
                      <a:ext cx="2577600" cy="103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0" name="Rectangle 8"/>
            <p:cNvSpPr/>
            <p:nvPr/>
          </p:nvSpPr>
          <p:spPr>
            <a:xfrm>
              <a:off x="4163400" y="3652560"/>
              <a:ext cx="33696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9"/>
            <p:cNvSpPr/>
            <p:nvPr/>
          </p:nvSpPr>
          <p:spPr>
            <a:xfrm>
              <a:off x="4163400" y="5291640"/>
              <a:ext cx="33696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0"/>
            <p:cNvSpPr/>
            <p:nvPr/>
          </p:nvSpPr>
          <p:spPr>
            <a:xfrm>
              <a:off x="2814120" y="3816360"/>
              <a:ext cx="1349280" cy="1311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1"/>
            <p:cNvSpPr/>
            <p:nvPr/>
          </p:nvSpPr>
          <p:spPr>
            <a:xfrm>
              <a:off x="4500720" y="2996640"/>
              <a:ext cx="1349280" cy="956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12"/>
            <p:cNvSpPr/>
            <p:nvPr/>
          </p:nvSpPr>
          <p:spPr>
            <a:xfrm>
              <a:off x="2814120" y="5455440"/>
              <a:ext cx="13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65" name="Object 13"/>
            <p:cNvGraphicFramePr/>
            <p:nvPr/>
          </p:nvGraphicFramePr>
          <p:xfrm>
            <a:off x="284040" y="2133720"/>
            <a:ext cx="2577600" cy="1031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66" name="Object 1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84040" y="2133720"/>
                      <a:ext cx="2577600" cy="103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7" name="Rectangle 14"/>
            <p:cNvSpPr/>
            <p:nvPr/>
          </p:nvSpPr>
          <p:spPr>
            <a:xfrm>
              <a:off x="4163400" y="2461320"/>
              <a:ext cx="33696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15"/>
            <p:cNvSpPr/>
            <p:nvPr/>
          </p:nvSpPr>
          <p:spPr>
            <a:xfrm>
              <a:off x="4500720" y="5411880"/>
              <a:ext cx="13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16"/>
            <p:cNvSpPr/>
            <p:nvPr/>
          </p:nvSpPr>
          <p:spPr>
            <a:xfrm>
              <a:off x="2814120" y="2625120"/>
              <a:ext cx="13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7"/>
            <p:cNvSpPr/>
            <p:nvPr/>
          </p:nvSpPr>
          <p:spPr>
            <a:xfrm>
              <a:off x="4500720" y="2625120"/>
              <a:ext cx="10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18"/>
            <p:cNvSpPr/>
            <p:nvPr/>
          </p:nvSpPr>
          <p:spPr>
            <a:xfrm>
              <a:off x="790200" y="3040560"/>
              <a:ext cx="0" cy="32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19"/>
            <p:cNvSpPr/>
            <p:nvPr/>
          </p:nvSpPr>
          <p:spPr>
            <a:xfrm>
              <a:off x="2139480" y="3026160"/>
              <a:ext cx="0" cy="32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0"/>
            <p:cNvSpPr/>
            <p:nvPr/>
          </p:nvSpPr>
          <p:spPr>
            <a:xfrm>
              <a:off x="6861960" y="3117240"/>
              <a:ext cx="0" cy="32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1"/>
            <p:cNvSpPr/>
            <p:nvPr/>
          </p:nvSpPr>
          <p:spPr>
            <a:xfrm>
              <a:off x="7997760" y="2760120"/>
              <a:ext cx="0" cy="32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2"/>
            <p:cNvSpPr/>
            <p:nvPr/>
          </p:nvSpPr>
          <p:spPr>
            <a:xfrm>
              <a:off x="958680" y="5830920"/>
              <a:ext cx="0" cy="32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3"/>
            <p:cNvSpPr/>
            <p:nvPr/>
          </p:nvSpPr>
          <p:spPr>
            <a:xfrm>
              <a:off x="6693480" y="5903640"/>
              <a:ext cx="0" cy="32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24"/>
            <p:cNvSpPr/>
            <p:nvPr/>
          </p:nvSpPr>
          <p:spPr>
            <a:xfrm>
              <a:off x="8211240" y="5634000"/>
              <a:ext cx="0" cy="49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25"/>
            <p:cNvSpPr/>
            <p:nvPr/>
          </p:nvSpPr>
          <p:spPr>
            <a:xfrm>
              <a:off x="531360" y="3353760"/>
              <a:ext cx="50580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26"/>
            <p:cNvSpPr/>
            <p:nvPr/>
          </p:nvSpPr>
          <p:spPr>
            <a:xfrm>
              <a:off x="1880640" y="3357360"/>
              <a:ext cx="50580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27"/>
            <p:cNvSpPr/>
            <p:nvPr/>
          </p:nvSpPr>
          <p:spPr>
            <a:xfrm>
              <a:off x="7948800" y="6125760"/>
              <a:ext cx="50580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28"/>
            <p:cNvSpPr/>
            <p:nvPr/>
          </p:nvSpPr>
          <p:spPr>
            <a:xfrm>
              <a:off x="7738920" y="3087720"/>
              <a:ext cx="50616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29"/>
            <p:cNvSpPr/>
            <p:nvPr/>
          </p:nvSpPr>
          <p:spPr>
            <a:xfrm>
              <a:off x="6434640" y="6231600"/>
              <a:ext cx="50580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0"/>
            <p:cNvSpPr/>
            <p:nvPr/>
          </p:nvSpPr>
          <p:spPr>
            <a:xfrm>
              <a:off x="6603480" y="3444840"/>
              <a:ext cx="50580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1"/>
            <p:cNvSpPr/>
            <p:nvPr/>
          </p:nvSpPr>
          <p:spPr>
            <a:xfrm>
              <a:off x="696240" y="6158520"/>
              <a:ext cx="505800" cy="32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32"/>
            <p:cNvSpPr/>
            <p:nvPr/>
          </p:nvSpPr>
          <p:spPr>
            <a:xfrm>
              <a:off x="6356160" y="5247720"/>
              <a:ext cx="185508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prefix 192.5.48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33"/>
            <p:cNvSpPr/>
            <p:nvPr/>
          </p:nvSpPr>
          <p:spPr>
            <a:xfrm>
              <a:off x="790200" y="5247720"/>
              <a:ext cx="168624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prefix 10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34"/>
            <p:cNvSpPr/>
            <p:nvPr/>
          </p:nvSpPr>
          <p:spPr>
            <a:xfrm>
              <a:off x="6187320" y="2461320"/>
              <a:ext cx="168624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prefix 128.211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35"/>
            <p:cNvSpPr/>
            <p:nvPr/>
          </p:nvSpPr>
          <p:spPr>
            <a:xfrm>
              <a:off x="790200" y="2461320"/>
              <a:ext cx="168624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prefix 128.10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36"/>
            <p:cNvSpPr/>
            <p:nvPr/>
          </p:nvSpPr>
          <p:spPr>
            <a:xfrm flipH="1" flipV="1">
              <a:off x="4500720" y="4100400"/>
              <a:ext cx="843120" cy="32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37"/>
            <p:cNvSpPr/>
            <p:nvPr/>
          </p:nvSpPr>
          <p:spPr>
            <a:xfrm flipH="1">
              <a:off x="4332240" y="4592160"/>
              <a:ext cx="101160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38"/>
            <p:cNvSpPr/>
            <p:nvPr/>
          </p:nvSpPr>
          <p:spPr>
            <a:xfrm flipH="1" flipV="1">
              <a:off x="4500720" y="2953080"/>
              <a:ext cx="843120" cy="13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39"/>
            <p:cNvSpPr/>
            <p:nvPr/>
          </p:nvSpPr>
          <p:spPr>
            <a:xfrm>
              <a:off x="5343840" y="4264560"/>
              <a:ext cx="134928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40"/>
            <p:cNvSpPr/>
            <p:nvPr/>
          </p:nvSpPr>
          <p:spPr>
            <a:xfrm>
              <a:off x="666360" y="6125760"/>
              <a:ext cx="67464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9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41"/>
            <p:cNvSpPr/>
            <p:nvPr/>
          </p:nvSpPr>
          <p:spPr>
            <a:xfrm>
              <a:off x="7948800" y="6114600"/>
              <a:ext cx="67464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9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42"/>
            <p:cNvSpPr/>
            <p:nvPr/>
          </p:nvSpPr>
          <p:spPr>
            <a:xfrm>
              <a:off x="6400800" y="6184080"/>
              <a:ext cx="67464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9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43"/>
            <p:cNvSpPr/>
            <p:nvPr/>
          </p:nvSpPr>
          <p:spPr>
            <a:xfrm>
              <a:off x="7720200" y="3069720"/>
              <a:ext cx="67464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9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4"/>
            <p:cNvSpPr/>
            <p:nvPr/>
          </p:nvSpPr>
          <p:spPr>
            <a:xfrm>
              <a:off x="6588360" y="3430440"/>
              <a:ext cx="67464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9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45"/>
            <p:cNvSpPr/>
            <p:nvPr/>
          </p:nvSpPr>
          <p:spPr>
            <a:xfrm>
              <a:off x="1846800" y="3339360"/>
              <a:ext cx="67464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9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46"/>
            <p:cNvSpPr/>
            <p:nvPr/>
          </p:nvSpPr>
          <p:spPr>
            <a:xfrm>
              <a:off x="501480" y="3328560"/>
              <a:ext cx="67464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9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47"/>
            <p:cNvSpPr/>
            <p:nvPr/>
          </p:nvSpPr>
          <p:spPr>
            <a:xfrm>
              <a:off x="7615440" y="6395400"/>
              <a:ext cx="134928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192.5.48.8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48"/>
            <p:cNvSpPr/>
            <p:nvPr/>
          </p:nvSpPr>
          <p:spPr>
            <a:xfrm>
              <a:off x="6097320" y="6530040"/>
              <a:ext cx="134928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192.5.48.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49"/>
            <p:cNvSpPr/>
            <p:nvPr/>
          </p:nvSpPr>
          <p:spPr>
            <a:xfrm>
              <a:off x="7398000" y="3353760"/>
              <a:ext cx="148788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128.211.28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0"/>
            <p:cNvSpPr/>
            <p:nvPr/>
          </p:nvSpPr>
          <p:spPr>
            <a:xfrm>
              <a:off x="6018840" y="3743280"/>
              <a:ext cx="162648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128.211.6.1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51"/>
            <p:cNvSpPr/>
            <p:nvPr/>
          </p:nvSpPr>
          <p:spPr>
            <a:xfrm>
              <a:off x="437760" y="6442560"/>
              <a:ext cx="134928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10.0.0.3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52"/>
            <p:cNvSpPr/>
            <p:nvPr/>
          </p:nvSpPr>
          <p:spPr>
            <a:xfrm>
              <a:off x="1554480" y="3637800"/>
              <a:ext cx="134928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128.10.0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53"/>
            <p:cNvSpPr/>
            <p:nvPr/>
          </p:nvSpPr>
          <p:spPr>
            <a:xfrm>
              <a:off x="179280" y="3623400"/>
              <a:ext cx="1349280" cy="3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128.10.0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ADAE-5738-4DF1-849A-1CA4C63E329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zel IP Adres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ahoma"/>
              </a:rPr>
              <a:t>Bazı IP adresleri özel anlamlar taşırlar ve hostlara IP adresi olarak verilemezler. Bu IP adreslerinin tablosu bir sonraki slaytta verilmiştir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A8929-B2F4-4B67-8720-69492FCE93C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000000"/>
                </a:solidFill>
                <a:latin typeface="Times New Roman"/>
              </a:rPr>
              <a:t>Tarihçe (Devam)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35344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1975 yılında başarılı bir biçimde ARPANET işlevsel bir ağ konumunu aldı, birçok organizasyon bu ağa katıldı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1983, Internetworking Working Group(INWG) TCP/IP’ye temel halini verdi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TCP/IP UNIX işletim sistemine eklendi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1984, DNS (Domain Name System) tanıtıldı.  Tamamlanması 4 sene sürdü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1985, NSFNET süper bilgisayarlar arası TCP/IP tabanlı ağın oluşturulup çalıştırılması için kuruldu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1990, ARPANET kaldırıldı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Internet’i başlangıçta yoğun olarak akademik dünya kullanmakla beraber, artık Internet bilgi  çağı toplumlarının her kesimi için vazgeçilmez bir araç olmuştu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9" dur="1" fill="hold"/>
                                  <p:tgtEl>
                                    <p:spTgt spid="11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797F-32ED-45D8-A383-CD7503575F5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zel IP Adres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250920" y="2048040"/>
          <a:ext cx="8704080" cy="429408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2016000"/>
                <a:gridCol w="3230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f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ff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resin Tür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 Amaçla Kullanıldığ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ütün bitler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ütün bitler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 bilgisayar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namik IP alan bilgisayarların açılışında DHCP ve bootsrap’te kullanılı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ğ adre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ütün bitler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ğ adre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r ağın adesini belirti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ğ adre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ütün bitler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önlendirilmiş Broadcast adre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İs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nilen a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ğ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broadcast mesaj gönderilmesini sa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ğ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ütün bitler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ütün bitler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ınırlandırılmış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Broadcast adre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rel bir ağda broadcast mesaj gönderilmesini sağla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rhangi bir değ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opb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st amaçlı kullanım içi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6A10-4C97-48AE-979B-FAE8F93744E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zel IP Adres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127 ile başlayan adresler : Bir makinenin kendisi ile konuşması (loopback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Localhost: 127.0.0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İlk oktet 0 veya 255 olamaz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4596-0BFB-4BA5-99F5-D4DCA82D1DF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Ağ ve Broadcast Numaraları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353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C sınıfı 192.23.123.2 adres içi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ğ numarası: 192.23.12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ağdaki tüm PC’lere mesaj göndermek isteyen bir cihaz şu adrese mesajı atacaktır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192.23.123.2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 sınıfı 142.50.120.2 adres içi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ğ numarası: 142.50.0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ağdaki tüm PC’lere mesaj göndermek isteyen bir cihaz şu adrese mesajı atacaktır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142.50.255.2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21E4-5978-48B4-8FF0-05E973ED0B5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Ayrılmış IP Adresle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23640" y="2205000"/>
            <a:ext cx="8631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ahoma"/>
              </a:rPr>
              <a:t>Bazı IP adresleri bazı kullanımlar için ayrılmıştır. Yerel ağlar için ayrılmış adresler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10.0.0.0 - 10.255.255.255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172.16.0.0 - 172.31.255.255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192.168.0.0 - 192.168.255.255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ahoma"/>
              </a:rPr>
              <a:t>169.254.0.0 - 169.254.255.25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0 </a:t>
            </a:r>
            <a:r>
              <a:rPr b="0" lang="tr-T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bir ağı göstermekted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255 </a:t>
            </a:r>
            <a:r>
              <a:rPr b="0" lang="tr-T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broadcast adres; bir ağ içerisindeki tüm PC’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4D71-4F91-4651-8935-715C3A7A9C6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Alıştırm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131.107.20.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208.234.23.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108.15.45.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Yukarıdaki adresler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P sınıfın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Alt ağ maske numarasın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ağlı olduğu ağ numarasını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roadcast adreslerini yazınız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0" dur="1" fill="hold"/>
                                  <p:tgtEl>
                                    <p:spTgt spid="42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c1c1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5CC0-5DEA-4BB2-B2CF-871644E1C72E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000000"/>
                </a:solidFill>
                <a:latin typeface="Times New Roman"/>
              </a:rPr>
              <a:t>TCP/IP’nin Özellikleri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49636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Açık protokol standartları. Standartlar kolaylıkla elde edilebilir ve herhangi bir işletim sistemi  ya da bilgisayar donanımından bağımsız geliştirilebilir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Fiziksel ağ donanımından bağımsızlık. Bu özellik TCP/IP’ ye birçok değişik ağ ile entegrasyon olanağı sağl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Times New Roman"/>
              </a:rPr>
              <a:t>Ethernet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Times New Roman"/>
              </a:rPr>
              <a:t>Token ring,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Times New Roman"/>
              </a:rPr>
              <a:t>X25 ağı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Times New Roman"/>
              </a:rPr>
              <a:t>FDDI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7" dur="1" fill="hold"/>
                                  <p:tgtEl>
                                    <p:spTgt spid="1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48" dur="1" fill="hold"/>
                                  <p:tgtEl>
                                    <p:spTgt spid="1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49" dur="1" fill="hold"/>
                                  <p:tgtEl>
                                    <p:spTgt spid="11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50" dur="1" fill="hold"/>
                                  <p:tgtEl>
                                    <p:spTgt spid="11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51" dur="1" fill="hold"/>
                                  <p:tgtEl>
                                    <p:spTgt spid="11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52" dur="1" fill="hold"/>
                                  <p:tgtEl>
                                    <p:spTgt spid="11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4DAE-21BE-459F-A921-5C3FD8AEDA73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Times New Roman"/>
              </a:rPr>
              <a:t>TCP/IP’nin Özellikleri (Devam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849780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Ortak bir adresleme yapısı. Bu sayede herhangi bir TCP/IP aygıtı dünya çapında tek olarak adreslenir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Tutarlı ve geniş çaplı kullanıcı servisleri için standardize edilmiş üst katman protokolleri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TCP/IP protokol ailesindeki tüm protokoller şu üç Internet standardı yayınlarından birinden temin edile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Military Standards (MIL STD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Internet Engineering Notes (IEN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Request For Comment (RFC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9" dur="1" fill="hold"/>
                                  <p:tgtEl>
                                    <p:spTgt spid="1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90" dur="1" fill="hold"/>
                                  <p:tgtEl>
                                    <p:spTgt spid="12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91" dur="1" fill="hold"/>
                                  <p:tgtEl>
                                    <p:spTgt spid="12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  <p:animClr clrSpc="rgb">
                                <p:cBhvr>
                                  <p:cTn id="192" dur="1" fill="hold"/>
                                  <p:tgtEl>
                                    <p:spTgt spid="12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095D-D837-4DAD-91E7-409D3739AA1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2"/>
          <p:cNvGrpSpPr/>
          <p:nvPr/>
        </p:nvGrpSpPr>
        <p:grpSpPr>
          <a:xfrm>
            <a:off x="0" y="2349360"/>
            <a:ext cx="9109080" cy="4942080"/>
            <a:chOff x="0" y="2349360"/>
            <a:chExt cx="9109080" cy="4942080"/>
          </a:xfrm>
        </p:grpSpPr>
        <p:sp>
          <p:nvSpPr>
            <p:cNvPr id="124" name="Rectangle 3"/>
            <p:cNvSpPr/>
            <p:nvPr/>
          </p:nvSpPr>
          <p:spPr>
            <a:xfrm>
              <a:off x="0" y="2349360"/>
              <a:ext cx="9109080" cy="49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"/>
            <p:cNvSpPr/>
            <p:nvPr/>
          </p:nvSpPr>
          <p:spPr>
            <a:xfrm>
              <a:off x="998640" y="4004640"/>
              <a:ext cx="1701720" cy="324000"/>
            </a:xfrm>
            <a:prstGeom prst="rect">
              <a:avLst/>
            </a:prstGeom>
            <a:solidFill>
              <a:srgbClr val="00e4a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5"/>
            <p:cNvSpPr/>
            <p:nvPr/>
          </p:nvSpPr>
          <p:spPr>
            <a:xfrm>
              <a:off x="1116000" y="4003200"/>
              <a:ext cx="139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Uygula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6"/>
            <p:cNvSpPr/>
            <p:nvPr/>
          </p:nvSpPr>
          <p:spPr>
            <a:xfrm>
              <a:off x="996840" y="4311360"/>
              <a:ext cx="1703520" cy="324000"/>
            </a:xfrm>
            <a:prstGeom prst="rect">
              <a:avLst/>
            </a:prstGeom>
            <a:solidFill>
              <a:srgbClr val="00e4a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7"/>
            <p:cNvSpPr/>
            <p:nvPr/>
          </p:nvSpPr>
          <p:spPr>
            <a:xfrm>
              <a:off x="1187280" y="4311360"/>
              <a:ext cx="14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Sunu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8"/>
            <p:cNvSpPr/>
            <p:nvPr/>
          </p:nvSpPr>
          <p:spPr>
            <a:xfrm>
              <a:off x="990720" y="4631760"/>
              <a:ext cx="1703160" cy="324000"/>
            </a:xfrm>
            <a:prstGeom prst="rect">
              <a:avLst/>
            </a:prstGeom>
            <a:solidFill>
              <a:srgbClr val="00e4a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9"/>
            <p:cNvSpPr/>
            <p:nvPr/>
          </p:nvSpPr>
          <p:spPr>
            <a:xfrm>
              <a:off x="1187280" y="4618440"/>
              <a:ext cx="109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Oturu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0"/>
            <p:cNvSpPr/>
            <p:nvPr/>
          </p:nvSpPr>
          <p:spPr>
            <a:xfrm>
              <a:off x="990720" y="4956120"/>
              <a:ext cx="1703160" cy="324000"/>
            </a:xfrm>
            <a:prstGeom prst="rect">
              <a:avLst/>
            </a:prstGeom>
            <a:solidFill>
              <a:srgbClr val="00e4a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1"/>
            <p:cNvSpPr/>
            <p:nvPr/>
          </p:nvSpPr>
          <p:spPr>
            <a:xfrm>
              <a:off x="1172520" y="494100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Taşı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2"/>
            <p:cNvSpPr/>
            <p:nvPr/>
          </p:nvSpPr>
          <p:spPr>
            <a:xfrm>
              <a:off x="990720" y="5280120"/>
              <a:ext cx="1703160" cy="32436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3"/>
            <p:cNvSpPr/>
            <p:nvPr/>
          </p:nvSpPr>
          <p:spPr>
            <a:xfrm>
              <a:off x="1528560" y="526572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A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4"/>
            <p:cNvSpPr/>
            <p:nvPr/>
          </p:nvSpPr>
          <p:spPr>
            <a:xfrm>
              <a:off x="990720" y="5604840"/>
              <a:ext cx="1703160" cy="32400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5"/>
            <p:cNvSpPr/>
            <p:nvPr/>
          </p:nvSpPr>
          <p:spPr>
            <a:xfrm>
              <a:off x="1090440" y="5591160"/>
              <a:ext cx="139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Veri İleti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6"/>
            <p:cNvSpPr/>
            <p:nvPr/>
          </p:nvSpPr>
          <p:spPr>
            <a:xfrm>
              <a:off x="990720" y="5929200"/>
              <a:ext cx="1703160" cy="32400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1144440" y="5916960"/>
              <a:ext cx="109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Fiziks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8"/>
            <p:cNvSpPr/>
            <p:nvPr/>
          </p:nvSpPr>
          <p:spPr>
            <a:xfrm>
              <a:off x="3657600" y="5280120"/>
              <a:ext cx="1703520" cy="32436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9"/>
            <p:cNvSpPr/>
            <p:nvPr/>
          </p:nvSpPr>
          <p:spPr>
            <a:xfrm>
              <a:off x="4120920" y="526572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A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0"/>
            <p:cNvSpPr/>
            <p:nvPr/>
          </p:nvSpPr>
          <p:spPr>
            <a:xfrm>
              <a:off x="3657600" y="5604840"/>
              <a:ext cx="1703520" cy="64836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21"/>
            <p:cNvSpPr/>
            <p:nvPr/>
          </p:nvSpPr>
          <p:spPr>
            <a:xfrm>
              <a:off x="3976560" y="5753520"/>
              <a:ext cx="109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Fiziks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2"/>
            <p:cNvSpPr/>
            <p:nvPr/>
          </p:nvSpPr>
          <p:spPr>
            <a:xfrm>
              <a:off x="3657600" y="4956120"/>
              <a:ext cx="1703520" cy="324000"/>
            </a:xfrm>
            <a:prstGeom prst="rect">
              <a:avLst/>
            </a:prstGeom>
            <a:solidFill>
              <a:srgbClr val="00e4a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23"/>
            <p:cNvSpPr/>
            <p:nvPr/>
          </p:nvSpPr>
          <p:spPr>
            <a:xfrm>
              <a:off x="3839400" y="494100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Taşı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4"/>
            <p:cNvSpPr/>
            <p:nvPr/>
          </p:nvSpPr>
          <p:spPr>
            <a:xfrm>
              <a:off x="3657600" y="3983040"/>
              <a:ext cx="1703520" cy="1002600"/>
            </a:xfrm>
            <a:prstGeom prst="rect">
              <a:avLst/>
            </a:prstGeom>
            <a:solidFill>
              <a:srgbClr val="00e4a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25"/>
            <p:cNvSpPr/>
            <p:nvPr/>
          </p:nvSpPr>
          <p:spPr>
            <a:xfrm>
              <a:off x="3750480" y="4247640"/>
              <a:ext cx="1396800" cy="3988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Uygula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6"/>
            <p:cNvSpPr/>
            <p:nvPr/>
          </p:nvSpPr>
          <p:spPr>
            <a:xfrm>
              <a:off x="6095880" y="5150520"/>
              <a:ext cx="2667240" cy="45396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7"/>
            <p:cNvSpPr/>
            <p:nvPr/>
          </p:nvSpPr>
          <p:spPr>
            <a:xfrm>
              <a:off x="7162920" y="5215680"/>
              <a:ext cx="685800" cy="32400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8"/>
            <p:cNvSpPr/>
            <p:nvPr/>
          </p:nvSpPr>
          <p:spPr>
            <a:xfrm>
              <a:off x="6095880" y="5604840"/>
              <a:ext cx="2667240" cy="64836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29"/>
            <p:cNvSpPr/>
            <p:nvPr/>
          </p:nvSpPr>
          <p:spPr>
            <a:xfrm>
              <a:off x="6910560" y="5721120"/>
              <a:ext cx="685800" cy="32400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0"/>
            <p:cNvSpPr/>
            <p:nvPr/>
          </p:nvSpPr>
          <p:spPr>
            <a:xfrm>
              <a:off x="7740720" y="5669640"/>
              <a:ext cx="936720" cy="51912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SLIP v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31"/>
            <p:cNvSpPr/>
            <p:nvPr/>
          </p:nvSpPr>
          <p:spPr>
            <a:xfrm>
              <a:off x="6095880" y="4696560"/>
              <a:ext cx="2667240" cy="453960"/>
            </a:xfrm>
            <a:prstGeom prst="rect">
              <a:avLst/>
            </a:prstGeom>
            <a:solidFill>
              <a:srgbClr val="3333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32"/>
            <p:cNvSpPr/>
            <p:nvPr/>
          </p:nvSpPr>
          <p:spPr>
            <a:xfrm>
              <a:off x="6400800" y="4761360"/>
              <a:ext cx="685800" cy="32400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33"/>
            <p:cNvSpPr/>
            <p:nvPr/>
          </p:nvSpPr>
          <p:spPr>
            <a:xfrm>
              <a:off x="7772400" y="4761360"/>
              <a:ext cx="685800" cy="32400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D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34"/>
            <p:cNvSpPr/>
            <p:nvPr/>
          </p:nvSpPr>
          <p:spPr>
            <a:xfrm>
              <a:off x="6095880" y="3917880"/>
              <a:ext cx="2667240" cy="453960"/>
            </a:xfrm>
            <a:prstGeom prst="rect">
              <a:avLst/>
            </a:prstGeom>
            <a:solidFill>
              <a:srgbClr val="3333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35"/>
            <p:cNvSpPr/>
            <p:nvPr/>
          </p:nvSpPr>
          <p:spPr>
            <a:xfrm>
              <a:off x="6172200" y="3983040"/>
              <a:ext cx="838080" cy="32400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ln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36"/>
            <p:cNvSpPr/>
            <p:nvPr/>
          </p:nvSpPr>
          <p:spPr>
            <a:xfrm>
              <a:off x="7162920" y="3983040"/>
              <a:ext cx="685800" cy="32400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37"/>
            <p:cNvSpPr/>
            <p:nvPr/>
          </p:nvSpPr>
          <p:spPr>
            <a:xfrm>
              <a:off x="7924680" y="3983040"/>
              <a:ext cx="685800" cy="324000"/>
            </a:xfrm>
            <a:prstGeom prst="rect">
              <a:avLst/>
            </a:prstGeom>
            <a:solidFill>
              <a:srgbClr val="00e4a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38"/>
            <p:cNvSpPr/>
            <p:nvPr/>
          </p:nvSpPr>
          <p:spPr>
            <a:xfrm flipV="1">
              <a:off x="5334120" y="3917880"/>
              <a:ext cx="761760" cy="6480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9"/>
            <p:cNvSpPr/>
            <p:nvPr/>
          </p:nvSpPr>
          <p:spPr>
            <a:xfrm>
              <a:off x="5372280" y="4372200"/>
              <a:ext cx="723600" cy="594360"/>
            </a:xfrm>
            <a:prstGeom prst="pie">
              <a:avLst/>
            </a:pr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40"/>
            <p:cNvSpPr/>
            <p:nvPr/>
          </p:nvSpPr>
          <p:spPr>
            <a:xfrm flipV="1">
              <a:off x="5334120" y="4696200"/>
              <a:ext cx="761760" cy="25956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41"/>
            <p:cNvSpPr/>
            <p:nvPr/>
          </p:nvSpPr>
          <p:spPr>
            <a:xfrm flipV="1">
              <a:off x="5334120" y="5150520"/>
              <a:ext cx="761760" cy="12960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42"/>
            <p:cNvSpPr/>
            <p:nvPr/>
          </p:nvSpPr>
          <p:spPr>
            <a:xfrm>
              <a:off x="5334120" y="5604840"/>
              <a:ext cx="76176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43"/>
            <p:cNvSpPr/>
            <p:nvPr/>
          </p:nvSpPr>
          <p:spPr>
            <a:xfrm>
              <a:off x="5334120" y="6253200"/>
              <a:ext cx="76176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4"/>
            <p:cNvSpPr/>
            <p:nvPr/>
          </p:nvSpPr>
          <p:spPr>
            <a:xfrm>
              <a:off x="1368000" y="6383160"/>
              <a:ext cx="61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S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45"/>
            <p:cNvSpPr/>
            <p:nvPr/>
          </p:nvSpPr>
          <p:spPr>
            <a:xfrm>
              <a:off x="3916440" y="6383160"/>
              <a:ext cx="999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/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46"/>
            <p:cNvSpPr/>
            <p:nvPr/>
          </p:nvSpPr>
          <p:spPr>
            <a:xfrm>
              <a:off x="2700360" y="5598000"/>
              <a:ext cx="93492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47"/>
            <p:cNvSpPr/>
            <p:nvPr/>
          </p:nvSpPr>
          <p:spPr>
            <a:xfrm>
              <a:off x="2700360" y="6246720"/>
              <a:ext cx="93492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48"/>
            <p:cNvSpPr/>
            <p:nvPr/>
          </p:nvSpPr>
          <p:spPr>
            <a:xfrm>
              <a:off x="2700360" y="5291280"/>
              <a:ext cx="93492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49"/>
            <p:cNvSpPr/>
            <p:nvPr/>
          </p:nvSpPr>
          <p:spPr>
            <a:xfrm>
              <a:off x="2700360" y="4985640"/>
              <a:ext cx="93492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50"/>
            <p:cNvSpPr/>
            <p:nvPr/>
          </p:nvSpPr>
          <p:spPr>
            <a:xfrm>
              <a:off x="2700360" y="4004640"/>
              <a:ext cx="93492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1"/>
            <p:cNvSpPr/>
            <p:nvPr/>
          </p:nvSpPr>
          <p:spPr>
            <a:xfrm>
              <a:off x="6300720" y="5230440"/>
              <a:ext cx="685800" cy="32436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ICM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52"/>
            <p:cNvSpPr/>
            <p:nvPr/>
          </p:nvSpPr>
          <p:spPr>
            <a:xfrm>
              <a:off x="7956720" y="5230440"/>
              <a:ext cx="685800" cy="32436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AR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53"/>
            <p:cNvSpPr/>
            <p:nvPr/>
          </p:nvSpPr>
          <p:spPr>
            <a:xfrm>
              <a:off x="6156360" y="5721120"/>
              <a:ext cx="685800" cy="32400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SI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le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TCP/IP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 Mukayese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Text Box 55"/>
          <p:cNvSpPr/>
          <p:nvPr/>
        </p:nvSpPr>
        <p:spPr>
          <a:xfrm>
            <a:off x="468360" y="2060640"/>
            <a:ext cx="7489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Uygulama Katmanı (Application Lay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Taşıma Katmanı (Transport Lay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ğ Katmanı (Network Layer/Internet Layer/Internetwork Lay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Fiziksel Katman (Network Access Layer/Link and Physical Lay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9CF8-C34C-41A6-84A6-D70A857839F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1758960" y="2792520"/>
            <a:ext cx="380052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5361120" y="2792520"/>
            <a:ext cx="202392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1758960" y="3782880"/>
            <a:ext cx="2654280" cy="630360"/>
          </a:xfrm>
          <a:prstGeom prst="rect">
            <a:avLst/>
          </a:prstGeom>
          <a:solidFill>
            <a:srgbClr val="60c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69840" y="2052720"/>
            <a:ext cx="11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cf01"/>
                </a:solidFill>
                <a:latin typeface="Times New Roman"/>
              </a:rPr>
              <a:t>Uygul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1758960" y="5492880"/>
            <a:ext cx="5626080" cy="6728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2514600" y="5711760"/>
            <a:ext cx="4127760" cy="36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Ethernet, X.25, Token-Ring, Dial-up, v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1758960" y="4654440"/>
            <a:ext cx="5626080" cy="6732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2969640" y="4951440"/>
            <a:ext cx="2874960" cy="36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IEEE 802.2 / LAPB/ HD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2711520" y="3898800"/>
            <a:ext cx="772920" cy="366840"/>
          </a:xfrm>
          <a:prstGeom prst="rect">
            <a:avLst/>
          </a:prstGeom>
          <a:solidFill>
            <a:srgbClr val="60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4349880" y="3782880"/>
            <a:ext cx="3035160" cy="630360"/>
          </a:xfrm>
          <a:prstGeom prst="rect">
            <a:avLst/>
          </a:prstGeom>
          <a:solidFill>
            <a:srgbClr val="60c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4414680" y="3886200"/>
            <a:ext cx="2062440" cy="366840"/>
          </a:xfrm>
          <a:prstGeom prst="rect">
            <a:avLst/>
          </a:prstGeom>
          <a:solidFill>
            <a:srgbClr val="60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IC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2536920" y="2890800"/>
            <a:ext cx="151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4"/>
          <p:cNvSpPr/>
          <p:nvPr/>
        </p:nvSpPr>
        <p:spPr>
          <a:xfrm>
            <a:off x="5642640" y="2890800"/>
            <a:ext cx="100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5"/>
          <p:cNvSpPr/>
          <p:nvPr/>
        </p:nvSpPr>
        <p:spPr>
          <a:xfrm>
            <a:off x="1758960" y="1928880"/>
            <a:ext cx="5626080" cy="57924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181080" y="2924280"/>
            <a:ext cx="115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urkish Times New Roman"/>
              </a:rPr>
              <a:t>Ulaşı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7"/>
          <p:cNvSpPr/>
          <p:nvPr/>
        </p:nvSpPr>
        <p:spPr>
          <a:xfrm>
            <a:off x="69480" y="3944880"/>
            <a:ext cx="146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60c900"/>
                </a:solidFill>
                <a:latin typeface="Times New Roman"/>
              </a:rPr>
              <a:t>Yönlendi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>
            <a:off x="179640" y="5275440"/>
            <a:ext cx="93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c0128"/>
                </a:solidFill>
                <a:latin typeface="Times New Roman"/>
              </a:rPr>
              <a:t>Fizik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9"/>
          <p:cNvSpPr/>
          <p:nvPr/>
        </p:nvSpPr>
        <p:spPr>
          <a:xfrm>
            <a:off x="5410080" y="2057400"/>
            <a:ext cx="1219320" cy="366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D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0"/>
          <p:cNvSpPr/>
          <p:nvPr/>
        </p:nvSpPr>
        <p:spPr>
          <a:xfrm>
            <a:off x="4363920" y="2060640"/>
            <a:ext cx="1111680" cy="366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TEL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1"/>
          <p:cNvSpPr/>
          <p:nvPr/>
        </p:nvSpPr>
        <p:spPr>
          <a:xfrm>
            <a:off x="1766880" y="2052720"/>
            <a:ext cx="1111680" cy="366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RLO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2"/>
          <p:cNvSpPr/>
          <p:nvPr/>
        </p:nvSpPr>
        <p:spPr>
          <a:xfrm>
            <a:off x="3592080" y="2058840"/>
            <a:ext cx="820440" cy="366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SM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3"/>
          <p:cNvSpPr/>
          <p:nvPr/>
        </p:nvSpPr>
        <p:spPr>
          <a:xfrm>
            <a:off x="6477120" y="2057400"/>
            <a:ext cx="838080" cy="366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T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4"/>
          <p:cNvSpPr/>
          <p:nvPr/>
        </p:nvSpPr>
        <p:spPr>
          <a:xfrm>
            <a:off x="2901960" y="1928880"/>
            <a:ext cx="749160" cy="57924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5"/>
          <p:cNvSpPr/>
          <p:nvPr/>
        </p:nvSpPr>
        <p:spPr>
          <a:xfrm>
            <a:off x="2902320" y="2022480"/>
            <a:ext cx="675720" cy="366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6"/>
          <p:cNvSpPr/>
          <p:nvPr/>
        </p:nvSpPr>
        <p:spPr>
          <a:xfrm>
            <a:off x="4343400" y="1905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7"/>
          <p:cNvSpPr/>
          <p:nvPr/>
        </p:nvSpPr>
        <p:spPr>
          <a:xfrm>
            <a:off x="5486400" y="1905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8"/>
          <p:cNvSpPr/>
          <p:nvPr/>
        </p:nvSpPr>
        <p:spPr>
          <a:xfrm>
            <a:off x="6553080" y="1905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7560" y="685440"/>
            <a:ext cx="722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TCP/IP Protokol Katmanları</a:t>
            </a:r>
            <a:r>
              <a:rPr b="0" lang="tr-TR" sz="3200" spc="-1" strike="noStrike">
                <a:solidFill>
                  <a:srgbClr val="000000"/>
                </a:solidFill>
                <a:latin typeface="Turkish Times New Roman"/>
              </a:rPr>
              <a:t> (Devam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43F8-7122-4EA0-9A3D-38E8B8FA163A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TCP/IP Veri Aktarımı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8" name="Picture 3" descr="MCj03252340000[1]"/>
          <p:cNvPicPr/>
          <p:nvPr/>
        </p:nvPicPr>
        <p:blipFill>
          <a:blip r:embed="rId1"/>
          <a:stretch/>
        </p:blipFill>
        <p:spPr>
          <a:xfrm>
            <a:off x="250920" y="2198520"/>
            <a:ext cx="1081080" cy="8971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MCj02816080000[1]"/>
          <p:cNvPicPr/>
          <p:nvPr/>
        </p:nvPicPr>
        <p:blipFill>
          <a:blip r:embed="rId2"/>
          <a:stretch/>
        </p:blipFill>
        <p:spPr>
          <a:xfrm>
            <a:off x="7956720" y="2054160"/>
            <a:ext cx="718920" cy="7113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179280" y="19098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ermina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7020000" y="17654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ermina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1476360" y="23414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İşlem Gönderi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6516720" y="22701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İşlem Alım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4140360" y="2341440"/>
            <a:ext cx="86328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0"/>
          <p:cNvGrpSpPr/>
          <p:nvPr/>
        </p:nvGrpSpPr>
        <p:grpSpPr>
          <a:xfrm>
            <a:off x="-59760" y="3346560"/>
            <a:ext cx="2112480" cy="1920960"/>
            <a:chOff x="-59760" y="3346560"/>
            <a:chExt cx="2112480" cy="1920960"/>
          </a:xfrm>
        </p:grpSpPr>
        <p:sp>
          <p:nvSpPr>
            <p:cNvPr id="216" name="Text Box 11"/>
            <p:cNvSpPr/>
            <p:nvPr/>
          </p:nvSpPr>
          <p:spPr>
            <a:xfrm>
              <a:off x="206280" y="3346560"/>
              <a:ext cx="1846440" cy="398880"/>
            </a:xfrm>
            <a:prstGeom prst="rect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Uygula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2"/>
            <p:cNvSpPr/>
            <p:nvPr/>
          </p:nvSpPr>
          <p:spPr>
            <a:xfrm>
              <a:off x="179280" y="3860640"/>
              <a:ext cx="1846440" cy="398880"/>
            </a:xfrm>
            <a:prstGeom prst="rect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Taşı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3"/>
            <p:cNvSpPr/>
            <p:nvPr/>
          </p:nvSpPr>
          <p:spPr>
            <a:xfrm>
              <a:off x="179280" y="4381560"/>
              <a:ext cx="1846440" cy="398880"/>
            </a:xfrm>
            <a:prstGeom prst="rect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A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14"/>
            <p:cNvSpPr/>
            <p:nvPr/>
          </p:nvSpPr>
          <p:spPr>
            <a:xfrm>
              <a:off x="179280" y="4868640"/>
              <a:ext cx="1846440" cy="398880"/>
            </a:xfrm>
            <a:prstGeom prst="rect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000000"/>
                  </a:solidFill>
                  <a:latin typeface="Tahoma"/>
                </a:rPr>
                <a:t>Fiziks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15"/>
            <p:cNvSpPr/>
            <p:nvPr/>
          </p:nvSpPr>
          <p:spPr>
            <a:xfrm>
              <a:off x="-59760" y="4862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6"/>
            <p:cNvSpPr/>
            <p:nvPr/>
          </p:nvSpPr>
          <p:spPr>
            <a:xfrm>
              <a:off x="-59760" y="4357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7"/>
            <p:cNvSpPr/>
            <p:nvPr/>
          </p:nvSpPr>
          <p:spPr>
            <a:xfrm>
              <a:off x="-59760" y="3854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-59760" y="33573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19"/>
          <p:cNvSpPr/>
          <p:nvPr/>
        </p:nvSpPr>
        <p:spPr>
          <a:xfrm>
            <a:off x="2340000" y="55818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011100111101111001111001110111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1042920" y="5365800"/>
            <a:ext cx="0" cy="57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1"/>
          <p:cNvSpPr/>
          <p:nvPr/>
        </p:nvSpPr>
        <p:spPr>
          <a:xfrm>
            <a:off x="1042920" y="5942160"/>
            <a:ext cx="691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7956720" y="5365800"/>
            <a:ext cx="0" cy="57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3"/>
          <p:cNvSpPr/>
          <p:nvPr/>
        </p:nvSpPr>
        <p:spPr>
          <a:xfrm>
            <a:off x="2771640" y="608652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Fiziksel veri aktarımı; Kablolar vb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24"/>
          <p:cNvGrpSpPr/>
          <p:nvPr/>
        </p:nvGrpSpPr>
        <p:grpSpPr>
          <a:xfrm>
            <a:off x="2341440" y="3422520"/>
            <a:ext cx="4535640" cy="2016360"/>
            <a:chOff x="2341440" y="3422520"/>
            <a:chExt cx="4535640" cy="2016360"/>
          </a:xfrm>
        </p:grpSpPr>
        <p:sp>
          <p:nvSpPr>
            <p:cNvPr id="230" name="Text Box 25"/>
            <p:cNvSpPr/>
            <p:nvPr/>
          </p:nvSpPr>
          <p:spPr>
            <a:xfrm>
              <a:off x="2989440" y="3422520"/>
              <a:ext cx="86364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2989440" y="3927600"/>
              <a:ext cx="86364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3853080" y="3927600"/>
              <a:ext cx="100800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TCP 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8"/>
            <p:cNvSpPr/>
            <p:nvPr/>
          </p:nvSpPr>
          <p:spPr>
            <a:xfrm>
              <a:off x="2989440" y="4503600"/>
              <a:ext cx="86364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9"/>
            <p:cNvSpPr/>
            <p:nvPr/>
          </p:nvSpPr>
          <p:spPr>
            <a:xfrm>
              <a:off x="2990880" y="5033880"/>
              <a:ext cx="86364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0"/>
            <p:cNvSpPr/>
            <p:nvPr/>
          </p:nvSpPr>
          <p:spPr>
            <a:xfrm>
              <a:off x="3853080" y="4503600"/>
              <a:ext cx="100800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TCP 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31"/>
            <p:cNvSpPr/>
            <p:nvPr/>
          </p:nvSpPr>
          <p:spPr>
            <a:xfrm>
              <a:off x="4861080" y="4503600"/>
              <a:ext cx="100800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IP 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32"/>
            <p:cNvSpPr/>
            <p:nvPr/>
          </p:nvSpPr>
          <p:spPr>
            <a:xfrm>
              <a:off x="3853080" y="5033880"/>
              <a:ext cx="100800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TCP 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33"/>
            <p:cNvSpPr/>
            <p:nvPr/>
          </p:nvSpPr>
          <p:spPr>
            <a:xfrm>
              <a:off x="4861080" y="5033880"/>
              <a:ext cx="100800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IP 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2341440" y="5033880"/>
              <a:ext cx="648000" cy="368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000000"/>
                  </a:solidFill>
                  <a:latin typeface="Tahoma"/>
                </a:rPr>
                <a:t>CR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35"/>
            <p:cNvSpPr/>
            <p:nvPr/>
          </p:nvSpPr>
          <p:spPr>
            <a:xfrm>
              <a:off x="5869080" y="5033880"/>
              <a:ext cx="1008000" cy="4050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 u="sng">
                  <a:solidFill>
                    <a:srgbClr val="ff0000"/>
                  </a:solidFill>
                  <a:uFillTx/>
                  <a:latin typeface="Tahoma"/>
                </a:rPr>
                <a:t>MAC 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Text Box 36"/>
          <p:cNvSpPr/>
          <p:nvPr/>
        </p:nvSpPr>
        <p:spPr>
          <a:xfrm>
            <a:off x="7068960" y="3422520"/>
            <a:ext cx="1846440" cy="3988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ahoma"/>
              </a:rPr>
              <a:t>Uygul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7042320" y="3936960"/>
            <a:ext cx="1846080" cy="3988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ahoma"/>
              </a:rPr>
              <a:t>Taşı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7042320" y="4457880"/>
            <a:ext cx="1846080" cy="3988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ahoma"/>
              </a:rPr>
              <a:t>A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7042320" y="4944960"/>
            <a:ext cx="1846080" cy="3988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ahoma"/>
              </a:rPr>
              <a:t>Fizik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8870040" y="4933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8870040" y="4429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8870040" y="3925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8870040" y="3429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119640" y="64911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CRC: Hata kontrol ko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9B86-D3DD-493C-A66D-483B4E357DF5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Taşıma Katmanı Protokoller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CP (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</a:rPr>
              <a:t>Transmission Control Protocol-Transfer Kontrol Protokolü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Veri aktarımı yapılacak iki bilgisayar arasındaki bağlantıyı kur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Hata denetimi yapar. Paketler gitmediyse bir daha gönder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UDP (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</a:rPr>
              <a:t>User Datagram Protocol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TCP gibi ağ üzerinden paketi gönderir ama bu protokol paketin gidip gitmediğini takip etmez ve paketin yerine ulaşıp ulaşmayacağını garantilemez. Daha çok küçük paketlerin tüm PC’lere gönderilmesinde kullanıl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04:43:35Z</dcterms:created>
  <dc:creator>Tuna GÖKSU</dc:creator>
  <dc:description/>
  <dc:language>en-US</dc:language>
  <cp:lastModifiedBy>Bilal</cp:lastModifiedBy>
  <dcterms:modified xsi:type="dcterms:W3CDTF">2012-11-27T15:56:56Z</dcterms:modified>
  <cp:revision>21</cp:revision>
  <dc:subject/>
  <dc:title>Slayt 1</dc:title>
</cp:coreProperties>
</file>