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D65-A940-44CB-9E7F-4569A9B1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93C-B575-4E3A-BD84-97650B3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7A26-B3F6-439A-9835-C36FD380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D83-F144-4396-A3F3-C09BCF71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31D3-018E-4C3E-B979-0992B53F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D6ED-A1BC-436D-B471-671BD3B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F53-0351-4B1C-8EBC-84193B3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C46D-6C44-4D15-A10A-183F659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60F-13B0-4672-81D4-9E88BB5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7133-2218-478C-9AFE-8F9D4FA9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3EA-EC49-4897-9753-F37E45A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033-75E3-467C-B31A-738DC3B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0BDA-5E52-41C4-892C-3139A48B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5EC4-42C8-446E-B4AA-D082BC2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A99D-E44B-479B-B62A-7C48C013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F01-25DC-442C-A87A-1DE4F2ED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5DFB-288F-46AF-89C3-1AFC0B85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EF0-C1CA-489B-9FC5-AC1D607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FDA-2504-400C-87B2-3E5E1B09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51E-0505-4284-A490-EF99C2B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A04-A71F-430B-985D-31A7C913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59B-23F8-4726-BD1E-E33A0A5C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CBF-0B1A-452B-B8AE-82CD0F9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5CF-1852-4A41-802E-BC1B852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C44-682C-462C-95A4-8C811D121BD6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8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02FE-6DAE-4E0C-9BC4-E9D10F14315E}" type="slidenum">
              <a:rPr b="0" lang="tr-T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06633"/>
                </a:solidFill>
                <a:latin typeface="Garamond"/>
              </a:rPr>
              <a:t>Alt Ağlar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lt Ağ Maskesi bir IP adresinin hangi bitlerinin ağ adresine ait bitler hangi bitlerinin host adresine ait bitler olduğunun anlaşılması için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lt ağ maskesindeki 1’ler IP adresinin ağ adresi kısmını, 0’lar ise IP adresinin host adresi kısmını göster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rneğin C sınıfı bir IP adresinin varsayılan maskesinde 24 tane bir 8 tane 0 var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 Maskesi Tablos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ubnetting_c"/>
          <p:cNvPicPr/>
          <p:nvPr/>
        </p:nvPicPr>
        <p:blipFill>
          <a:blip r:embed="rId1"/>
          <a:stretch/>
        </p:blipFill>
        <p:spPr>
          <a:xfrm>
            <a:off x="1984320" y="1052640"/>
            <a:ext cx="4935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ğ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IP Adresi 10.20.237.15 ve Alt Ağ Maskesi 255.255.248.0 olan bilgisayarın Ağ Adresi nasıl bulun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ubnetting_d"/>
          <p:cNvPicPr/>
          <p:nvPr/>
        </p:nvPicPr>
        <p:blipFill>
          <a:blip r:embed="rId1"/>
          <a:stretch/>
        </p:blipFill>
        <p:spPr>
          <a:xfrm>
            <a:off x="1332000" y="3141720"/>
            <a:ext cx="6553080" cy="113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subnetting_e"/>
          <p:cNvPicPr/>
          <p:nvPr/>
        </p:nvPicPr>
        <p:blipFill>
          <a:blip r:embed="rId2"/>
          <a:stretch/>
        </p:blipFill>
        <p:spPr>
          <a:xfrm>
            <a:off x="1332000" y="4508640"/>
            <a:ext cx="6553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Alt Ağdaki Host Sayıs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Önceki örnekte maskede 11 adet sıfır bulunduğu için her ağdaki host sayıs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2^11 = 2048 olarak bulun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ost sayısını bulmada genel formül 2^n dir. Buradaki n maskedeki 0’ların sayı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6633"/>
                </a:solidFill>
                <a:latin typeface="Garamond"/>
              </a:rPr>
              <a:t>Broadcast Adresini Hesapla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64352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askedeki sıfırlarla eşleşen IP adresi bitlerinin tamamı 1 yapılarak broadcast adresi hesaplan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852640"/>
          <a:ext cx="7499520" cy="1838520"/>
        </p:xfrm>
        <a:graphic>
          <a:graphicData uri="http://schemas.openxmlformats.org/drawingml/2006/table">
            <a:tbl>
              <a:tblPr/>
              <a:tblGrid>
                <a:gridCol w="1874880"/>
                <a:gridCol w="1876320"/>
                <a:gridCol w="1874880"/>
                <a:gridCol w="1873440"/>
              </a:tblGrid>
              <a:tr h="460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0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000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0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 Tur"/>
                          <a:ea typeface="Times New Roman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74"/>
          <p:cNvSpPr/>
          <p:nvPr/>
        </p:nvSpPr>
        <p:spPr>
          <a:xfrm>
            <a:off x="5911920" y="2506680"/>
            <a:ext cx="273672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9:43:26Z</dcterms:created>
  <dc:creator>Mithat Şimşek</dc:creator>
  <dc:description/>
  <dc:language>en-US</dc:language>
  <cp:lastModifiedBy>Bilal</cp:lastModifiedBy>
  <dcterms:modified xsi:type="dcterms:W3CDTF">2012-11-27T15:56:12Z</dcterms:modified>
  <cp:revision>4</cp:revision>
  <dc:subject/>
  <dc:title>Alt Ağlar</dc:title>
</cp:coreProperties>
</file>