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03A27847-074B-44B0-97DB-3B576E5C3C66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6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28EA297D-8625-41A6-A260-1975482F9477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47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8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ed.see.plymouth.ac.uk/bogda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Futura Md BT"/>
              </a:rPr>
              <a:t>Ağ Standartları ve Protokolleri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64310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 Narrow"/>
              </a:rPr>
              <a:t>Kaynak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gdan Ghita –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ed.see.plymouth.ac.uk/bogdan</a:t>
            </a: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 -- http://www.bilisimogretmeni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n avantaj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arasında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 arayüz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li bir katman içindeki iç gelişmelerin evrilmesin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katmanda alternatif hizmetler veril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 aracılığıyla sunulan farklı seçenekler ve yollar vasıtası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ç mekanizmaları diğer katmanlara gözükm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gerekli değilse tamamen kaldırılmalıdır ya da daha basit sürümlerle değişti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 örgü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2120" y="1790640"/>
            <a:ext cx="7991640" cy="41148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luslararası Standartlar Örgüt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I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SI de dahil bir dizi standart geliştir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 Mühendislik Görev Güc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ET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 For Comment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RFC)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gelerini yay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ğıtını ve ilgili protokolleri gelişti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vrupa Telekomünikasyon Standartları Enstitüs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T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 diğer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ISO OSI Refer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ns 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Model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- Open Systems Inter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arafından geliştirild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nik Komi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7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komi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SI (Distributed SI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olarak başla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 gözden geçiril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-7498 standar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nda tanımlan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öneri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rtak bir terminoloji ve ağ çerçevesi sağ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(Open System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nterconnection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–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şirketler tarafından üretilen bilgisayarların birbiriyle iletişim kurmasını sağlayan iletişim standar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 çerçeves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&gt; REFE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vcut kurulumlar buna dayan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 için tasarland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nımlanan standartlara, formatlara ve anlamlara (semantics) uyan sistemle iletişim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Hizme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219320"/>
          <a:ext cx="8229600" cy="5127480"/>
        </p:xfrm>
        <a:graphic>
          <a:graphicData uri="http://schemas.openxmlformats.org/drawingml/2006/table">
            <a:tbl>
              <a:tblPr/>
              <a:tblGrid>
                <a:gridCol w="2448000"/>
                <a:gridCol w="57816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826920" y="1052640"/>
          <a:ext cx="7777440" cy="531792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’de Verilerin Ad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 flipV="1">
            <a:off x="7615080" y="1838160"/>
            <a:ext cx="1800" cy="37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rc 3"/>
          <p:cNvSpPr/>
          <p:nvPr/>
        </p:nvSpPr>
        <p:spPr>
          <a:xfrm rot="5400000">
            <a:off x="712620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rc 4"/>
          <p:cNvSpPr/>
          <p:nvPr/>
        </p:nvSpPr>
        <p:spPr>
          <a:xfrm flipH="1" rot="16200000">
            <a:off x="115416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643040" y="6032520"/>
            <a:ext cx="542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1100160" y="1838160"/>
            <a:ext cx="1440" cy="37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1933200" y="513072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1933200" y="28144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 flipH="1">
            <a:off x="1933200" y="33940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933200" y="400860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1933200" y="45514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H="1">
            <a:off x="1933200" y="165744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33200" y="22366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4249800" y="1512720"/>
            <a:ext cx="1103400" cy="325440"/>
            <a:chOff x="4249800" y="1512720"/>
            <a:chExt cx="1103400" cy="325440"/>
          </a:xfrm>
        </p:grpSpPr>
        <p:sp>
          <p:nvSpPr>
            <p:cNvPr id="149" name="Text Box 15"/>
            <p:cNvSpPr/>
            <p:nvPr/>
          </p:nvSpPr>
          <p:spPr>
            <a:xfrm>
              <a:off x="4604400" y="1512720"/>
              <a:ext cx="7488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4249800" y="1512720"/>
              <a:ext cx="3546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3922560" y="2092320"/>
            <a:ext cx="1460520" cy="325440"/>
            <a:chOff x="3922560" y="2092320"/>
            <a:chExt cx="1460520" cy="325440"/>
          </a:xfrm>
        </p:grpSpPr>
        <p:sp>
          <p:nvSpPr>
            <p:cNvPr id="152" name="Text Box 18"/>
            <p:cNvSpPr/>
            <p:nvPr/>
          </p:nvSpPr>
          <p:spPr>
            <a:xfrm>
              <a:off x="4633200" y="2092320"/>
              <a:ext cx="749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4277880" y="2092320"/>
              <a:ext cx="3549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3922560" y="2092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21"/>
          <p:cNvSpPr/>
          <p:nvPr/>
        </p:nvSpPr>
        <p:spPr>
          <a:xfrm>
            <a:off x="2543040" y="4983120"/>
            <a:ext cx="3251160" cy="325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649116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9116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649116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649116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649116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649116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649116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6"/>
          <p:cNvSpPr/>
          <p:nvPr/>
        </p:nvSpPr>
        <p:spPr>
          <a:xfrm>
            <a:off x="6962760" y="927000"/>
            <a:ext cx="1262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7"/>
          <p:cNvSpPr/>
          <p:nvPr/>
        </p:nvSpPr>
        <p:spPr>
          <a:xfrm>
            <a:off x="436680" y="927000"/>
            <a:ext cx="1406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–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Veri akış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3559320" y="2657520"/>
            <a:ext cx="1823400" cy="326880"/>
            <a:chOff x="3559320" y="2657520"/>
            <a:chExt cx="1823400" cy="326880"/>
          </a:xfrm>
        </p:grpSpPr>
        <p:sp>
          <p:nvSpPr>
            <p:cNvPr id="174" name="Text Box 40"/>
            <p:cNvSpPr/>
            <p:nvPr/>
          </p:nvSpPr>
          <p:spPr>
            <a:xfrm>
              <a:off x="4633920" y="2657520"/>
              <a:ext cx="74880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41"/>
            <p:cNvSpPr/>
            <p:nvPr/>
          </p:nvSpPr>
          <p:spPr>
            <a:xfrm>
              <a:off x="42782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39146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55932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4"/>
          <p:cNvGrpSpPr/>
          <p:nvPr/>
        </p:nvGrpSpPr>
        <p:grpSpPr>
          <a:xfrm>
            <a:off x="3241800" y="3213000"/>
            <a:ext cx="2170080" cy="325440"/>
            <a:chOff x="3241800" y="3213000"/>
            <a:chExt cx="2170080" cy="325440"/>
          </a:xfrm>
        </p:grpSpPr>
        <p:sp>
          <p:nvSpPr>
            <p:cNvPr id="179" name="Text Box 45"/>
            <p:cNvSpPr/>
            <p:nvPr/>
          </p:nvSpPr>
          <p:spPr>
            <a:xfrm>
              <a:off x="4662720" y="321300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46"/>
            <p:cNvSpPr/>
            <p:nvPr/>
          </p:nvSpPr>
          <p:spPr>
            <a:xfrm>
              <a:off x="430704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7"/>
            <p:cNvSpPr/>
            <p:nvPr/>
          </p:nvSpPr>
          <p:spPr>
            <a:xfrm>
              <a:off x="3953160" y="321300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8"/>
            <p:cNvSpPr/>
            <p:nvPr/>
          </p:nvSpPr>
          <p:spPr>
            <a:xfrm>
              <a:off x="359748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49"/>
            <p:cNvSpPr/>
            <p:nvPr/>
          </p:nvSpPr>
          <p:spPr>
            <a:xfrm>
              <a:off x="324180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50"/>
          <p:cNvGrpSpPr/>
          <p:nvPr/>
        </p:nvGrpSpPr>
        <p:grpSpPr>
          <a:xfrm>
            <a:off x="2901960" y="3863880"/>
            <a:ext cx="2523960" cy="326880"/>
            <a:chOff x="2901960" y="3863880"/>
            <a:chExt cx="2523960" cy="326880"/>
          </a:xfrm>
        </p:grpSpPr>
        <p:sp>
          <p:nvSpPr>
            <p:cNvPr id="185" name="Text Box 51"/>
            <p:cNvSpPr/>
            <p:nvPr/>
          </p:nvSpPr>
          <p:spPr>
            <a:xfrm>
              <a:off x="4676760" y="386532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52"/>
            <p:cNvSpPr/>
            <p:nvPr/>
          </p:nvSpPr>
          <p:spPr>
            <a:xfrm>
              <a:off x="3967200" y="386532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53"/>
            <p:cNvSpPr/>
            <p:nvPr/>
          </p:nvSpPr>
          <p:spPr>
            <a:xfrm>
              <a:off x="3611520" y="386532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4"/>
            <p:cNvSpPr/>
            <p:nvPr/>
          </p:nvSpPr>
          <p:spPr>
            <a:xfrm>
              <a:off x="3257280" y="3865320"/>
              <a:ext cx="35424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55"/>
            <p:cNvSpPr/>
            <p:nvPr/>
          </p:nvSpPr>
          <p:spPr>
            <a:xfrm>
              <a:off x="2901960" y="3865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56"/>
            <p:cNvSpPr/>
            <p:nvPr/>
          </p:nvSpPr>
          <p:spPr>
            <a:xfrm>
              <a:off x="4321080" y="3863880"/>
              <a:ext cx="35568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57"/>
          <p:cNvGrpSpPr/>
          <p:nvPr/>
        </p:nvGrpSpPr>
        <p:grpSpPr>
          <a:xfrm>
            <a:off x="2543040" y="4406760"/>
            <a:ext cx="3251160" cy="327240"/>
            <a:chOff x="2543040" y="4406760"/>
            <a:chExt cx="3251160" cy="327240"/>
          </a:xfrm>
        </p:grpSpPr>
        <p:sp>
          <p:nvSpPr>
            <p:cNvPr id="192" name="Text Box 58"/>
            <p:cNvSpPr/>
            <p:nvPr/>
          </p:nvSpPr>
          <p:spPr>
            <a:xfrm>
              <a:off x="4676760" y="4408560"/>
              <a:ext cx="7477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59"/>
            <p:cNvSpPr/>
            <p:nvPr/>
          </p:nvSpPr>
          <p:spPr>
            <a:xfrm>
              <a:off x="396216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60"/>
            <p:cNvSpPr/>
            <p:nvPr/>
          </p:nvSpPr>
          <p:spPr>
            <a:xfrm>
              <a:off x="360828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61"/>
            <p:cNvSpPr/>
            <p:nvPr/>
          </p:nvSpPr>
          <p:spPr>
            <a:xfrm>
              <a:off x="325260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62"/>
            <p:cNvSpPr/>
            <p:nvPr/>
          </p:nvSpPr>
          <p:spPr>
            <a:xfrm>
              <a:off x="289872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63"/>
            <p:cNvSpPr/>
            <p:nvPr/>
          </p:nvSpPr>
          <p:spPr>
            <a:xfrm>
              <a:off x="254304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64"/>
            <p:cNvSpPr/>
            <p:nvPr/>
          </p:nvSpPr>
          <p:spPr>
            <a:xfrm>
              <a:off x="5425920" y="4408560"/>
              <a:ext cx="3682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65"/>
            <p:cNvSpPr/>
            <p:nvPr/>
          </p:nvSpPr>
          <p:spPr>
            <a:xfrm>
              <a:off x="4321080" y="4406760"/>
              <a:ext cx="355680" cy="327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SI Katmanları Arasında Veri Aktarımı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01" name="Picture 4" descr="MCj03252340000[1]"/>
          <p:cNvPicPr/>
          <p:nvPr/>
        </p:nvPicPr>
        <p:blipFill>
          <a:blip r:embed="rId1"/>
          <a:stretch/>
        </p:blipFill>
        <p:spPr>
          <a:xfrm>
            <a:off x="250920" y="1341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MCj02816080000[1]"/>
          <p:cNvPicPr/>
          <p:nvPr/>
        </p:nvPicPr>
        <p:blipFill>
          <a:blip r:embed="rId2"/>
          <a:stretch/>
        </p:blipFill>
        <p:spPr>
          <a:xfrm>
            <a:off x="7667640" y="1413000"/>
            <a:ext cx="719280" cy="711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79280" y="907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093080" y="98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476360" y="1557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56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11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209" name="Text Box 12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1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2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4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5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6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224" name="Text Box 27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28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9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31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32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34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5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6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37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38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39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40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41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6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7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Sarma (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2" name="Picture 4" descr="encapsulation"/>
          <p:cNvPicPr/>
          <p:nvPr/>
        </p:nvPicPr>
        <p:blipFill>
          <a:blip r:embed="rId1"/>
          <a:stretch/>
        </p:blipFill>
        <p:spPr>
          <a:xfrm>
            <a:off x="2031840" y="1911240"/>
            <a:ext cx="50803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Plan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34520" cy="27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88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 standartlar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çık Sistemler Arabağlantısı Modeli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OS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Systems Interconnec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model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nı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yaklaşımıyla ilgili sorun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OSI – TCP/IP İlişki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Sonu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4" name="Picture 4" descr="ruleride"/>
          <p:cNvPicPr/>
          <p:nvPr/>
        </p:nvPicPr>
        <p:blipFill>
          <a:blip r:embed="rId1"/>
          <a:stretch/>
        </p:blipFill>
        <p:spPr>
          <a:xfrm>
            <a:off x="1332000" y="1089000"/>
            <a:ext cx="61927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örnekle bu katmanlar meselesine yaklaşalım: Eski zamanda iki ülke hükümdarından birinin diğerine bir mektup yollamak istediğini hayal edel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hükümdar, hiçbir zaman göndereceği bir mesaja muhatap olarak, protokolde kendisinden daha alt seviyedeki bir insanı al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ifade ne anlama geliy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hükümdarın muhatabı ancak diğer ülkenin hükümdar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diğer nokta da, söylemek istediği şeyleri hükümdarlar arasında alışılagelmiş bir ortak üsluba dikkat ederek söyler. Yani birbirlerinin ne demek istediklerini gayet iyi anlamakt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raya kadar olan kısım mektubun içeriğiyle alakalıydı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mektubun iletilmesi problemini hükümdar nasıl çözec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ini gücünü bırakıp atına binerek dört nala sürecek m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oldan geçen herhangi bir atlıya rica mı edecek? Ya da bütün yolculuk organizasyonunu kendisi mi yapaca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yır, bunların hiçbiri değ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Cevabı siz de tahmin etmiş olmalısını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n güvendiği bir vezirini çağırıp; "Şu mektubun icabına bak!" diyecekt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şekilde bütün işinin gücünün arasında, herhangi bir mektuba mesaisini ayırmaktan kurtulmuş ol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esap sormak istediğinde de yalnız bir tek kişiyle muhatap ol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vezir ne yap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Onun da işi başından aşkı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lbette o da kendinden bir alt kademedeki memuruna bu işi havale eder. Ta ki atlı elçiye mektubun teslim edilmesi olayına ka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ukarıda tarif edilen yöntemle her birim bir altındaki birime bir görev havale ediyor, o görevin nasıl yapılması gerektiğini, hassasiyetlerini, inceliklerini vb. ayrıntıları en iyi şekilde biliyor ve kendinden bir üstteki birime karşı da göreviyle alakalı sorumluluk duyuyor. Ve tabii gerektiğinde hesabını da oraya veri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raya kadar anlatılmış olan bu hikaye, bilgisayar ağlarının haberleşme algoritmasına karşılık hayali bir yaklaşım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ikayede adı geçen birimler, haberleşmede birazdan tarif edilecek katmanlara karşılık ge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n alt birim olan atlı-elçi, fiziksel katman adı verilmiş olan ve bilgisayarlarımız arasına döşenen kablolar ile içlerinden akan sinyaller olarak düşünüle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m nasıl bir atlının yolu üzerinde başına bir iş gelse veya atı hastalanıp ölse, o problemini kendi uzmanlık alanı olduğu şekliyle çözerek aldığı görevi yerine getirir ve hükümdarın da bundan haberi bile olmaz; haberleşen sistemlerde de üstteki katman alttaki katmana yapması gereken işi söyler ve yapılıp yapılmadığını kontrol eder, ama oranın kendi iç problemlerinin ne olduğuyla ilgilenm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Çünkü üst katmanın asıl işi kendisine ait olan problemleri çözmektir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pılan işlemleri birbirlerinden ayrı düşünmenin bir faydası da bunları modül modül ele alarak kazanılmış olan tasarım esnekliği avantaj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asarımcılar her seviye üzerine ayrı ayrı konsantre olabilir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SO uzmanları oturmuşlar, tartışmışlar ve bu seviyelere bir standart getirmişler, onlara katmanlar olarak adlarını vermişler ve yapacakları işleri ayrıntılı bir şekilde tarif etmişler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 Modelinin 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8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9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4697280" y="3670200"/>
            <a:ext cx="15130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Fizi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t’leri bir bilgisayardan diğerine iletir ve bağlantıyı yöne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 katmanda tanımlanan standartlar taşınan verinin içeriğiyle ilgilenmezler. Daha çok işaretin şekli,fiziksel katmanda kullanılacak konnektör türü, kablo türü gibi elektriksel ve mekanik özelliklerle ilgil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ub’lar fiziksel katmanda tanıml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0BaseT, 100BaseT, UTP, RJ-45, IEEE 802.5 (Token Ring) vb. standart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ri bağlantı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m iletim hattını hatalardan arındırılmış bir bağlantıya dönüştür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t’leri çerçeve olarak paketler ve teslimat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n çerçevenin doğru mu yoksa yanlış mı iletildiğini kontrol eder, eğer çerçeve hatalı iletilmişse çerçevenin yeniden gönde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rıca ağ üzerindeki diğer bilgisayarları tanımlama, kablonun o anda kimin tarafından kullanıldığının tespit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: Ethernet, Frame Relay, ISDN, Switch v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310" name="Rectangle 3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4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Rectangle 8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Futura Md BT"/>
              </a:rPr>
              <a:t>Veri İletim Katmanı İki Alt Katmandan Oluşu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541000" cy="49687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dia Access Control (MA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AC alt katmanı veriyi hata kontrol kodu (CRC), alıcı ve gönderenin MAC adresleri ile beraber paketler ve fiziksel katmana aktar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lıcı tarafta da bu işlemleri tersine yapıp veriyi veri bağlantısı içindeki ikinci alt katman olan LLC'ye aktarmak görevi yine MAC alt katmanına ait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gical Link Control (LL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lt katmanı bir üst katman olan ağ katmanı için geçiş görevi görür. Protokole özel mantıksal portlar oluşturur (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Service Access Points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 SAP). Böylece kaynak makinede ve hedef makinede aynı protokoller iletişime geçebilir (örneğin TCP/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yrıca veri paketlerinden bozuk gidenlerin (veya karşı taraf için alınanların) tekrar gönderilmesinden sorumludur. 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Flow Control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yani alıcının işleyebileceğinden fazla veri paketi gönderilerek boğulmasının engellenmesi de LLC'nin görevi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265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Bilgisayar Ağ Mimari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ugün kullanımda olan birçok </a:t>
            </a: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mimar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v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. TCP/IP, Novell IPX, AppleTal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 mimarisinin üst düzey tanımı aşağıdakileri içer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işletme kavramı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dizi amaç ve hede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Ve protokollerin üst düzey tanım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terminolojisinde buna </a:t>
            </a:r>
            <a:r>
              <a:rPr b="0" i="1" lang="tr-TR" sz="2600" spc="-1" strike="noStrike">
                <a:solidFill>
                  <a:srgbClr val="000000"/>
                </a:solidFill>
                <a:latin typeface="Arial"/>
              </a:rPr>
              <a:t>Referans Model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den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üzerinden verileri kaynaktan hedefe il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, veri paketlerinin ağ adreslerini kullanarak bu paketleri uygun ağlara yönlendirme iş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paketleri için uygun yolu kararlaştırır ve paket sayısını denetleyerek yoğunluğu ön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leme işlemlerini (Mantıksal adres ve fiziksel adres çevrimleri) yürüt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önlendiriciler (Router) bu katmanda tanımlıd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IP ve I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tan uca verinin iletimini ve tutarlılığ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 5-7 ve 1-3 arası katmanlar arası bağlantıyı sağ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Üst katmandan aldığı verileri bölümlere (segment) ayırarak bir alt katmana il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üst katmana bu bölümleri birleştirerek su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düğüm arasında mantıksal bir bağlantının kurulmas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nı zamanda akış kontrolü (flow control) kullanarak karşı tarafa gönderilen verinin yerine ulaşıp ulaşmadığın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rşı tarafa gönderilen bölümlerin gönderilen sırayla birleşti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, UDP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atagram Protoco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PX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t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makine üzerindeki işletim sisteminin müşterilerinin başka bir makine üzerindeki işletim sisteminin müşterileriyle oturum açmasını ve iletişim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u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lerin temsiliyle ilgilidi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arklı donanım, işletim sistemleri arası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ygu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nel kullanım için standart protokolleri içe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osya transfer proto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-po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a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rmina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hangi bir hizmet programı müşterilerin kullanması gereken bir uygulama düzeyi protokolü tanımlaya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turum (Session) Katmanı İletişim Türleri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ek yönlü (Si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arı çift yönlü (Half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ift yönlü (Full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326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9" name="Picture 8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10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1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13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4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Temel Kavram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1638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e yaptığ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tiğini veya nasıl çalıştığını tanımlam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rayü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ecekler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arametrelerin neler olduğunu ve hangi sonuçların beklenmesi gerektiğ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asıl çalıştığını tanımla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sunulan hizmetleri sağ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 Soru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8200" y="1714680"/>
            <a:ext cx="875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Zamanlam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- TCP/IP 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lleri zaten yaygın kullanımdayd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noloj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7 katman optimal değil (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urum ve Sunum katmanlarının pek işlevleri yo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lı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urulum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lk kurulumlar hantal ve yavaştı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yase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ürokratik örgütlerce empoze edilen daha aşağı standart olarak algıland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vramsal mimari olarak değer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laştırma amaçlı bi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f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ns model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Yerel ağla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erel ağ işlevleri OSI’nin 1. ve 2. katmanlarına eşit ve şu hususlarla ilgi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ost’lar arasında çatışma olmadan ortama düzenli bir şekilde nasıl eriş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 ortamında fiziksel sinyal nasıl ver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de veri aktarımın tutarlılığı nasıl sağlanac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-11160" y="2227320"/>
          <a:ext cx="9677520" cy="416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2227320"/>
                    <a:ext cx="967752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TCP/IP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- TCP/IP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Haritalamas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1041480" y="1949400"/>
            <a:ext cx="2233080" cy="3438360"/>
            <a:chOff x="1041480" y="1949400"/>
            <a:chExt cx="2233080" cy="3438360"/>
          </a:xfrm>
        </p:grpSpPr>
        <p:sp>
          <p:nvSpPr>
            <p:cNvPr id="350" name="Rectangle 4"/>
            <p:cNvSpPr/>
            <p:nvPr/>
          </p:nvSpPr>
          <p:spPr>
            <a:xfrm>
              <a:off x="1041480" y="194940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5"/>
            <p:cNvSpPr/>
            <p:nvPr/>
          </p:nvSpPr>
          <p:spPr>
            <a:xfrm>
              <a:off x="1041480" y="243144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1041480" y="293220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1041480" y="341532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İleti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1041480" y="391536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9"/>
            <p:cNvSpPr/>
            <p:nvPr/>
          </p:nvSpPr>
          <p:spPr>
            <a:xfrm>
              <a:off x="1041480" y="439812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Bağlant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1041480" y="489888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Rectangle 11"/>
          <p:cNvSpPr/>
          <p:nvPr/>
        </p:nvSpPr>
        <p:spPr>
          <a:xfrm>
            <a:off x="3529080" y="1960560"/>
            <a:ext cx="696960" cy="126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530520" y="3232080"/>
            <a:ext cx="230040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3529080" y="3914640"/>
            <a:ext cx="46497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3529080" y="439740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veri bağlantı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3529080" y="489744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fiziksel katman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5824440" y="3422520"/>
            <a:ext cx="23511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 rot="16200000">
            <a:off x="3300840" y="23515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4224240" y="1957320"/>
            <a:ext cx="696960" cy="12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7477200" y="196704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0"/>
          <p:cNvSpPr/>
          <p:nvPr/>
        </p:nvSpPr>
        <p:spPr>
          <a:xfrm rot="16200000">
            <a:off x="4208040" y="2362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 rot="16200000">
            <a:off x="7292880" y="24105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6777000" y="196380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 rot="16200000">
            <a:off x="6720480" y="24415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4"/>
          <p:cNvSpPr/>
          <p:nvPr/>
        </p:nvSpPr>
        <p:spPr>
          <a:xfrm>
            <a:off x="4921200" y="1962000"/>
            <a:ext cx="19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5"/>
          <p:cNvSpPr/>
          <p:nvPr/>
        </p:nvSpPr>
        <p:spPr>
          <a:xfrm>
            <a:off x="4659480" y="2373480"/>
            <a:ext cx="235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Niçin protokol gerekl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 iletişim “kuralları”nı temsil ed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ygıt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letişimi nasıl başlat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şlangıçta hangi özellikler pazarlık konu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söz dağarcığ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ni hangi istekler (komutlar) verilebilir ve geçerli yanıtlar neler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e tür veriler gönderile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düzgün bir biçimde nasıl sona 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Mimari Modelle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11080"/>
            <a:ext cx="7772400" cy="4384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 bir nesnenin basitleştirilmiş gösterimid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zı pratik durumlar modele tam oturmaya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üm arabaların yukarıdaki gibi olması beklenem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lar için de aynı şey geçer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336760" y="2803680"/>
            <a:ext cx="4621320" cy="1203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99560" y="3232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ş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1795320" y="3352680"/>
            <a:ext cx="465120" cy="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294240" y="41068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asti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 flipH="1" flipV="1">
            <a:off x="6210360" y="3968280"/>
            <a:ext cx="309600" cy="297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508440" y="23605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6245280" y="2790720"/>
            <a:ext cx="46512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İnsan-insan iletişim protokolü örneğ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1120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da ayırtmak için İstanbul’da bir otele telefon ediyorsun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daki kişi telefon alıcısının hangi tarafını kulağına dayayacağını, ne kadar yüksek sesle konuşulacağını, aletin kulağa ne kadar yakın tutulacağını 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bağlantı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lan kod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Numar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evr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ehber gerekeb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es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el personeli telefonu kaldırdığında bağlantı kurul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 ku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ın telefon ağıyla ilgili bilgisi olması gerekmiy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 noktalar - yönlendiric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Kullanılacak dilde anlaşmalı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erhangi bir anda sadece bir taraf konuş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nleyen taraf birşeyi anlamadığı zaman tekrar edilmesini isteyebili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den i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ğer taraftan yanıt gelmediğinde taraflar bağlantının kesildiğinden kuşkulanır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ağlantının zorunlu olarak sonlandırıl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inleyen taraf not alırken karşı tarafın beklemesini isteye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kış deneti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oğunluğu hallet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 aynı birimleri kullanmalı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para birimi, takvim v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birim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mler tanımlanmalıdı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ört yıldızl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, 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ki kişilik od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minol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nuşmayı nazikçe bitirme, böylece kaynakları diğer kullanıcılar için serbest bırak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nın sonlandırıl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Bilgisayar ağ protokolleri de aşağıdakileri tanımlar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Fiziksel arayüzler, sinyal düzeyleri ve kodl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adresleri, bağlantı kurma/kes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veri birimlerinin büyüklüğü ve yapıs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ata kontrol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şarılı alındı belges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kış denetim mekanizma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Veri tabanı alanları ve format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Uygulamaya özgü anlam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58760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ağda birçok protokol vard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lı bir şekilde birlikte çalış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er katman kendi altındaki katmanların hizmetleri üzerine kurul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1417680" y="3957480"/>
          <a:ext cx="172872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3957480"/>
                    <a:ext cx="1728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6786720" y="3925800"/>
          <a:ext cx="685800" cy="13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3925800"/>
                    <a:ext cx="68580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747720" y="3297240"/>
          <a:ext cx="90792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" y="3297240"/>
                    <a:ext cx="9079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7566120" y="3257640"/>
          <a:ext cx="907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66120" y="3257640"/>
                    <a:ext cx="907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Line 8"/>
          <p:cNvSpPr/>
          <p:nvPr/>
        </p:nvSpPr>
        <p:spPr>
          <a:xfrm>
            <a:off x="2079720" y="3409920"/>
            <a:ext cx="5205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2903400" y="4025880"/>
            <a:ext cx="3965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676880" y="3645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 istasy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3895920" y="3060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sya aktar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7353000" y="418464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zak sunu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13"/>
          <p:cNvGrpSpPr/>
          <p:nvPr/>
        </p:nvGrpSpPr>
        <p:grpSpPr>
          <a:xfrm>
            <a:off x="5033880" y="5113440"/>
            <a:ext cx="1621080" cy="971280"/>
            <a:chOff x="5033880" y="5113440"/>
            <a:chExt cx="1621080" cy="971280"/>
          </a:xfrm>
        </p:grpSpPr>
        <p:graphicFrame>
          <p:nvGraphicFramePr>
            <p:cNvPr id="398" name="Object 14"/>
            <p:cNvGraphicFramePr/>
            <p:nvPr/>
          </p:nvGraphicFramePr>
          <p:xfrm>
            <a:off x="5033880" y="5113440"/>
            <a:ext cx="1621080" cy="971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9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33880" y="5113440"/>
                      <a:ext cx="1621080" cy="97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0" name="Text Box 15"/>
            <p:cNvSpPr/>
            <p:nvPr/>
          </p:nvSpPr>
          <p:spPr>
            <a:xfrm>
              <a:off x="5457600" y="54468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16"/>
          <p:cNvSpPr/>
          <p:nvPr/>
        </p:nvSpPr>
        <p:spPr>
          <a:xfrm>
            <a:off x="3794760" y="36399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çtan uca tutarlılı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17"/>
          <p:cNvSpPr/>
          <p:nvPr/>
        </p:nvSpPr>
        <p:spPr>
          <a:xfrm>
            <a:off x="4468680" y="4416480"/>
            <a:ext cx="722520" cy="65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8"/>
          <p:cNvSpPr/>
          <p:nvPr/>
        </p:nvSpPr>
        <p:spPr>
          <a:xfrm>
            <a:off x="3056040" y="4721400"/>
            <a:ext cx="130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9"/>
          <p:cNvSpPr/>
          <p:nvPr/>
        </p:nvSpPr>
        <p:spPr>
          <a:xfrm>
            <a:off x="5288040" y="4757760"/>
            <a:ext cx="1574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5547600" y="4336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laş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1"/>
          <p:cNvSpPr/>
          <p:nvPr/>
        </p:nvSpPr>
        <p:spPr>
          <a:xfrm>
            <a:off x="4998960" y="5037120"/>
            <a:ext cx="387360" cy="30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 flipV="1">
            <a:off x="6600960" y="5230800"/>
            <a:ext cx="5428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4156920" y="4533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önlendir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4"/>
          <p:cNvSpPr/>
          <p:nvPr/>
        </p:nvSpPr>
        <p:spPr>
          <a:xfrm>
            <a:off x="2376360" y="5850000"/>
            <a:ext cx="173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2492280" y="5307120"/>
            <a:ext cx="530280" cy="54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6"/>
          <p:cNvSpPr/>
          <p:nvPr/>
        </p:nvSpPr>
        <p:spPr>
          <a:xfrm flipH="1">
            <a:off x="3884760" y="4995720"/>
            <a:ext cx="669600" cy="8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1703880" y="5614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8"/>
          <p:cNvSpPr/>
          <p:nvPr/>
        </p:nvSpPr>
        <p:spPr>
          <a:xfrm>
            <a:off x="1352520" y="3676680"/>
            <a:ext cx="6336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9"/>
          <p:cNvSpPr/>
          <p:nvPr/>
        </p:nvSpPr>
        <p:spPr>
          <a:xfrm flipV="1">
            <a:off x="7383600" y="3633840"/>
            <a:ext cx="5428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3112920" y="5640480"/>
            <a:ext cx="552240" cy="138600"/>
            <a:chOff x="3112920" y="5640480"/>
            <a:chExt cx="552240" cy="138600"/>
          </a:xfrm>
        </p:grpSpPr>
        <p:sp>
          <p:nvSpPr>
            <p:cNvPr id="416" name="Line 31"/>
            <p:cNvSpPr/>
            <p:nvPr/>
          </p:nvSpPr>
          <p:spPr>
            <a:xfrm>
              <a:off x="31129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32"/>
            <p:cNvSpPr/>
            <p:nvPr/>
          </p:nvSpPr>
          <p:spPr>
            <a:xfrm>
              <a:off x="3215160" y="564732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33"/>
            <p:cNvSpPr/>
            <p:nvPr/>
          </p:nvSpPr>
          <p:spPr>
            <a:xfrm flipV="1">
              <a:off x="322200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34"/>
            <p:cNvSpPr/>
            <p:nvPr/>
          </p:nvSpPr>
          <p:spPr>
            <a:xfrm flipV="1">
              <a:off x="332604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35"/>
            <p:cNvSpPr/>
            <p:nvPr/>
          </p:nvSpPr>
          <p:spPr>
            <a:xfrm>
              <a:off x="3326040" y="577296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3428640" y="565200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37"/>
            <p:cNvSpPr/>
            <p:nvPr/>
          </p:nvSpPr>
          <p:spPr>
            <a:xfrm flipV="1">
              <a:off x="343548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38"/>
            <p:cNvSpPr/>
            <p:nvPr/>
          </p:nvSpPr>
          <p:spPr>
            <a:xfrm flipV="1">
              <a:off x="353952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39"/>
            <p:cNvSpPr/>
            <p:nvPr/>
          </p:nvSpPr>
          <p:spPr>
            <a:xfrm>
              <a:off x="35485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(devamla)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şim için bir protokol (ya da protokol suiti) gerek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zı örgütler birden fazla suit kullanabilirle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Novel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CP/IP prot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ar belgeler halinde tanımlanır ve genellikle yazılımda kurul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steklenecek her protokol süiti için ayrı bir yazılım paketi gerek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Öze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77960" y="1792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gisayar ağlarını tartışmak için yararlı bi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 bir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atm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spesifik bir iletişim sorununu belir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nternet için bir protokol yığıtının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urulu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l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kurallarının tanımlan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larının önem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Niye ağ standartları gerekl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in tem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atıcı şirketlerin yaklaşımlarından bağıms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tedarike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likte çalışabilirliğe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)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lar uluslararası kapsamda olmal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 ortaya çıkan standartları izlemek önem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 kullanmanın ne zaman “güvenli” olduğunu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n nerden geldiğini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Futura Md BT"/>
              </a:rPr>
              <a:t>Katmanlar ve Protokoller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Katman ve protokol kelimeleri ağ standartlarının temel kavramlarıd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Takip eden slaytta katman kavramının anlaşılması için bir örnek verilmiş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Örnekte mektupla haberleşmede “zarfı adresleme” isminde bir katman oluşturulmuş ve görevleri açıklanmışt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“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Zarfı adresleme</a:t>
            </a: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”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Zarf alıcı hakkında bilgi içeren bir etiket taş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cek mesajın bir parçasıdı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sajın alıcı adresine ulaşmasına yardımcı o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dres birçok katmana bölünmüşt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st düzey yönlendir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rkezi dağıtı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ta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eh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 merkezlerine gönder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d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cı tarafından yerine ulaştır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ten adr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ıcı için gerek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diğer katmanlarla ilişkisi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m adresi oluşturmak için tüm alanlar gerekl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bilgis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bir başlığı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format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: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Ve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in başlıklarını içer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554120" y="3224160"/>
            <a:ext cx="6159600" cy="2426040"/>
            <a:chOff x="1554120" y="3224160"/>
            <a:chExt cx="6159600" cy="2426040"/>
          </a:xfrm>
        </p:grpSpPr>
        <p:grpSp>
          <p:nvGrpSpPr>
            <p:cNvPr id="112" name="Group 5"/>
            <p:cNvGrpSpPr/>
            <p:nvPr/>
          </p:nvGrpSpPr>
          <p:grpSpPr>
            <a:xfrm>
              <a:off x="1554120" y="3224160"/>
              <a:ext cx="6159600" cy="901800"/>
              <a:chOff x="1554120" y="3224160"/>
              <a:chExt cx="6159600" cy="901800"/>
            </a:xfrm>
          </p:grpSpPr>
          <p:sp>
            <p:nvSpPr>
              <p:cNvPr id="113" name="Rectangle 6"/>
              <p:cNvSpPr/>
              <p:nvPr/>
            </p:nvSpPr>
            <p:spPr>
              <a:xfrm>
                <a:off x="1554120" y="3224160"/>
                <a:ext cx="1515960" cy="90180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7"/>
              <p:cNvSpPr/>
              <p:nvPr/>
            </p:nvSpPr>
            <p:spPr>
              <a:xfrm>
                <a:off x="3078000" y="3224160"/>
                <a:ext cx="4635720" cy="90180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8"/>
              <p:cNvSpPr/>
              <p:nvPr/>
            </p:nvSpPr>
            <p:spPr>
              <a:xfrm>
                <a:off x="1708200" y="3457440"/>
                <a:ext cx="1082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Arial"/>
                  </a:rPr>
                  <a:t>Başlı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9"/>
              <p:cNvSpPr/>
              <p:nvPr/>
            </p:nvSpPr>
            <p:spPr>
              <a:xfrm>
                <a:off x="4905720" y="3479760"/>
                <a:ext cx="726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Arial"/>
                  </a:rPr>
                  <a:t>Ver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Line 10"/>
            <p:cNvSpPr/>
            <p:nvPr/>
          </p:nvSpPr>
          <p:spPr>
            <a:xfrm>
              <a:off x="2298600" y="388944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1677240" y="4826160"/>
              <a:ext cx="1319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Denet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bilgi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5318280" y="388620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4860000" y="4822920"/>
              <a:ext cx="997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a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manın İlke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bir soyutlama gerektiğinde bir katman oluşturu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 iyi tanımlanmış bir işlevi yerine getir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şlevi uluslararası standart protokollere gör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ınırları arayüzler arasında bilgi akışını en aza indirecek şekild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ayıs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işlevleri birleştirmeyecek kadar büy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imarinin hantal olmasını önleyecek kadar küç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7:08:49Z</dcterms:created>
  <dc:creator>Valued Gateway Client</dc:creator>
  <dc:description/>
  <dc:language>en-US</dc:language>
  <cp:lastModifiedBy>Bilal</cp:lastModifiedBy>
  <dcterms:modified xsi:type="dcterms:W3CDTF">2012-11-27T15:58:05Z</dcterms:modified>
  <cp:revision>171</cp:revision>
  <dc:subject/>
  <dc:title>PowerPoint Presentation</dc:title>
</cp:coreProperties>
</file>