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2.jpeg" ContentType="image/jpeg"/>
  <Override PartName="/ppt/media/image21.png" ContentType="image/png"/>
  <Override PartName="/ppt/media/image2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D30E-28D1-4470-BD9A-BCE22BE8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EA43-0E91-48A0-915C-827FEE09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A828-F1EA-4825-991F-F2B38BE2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9C97-572B-465F-AC39-A5BDE5B4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8CF7-2233-4F6D-A022-318E3CB7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7C8B-2EB3-480E-AE39-E1007F26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3C55-3E64-44FD-9195-ECE5E452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6F39-9D13-4BF9-8810-27263BC1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593E-DFAE-4F26-9001-BD1FC1D7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2DBF-0B73-4419-857E-9B08D090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CB03-612F-4A47-B908-24D9CAB7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C025-960E-4ABC-93AD-341FB7E7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3BDE-6142-4B86-B6FA-26636861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1562-3752-47A7-8FAC-B60EAF65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D1F6-431B-4B82-BB19-1222C598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4358-8741-4E0D-80BC-47AD6BC1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B120-D18A-4CF7-9E3D-0937AE19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D3B7-9037-47C1-BC3C-6C5FB9DE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5FF6-2AF1-4054-B799-D1488156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F1CA-37CB-4997-BA05-D854B086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0F25-7DFE-40DC-86EC-D2108F82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62B1-DBE6-4163-9C3A-2F437359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CF83-D3D3-4FE5-BD53-9F9E0A49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108B-C489-4E96-828E-980F8E40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4049-9395-4774-9505-5CDAAF80253B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13 Dikdörtgen"/>
          <p:cNvSpPr/>
          <p:nvPr/>
        </p:nvSpPr>
        <p:spPr>
          <a:xfrm>
            <a:off x="535536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24 Dikdörtgen"/>
          <p:cNvSpPr/>
          <p:nvPr/>
        </p:nvSpPr>
        <p:spPr>
          <a:xfrm>
            <a:off x="535536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002A-2239-4269-8989-4CDE3EE24B64}" type="slidenum">
              <a:rPr b="0" lang="tr-TR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68EB-3640-42C6-BF2D-5293CA0538A1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UTP Kablo Bağlantıları</a:t>
            </a:r>
            <a:br>
              <a:rPr sz="44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(Düz/Çapraz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B836-43B1-4651-8425-D2F1BE9E38A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arılı çiftleri çöz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26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çözerek renk sırasına diz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4" descr="step2"/>
          <p:cNvPicPr/>
          <p:nvPr/>
        </p:nvPicPr>
        <p:blipFill>
          <a:blip r:embed="rId1"/>
          <a:stretch/>
        </p:blipFill>
        <p:spPr>
          <a:xfrm>
            <a:off x="1447920" y="2743200"/>
            <a:ext cx="609588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AC71-5C3A-4279-A438-311ACAAB995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3. Adım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Telleri renk sırasına dizm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62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A/EIA 568A: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A/EIA 568B: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4" descr="step3"/>
          <p:cNvPicPr/>
          <p:nvPr/>
        </p:nvPicPr>
        <p:blipFill>
          <a:blip r:embed="rId1"/>
          <a:stretch/>
        </p:blipFill>
        <p:spPr>
          <a:xfrm>
            <a:off x="2195640" y="3284640"/>
            <a:ext cx="48765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98AC-0233-4928-9126-92ACC194733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4. Adım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Telleri uygun ve eşit ölçüye getirm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930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ellerin uçlarını aynı hizaya getir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Yaklaşı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½”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uzunluğunda soyulmuş kısım bırakı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step4"/>
          <p:cNvPicPr/>
          <p:nvPr/>
        </p:nvPicPr>
        <p:blipFill>
          <a:blip r:embed="rId1"/>
          <a:stretch/>
        </p:blipFill>
        <p:spPr>
          <a:xfrm>
            <a:off x="1547640" y="2781360"/>
            <a:ext cx="640080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59CA-EFC6-4D1F-B86B-F73C4BE2DF7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5. Adım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Telleri konnektöre sok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renk sırasını bozmadan konnektöre sok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ndaki şekilde sol üst 1 numar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4" descr="step5"/>
          <p:cNvPicPr/>
          <p:nvPr/>
        </p:nvPicPr>
        <p:blipFill>
          <a:blip r:embed="rId1"/>
          <a:stretch/>
        </p:blipFill>
        <p:spPr>
          <a:xfrm>
            <a:off x="5105520" y="1600200"/>
            <a:ext cx="25160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2021-6B97-4B8A-91AE-B0374BCA408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6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özle k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867564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üm teller könnektörün sonuna değiyor m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lıtım plastiği şekilde görüldüğü gibi içeri girdi m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4" descr="step6"/>
          <p:cNvPicPr/>
          <p:nvPr/>
        </p:nvPicPr>
        <p:blipFill>
          <a:blip r:embed="rId1"/>
          <a:stretch/>
        </p:blipFill>
        <p:spPr>
          <a:xfrm>
            <a:off x="900000" y="3141720"/>
            <a:ext cx="746784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7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387C-3969-4EE1-A73B-8F8827A59F6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ık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2818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onnektörü sıkma pensesini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8P)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içine yerleştir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ittirirken penseyi sıkıca sıkı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crimp-1"/>
          <p:cNvPicPr/>
          <p:nvPr/>
        </p:nvPicPr>
        <p:blipFill>
          <a:blip r:embed="rId1"/>
          <a:stretch/>
        </p:blipFill>
        <p:spPr>
          <a:xfrm>
            <a:off x="1254240" y="3470400"/>
            <a:ext cx="3095640" cy="2425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rimp-2"/>
          <p:cNvPicPr/>
          <p:nvPr/>
        </p:nvPicPr>
        <p:blipFill>
          <a:blip r:embed="rId2"/>
          <a:stretch/>
        </p:blipFill>
        <p:spPr>
          <a:xfrm>
            <a:off x="5356080" y="4038480"/>
            <a:ext cx="32385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0EF2-B9DE-4A50-8AA6-E315AE5D1BA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8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–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 çalışıyor mu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4" descr="step8"/>
          <p:cNvPicPr/>
          <p:nvPr/>
        </p:nvPicPr>
        <p:blipFill>
          <a:blip r:embed="rId1"/>
          <a:stretch/>
        </p:blipFill>
        <p:spPr>
          <a:xfrm>
            <a:off x="1398600" y="3043080"/>
            <a:ext cx="748512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970F-D383-44C0-9105-681F59F2D47A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apısal Kablola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8C60-625D-466E-A205-A68AB5BB029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İÇERİ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pısal Kablolama Standartlar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ata Kablolar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uvar Prizle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Patch Pane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 Kanallar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inet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iketleme-Dokümantasy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enel Öneri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6E0A-C4C6-4CB0-A89D-07AF8903F05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DATA KABLOLAMA STANDARTLA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meri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IA /EIA 5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Uluslarara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SO /IEC – 11801 ISO /IEC – 118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vrupa Birliğ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N 50173 EN 5017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19D8-F28C-49DA-9F95-E9ED5256912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enel Bağlantı Kural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Picture 4" descr="cable-use"/>
          <p:cNvPicPr/>
          <p:nvPr/>
        </p:nvPicPr>
        <p:blipFill>
          <a:blip r:embed="rId1"/>
          <a:stretch/>
        </p:blipFill>
        <p:spPr>
          <a:xfrm>
            <a:off x="826920" y="2349360"/>
            <a:ext cx="799308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1162-BEA7-48D5-A9E8-D8AE456D789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Yapısal Kablolama Genel Yapısal Kablolama Genel Görünü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864072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7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CA76-3312-4099-AC17-4A98601DA1E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ata Kablo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0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at5-e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at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11280" y="2997360"/>
            <a:ext cx="3816360" cy="3019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2"/>
          <a:stretch/>
        </p:blipFill>
        <p:spPr>
          <a:xfrm>
            <a:off x="5076720" y="2924280"/>
            <a:ext cx="3745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8BDB-4E97-4886-85E1-5F582BB4A4C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CAT6 Kablo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84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Ayırıcı parça ile kablo çiftlerinin birbiri ile etkileşimi en az seviyeye düşürülmüştü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476360" y="2852640"/>
            <a:ext cx="576108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E8A9-2586-449F-9678-A6865C76253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uvar Priz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leşen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ıva Üstü – Sıva Alt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paklı-Kapaksız, Açıl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plama, 50 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568A/B Renk Ko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Ürün Kalite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İşçilik Özellik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da İçi Y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32828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E189-4C25-4959-804F-91075F29D76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tch Panel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Picture 5" descr="PL13 24 PORT, RJ45, CAT. 6 110 Punch Down Patch Panels"/>
          <p:cNvPicPr/>
          <p:nvPr/>
        </p:nvPicPr>
        <p:blipFill>
          <a:blip r:embed="rId1"/>
          <a:stretch/>
        </p:blipFill>
        <p:spPr>
          <a:xfrm>
            <a:off x="684360" y="2349360"/>
            <a:ext cx="4751280" cy="3508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cat6%2096%20port%20patch%20panel"/>
          <p:cNvPicPr/>
          <p:nvPr/>
        </p:nvPicPr>
        <p:blipFill>
          <a:blip r:embed="rId2"/>
          <a:stretch/>
        </p:blipFill>
        <p:spPr>
          <a:xfrm>
            <a:off x="5334120" y="22050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53DE-1676-4D31-84BA-D5380D1BD1A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tch Panel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3" name="Picture 5" descr="pp-19-16-s"/>
          <p:cNvPicPr/>
          <p:nvPr/>
        </p:nvPicPr>
        <p:blipFill>
          <a:blip r:embed="rId1"/>
          <a:stretch/>
        </p:blipFill>
        <p:spPr>
          <a:xfrm>
            <a:off x="179280" y="2133720"/>
            <a:ext cx="5761080" cy="3909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tkppc48"/>
          <p:cNvPicPr/>
          <p:nvPr/>
        </p:nvPicPr>
        <p:blipFill>
          <a:blip r:embed="rId2"/>
          <a:stretch/>
        </p:blipFill>
        <p:spPr>
          <a:xfrm>
            <a:off x="5148360" y="5157720"/>
            <a:ext cx="3809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903D-6A61-4C5C-871A-6852FE16193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tch Panel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7" name="Picture 5" descr="voiceppback"/>
          <p:cNvPicPr/>
          <p:nvPr/>
        </p:nvPicPr>
        <p:blipFill>
          <a:blip r:embed="rId1"/>
          <a:stretch/>
        </p:blipFill>
        <p:spPr>
          <a:xfrm>
            <a:off x="468360" y="2133720"/>
            <a:ext cx="4824360" cy="3617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C1(01B-2)"/>
          <p:cNvPicPr/>
          <p:nvPr/>
        </p:nvPicPr>
        <p:blipFill>
          <a:blip r:embed="rId2"/>
          <a:stretch/>
        </p:blipFill>
        <p:spPr>
          <a:xfrm>
            <a:off x="5292720" y="2133720"/>
            <a:ext cx="36720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403F-A151-49F2-9CA2-B22A741CFD3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tch Panel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1" name="Picture 5" descr="backofpanelcloseup"/>
          <p:cNvPicPr/>
          <p:nvPr/>
        </p:nvPicPr>
        <p:blipFill>
          <a:blip r:embed="rId1"/>
          <a:stretch/>
        </p:blipFill>
        <p:spPr>
          <a:xfrm>
            <a:off x="1182600" y="2279520"/>
            <a:ext cx="3810240" cy="3589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KRONE"/>
          <p:cNvPicPr/>
          <p:nvPr/>
        </p:nvPicPr>
        <p:blipFill>
          <a:blip r:embed="rId2"/>
          <a:stretch/>
        </p:blipFill>
        <p:spPr>
          <a:xfrm>
            <a:off x="5284800" y="3021120"/>
            <a:ext cx="35305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7294-0015-4A75-8E80-6404DE2AD80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ablo Kanal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1989000"/>
            <a:ext cx="38102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Ölçüler, Bölmeli-Bölmesi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önüş-Ekleme Parçalar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uvar Geçişler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Çapraz Vidalama, Kablo Bağlar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ıvama, Onarı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avan Kanalları, Kablo Tutuc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ekoratifl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am Kapalılık, Diğer Kablolar, Elektr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Kanal İçi Boşlu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292720" y="2060640"/>
            <a:ext cx="33116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96DF-02E4-434E-83E0-A36C7D93148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abinet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381024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lçüler: 19’’ , U , (450,600,8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er ve Duvar Ti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ilit, Ön ve Yan Kapak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ack Demirleri Hare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ermostat, Fan ve Sessizliğ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inet İçi Elektrik Düze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lo Organizasyo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lolara Toplu P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447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1D14-64F5-4494-8A2E-81F848446BC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İki Bilgisayar Arası Çapraz (Cross) Bağlant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icture 4" descr="030804figure3"/>
          <p:cNvPicPr/>
          <p:nvPr/>
        </p:nvPicPr>
        <p:blipFill>
          <a:blip r:embed="rId1"/>
          <a:stretch/>
        </p:blipFill>
        <p:spPr>
          <a:xfrm>
            <a:off x="250920" y="2205000"/>
            <a:ext cx="84247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05DC-ABCA-4D92-B6F7-632914AFA24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Etiketleme - Dokümantasy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Etiketleme Malzemele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Cihaz ve Fiş Etiketle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Çizim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Fotoğrafl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Garanti Süresi Etiketle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3136-5A7A-44B9-A797-87827964C66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Çizim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704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F3C5-9DB3-4502-B9DB-F64E0178B38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enel Öneri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Tek Merkezde Topl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90 + 10 m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GK Desteğ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Yedek Malzeme Bulundur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Patch Kablo Sayı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Numune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Garanti Süresi (3 + 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DA2E-7D37-4424-89A1-93FF9A94FB14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NTERNETWOR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68D3-4F3F-49BA-BDC2-E181AC60EE7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Üniversal (Umumi) Servis Kavra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çok faklı ağın temel problemi aşikardı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ağın üyesi olan bir bilgisayar yalnızca kendisi ile aynı ağa bağlı olan bilgisayarlar ile haberleş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ygınlaşan bilgisayar ağları farklı ağlardaki bilgisayarların birbirleri ile haberleşmesi ihtiyacını doğurd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amaçla yapılan çalışmalara genel manâda üniversal servis oluşturma denildi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8C30-4633-4B75-BBAC-CD711180287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Üniversal Servis Kavra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Üniversal servis kavramı internetworking’in temeli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Üniversal servis oluşturma çalışmaları neticesinde birbirlerinden farklı ağları birbirlerine bağlamak işlemi internetworking olarak adlandırıldı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birlerine bağlanmış faklı ağlardan oluşan nihai sistem </a:t>
            </a:r>
            <a:r>
              <a:rPr b="0" i="1" lang="tr-TR" sz="2800" spc="-1" strike="noStrike">
                <a:solidFill>
                  <a:srgbClr val="000000"/>
                </a:solidFill>
                <a:latin typeface="Tahoma"/>
              </a:rPr>
              <a:t>internetwork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veya </a:t>
            </a:r>
            <a:r>
              <a:rPr b="0" i="1" lang="tr-TR" sz="2800" spc="-1" strike="noStrike">
                <a:solidFill>
                  <a:srgbClr val="000000"/>
                </a:solidFill>
                <a:latin typeface="Tahoma"/>
              </a:rPr>
              <a:t>internet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diye adlandırıldı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ünya üzerinde birçok faklı internet mevcuttur; birkaç ağ içereninden binlerce ağ içeren internetlere kad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4F31-49E5-44B7-AAC3-D6B2B6D9F43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Router’ları Kullanarak Ağların Fiziksel Bağlantısını Gerçekleştirm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Heterojen ağları birbirlerine fiziksel  olarak bağlamak için kullanılan temel cihaz </a:t>
            </a:r>
            <a:r>
              <a:rPr b="0" i="1" lang="tr-TR" sz="2800" spc="-1" strike="noStrike">
                <a:solidFill>
                  <a:srgbClr val="000000"/>
                </a:solidFill>
                <a:latin typeface="Tahoma"/>
              </a:rPr>
              <a:t>router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’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Fiziksel olarak router’lar bridge’lere benzerler. İki ağı birbirlerine bağlar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outer’lar bridge’lerden farklı olarak iki veya daha fazla farklı ağı birbirine bağlar. Bridge ise aynı türden ağları birbirine bağlayabili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4E0D-190D-49F4-A538-A960585F8FB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Router’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outer ağları birbirlerine bağlamak üzere üretilmiş özel amaçlı bir bilgisayar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endi CPU’su RAM’i ve birbirlerine bağlayacağı her ağ için bir giriş/çıkış arayüzü mevcuttu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ğdaki bilgisayarlar router’ın varlığından haberdar olmak zorundadır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outer’a bağlantıları diğer herhangi bir bilgisayara olduğu gibi gerçekleşi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8207-6503-4E6F-B4C9-867B8647E77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ki fiziksel ağın router ile birbirlerine bağlanması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outer’in her iki ağa da bağlanmak için iki ayrı ağ arayüz donanımı mevcutt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outer’lar faklı veri iletim ortamı kullanan, farklı fiziksel adres biçimlerine sahip olan ve farklı frame formatları bulunan birden fazla ağı birbirlerine bağlamak için kullanılırla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1763640" y="4221000"/>
            <a:ext cx="5832360" cy="1871640"/>
            <a:chOff x="1763640" y="4221000"/>
            <a:chExt cx="5832360" cy="1871640"/>
          </a:xfrm>
        </p:grpSpPr>
        <p:graphicFrame>
          <p:nvGraphicFramePr>
            <p:cNvPr id="239" name="Object 5"/>
            <p:cNvGraphicFramePr/>
            <p:nvPr/>
          </p:nvGraphicFramePr>
          <p:xfrm>
            <a:off x="1763640" y="4221000"/>
            <a:ext cx="2243160" cy="1871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63640" y="4221000"/>
                      <a:ext cx="2243160" cy="18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1" name="Object 6"/>
            <p:cNvGraphicFramePr/>
            <p:nvPr/>
          </p:nvGraphicFramePr>
          <p:xfrm>
            <a:off x="5352840" y="4221000"/>
            <a:ext cx="2243160" cy="187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52840" y="4221000"/>
                      <a:ext cx="2243160" cy="18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3" name="Rectangle 7"/>
            <p:cNvSpPr/>
            <p:nvPr/>
          </p:nvSpPr>
          <p:spPr>
            <a:xfrm>
              <a:off x="4455360" y="4776840"/>
              <a:ext cx="448560" cy="7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Line 8"/>
            <p:cNvSpPr/>
            <p:nvPr/>
          </p:nvSpPr>
          <p:spPr>
            <a:xfrm>
              <a:off x="3966840" y="5172120"/>
              <a:ext cx="44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>
              <a:off x="4904280" y="5148000"/>
              <a:ext cx="44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Line 10"/>
          <p:cNvSpPr/>
          <p:nvPr/>
        </p:nvSpPr>
        <p:spPr>
          <a:xfrm flipV="1">
            <a:off x="3635280" y="5660640"/>
            <a:ext cx="649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3059280" y="6237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FCF6-54C4-4A26-B618-845E26970AF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Üniversal Servisi Gerçekleştirm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working’in amacı heterojen ağlar arasında üniversal servis sağlamakt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’teki bütün bilgisayarlar arasında üniversal servisi sağlamak için router’lar, bir ağdaki bir bilgisayardan iletilen bir bilgiyi diğer bir ağdaki hedef bilgisayara ulaştırabilmek için, aralarında aldıkları bilgileri iletmek üzere anlaşmış olmalıdır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Netice olarak, universal servisin sağlanabilmesi için bütün router’lar ve bilgisayarlar üzerinde çalışan ortak bir protokol yazılımı ol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protokol yazılımlarına genel olarak internet yazılımı veya protokolü den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D39B-C71D-47D8-A799-0C20EA0D301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333399"/>
                </a:solidFill>
                <a:latin typeface="Tahoma"/>
              </a:rPr>
              <a:t>Düz kablo (</a:t>
            </a:r>
            <a:r>
              <a:rPr b="0" lang="tr-TR" sz="3500" spc="-1" strike="noStrike">
                <a:solidFill>
                  <a:srgbClr val="000000"/>
                </a:solidFill>
                <a:latin typeface="Tahoma"/>
              </a:rPr>
              <a:t>Straight-Through Ethernet Cable)</a:t>
            </a:r>
            <a:endParaRPr b="0" lang="en-US" sz="3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2204640"/>
            <a:ext cx="7343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568A&lt;-&gt;568A veya 568B&lt;-&gt;568B olmalıdı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ethcable568a"/>
          <p:cNvPicPr/>
          <p:nvPr/>
        </p:nvPicPr>
        <p:blipFill>
          <a:blip r:embed="rId1"/>
          <a:stretch/>
        </p:blipFill>
        <p:spPr>
          <a:xfrm>
            <a:off x="179280" y="2924280"/>
            <a:ext cx="4205520" cy="2628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ethcable568b"/>
          <p:cNvPicPr/>
          <p:nvPr/>
        </p:nvPicPr>
        <p:blipFill>
          <a:blip r:embed="rId2"/>
          <a:stretch/>
        </p:blipFill>
        <p:spPr>
          <a:xfrm>
            <a:off x="4572000" y="3860640"/>
            <a:ext cx="42116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039B-92DE-4DCE-BCEA-FC5659A00B1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Üniversal Servisi Gerçekleştirm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 yazılımı, ağa bağlı bilgisayar veya kullanıcı tarafından görülen yönü ile birçok bilgisayarın bağlı olduğu tek bir ağ görünümü sağ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e bağlı olan her bir bilgisayarın bir adresi vardır ve hangi ağa bağlı olduğu fark etmeksizin internete bağlı diğer bir ağdaki herhangi bir bilgisayar ile haberleş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 yazılımı kullanıcıları ve bilgisayarda çalışan ağ uygulamalarını alt katmanlardaki fiziksel yapılardan adresleme biçimlerinden soyutla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07FC-D08D-456D-B153-39A7E533257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Üniversal Servisi Gerçekleştirm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Şekilde görüldüğü gibi internetin sanal bir ağ sistemi olduğu söylenebili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" name="Group 4"/>
          <p:cNvGrpSpPr/>
          <p:nvPr/>
        </p:nvGrpSpPr>
        <p:grpSpPr>
          <a:xfrm>
            <a:off x="1619280" y="3284640"/>
            <a:ext cx="5904000" cy="2808000"/>
            <a:chOff x="1619280" y="3284640"/>
            <a:chExt cx="5904000" cy="2808000"/>
          </a:xfrm>
        </p:grpSpPr>
        <p:graphicFrame>
          <p:nvGraphicFramePr>
            <p:cNvPr id="258" name="Object 5"/>
            <p:cNvGraphicFramePr/>
            <p:nvPr/>
          </p:nvGraphicFramePr>
          <p:xfrm>
            <a:off x="2537640" y="3953160"/>
            <a:ext cx="3673440" cy="192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9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37640" y="3953160"/>
                      <a:ext cx="3673440" cy="19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0" name="Rectangle 6"/>
            <p:cNvSpPr/>
            <p:nvPr/>
          </p:nvSpPr>
          <p:spPr>
            <a:xfrm>
              <a:off x="1619280" y="5825520"/>
              <a:ext cx="26208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Line 7"/>
            <p:cNvSpPr/>
            <p:nvPr/>
          </p:nvSpPr>
          <p:spPr>
            <a:xfrm flipV="1">
              <a:off x="1881360" y="5424480"/>
              <a:ext cx="78696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>
              <a:off x="7129440" y="5700600"/>
              <a:ext cx="26244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Rectangle 9"/>
            <p:cNvSpPr/>
            <p:nvPr/>
          </p:nvSpPr>
          <p:spPr>
            <a:xfrm>
              <a:off x="7260840" y="4755600"/>
              <a:ext cx="26244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Rectangle 10"/>
            <p:cNvSpPr/>
            <p:nvPr/>
          </p:nvSpPr>
          <p:spPr>
            <a:xfrm>
              <a:off x="6342480" y="3551760"/>
              <a:ext cx="262080" cy="26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Rectangle 11"/>
            <p:cNvSpPr/>
            <p:nvPr/>
          </p:nvSpPr>
          <p:spPr>
            <a:xfrm>
              <a:off x="4374360" y="3284640"/>
              <a:ext cx="26208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Rectangle 12"/>
            <p:cNvSpPr/>
            <p:nvPr/>
          </p:nvSpPr>
          <p:spPr>
            <a:xfrm>
              <a:off x="2800080" y="3418200"/>
              <a:ext cx="262080" cy="26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Rectangle 13"/>
            <p:cNvSpPr/>
            <p:nvPr/>
          </p:nvSpPr>
          <p:spPr>
            <a:xfrm>
              <a:off x="1619280" y="4220640"/>
              <a:ext cx="26208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1881360" y="4354560"/>
              <a:ext cx="786960" cy="2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3062160" y="3551760"/>
              <a:ext cx="39348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4505400" y="355176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 flipH="1">
              <a:off x="5817600" y="3819600"/>
              <a:ext cx="65592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Line 18"/>
            <p:cNvSpPr/>
            <p:nvPr/>
          </p:nvSpPr>
          <p:spPr>
            <a:xfrm flipH="1">
              <a:off x="6080040" y="4889520"/>
              <a:ext cx="11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Line 19"/>
            <p:cNvSpPr/>
            <p:nvPr/>
          </p:nvSpPr>
          <p:spPr>
            <a:xfrm flipH="1" flipV="1">
              <a:off x="5554800" y="5424480"/>
              <a:ext cx="157428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542C-F04A-4951-B80A-A2748ABB0C3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Üniversal Servisi Gerçekleştirm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83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görünümün altında yatan fiziksel yapı. Her bilgisayar kendi ağına bağlı ve ağlar arası bağlantı router’lar vasıtası ile yapılmış durumd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7" name="Group 4"/>
          <p:cNvGrpSpPr/>
          <p:nvPr/>
        </p:nvGrpSpPr>
        <p:grpSpPr>
          <a:xfrm>
            <a:off x="1403280" y="2781360"/>
            <a:ext cx="6192720" cy="3743280"/>
            <a:chOff x="1403280" y="2781360"/>
            <a:chExt cx="6192720" cy="3743280"/>
          </a:xfrm>
        </p:grpSpPr>
        <p:graphicFrame>
          <p:nvGraphicFramePr>
            <p:cNvPr id="278" name="Object 5"/>
            <p:cNvGraphicFramePr/>
            <p:nvPr/>
          </p:nvGraphicFramePr>
          <p:xfrm>
            <a:off x="2091240" y="3280320"/>
            <a:ext cx="4949640" cy="3018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9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91240" y="3280320"/>
                      <a:ext cx="4949640" cy="301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0" name="Rectangle 6"/>
            <p:cNvSpPr/>
            <p:nvPr/>
          </p:nvSpPr>
          <p:spPr>
            <a:xfrm>
              <a:off x="6357600" y="290592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Rectangle 7"/>
            <p:cNvSpPr/>
            <p:nvPr/>
          </p:nvSpPr>
          <p:spPr>
            <a:xfrm>
              <a:off x="7320960" y="390420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8"/>
            <p:cNvSpPr/>
            <p:nvPr/>
          </p:nvSpPr>
          <p:spPr>
            <a:xfrm>
              <a:off x="7183440" y="515196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Rectangle 9"/>
            <p:cNvSpPr/>
            <p:nvPr/>
          </p:nvSpPr>
          <p:spPr>
            <a:xfrm>
              <a:off x="4155480" y="278136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Rectangle 10"/>
            <p:cNvSpPr/>
            <p:nvPr/>
          </p:nvSpPr>
          <p:spPr>
            <a:xfrm>
              <a:off x="2366280" y="303084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Rectangle 11"/>
            <p:cNvSpPr/>
            <p:nvPr/>
          </p:nvSpPr>
          <p:spPr>
            <a:xfrm>
              <a:off x="1403280" y="390420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Rectangle 12"/>
            <p:cNvSpPr/>
            <p:nvPr/>
          </p:nvSpPr>
          <p:spPr>
            <a:xfrm>
              <a:off x="1540800" y="515196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Rectangle 13"/>
            <p:cNvSpPr/>
            <p:nvPr/>
          </p:nvSpPr>
          <p:spPr>
            <a:xfrm>
              <a:off x="4430880" y="3973680"/>
              <a:ext cx="1368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5054760" y="4516920"/>
              <a:ext cx="1368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15"/>
            <p:cNvSpPr/>
            <p:nvPr/>
          </p:nvSpPr>
          <p:spPr>
            <a:xfrm>
              <a:off x="4293360" y="4403520"/>
              <a:ext cx="1368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16"/>
            <p:cNvSpPr/>
            <p:nvPr/>
          </p:nvSpPr>
          <p:spPr>
            <a:xfrm>
              <a:off x="4293360" y="4971960"/>
              <a:ext cx="1368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Line 17"/>
            <p:cNvSpPr/>
            <p:nvPr/>
          </p:nvSpPr>
          <p:spPr>
            <a:xfrm flipV="1">
              <a:off x="1815840" y="5151960"/>
              <a:ext cx="123840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Line 18"/>
            <p:cNvSpPr/>
            <p:nvPr/>
          </p:nvSpPr>
          <p:spPr>
            <a:xfrm>
              <a:off x="1678320" y="4029120"/>
              <a:ext cx="110088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Line 19"/>
            <p:cNvSpPr/>
            <p:nvPr/>
          </p:nvSpPr>
          <p:spPr>
            <a:xfrm>
              <a:off x="2641680" y="3280320"/>
              <a:ext cx="55044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Line 20"/>
            <p:cNvSpPr/>
            <p:nvPr/>
          </p:nvSpPr>
          <p:spPr>
            <a:xfrm flipH="1">
              <a:off x="3880080" y="3030840"/>
              <a:ext cx="412920" cy="87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Line 21"/>
            <p:cNvSpPr/>
            <p:nvPr/>
          </p:nvSpPr>
          <p:spPr>
            <a:xfrm flipH="1">
              <a:off x="5806800" y="3155400"/>
              <a:ext cx="68796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Line 22"/>
            <p:cNvSpPr/>
            <p:nvPr/>
          </p:nvSpPr>
          <p:spPr>
            <a:xfrm flipH="1">
              <a:off x="6082200" y="4029120"/>
              <a:ext cx="123840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Line 23"/>
            <p:cNvSpPr/>
            <p:nvPr/>
          </p:nvSpPr>
          <p:spPr>
            <a:xfrm flipH="1" flipV="1">
              <a:off x="5669280" y="5151960"/>
              <a:ext cx="151380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Line 24"/>
            <p:cNvSpPr/>
            <p:nvPr/>
          </p:nvSpPr>
          <p:spPr>
            <a:xfrm>
              <a:off x="4155480" y="5027400"/>
              <a:ext cx="13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Line 25"/>
            <p:cNvSpPr/>
            <p:nvPr/>
          </p:nvSpPr>
          <p:spPr>
            <a:xfrm>
              <a:off x="4430880" y="5027400"/>
              <a:ext cx="13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Line 26"/>
            <p:cNvSpPr/>
            <p:nvPr/>
          </p:nvSpPr>
          <p:spPr>
            <a:xfrm flipV="1">
              <a:off x="5118840" y="4653000"/>
              <a:ext cx="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Line 27"/>
            <p:cNvSpPr/>
            <p:nvPr/>
          </p:nvSpPr>
          <p:spPr>
            <a:xfrm flipV="1">
              <a:off x="5118840" y="4392360"/>
              <a:ext cx="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Line 28"/>
            <p:cNvSpPr/>
            <p:nvPr/>
          </p:nvSpPr>
          <p:spPr>
            <a:xfrm flipV="1">
              <a:off x="3742920" y="4527720"/>
              <a:ext cx="55044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Line 29"/>
            <p:cNvSpPr/>
            <p:nvPr/>
          </p:nvSpPr>
          <p:spPr>
            <a:xfrm flipV="1">
              <a:off x="4430880" y="4278600"/>
              <a:ext cx="55044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30"/>
            <p:cNvSpPr/>
            <p:nvPr/>
          </p:nvSpPr>
          <p:spPr>
            <a:xfrm>
              <a:off x="4155480" y="4029120"/>
              <a:ext cx="27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31"/>
            <p:cNvSpPr/>
            <p:nvPr/>
          </p:nvSpPr>
          <p:spPr>
            <a:xfrm>
              <a:off x="4568400" y="402912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Text Box 32"/>
            <p:cNvSpPr/>
            <p:nvPr/>
          </p:nvSpPr>
          <p:spPr>
            <a:xfrm>
              <a:off x="3192120" y="4902480"/>
              <a:ext cx="68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Net 3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Text Box 33"/>
            <p:cNvSpPr/>
            <p:nvPr/>
          </p:nvSpPr>
          <p:spPr>
            <a:xfrm>
              <a:off x="3192120" y="4029120"/>
              <a:ext cx="68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Net 1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Text Box 34"/>
            <p:cNvSpPr/>
            <p:nvPr/>
          </p:nvSpPr>
          <p:spPr>
            <a:xfrm>
              <a:off x="4843800" y="4902480"/>
              <a:ext cx="68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Net 4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Text Box 35"/>
            <p:cNvSpPr/>
            <p:nvPr/>
          </p:nvSpPr>
          <p:spPr>
            <a:xfrm>
              <a:off x="5118840" y="3904200"/>
              <a:ext cx="68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Net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Line 36"/>
            <p:cNvSpPr/>
            <p:nvPr/>
          </p:nvSpPr>
          <p:spPr>
            <a:xfrm flipV="1">
              <a:off x="4369680" y="5104800"/>
              <a:ext cx="0" cy="49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Text Box 37"/>
            <p:cNvSpPr/>
            <p:nvPr/>
          </p:nvSpPr>
          <p:spPr>
            <a:xfrm>
              <a:off x="4155480" y="5651280"/>
              <a:ext cx="9630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000" spc="-1" strike="noStrike">
                  <a:solidFill>
                    <a:srgbClr val="000000"/>
                  </a:solidFill>
                  <a:latin typeface="Tahoma"/>
                </a:rPr>
                <a:t>router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Line 38"/>
            <p:cNvSpPr/>
            <p:nvPr/>
          </p:nvSpPr>
          <p:spPr>
            <a:xfrm flipV="1">
              <a:off x="3329640" y="5401800"/>
              <a:ext cx="0" cy="87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Text Box 39"/>
            <p:cNvSpPr/>
            <p:nvPr/>
          </p:nvSpPr>
          <p:spPr>
            <a:xfrm>
              <a:off x="2917080" y="6275160"/>
              <a:ext cx="9630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000" spc="-1" strike="noStrike">
                  <a:solidFill>
                    <a:srgbClr val="000000"/>
                  </a:solidFill>
                  <a:latin typeface="Tahoma"/>
                </a:rPr>
                <a:t>Fiziksel ağ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3F74-5F98-440D-82E3-B48F69E2878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333399"/>
                </a:solidFill>
                <a:latin typeface="Tahoma"/>
              </a:rPr>
              <a:t>Internetworking Protokoller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nternetlerde kullanılmak üzere birçok protokol yazılımı geliştirilmiş olmasına rağmen, bunlardan bir tanesi internetworking için en çok kullanılan protokol olarak karşımıza çıkmakt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protokol yazılımı resmi adıyla T</a:t>
            </a:r>
            <a:r>
              <a:rPr b="0" i="1" lang="tr-TR" sz="2800" spc="-1" strike="noStrike">
                <a:solidFill>
                  <a:srgbClr val="000000"/>
                </a:solidFill>
                <a:latin typeface="Tahoma"/>
              </a:rPr>
              <a:t>CP/IP Internet Protokolleridir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Çoğu ağ uzmanı kişi tarafından bu isim kısaca TCP/IP olarak kullanılı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7F56-C65F-4600-BC46-25A9DD9A08E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333399"/>
                </a:solidFill>
                <a:latin typeface="Tahoma"/>
              </a:rPr>
              <a:t>Internetworking Protokoller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TCP/IP bir internette kullanılmak için ilk geliştirilen protokoldü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Geliştirilmesine 1970’li yıllarda başlanmışt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merikan Savunma Bakanlığının desteği ile geliştirilen proje 1980’li yıllarda birçok kuruluş tarafından desteklenir hale gelmiş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6CC3-2BAE-447D-8CA0-DC30564E3F0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333399"/>
                </a:solidFill>
                <a:latin typeface="Tahoma"/>
              </a:rPr>
              <a:t>Çapraz Kablo (</a:t>
            </a:r>
            <a:r>
              <a:rPr b="0" lang="tr-TR" sz="3500" spc="-1" strike="noStrike">
                <a:solidFill>
                  <a:srgbClr val="000000"/>
                </a:solidFill>
                <a:latin typeface="Tahoma"/>
              </a:rPr>
              <a:t>Crossover Ethernet Cable)</a:t>
            </a:r>
            <a:endParaRPr b="0" lang="en-US" sz="3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274176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568B&lt;-&gt;568A ol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6" descr="cross"/>
          <p:cNvPicPr/>
          <p:nvPr/>
        </p:nvPicPr>
        <p:blipFill>
          <a:blip r:embed="rId1"/>
          <a:stretch/>
        </p:blipFill>
        <p:spPr>
          <a:xfrm>
            <a:off x="3635280" y="2060640"/>
            <a:ext cx="5113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44DA-2E70-400E-A70C-160F9E2EE8D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J45 conn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3" descr="rj45"/>
          <p:cNvPicPr/>
          <p:nvPr/>
        </p:nvPicPr>
        <p:blipFill>
          <a:blip r:embed="rId1"/>
          <a:stretch/>
        </p:blipFill>
        <p:spPr>
          <a:xfrm>
            <a:off x="1547640" y="1979640"/>
            <a:ext cx="630108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E071-2B01-4C1A-B2E1-04CFC842F61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Bağlantıları Yapm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raç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425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UTP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5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e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/6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J45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onnektör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 soyuc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n kesk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ıkma pense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4" descr="crimper"/>
          <p:cNvPicPr/>
          <p:nvPr/>
        </p:nvPicPr>
        <p:blipFill>
          <a:blip r:embed="rId1"/>
          <a:stretch/>
        </p:blipFill>
        <p:spPr>
          <a:xfrm>
            <a:off x="4500720" y="191628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CCD7-7D3B-4CC8-8EEE-C04B7ABAE5C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Bağlantıları Yapm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dım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9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 ucunu soy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arılı çiftleri çöz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renk sırasına diz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uygun ve eşit ölçüye getir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konnektöre sok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özle k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ık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158F-F200-443D-8443-B08C1C7C75E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–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ablo ucunu soy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8351640" cy="11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lonun dış yalıtım kısmını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–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½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oy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oyma esnasında içerideki tellerin dışındaki yalıtım kesilmemesine dikkat ed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step1"/>
          <p:cNvPicPr/>
          <p:nvPr/>
        </p:nvPicPr>
        <p:blipFill>
          <a:blip r:embed="rId1"/>
          <a:stretch/>
        </p:blipFill>
        <p:spPr>
          <a:xfrm>
            <a:off x="914400" y="3357720"/>
            <a:ext cx="7010280" cy="28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7:55:06Z</dcterms:created>
  <dc:creator>göksu</dc:creator>
  <dc:description/>
  <dc:language>en-US</dc:language>
  <cp:lastModifiedBy>Bilal</cp:lastModifiedBy>
  <dcterms:modified xsi:type="dcterms:W3CDTF">2012-11-27T15:56:36Z</dcterms:modified>
  <cp:revision>16</cp:revision>
  <dc:subject/>
  <dc:title>Yapısal Kablolama</dc:title>
</cp:coreProperties>
</file>