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B8C9-11DA-4E7F-A399-272268292F89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D0E4-EF2A-4300-AFA2-3AD9D9862920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128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RPAnet was developed by the military to be a means of communications in the event that regular channels broke down.  Since the ARPAnet was a network of nodes, if any one node was out, the messages could be rerouted through another 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AE30-5CA6-4C46-B77B-5E87871C84CE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5B5F-5F8F-4B68-BBF4-8D980AF6AA4E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DB94-DD00-4834-AB18-1D5767FCB9B0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378E-0B50-4D99-A620-6FEA5BD59EF8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EFA5-1F05-4085-A950-E08F0E6BAE36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F869-0D7F-4F95-9AD7-A9443ED1012A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UB: Uygulama Başlığı (Application Hea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VK: Veri Kuyruğ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ABE3-1570-4971-94DC-6C4CEB97D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EF41-AAEC-441D-A5B9-D1ADA1E6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253C-C1B8-442D-B024-AF7CB2D2F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FFC6-9C53-469F-9A9E-2CFBC0BB6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D138-6821-49D3-A85A-DE7AC3A9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D3C7-A526-43C1-8FF4-F7D4B6ED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B9C4-DCC6-4874-9036-0CA57117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4B2B-DB1B-454A-8F60-5484BEC7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66F5-8809-4C5B-8EB1-95A0E9A0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A0D7-613B-4C0A-B3F6-921493DF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5AE0-8690-49D5-810C-1586123E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07D8-C347-4F70-8504-05A2E7AC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B2CA-9D21-461C-9377-F7F91D41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44F5-2245-4EAB-B859-DD60D924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22C0-D560-42C1-8FB0-4B1CF8F0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0095-983F-4A21-9590-822ABD39B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AC21-BC07-4EA4-ADFF-B093A022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74AE-B875-45A1-AE0C-4E750F39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A80C-0740-4485-BAF2-F3A09703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48E1-00E8-429D-BC59-EE7F0FD7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270A-F042-4BD4-A6E2-F3C266C4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5D98-C80B-4D16-BF09-F1F4BA7B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4F7B-5953-4EDC-A16A-178DC974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D49D-46D2-4E55-90B3-5031647C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1011-DF67-4830-9344-E38E6AD0BE3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13 Dikdörtgen"/>
          <p:cNvSpPr/>
          <p:nvPr/>
        </p:nvSpPr>
        <p:spPr>
          <a:xfrm>
            <a:off x="5613120" y="648828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24 Dikdörtgen"/>
          <p:cNvSpPr/>
          <p:nvPr/>
        </p:nvSpPr>
        <p:spPr>
          <a:xfrm>
            <a:off x="5613120" y="648828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BA9E-FF02-4473-9B4E-221E15DF1CF2}" type="slidenum">
              <a:rPr b="0" lang="tr-T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CP/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3AC1-E944-42BB-9AA5-6FA607B14DC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TCP Başlığı (TCP Header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539640" y="2187720"/>
          <a:ext cx="8209080" cy="4557600"/>
        </p:xfrm>
        <a:graphic>
          <a:graphicData uri="http://schemas.openxmlformats.org/drawingml/2006/table">
            <a:tbl>
              <a:tblPr/>
              <a:tblGrid>
                <a:gridCol w="2051280"/>
                <a:gridCol w="2054160"/>
                <a:gridCol w="2050920"/>
                <a:gridCol w="2052720"/>
              </a:tblGrid>
              <a:tr h="57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Kaynak portu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def portu (1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Sıra numarası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32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Alındı bilgisi numarası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32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i ofseti (4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yrılmış (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yraklar (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Pencere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6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Checksum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Kontrol Toplamı – 1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il İşaretçiler (1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siyonlar – Değişken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154E-865C-41FF-BFF1-C569DA9489C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TCP/IP Başlı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94920" y="2133360"/>
            <a:ext cx="8497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ynak ve hedef </a:t>
            </a:r>
            <a:r>
              <a:rPr b="0" lang="tr-TR" sz="2800" spc="-1" strike="noStrike" u="sng">
                <a:solidFill>
                  <a:srgbClr val="ff0000"/>
                </a:solidFill>
                <a:uFillTx/>
                <a:latin typeface="Tahoma"/>
              </a:rPr>
              <a:t>port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u: Gönderici ve alıcı pc’lerin </a:t>
            </a:r>
            <a:r>
              <a:rPr b="0" lang="tr-TR" sz="2800" spc="-1" strike="noStrike" u="sng">
                <a:solidFill>
                  <a:srgbClr val="ff0000"/>
                </a:solidFill>
                <a:uFillTx/>
                <a:latin typeface="Tahoma"/>
              </a:rPr>
              <a:t>port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numaras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ıra numarası:Paketin hangi bölümü olduğunu göster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lındı bilgisi numarası: Bir sonraki gelecek olan paket bölüm numaras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Pencere: Alıcının daha ne kadar paket bölümü alacağını belirl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Checksum: İletim biriminden geçen bit'lerin sayısı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4364-45FF-47D9-9E54-4180B46682E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ğ Katmanı Protokolleri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569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CMP (Internet Control Message Protocol)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in gönderilmesi sırasında hata oluştuğunda mesaj veya rapor gönder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Ping komu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RP (Address Resolution Protoc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Yerel ağdaki adresleri veya donanım adreslerini (MAC adres) ön bellekl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MAC adresi ağ adresine ve ağ adresini de MAC adresine çevir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GMP (Internet Group Management Protoc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elli bir gruptaki hostları, multicast (Bir gönderici ile ağ üzerinde birden fazla alıcı arasında kurulan iletişim</a:t>
            </a:r>
            <a:r>
              <a:rPr b="0" lang="tr-T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 grup) router’a bildiri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2" dur="1" fill="hold"/>
                                  <p:tgtEl>
                                    <p:spTgt spid="26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BFEE-9BC9-46D2-82E1-89C62BFD553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ğ Katmanı Protokolleri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32000" y="184464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IP (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Internet Protocol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IP adresi bir ağa bağlı bilgisayarların ağ üzerinden birbirlerine veri yollamak için kullandıkları adrestir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IP Başlığı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684360" y="2997360"/>
          <a:ext cx="8137440" cy="3687480"/>
        </p:xfrm>
        <a:graphic>
          <a:graphicData uri="http://schemas.openxmlformats.org/drawingml/2006/table">
            <a:tbl>
              <a:tblPr/>
              <a:tblGrid>
                <a:gridCol w="1923840"/>
                <a:gridCol w="1924200"/>
                <a:gridCol w="453960"/>
                <a:gridCol w="279360"/>
                <a:gridCol w="1438200"/>
                <a:gridCol w="238320"/>
                <a:gridCol w="187956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P versiy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P başlık uzunluğ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Hizmet tür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plam uzunlu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Kiml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çalanma duru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çalanma Ofse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T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tok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Başlık kontrol toplamı </a:t>
                      </a: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Checksu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ynak Adr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def Adr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siyonl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6BC8-5279-42C9-807D-57E9AD7AB2B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IP Başlığ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497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Hizmet türü: Host’un ne tür bir hizmet istediği: Hızlı (örneğin ses), hatasız (örneğin dosya) veya güvenli iletim gib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imlik: Paket bölümünün bağlı olduğu bölümün kimliği, o pakete ait olan bölümlerin hepsinde aynı tanım yaz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TL (Time to Live): Paketin ömr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aşlık kontrol toplamı: Sadece paketin kontrolünü sağl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2109-DF40-44BD-97C9-A71411CEF9E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IP (</a:t>
            </a:r>
            <a:r>
              <a:rPr b="0" lang="tr-TR" sz="4000" spc="-1" strike="noStrike">
                <a:solidFill>
                  <a:srgbClr val="333399"/>
                </a:solidFill>
                <a:latin typeface="Times New Roman"/>
              </a:rPr>
              <a:t>Internet Protocol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8640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aygın olarak IPv4 adresler kullanılıy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oplam 32 bit ve noktalarla ayrılmış 4 adet 8 bitlik sayı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Örnek bir IP adresi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00000 10011100 00001110 000001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w.x.y.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.156.14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P adresleri dünyada 2</a:t>
            </a:r>
            <a:r>
              <a:rPr b="0" lang="tr-TR" sz="2800" spc="-1" strike="noStrike" baseline="30000">
                <a:solidFill>
                  <a:srgbClr val="000000"/>
                </a:solidFill>
                <a:latin typeface="Tahoma"/>
              </a:rPr>
              <a:t>32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= 4 milyardı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inamik ip adresleri : Evden modem ile bağlan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tatik ip adresleri: I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1" dur="1" fill="hold"/>
                                  <p:tgtEl>
                                    <p:spTgt spid="27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6198-D19B-419E-9562-0F362A4A9AC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i Hiyerarşi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ahoma"/>
              </a:rPr>
              <a:t>Bir IP adresi iki kısımdan oluşur. Bu kısımlar prefix (ön ek) ve suffix (son ek olarak) adlandırılı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ahoma"/>
              </a:rPr>
              <a:t>Bu iki seviyeli hiyerarşi iletilen paketin yönlendirme işinin kolayca yapılabilmesi içind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897B-A45F-4A5D-B737-C5C3A9B467B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i Hiyerarşisi (Prefix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Prefix: IP adresinin prefix kısmı bir bilgisayarın bağlı bulunduğu ağın fiziksel adresid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 da internete bağlı olan her bir fiziksel ağın ayrı birer adresi bulunması gerektiğini göster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 adrese </a:t>
            </a:r>
            <a:r>
              <a:rPr b="1" i="1" lang="tr-TR" sz="2800" spc="-1" strike="noStrike" u="sng">
                <a:solidFill>
                  <a:srgbClr val="000000"/>
                </a:solidFill>
                <a:uFillTx/>
                <a:latin typeface="Tahoma"/>
              </a:rPr>
              <a:t>ağ adresi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(network address) denil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 adres bir ağa bağlı tüm bilgisayarların IP adreslerinde prefix (ön ek) olarak yazılacak olan adrest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E8D8-C3C9-45AA-A6B2-ECE641B8D2F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i Hiyerarşisi (Suffix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uffix: IP adresinin suffix kısmı bir ağ içinde bir bilgisayarı diğerlerinden ayıran kısım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ir ağa bağlı tüm bilgisayarların prefixleri aynı olmak zorunda olduğuna göre, bir ağ içinde kullanılan tüm suffixler farklı olmak zorund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Fakat iki farklı ağ içindeki iki bilgisayarın suffix kısımları aynı olabil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P adresinin suffix kısmına </a:t>
            </a:r>
            <a:r>
              <a:rPr b="1" i="1" lang="tr-TR" sz="2800" spc="-1" strike="noStrike" u="sng">
                <a:solidFill>
                  <a:srgbClr val="000000"/>
                </a:solidFill>
                <a:uFillTx/>
                <a:latin typeface="Tahoma"/>
              </a:rPr>
              <a:t>host adresi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denil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1AA6-14D3-4C4D-8BB6-BE3D700DB33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i Hiyerarşi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IP adresi hiyerarşisi bize iki şeyi temin ed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Birincisi internete bağlı her bilgisayarın farklı bir adresi olmasını sağ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İkinci olarak ağ adreslerinin tek bir merkezden dağıtılmasını gerekli kılmakla beraber, host adreslerinin seçimini ağ adreslerini alan kişilere bırakır.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8C8D-118D-4B0B-B065-DF883E5953A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000000"/>
                </a:solidFill>
                <a:latin typeface="Times New Roman"/>
              </a:rPr>
              <a:t>Internet’in Kısa Tarihçesi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5694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İlk geniş alan ağı olan ARPANET 1960’lı yılların ortasında askeri amaçlarla ortaya çıktı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Problem:  Nükleer bir savaş esnasında telefon hatlarının çoğunun tahrip olması durumunda bilgisayar iletişiminin sürdürülmesi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Çözüm: Paul Baran, Rand Corp. tarafından geliştirildi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Baran paket-anahtarlamalı  ağ fikrini geliştird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Her mesaj küçük parçalara bölünmesi ve bu parçaların varış noktasına başarı ile ulaşıp orijinal mesajın oluşturulması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Küçük parçalara bölünen mesajlar hızlı hatlar üzerinden yollanı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69’de ağın detayları ARPA’ya (Advanced Research Projects Agency) sunuldu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72, ağların ağı ortaya çıkmaya başladı. 40 bilgisayardan oluşan bir ARPANET gösterisi yapıldı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" dur="1" fill="hold"/>
                                  <p:tgtEl>
                                    <p:spTgt spid="11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191A-DC62-46BB-AC4D-12B6E9590C8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 sınıf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IP adreslerinin 32 bit olduğunu daha önce belirtmişti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Peki bu 32 bitin kaç biti prefix yani ağ adresi ve kaç biti suffix yani host adresi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Farklı ağ teknolojilerinden dolayı çok host içerebilen ağlar olabileceği gibi host sayısı az olan ağlar da olacaktı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55AB-AF99-4C52-BD94-F27AEC4F4C1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 sınıf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refix ve suffix in uzunluk seçimi internete bağlanabilecek olan ağ sayısını ve bir ağdaki host sayısını doğrudan etkilediği için uzunluk seçimi dikkatli yapılmalı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P adresleri tasarlanırken prefix ve suffix için sabit uzunluk olmasının ihtiyaçları karşılamayacağı görülmüş ve IP adresleri prefix ve suffix bitlerinin sayısına göre 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ahoma"/>
              </a:rPr>
              <a:t>üç temel sınıfa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ayrılmışlar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nun yanısıra 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ahoma"/>
              </a:rPr>
              <a:t>iki de özel amaçlı sınıf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oluşturulmuşt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P sınıfları sonraki slaytta gösterildiği gibi başlangıçtaki 4 bit ile birbirlerinden ayrılırla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2221-AA1F-46FF-94A2-1B58B47CC70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 sınıf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79280" y="2349360"/>
          <a:ext cx="8713800" cy="2963880"/>
        </p:xfrm>
        <a:graphic>
          <a:graphicData uri="http://schemas.openxmlformats.org/drawingml/2006/table">
            <a:tbl>
              <a:tblPr/>
              <a:tblGrid>
                <a:gridCol w="793800"/>
                <a:gridCol w="250920"/>
                <a:gridCol w="250920"/>
                <a:gridCol w="253800"/>
                <a:gridCol w="322200"/>
                <a:gridCol w="720720"/>
                <a:gridCol w="1871640"/>
                <a:gridCol w="2089440"/>
                <a:gridCol w="216036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t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1   2    3            7  8                             15 16                                 23 24                             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Sınıf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f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Sınıf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f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 Sınıf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f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 Sınıf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lticast Adr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 Sınıf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İleride Kullanılmak Üzere Ayrılmı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A400-F39D-4474-BBAD-F459F2E2F32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IPv4 Adreslem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68360" y="2708280"/>
          <a:ext cx="7907400" cy="2894040"/>
        </p:xfrm>
        <a:graphic>
          <a:graphicData uri="http://schemas.openxmlformats.org/drawingml/2006/table">
            <a:tbl>
              <a:tblPr/>
              <a:tblGrid>
                <a:gridCol w="842760"/>
                <a:gridCol w="1155960"/>
                <a:gridCol w="825480"/>
                <a:gridCol w="857160"/>
                <a:gridCol w="880920"/>
                <a:gridCol w="1121040"/>
                <a:gridCol w="2224080"/>
              </a:tblGrid>
              <a:tr h="90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ını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P ad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st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 bit sayıs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st bit sayıs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daki PC Sayıs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-1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.y.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tr-T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= 16,777,2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-1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.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.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tr-T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=655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2-2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.x.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tr-T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= 25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3C8C-89D2-41B7-B20F-4686D47BF6B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Pv4 Adresle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8415360" cy="424836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D sınıfı 224-239 ve ağ 28 bit ile gösteril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240 ve üzeri E sınıf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247D-8F17-4D4A-ABED-CF5232795B7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 Sınıfı (1-12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-361800" y="553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4"/>
          <p:cNvGrpSpPr/>
          <p:nvPr/>
        </p:nvGrpSpPr>
        <p:grpSpPr>
          <a:xfrm>
            <a:off x="1167480" y="2422440"/>
            <a:ext cx="2669400" cy="1278720"/>
            <a:chOff x="1167480" y="2422440"/>
            <a:chExt cx="2669400" cy="1278720"/>
          </a:xfrm>
        </p:grpSpPr>
        <p:sp>
          <p:nvSpPr>
            <p:cNvPr id="303" name="Text Box 5"/>
            <p:cNvSpPr/>
            <p:nvPr/>
          </p:nvSpPr>
          <p:spPr>
            <a:xfrm>
              <a:off x="1167480" y="2563560"/>
              <a:ext cx="21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     </a:t>
              </a: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ağ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      h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6"/>
            <p:cNvSpPr/>
            <p:nvPr/>
          </p:nvSpPr>
          <p:spPr>
            <a:xfrm>
              <a:off x="1596960" y="2427120"/>
              <a:ext cx="1973160" cy="704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7"/>
            <p:cNvSpPr/>
            <p:nvPr/>
          </p:nvSpPr>
          <p:spPr>
            <a:xfrm>
              <a:off x="2236680" y="2422440"/>
              <a:ext cx="0" cy="70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8"/>
            <p:cNvSpPr/>
            <p:nvPr/>
          </p:nvSpPr>
          <p:spPr>
            <a:xfrm>
              <a:off x="1747800" y="3241440"/>
              <a:ext cx="171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8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      24 b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9"/>
            <p:cNvSpPr/>
            <p:nvPr/>
          </p:nvSpPr>
          <p:spPr>
            <a:xfrm>
              <a:off x="3652560" y="2734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10"/>
          <p:cNvGrpSpPr/>
          <p:nvPr/>
        </p:nvGrpSpPr>
        <p:grpSpPr>
          <a:xfrm>
            <a:off x="956880" y="3933720"/>
            <a:ext cx="6198840" cy="2018880"/>
            <a:chOff x="956880" y="3933720"/>
            <a:chExt cx="6198840" cy="2018880"/>
          </a:xfrm>
        </p:grpSpPr>
        <p:sp>
          <p:nvSpPr>
            <p:cNvPr id="309" name="Rectangle 11"/>
            <p:cNvSpPr/>
            <p:nvPr/>
          </p:nvSpPr>
          <p:spPr>
            <a:xfrm>
              <a:off x="1847880" y="4712400"/>
              <a:ext cx="171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18.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26.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12"/>
            <p:cNvSpPr/>
            <p:nvPr/>
          </p:nvSpPr>
          <p:spPr>
            <a:xfrm flipV="1" rot="5400000">
              <a:off x="2500200" y="3920040"/>
              <a:ext cx="476280" cy="1218960"/>
            </a:xfrm>
            <a:custGeom>
              <a:avLst/>
              <a:gdLst>
                <a:gd name="textAreaLeft" fmla="*/ 304200 w 476280"/>
                <a:gd name="textAreaRight" fmla="*/ 476640 w 47628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13"/>
            <p:cNvSpPr/>
            <p:nvPr/>
          </p:nvSpPr>
          <p:spPr>
            <a:xfrm>
              <a:off x="956880" y="5492880"/>
              <a:ext cx="5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a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4"/>
            <p:cNvSpPr/>
            <p:nvPr/>
          </p:nvSpPr>
          <p:spPr>
            <a:xfrm flipV="1">
              <a:off x="1282680" y="5065920"/>
              <a:ext cx="762120" cy="51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15"/>
            <p:cNvSpPr/>
            <p:nvPr/>
          </p:nvSpPr>
          <p:spPr>
            <a:xfrm>
              <a:off x="2245320" y="3933720"/>
              <a:ext cx="100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32-b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16"/>
            <p:cNvSpPr/>
            <p:nvPr/>
          </p:nvSpPr>
          <p:spPr>
            <a:xfrm>
              <a:off x="4175280" y="5454720"/>
              <a:ext cx="29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Host</a:t>
              </a:r>
              <a:r>
                <a:rPr b="0" lang="tr-TR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(Pc veya cihaz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7"/>
            <p:cNvSpPr/>
            <p:nvPr/>
          </p:nvSpPr>
          <p:spPr>
            <a:xfrm flipH="1" flipV="1">
              <a:off x="2901600" y="5085000"/>
              <a:ext cx="1352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 Box 18"/>
          <p:cNvSpPr/>
          <p:nvPr/>
        </p:nvSpPr>
        <p:spPr>
          <a:xfrm>
            <a:off x="4932360" y="2276640"/>
            <a:ext cx="3780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P adres: 18.26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ğ adresi: 18.0.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lt Ağ maskesi: 255.0.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roadcast adres: 18.255.255.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0692-2584-48C5-A749-36A5A54917D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B Sınıfı (128-19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-361800" y="553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4"/>
          <p:cNvGrpSpPr/>
          <p:nvPr/>
        </p:nvGrpSpPr>
        <p:grpSpPr>
          <a:xfrm>
            <a:off x="1037160" y="2854440"/>
            <a:ext cx="2669400" cy="1278720"/>
            <a:chOff x="1037160" y="2854440"/>
            <a:chExt cx="2669400" cy="1278720"/>
          </a:xfrm>
        </p:grpSpPr>
        <p:sp>
          <p:nvSpPr>
            <p:cNvPr id="321" name="Text Box 5"/>
            <p:cNvSpPr/>
            <p:nvPr/>
          </p:nvSpPr>
          <p:spPr>
            <a:xfrm>
              <a:off x="1037160" y="2995560"/>
              <a:ext cx="21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     </a:t>
              </a: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ağ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      h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1466640" y="2859120"/>
              <a:ext cx="1973160" cy="704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7"/>
            <p:cNvSpPr/>
            <p:nvPr/>
          </p:nvSpPr>
          <p:spPr>
            <a:xfrm>
              <a:off x="2266920" y="2854440"/>
              <a:ext cx="0" cy="70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8"/>
            <p:cNvSpPr/>
            <p:nvPr/>
          </p:nvSpPr>
          <p:spPr>
            <a:xfrm>
              <a:off x="1574280" y="3673440"/>
              <a:ext cx="188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16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      </a:t>
              </a:r>
              <a:r>
                <a:rPr b="0" lang="tr-TR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16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b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9"/>
            <p:cNvSpPr/>
            <p:nvPr/>
          </p:nvSpPr>
          <p:spPr>
            <a:xfrm>
              <a:off x="3522600" y="31672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10"/>
          <p:cNvGrpSpPr/>
          <p:nvPr/>
        </p:nvGrpSpPr>
        <p:grpSpPr>
          <a:xfrm>
            <a:off x="812160" y="4365720"/>
            <a:ext cx="6199200" cy="2018520"/>
            <a:chOff x="812160" y="4365720"/>
            <a:chExt cx="6199200" cy="2018520"/>
          </a:xfrm>
        </p:grpSpPr>
        <p:sp>
          <p:nvSpPr>
            <p:cNvPr id="327" name="Rectangle 11"/>
            <p:cNvSpPr/>
            <p:nvPr/>
          </p:nvSpPr>
          <p:spPr>
            <a:xfrm>
              <a:off x="1703160" y="5144040"/>
              <a:ext cx="171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18</a:t>
              </a: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.</a:t>
              </a:r>
              <a:r>
                <a:rPr b="0" lang="en-US" sz="2400" spc="-1" strike="noStrike">
                  <a:solidFill>
                    <a:srgbClr val="ffff66"/>
                  </a:solidFill>
                  <a:latin typeface="Comic Sans MS"/>
                  <a:ea typeface="Arial"/>
                </a:rPr>
                <a:t>26.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12"/>
            <p:cNvSpPr/>
            <p:nvPr/>
          </p:nvSpPr>
          <p:spPr>
            <a:xfrm flipV="1" rot="5400000">
              <a:off x="2355480" y="4352040"/>
              <a:ext cx="476280" cy="1218960"/>
            </a:xfrm>
            <a:custGeom>
              <a:avLst/>
              <a:gdLst>
                <a:gd name="textAreaLeft" fmla="*/ 304200 w 476280"/>
                <a:gd name="textAreaRight" fmla="*/ 476640 w 47628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13"/>
            <p:cNvSpPr/>
            <p:nvPr/>
          </p:nvSpPr>
          <p:spPr>
            <a:xfrm>
              <a:off x="812160" y="5924520"/>
              <a:ext cx="5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a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4"/>
            <p:cNvSpPr/>
            <p:nvPr/>
          </p:nvSpPr>
          <p:spPr>
            <a:xfrm flipV="1">
              <a:off x="1137960" y="5497200"/>
              <a:ext cx="762120" cy="514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15"/>
            <p:cNvSpPr/>
            <p:nvPr/>
          </p:nvSpPr>
          <p:spPr>
            <a:xfrm>
              <a:off x="2100600" y="4365720"/>
              <a:ext cx="100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32-b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6"/>
            <p:cNvSpPr/>
            <p:nvPr/>
          </p:nvSpPr>
          <p:spPr>
            <a:xfrm>
              <a:off x="4030920" y="5886720"/>
              <a:ext cx="29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Host</a:t>
              </a:r>
              <a:r>
                <a:rPr b="0" lang="tr-TR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(Pc veya cihaz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17"/>
            <p:cNvSpPr/>
            <p:nvPr/>
          </p:nvSpPr>
          <p:spPr>
            <a:xfrm flipH="1" flipV="1">
              <a:off x="3003120" y="5516640"/>
              <a:ext cx="1352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18"/>
          <p:cNvSpPr/>
          <p:nvPr/>
        </p:nvSpPr>
        <p:spPr>
          <a:xfrm>
            <a:off x="4932360" y="2492280"/>
            <a:ext cx="3708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P adres: 181.26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ğ adresi: 181.26.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lt Ağ maskesi: 255.255.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roadcast adres: 181.26.255.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951F-332E-4F51-A0E9-04C8DFA845E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C Sınıfı (192-223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-361800" y="553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1121760" y="263376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     </a:t>
            </a:r>
            <a:r>
              <a:rPr b="0" lang="tr-T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ağ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      </a:t>
            </a:r>
            <a:r>
              <a:rPr b="0" lang="tr-TR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1539720" y="2496960"/>
            <a:ext cx="1973520" cy="704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6"/>
          <p:cNvSpPr/>
          <p:nvPr/>
        </p:nvSpPr>
        <p:spPr>
          <a:xfrm>
            <a:off x="2700360" y="2492280"/>
            <a:ext cx="0" cy="704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696320" y="331164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24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      </a:t>
            </a:r>
            <a:r>
              <a:rPr b="0" lang="tr-TR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8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3595680" y="28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9"/>
          <p:cNvSpPr/>
          <p:nvPr/>
        </p:nvSpPr>
        <p:spPr>
          <a:xfrm>
            <a:off x="1776240" y="478188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1</a:t>
            </a:r>
            <a:r>
              <a:rPr b="0" lang="tr-T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94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.26.</a:t>
            </a:r>
            <a:r>
              <a:rPr b="0" lang="tr-T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5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0"/>
          <p:cNvSpPr/>
          <p:nvPr/>
        </p:nvSpPr>
        <p:spPr>
          <a:xfrm flipV="1" rot="5400000">
            <a:off x="2428920" y="3989880"/>
            <a:ext cx="476280" cy="1219320"/>
          </a:xfrm>
          <a:custGeom>
            <a:avLst/>
            <a:gdLst>
              <a:gd name="textAreaLeft" fmla="*/ 304200 w 476280"/>
              <a:gd name="textAreaRight" fmla="*/ 476640 w 476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1"/>
          <p:cNvSpPr/>
          <p:nvPr/>
        </p:nvSpPr>
        <p:spPr>
          <a:xfrm>
            <a:off x="885600" y="556272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a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2"/>
          <p:cNvSpPr/>
          <p:nvPr/>
        </p:nvSpPr>
        <p:spPr>
          <a:xfrm flipV="1">
            <a:off x="1211400" y="5135040"/>
            <a:ext cx="761760" cy="514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3"/>
          <p:cNvSpPr/>
          <p:nvPr/>
        </p:nvSpPr>
        <p:spPr>
          <a:xfrm>
            <a:off x="2173680" y="400356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32-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4"/>
          <p:cNvSpPr/>
          <p:nvPr/>
        </p:nvSpPr>
        <p:spPr>
          <a:xfrm>
            <a:off x="4104000" y="552456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Host</a:t>
            </a:r>
            <a:r>
              <a:rPr b="0" lang="tr-TR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(Pc veya ciha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5"/>
          <p:cNvSpPr/>
          <p:nvPr/>
        </p:nvSpPr>
        <p:spPr>
          <a:xfrm flipH="1" flipV="1">
            <a:off x="3363480" y="5154480"/>
            <a:ext cx="13525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6"/>
          <p:cNvSpPr/>
          <p:nvPr/>
        </p:nvSpPr>
        <p:spPr>
          <a:xfrm>
            <a:off x="5076720" y="2133720"/>
            <a:ext cx="349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P adres: 194.26.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ğ adresi: 194.26.5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lt Ağ maskesi: 255.255.255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roadcast adres: 194.26.5.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6F2E-9646-4980-943C-B17CE41E020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rnek Bir İnternet Uygulamas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53" name="Group 4"/>
          <p:cNvGrpSpPr/>
          <p:nvPr/>
        </p:nvGrpSpPr>
        <p:grpSpPr>
          <a:xfrm>
            <a:off x="179280" y="2133720"/>
            <a:ext cx="8785440" cy="4723920"/>
            <a:chOff x="179280" y="2133720"/>
            <a:chExt cx="8785440" cy="4723920"/>
          </a:xfrm>
        </p:grpSpPr>
        <p:graphicFrame>
          <p:nvGraphicFramePr>
            <p:cNvPr id="354" name="Object 5"/>
            <p:cNvGraphicFramePr/>
            <p:nvPr/>
          </p:nvGraphicFramePr>
          <p:xfrm>
            <a:off x="5512680" y="2133720"/>
            <a:ext cx="2577600" cy="1031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12680" y="2133720"/>
                      <a:ext cx="2577600" cy="103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6" name="Object 6"/>
            <p:cNvGraphicFramePr/>
            <p:nvPr/>
          </p:nvGraphicFramePr>
          <p:xfrm>
            <a:off x="284040" y="4871880"/>
            <a:ext cx="2577600" cy="1031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7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4040" y="4871880"/>
                      <a:ext cx="2577600" cy="103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8" name="Object 7"/>
            <p:cNvGraphicFramePr/>
            <p:nvPr/>
          </p:nvGraphicFramePr>
          <p:xfrm>
            <a:off x="5850000" y="4963680"/>
            <a:ext cx="2577600" cy="1031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9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850000" y="4963680"/>
                      <a:ext cx="2577600" cy="103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0" name="Rectangle 8"/>
            <p:cNvSpPr/>
            <p:nvPr/>
          </p:nvSpPr>
          <p:spPr>
            <a:xfrm>
              <a:off x="4163400" y="3652560"/>
              <a:ext cx="33696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9"/>
            <p:cNvSpPr/>
            <p:nvPr/>
          </p:nvSpPr>
          <p:spPr>
            <a:xfrm>
              <a:off x="4163400" y="5291640"/>
              <a:ext cx="33696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0"/>
            <p:cNvSpPr/>
            <p:nvPr/>
          </p:nvSpPr>
          <p:spPr>
            <a:xfrm>
              <a:off x="2814120" y="3816360"/>
              <a:ext cx="1349280" cy="1311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1"/>
            <p:cNvSpPr/>
            <p:nvPr/>
          </p:nvSpPr>
          <p:spPr>
            <a:xfrm>
              <a:off x="4500720" y="2996640"/>
              <a:ext cx="1349280" cy="956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12"/>
            <p:cNvSpPr/>
            <p:nvPr/>
          </p:nvSpPr>
          <p:spPr>
            <a:xfrm>
              <a:off x="2814120" y="5455440"/>
              <a:ext cx="13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65" name="Object 13"/>
            <p:cNvGraphicFramePr/>
            <p:nvPr/>
          </p:nvGraphicFramePr>
          <p:xfrm>
            <a:off x="284040" y="2133720"/>
            <a:ext cx="2577600" cy="1031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66" name="Object 1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84040" y="2133720"/>
                      <a:ext cx="2577600" cy="103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7" name="Rectangle 14"/>
            <p:cNvSpPr/>
            <p:nvPr/>
          </p:nvSpPr>
          <p:spPr>
            <a:xfrm>
              <a:off x="4163400" y="2461320"/>
              <a:ext cx="33696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5"/>
            <p:cNvSpPr/>
            <p:nvPr/>
          </p:nvSpPr>
          <p:spPr>
            <a:xfrm>
              <a:off x="4500720" y="5411880"/>
              <a:ext cx="13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16"/>
            <p:cNvSpPr/>
            <p:nvPr/>
          </p:nvSpPr>
          <p:spPr>
            <a:xfrm>
              <a:off x="2814120" y="2625120"/>
              <a:ext cx="13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7"/>
            <p:cNvSpPr/>
            <p:nvPr/>
          </p:nvSpPr>
          <p:spPr>
            <a:xfrm>
              <a:off x="4500720" y="2625120"/>
              <a:ext cx="10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18"/>
            <p:cNvSpPr/>
            <p:nvPr/>
          </p:nvSpPr>
          <p:spPr>
            <a:xfrm>
              <a:off x="790200" y="3040560"/>
              <a:ext cx="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9"/>
            <p:cNvSpPr/>
            <p:nvPr/>
          </p:nvSpPr>
          <p:spPr>
            <a:xfrm>
              <a:off x="2139480" y="3026160"/>
              <a:ext cx="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0"/>
            <p:cNvSpPr/>
            <p:nvPr/>
          </p:nvSpPr>
          <p:spPr>
            <a:xfrm>
              <a:off x="6861960" y="3117240"/>
              <a:ext cx="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1"/>
            <p:cNvSpPr/>
            <p:nvPr/>
          </p:nvSpPr>
          <p:spPr>
            <a:xfrm>
              <a:off x="7997760" y="2760120"/>
              <a:ext cx="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2"/>
            <p:cNvSpPr/>
            <p:nvPr/>
          </p:nvSpPr>
          <p:spPr>
            <a:xfrm>
              <a:off x="958680" y="5830920"/>
              <a:ext cx="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3"/>
            <p:cNvSpPr/>
            <p:nvPr/>
          </p:nvSpPr>
          <p:spPr>
            <a:xfrm>
              <a:off x="6693480" y="5903640"/>
              <a:ext cx="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24"/>
            <p:cNvSpPr/>
            <p:nvPr/>
          </p:nvSpPr>
          <p:spPr>
            <a:xfrm>
              <a:off x="8211240" y="5634000"/>
              <a:ext cx="0" cy="49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25"/>
            <p:cNvSpPr/>
            <p:nvPr/>
          </p:nvSpPr>
          <p:spPr>
            <a:xfrm>
              <a:off x="531360" y="3353760"/>
              <a:ext cx="50580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26"/>
            <p:cNvSpPr/>
            <p:nvPr/>
          </p:nvSpPr>
          <p:spPr>
            <a:xfrm>
              <a:off x="1880640" y="3357360"/>
              <a:ext cx="50580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7"/>
            <p:cNvSpPr/>
            <p:nvPr/>
          </p:nvSpPr>
          <p:spPr>
            <a:xfrm>
              <a:off x="7948800" y="6125760"/>
              <a:ext cx="50580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28"/>
            <p:cNvSpPr/>
            <p:nvPr/>
          </p:nvSpPr>
          <p:spPr>
            <a:xfrm>
              <a:off x="7738920" y="3087720"/>
              <a:ext cx="50616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29"/>
            <p:cNvSpPr/>
            <p:nvPr/>
          </p:nvSpPr>
          <p:spPr>
            <a:xfrm>
              <a:off x="6434640" y="6231600"/>
              <a:ext cx="50580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0"/>
            <p:cNvSpPr/>
            <p:nvPr/>
          </p:nvSpPr>
          <p:spPr>
            <a:xfrm>
              <a:off x="6603480" y="3444840"/>
              <a:ext cx="50580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1"/>
            <p:cNvSpPr/>
            <p:nvPr/>
          </p:nvSpPr>
          <p:spPr>
            <a:xfrm>
              <a:off x="696240" y="6158520"/>
              <a:ext cx="50580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32"/>
            <p:cNvSpPr/>
            <p:nvPr/>
          </p:nvSpPr>
          <p:spPr>
            <a:xfrm>
              <a:off x="6356160" y="5247720"/>
              <a:ext cx="185508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prefix 192.5.48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33"/>
            <p:cNvSpPr/>
            <p:nvPr/>
          </p:nvSpPr>
          <p:spPr>
            <a:xfrm>
              <a:off x="790200" y="5247720"/>
              <a:ext cx="168624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prefix 10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34"/>
            <p:cNvSpPr/>
            <p:nvPr/>
          </p:nvSpPr>
          <p:spPr>
            <a:xfrm>
              <a:off x="6187320" y="2461320"/>
              <a:ext cx="168624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prefix 128.211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35"/>
            <p:cNvSpPr/>
            <p:nvPr/>
          </p:nvSpPr>
          <p:spPr>
            <a:xfrm>
              <a:off x="790200" y="2461320"/>
              <a:ext cx="168624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prefix 128.10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36"/>
            <p:cNvSpPr/>
            <p:nvPr/>
          </p:nvSpPr>
          <p:spPr>
            <a:xfrm flipH="1" flipV="1">
              <a:off x="4500720" y="4100400"/>
              <a:ext cx="84312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37"/>
            <p:cNvSpPr/>
            <p:nvPr/>
          </p:nvSpPr>
          <p:spPr>
            <a:xfrm flipH="1">
              <a:off x="4332240" y="4592160"/>
              <a:ext cx="101160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38"/>
            <p:cNvSpPr/>
            <p:nvPr/>
          </p:nvSpPr>
          <p:spPr>
            <a:xfrm flipH="1" flipV="1">
              <a:off x="4500720" y="2953080"/>
              <a:ext cx="843120" cy="13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39"/>
            <p:cNvSpPr/>
            <p:nvPr/>
          </p:nvSpPr>
          <p:spPr>
            <a:xfrm>
              <a:off x="5343840" y="4264560"/>
              <a:ext cx="134928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40"/>
            <p:cNvSpPr/>
            <p:nvPr/>
          </p:nvSpPr>
          <p:spPr>
            <a:xfrm>
              <a:off x="666360" y="612576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41"/>
            <p:cNvSpPr/>
            <p:nvPr/>
          </p:nvSpPr>
          <p:spPr>
            <a:xfrm>
              <a:off x="7948800" y="611460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42"/>
            <p:cNvSpPr/>
            <p:nvPr/>
          </p:nvSpPr>
          <p:spPr>
            <a:xfrm>
              <a:off x="6400800" y="618408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43"/>
            <p:cNvSpPr/>
            <p:nvPr/>
          </p:nvSpPr>
          <p:spPr>
            <a:xfrm>
              <a:off x="7720200" y="306972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4"/>
            <p:cNvSpPr/>
            <p:nvPr/>
          </p:nvSpPr>
          <p:spPr>
            <a:xfrm>
              <a:off x="6588360" y="343044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45"/>
            <p:cNvSpPr/>
            <p:nvPr/>
          </p:nvSpPr>
          <p:spPr>
            <a:xfrm>
              <a:off x="1846800" y="333936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46"/>
            <p:cNvSpPr/>
            <p:nvPr/>
          </p:nvSpPr>
          <p:spPr>
            <a:xfrm>
              <a:off x="501480" y="332856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47"/>
            <p:cNvSpPr/>
            <p:nvPr/>
          </p:nvSpPr>
          <p:spPr>
            <a:xfrm>
              <a:off x="7615440" y="6395400"/>
              <a:ext cx="13492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92.5.48.8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48"/>
            <p:cNvSpPr/>
            <p:nvPr/>
          </p:nvSpPr>
          <p:spPr>
            <a:xfrm>
              <a:off x="6097320" y="6530040"/>
              <a:ext cx="13492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92.5.48.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49"/>
            <p:cNvSpPr/>
            <p:nvPr/>
          </p:nvSpPr>
          <p:spPr>
            <a:xfrm>
              <a:off x="7398000" y="3353760"/>
              <a:ext cx="14878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28.211.28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0"/>
            <p:cNvSpPr/>
            <p:nvPr/>
          </p:nvSpPr>
          <p:spPr>
            <a:xfrm>
              <a:off x="6018840" y="3743280"/>
              <a:ext cx="16264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28.211.6.1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51"/>
            <p:cNvSpPr/>
            <p:nvPr/>
          </p:nvSpPr>
          <p:spPr>
            <a:xfrm>
              <a:off x="437760" y="6442560"/>
              <a:ext cx="13492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0.0.0.3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52"/>
            <p:cNvSpPr/>
            <p:nvPr/>
          </p:nvSpPr>
          <p:spPr>
            <a:xfrm>
              <a:off x="1554480" y="3637800"/>
              <a:ext cx="13492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28.10.0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53"/>
            <p:cNvSpPr/>
            <p:nvPr/>
          </p:nvSpPr>
          <p:spPr>
            <a:xfrm>
              <a:off x="179280" y="3623400"/>
              <a:ext cx="13492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28.10.0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99ED-C7E2-4A13-83A8-95E43555FFF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zel IP Adres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ahoma"/>
              </a:rPr>
              <a:t>Bazı IP adresleri özel anlamlar taşırlar ve hostlara IP adresi olarak verilemezler. Bu IP adreslerinin tablosu bir sonraki slaytta verilmiştir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977A-147B-463E-AAD6-A59DD9553EE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000000"/>
                </a:solidFill>
                <a:latin typeface="Times New Roman"/>
              </a:rPr>
              <a:t>Tarihçe (Devam)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35344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75 yılında başarılı bir biçimde ARPANET işlevsel bir ağ konumunu aldı, birçok organizasyon bu ağa katıldı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83, Internetworking Working Group(INWG) TCP/IP’ye temel halini verdi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TCP/IP UNIX işletim sistemine eklendi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84, DNS (Domain Name System) tanıtıldı.  Tamamlanması 4 sene sürdü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85, NSFNET süper bilgisayarlar arası TCP/IP tabanlı ağın oluşturulup çalıştırılması için kuruldu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90, ARPANET kaldırıldı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Internet’i başlangıçta yoğun olarak akademik dünya kullanmakla beraber, artık Internet bilgi  çağı toplumlarının her kesimi için vazgeçilmez bir araç olmuştu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9" dur="1" fill="hold"/>
                                  <p:tgtEl>
                                    <p:spTgt spid="1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B4B2-21E9-4502-808A-92BA23BC007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zel IP Adres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250920" y="2048040"/>
          <a:ext cx="8704080" cy="429408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2016000"/>
                <a:gridCol w="3230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f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ff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resin Tür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 Amaçla Kullanıldığ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ütün bitler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ütün bitler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 bilgisayar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namik IP alan bilgisayarların açılışında DHCP ve bootsrap’te kullanılı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ğ adr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ütün bitler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ğ adr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r ağın adesini belirti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ğ adr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ütün bitler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önlendirilmiş Broadcast adr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İs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ilen a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ğ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broadcast mesaj gönderilmesini sa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ğ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ütün bitler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ütün bitler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ınırlandırılmış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Broadcast adr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rel bir ağda broadcast mesaj gönderilmesini sağla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rhangi bir değ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op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 amaçlı kullanım içi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658D-7283-47C7-A372-BD3D885646C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zel IP Adres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127 ile başlayan adresler : Bir makinenin kendisi ile konuşması (loopback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Localhost: 127.0.0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İlk oktet 0 veya 255 olamaz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BD25-7A30-425F-8F68-AEE0AC4E2F3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ğ ve Broadcast Numaralar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353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C sınıfı 192.23.123.2 adres içi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ğ numarası: 192.23.12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ağdaki tüm PC’lere mesaj göndermek isteyen bir cihaz şu adrese mesajı atacaktı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192.23.123.2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 sınıfı 142.50.120.2 adres içi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ğ numarası: 142.50.0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ağdaki tüm PC’lere mesaj göndermek isteyen bir cihaz şu adrese mesajı atacaktı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142.50.255.2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A7B6-DB8F-4205-97B7-7B05A487546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yrılmış IP Adresl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8631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Bazı IP adresleri bazı kullanımlar için ayrılmıştır. Yerel ağlar için ayrılmış adresler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10.0.0.0 - 10.255.255.255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172.16.0.0 - 172.31.255.255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192.168.0.0 - 192.168.255.255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169.254.0.0 - 169.254.255.25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0 </a:t>
            </a:r>
            <a:r>
              <a:rPr b="0" lang="tr-T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bir ağı göstermekted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255 </a:t>
            </a:r>
            <a:r>
              <a:rPr b="0" lang="tr-T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broadcast adres; bir ağ içerisindeki tüm PC’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41F0-A5E7-412D-853E-07B78C55DDE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lıştırm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131.107.20.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208.234.23.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108.15.45.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Yukarıdaki adresler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P sınıfın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lt ağ maske numarasın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ağlı olduğu ağ numarasını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roadcast adreslerini yazınız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0" dur="1" fill="hold"/>
                                  <p:tgtEl>
                                    <p:spTgt spid="42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B1BA-D186-4E5C-AB93-9845138A566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000000"/>
                </a:solidFill>
                <a:latin typeface="Times New Roman"/>
              </a:rPr>
              <a:t>TCP/IP’nin Özellikleri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49636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Açık protokol standartları. Standartlar kolaylıkla elde edilebilir ve herhangi bir işletim sistemi  ya da bilgisayar donanımından bağımsız geliştirilebilir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Fiziksel ağ donanımından bağımsızlık. Bu özellik TCP/IP’ ye birçok değişik ağ ile entegrasyon olanağı sağ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Times New Roman"/>
              </a:rPr>
              <a:t>Ethernet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Times New Roman"/>
              </a:rPr>
              <a:t>Token ring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Times New Roman"/>
              </a:rPr>
              <a:t>X25 ağı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Times New Roman"/>
              </a:rPr>
              <a:t>FDDI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7" dur="1" fill="hold"/>
                                  <p:tgtEl>
                                    <p:spTgt spid="1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48" dur="1" fill="hold"/>
                                  <p:tgtEl>
                                    <p:spTgt spid="1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49" dur="1" fill="hold"/>
                                  <p:tgtEl>
                                    <p:spTgt spid="1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50" dur="1" fill="hold"/>
                                  <p:tgtEl>
                                    <p:spTgt spid="11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51" dur="1" fill="hold"/>
                                  <p:tgtEl>
                                    <p:spTgt spid="11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52" dur="1" fill="hold"/>
                                  <p:tgtEl>
                                    <p:spTgt spid="11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8492-92F2-440F-84D5-40EA38C0CA8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Times New Roman"/>
              </a:rPr>
              <a:t>TCP/IP’nin Özellikleri (Devam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84978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Ortak bir adresleme yapısı. Bu sayede herhangi bir TCP/IP aygıtı dünya çapında tek olarak adreslenir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Tutarlı ve geniş çaplı kullanıcı servisleri için standardize edilmiş üst katman protokoller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TCP/IP protokol ailesindeki tüm protokoller şu üç Internet standardı yayınlarından birinden temin edile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Military Standards (MIL STD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Internet Engineering Notes (IEN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Request For Comment (RFC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9" dur="1" fill="hold"/>
                                  <p:tgtEl>
                                    <p:spTgt spid="1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90" dur="1" fill="hold"/>
                                  <p:tgtEl>
                                    <p:spTgt spid="1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91" dur="1" fill="hold"/>
                                  <p:tgtEl>
                                    <p:spTgt spid="12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92" dur="1" fill="hold"/>
                                  <p:tgtEl>
                                    <p:spTgt spid="12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9EC9-8D37-495F-BE4E-E8649D82A15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"/>
          <p:cNvGrpSpPr/>
          <p:nvPr/>
        </p:nvGrpSpPr>
        <p:grpSpPr>
          <a:xfrm>
            <a:off x="0" y="2349360"/>
            <a:ext cx="9109080" cy="4942080"/>
            <a:chOff x="0" y="2349360"/>
            <a:chExt cx="9109080" cy="4942080"/>
          </a:xfrm>
        </p:grpSpPr>
        <p:sp>
          <p:nvSpPr>
            <p:cNvPr id="124" name="Rectangle 3"/>
            <p:cNvSpPr/>
            <p:nvPr/>
          </p:nvSpPr>
          <p:spPr>
            <a:xfrm>
              <a:off x="0" y="2349360"/>
              <a:ext cx="9109080" cy="49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"/>
            <p:cNvSpPr/>
            <p:nvPr/>
          </p:nvSpPr>
          <p:spPr>
            <a:xfrm>
              <a:off x="998640" y="4004640"/>
              <a:ext cx="1701720" cy="324000"/>
            </a:xfrm>
            <a:prstGeom prst="rect">
              <a:avLst/>
            </a:prstGeom>
            <a:solidFill>
              <a:srgbClr val="00e4a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5"/>
            <p:cNvSpPr/>
            <p:nvPr/>
          </p:nvSpPr>
          <p:spPr>
            <a:xfrm>
              <a:off x="1116000" y="4003200"/>
              <a:ext cx="139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Uygula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6"/>
            <p:cNvSpPr/>
            <p:nvPr/>
          </p:nvSpPr>
          <p:spPr>
            <a:xfrm>
              <a:off x="996840" y="4311360"/>
              <a:ext cx="1703520" cy="324000"/>
            </a:xfrm>
            <a:prstGeom prst="rect">
              <a:avLst/>
            </a:prstGeom>
            <a:solidFill>
              <a:srgbClr val="00e4a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7"/>
            <p:cNvSpPr/>
            <p:nvPr/>
          </p:nvSpPr>
          <p:spPr>
            <a:xfrm>
              <a:off x="1187280" y="4311360"/>
              <a:ext cx="14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Sunu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8"/>
            <p:cNvSpPr/>
            <p:nvPr/>
          </p:nvSpPr>
          <p:spPr>
            <a:xfrm>
              <a:off x="990720" y="4631760"/>
              <a:ext cx="1703160" cy="324000"/>
            </a:xfrm>
            <a:prstGeom prst="rect">
              <a:avLst/>
            </a:prstGeom>
            <a:solidFill>
              <a:srgbClr val="00e4a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9"/>
            <p:cNvSpPr/>
            <p:nvPr/>
          </p:nvSpPr>
          <p:spPr>
            <a:xfrm>
              <a:off x="1187280" y="4618440"/>
              <a:ext cx="109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Oturu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0"/>
            <p:cNvSpPr/>
            <p:nvPr/>
          </p:nvSpPr>
          <p:spPr>
            <a:xfrm>
              <a:off x="990720" y="4956120"/>
              <a:ext cx="1703160" cy="324000"/>
            </a:xfrm>
            <a:prstGeom prst="rect">
              <a:avLst/>
            </a:prstGeom>
            <a:solidFill>
              <a:srgbClr val="00e4a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1"/>
            <p:cNvSpPr/>
            <p:nvPr/>
          </p:nvSpPr>
          <p:spPr>
            <a:xfrm>
              <a:off x="1172520" y="494100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Taşı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2"/>
            <p:cNvSpPr/>
            <p:nvPr/>
          </p:nvSpPr>
          <p:spPr>
            <a:xfrm>
              <a:off x="990720" y="5280120"/>
              <a:ext cx="1703160" cy="32436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3"/>
            <p:cNvSpPr/>
            <p:nvPr/>
          </p:nvSpPr>
          <p:spPr>
            <a:xfrm>
              <a:off x="1528560" y="526572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A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4"/>
            <p:cNvSpPr/>
            <p:nvPr/>
          </p:nvSpPr>
          <p:spPr>
            <a:xfrm>
              <a:off x="990720" y="5604840"/>
              <a:ext cx="1703160" cy="32400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5"/>
            <p:cNvSpPr/>
            <p:nvPr/>
          </p:nvSpPr>
          <p:spPr>
            <a:xfrm>
              <a:off x="1090440" y="5591160"/>
              <a:ext cx="139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Veri İleti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6"/>
            <p:cNvSpPr/>
            <p:nvPr/>
          </p:nvSpPr>
          <p:spPr>
            <a:xfrm>
              <a:off x="990720" y="5929200"/>
              <a:ext cx="1703160" cy="32400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1144440" y="5916960"/>
              <a:ext cx="109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Fiziks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8"/>
            <p:cNvSpPr/>
            <p:nvPr/>
          </p:nvSpPr>
          <p:spPr>
            <a:xfrm>
              <a:off x="3657600" y="5280120"/>
              <a:ext cx="1703520" cy="32436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9"/>
            <p:cNvSpPr/>
            <p:nvPr/>
          </p:nvSpPr>
          <p:spPr>
            <a:xfrm>
              <a:off x="4120920" y="526572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A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0"/>
            <p:cNvSpPr/>
            <p:nvPr/>
          </p:nvSpPr>
          <p:spPr>
            <a:xfrm>
              <a:off x="3657600" y="5604840"/>
              <a:ext cx="1703520" cy="64836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21"/>
            <p:cNvSpPr/>
            <p:nvPr/>
          </p:nvSpPr>
          <p:spPr>
            <a:xfrm>
              <a:off x="3976560" y="5753520"/>
              <a:ext cx="109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Fiziks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2"/>
            <p:cNvSpPr/>
            <p:nvPr/>
          </p:nvSpPr>
          <p:spPr>
            <a:xfrm>
              <a:off x="3657600" y="4956120"/>
              <a:ext cx="1703520" cy="324000"/>
            </a:xfrm>
            <a:prstGeom prst="rect">
              <a:avLst/>
            </a:prstGeom>
            <a:solidFill>
              <a:srgbClr val="00e4a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23"/>
            <p:cNvSpPr/>
            <p:nvPr/>
          </p:nvSpPr>
          <p:spPr>
            <a:xfrm>
              <a:off x="3839400" y="494100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Taşı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4"/>
            <p:cNvSpPr/>
            <p:nvPr/>
          </p:nvSpPr>
          <p:spPr>
            <a:xfrm>
              <a:off x="3657600" y="3983040"/>
              <a:ext cx="1703520" cy="1002600"/>
            </a:xfrm>
            <a:prstGeom prst="rect">
              <a:avLst/>
            </a:prstGeom>
            <a:solidFill>
              <a:srgbClr val="00e4a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25"/>
            <p:cNvSpPr/>
            <p:nvPr/>
          </p:nvSpPr>
          <p:spPr>
            <a:xfrm>
              <a:off x="3750480" y="4247640"/>
              <a:ext cx="1396800" cy="3988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Uygula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6"/>
            <p:cNvSpPr/>
            <p:nvPr/>
          </p:nvSpPr>
          <p:spPr>
            <a:xfrm>
              <a:off x="6095880" y="5150520"/>
              <a:ext cx="2667240" cy="45396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7"/>
            <p:cNvSpPr/>
            <p:nvPr/>
          </p:nvSpPr>
          <p:spPr>
            <a:xfrm>
              <a:off x="7162920" y="5215680"/>
              <a:ext cx="685800" cy="32400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8"/>
            <p:cNvSpPr/>
            <p:nvPr/>
          </p:nvSpPr>
          <p:spPr>
            <a:xfrm>
              <a:off x="6095880" y="5604840"/>
              <a:ext cx="2667240" cy="64836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29"/>
            <p:cNvSpPr/>
            <p:nvPr/>
          </p:nvSpPr>
          <p:spPr>
            <a:xfrm>
              <a:off x="6910560" y="5721120"/>
              <a:ext cx="685800" cy="32400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0"/>
            <p:cNvSpPr/>
            <p:nvPr/>
          </p:nvSpPr>
          <p:spPr>
            <a:xfrm>
              <a:off x="7740720" y="5669640"/>
              <a:ext cx="936720" cy="51912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SLIP v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1"/>
            <p:cNvSpPr/>
            <p:nvPr/>
          </p:nvSpPr>
          <p:spPr>
            <a:xfrm>
              <a:off x="6095880" y="4696560"/>
              <a:ext cx="2667240" cy="453960"/>
            </a:xfrm>
            <a:prstGeom prst="rect">
              <a:avLst/>
            </a:prstGeom>
            <a:solidFill>
              <a:srgbClr val="3333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32"/>
            <p:cNvSpPr/>
            <p:nvPr/>
          </p:nvSpPr>
          <p:spPr>
            <a:xfrm>
              <a:off x="6400800" y="4761360"/>
              <a:ext cx="685800" cy="32400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33"/>
            <p:cNvSpPr/>
            <p:nvPr/>
          </p:nvSpPr>
          <p:spPr>
            <a:xfrm>
              <a:off x="7772400" y="4761360"/>
              <a:ext cx="685800" cy="32400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D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34"/>
            <p:cNvSpPr/>
            <p:nvPr/>
          </p:nvSpPr>
          <p:spPr>
            <a:xfrm>
              <a:off x="6095880" y="3917880"/>
              <a:ext cx="2667240" cy="453960"/>
            </a:xfrm>
            <a:prstGeom prst="rect">
              <a:avLst/>
            </a:prstGeom>
            <a:solidFill>
              <a:srgbClr val="3333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35"/>
            <p:cNvSpPr/>
            <p:nvPr/>
          </p:nvSpPr>
          <p:spPr>
            <a:xfrm>
              <a:off x="6172200" y="3983040"/>
              <a:ext cx="838080" cy="32400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ln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36"/>
            <p:cNvSpPr/>
            <p:nvPr/>
          </p:nvSpPr>
          <p:spPr>
            <a:xfrm>
              <a:off x="7162920" y="3983040"/>
              <a:ext cx="685800" cy="32400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7"/>
            <p:cNvSpPr/>
            <p:nvPr/>
          </p:nvSpPr>
          <p:spPr>
            <a:xfrm>
              <a:off x="7924680" y="3983040"/>
              <a:ext cx="685800" cy="32400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38"/>
            <p:cNvSpPr/>
            <p:nvPr/>
          </p:nvSpPr>
          <p:spPr>
            <a:xfrm flipV="1">
              <a:off x="5334120" y="3917880"/>
              <a:ext cx="761760" cy="6480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9"/>
            <p:cNvSpPr/>
            <p:nvPr/>
          </p:nvSpPr>
          <p:spPr>
            <a:xfrm>
              <a:off x="5372280" y="4372200"/>
              <a:ext cx="723600" cy="594360"/>
            </a:xfrm>
            <a:prstGeom prst="pie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40"/>
            <p:cNvSpPr/>
            <p:nvPr/>
          </p:nvSpPr>
          <p:spPr>
            <a:xfrm flipV="1">
              <a:off x="5334120" y="4696200"/>
              <a:ext cx="761760" cy="25956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41"/>
            <p:cNvSpPr/>
            <p:nvPr/>
          </p:nvSpPr>
          <p:spPr>
            <a:xfrm flipV="1">
              <a:off x="5334120" y="5150520"/>
              <a:ext cx="761760" cy="12960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42"/>
            <p:cNvSpPr/>
            <p:nvPr/>
          </p:nvSpPr>
          <p:spPr>
            <a:xfrm>
              <a:off x="5334120" y="5604840"/>
              <a:ext cx="76176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43"/>
            <p:cNvSpPr/>
            <p:nvPr/>
          </p:nvSpPr>
          <p:spPr>
            <a:xfrm>
              <a:off x="5334120" y="6253200"/>
              <a:ext cx="76176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4"/>
            <p:cNvSpPr/>
            <p:nvPr/>
          </p:nvSpPr>
          <p:spPr>
            <a:xfrm>
              <a:off x="1368000" y="638316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S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45"/>
            <p:cNvSpPr/>
            <p:nvPr/>
          </p:nvSpPr>
          <p:spPr>
            <a:xfrm>
              <a:off x="3916440" y="6383160"/>
              <a:ext cx="999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/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46"/>
            <p:cNvSpPr/>
            <p:nvPr/>
          </p:nvSpPr>
          <p:spPr>
            <a:xfrm>
              <a:off x="2700360" y="5598000"/>
              <a:ext cx="93492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47"/>
            <p:cNvSpPr/>
            <p:nvPr/>
          </p:nvSpPr>
          <p:spPr>
            <a:xfrm>
              <a:off x="2700360" y="6246720"/>
              <a:ext cx="93492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48"/>
            <p:cNvSpPr/>
            <p:nvPr/>
          </p:nvSpPr>
          <p:spPr>
            <a:xfrm>
              <a:off x="2700360" y="5291280"/>
              <a:ext cx="93492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9"/>
            <p:cNvSpPr/>
            <p:nvPr/>
          </p:nvSpPr>
          <p:spPr>
            <a:xfrm>
              <a:off x="2700360" y="4985640"/>
              <a:ext cx="93492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50"/>
            <p:cNvSpPr/>
            <p:nvPr/>
          </p:nvSpPr>
          <p:spPr>
            <a:xfrm>
              <a:off x="2700360" y="4004640"/>
              <a:ext cx="93492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1"/>
            <p:cNvSpPr/>
            <p:nvPr/>
          </p:nvSpPr>
          <p:spPr>
            <a:xfrm>
              <a:off x="6300720" y="5230440"/>
              <a:ext cx="685800" cy="32436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ICM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52"/>
            <p:cNvSpPr/>
            <p:nvPr/>
          </p:nvSpPr>
          <p:spPr>
            <a:xfrm>
              <a:off x="7956720" y="5230440"/>
              <a:ext cx="685800" cy="32436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AR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53"/>
            <p:cNvSpPr/>
            <p:nvPr/>
          </p:nvSpPr>
          <p:spPr>
            <a:xfrm>
              <a:off x="6156360" y="5721120"/>
              <a:ext cx="685800" cy="32400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SI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le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TCP/IP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 Mukayese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Text Box 55"/>
          <p:cNvSpPr/>
          <p:nvPr/>
        </p:nvSpPr>
        <p:spPr>
          <a:xfrm>
            <a:off x="468360" y="2060640"/>
            <a:ext cx="7489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Uygulama Katmanı (Application La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Taşıma Katmanı (Transport La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ğ Katmanı (Network Layer/Internet Layer/Internetwork La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Fiziksel Katman (Network Access Layer/Link and Physical La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A131-73C9-4E76-866D-9D4BA00D804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1758960" y="2792520"/>
            <a:ext cx="380052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5361120" y="2792520"/>
            <a:ext cx="202392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758960" y="3782880"/>
            <a:ext cx="2654280" cy="630360"/>
          </a:xfrm>
          <a:prstGeom prst="rect">
            <a:avLst/>
          </a:prstGeom>
          <a:solidFill>
            <a:srgbClr val="60c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69840" y="2052720"/>
            <a:ext cx="11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cf01"/>
                </a:solidFill>
                <a:latin typeface="Times New Roman"/>
              </a:rPr>
              <a:t>Uygul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758960" y="5492880"/>
            <a:ext cx="5626080" cy="6728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2514600" y="5711760"/>
            <a:ext cx="4127760" cy="36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Ethernet, X.25, Token-Ring, Dial-up, v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1758960" y="4654440"/>
            <a:ext cx="5626080" cy="6732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2969640" y="4951440"/>
            <a:ext cx="2874960" cy="36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IEEE 802.2 / LAPB/ HD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2711520" y="3898800"/>
            <a:ext cx="772920" cy="366840"/>
          </a:xfrm>
          <a:prstGeom prst="rect">
            <a:avLst/>
          </a:prstGeom>
          <a:solidFill>
            <a:srgbClr val="6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4349880" y="3782880"/>
            <a:ext cx="3035160" cy="630360"/>
          </a:xfrm>
          <a:prstGeom prst="rect">
            <a:avLst/>
          </a:prstGeom>
          <a:solidFill>
            <a:srgbClr val="60c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4414680" y="3886200"/>
            <a:ext cx="2062440" cy="366840"/>
          </a:xfrm>
          <a:prstGeom prst="rect">
            <a:avLst/>
          </a:prstGeom>
          <a:solidFill>
            <a:srgbClr val="6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IC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2536920" y="2890800"/>
            <a:ext cx="151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4"/>
          <p:cNvSpPr/>
          <p:nvPr/>
        </p:nvSpPr>
        <p:spPr>
          <a:xfrm>
            <a:off x="5642640" y="2890800"/>
            <a:ext cx="100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5"/>
          <p:cNvSpPr/>
          <p:nvPr/>
        </p:nvSpPr>
        <p:spPr>
          <a:xfrm>
            <a:off x="1758960" y="1928880"/>
            <a:ext cx="5626080" cy="5792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181080" y="2924280"/>
            <a:ext cx="115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urkish Times New Roman"/>
              </a:rPr>
              <a:t>Ulaşı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7"/>
          <p:cNvSpPr/>
          <p:nvPr/>
        </p:nvSpPr>
        <p:spPr>
          <a:xfrm>
            <a:off x="69480" y="3944880"/>
            <a:ext cx="146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60c900"/>
                </a:solidFill>
                <a:latin typeface="Times New Roman"/>
              </a:rPr>
              <a:t>Yönlendi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>
            <a:off x="179640" y="5275440"/>
            <a:ext cx="93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c0128"/>
                </a:solidFill>
                <a:latin typeface="Times New Roman"/>
              </a:rPr>
              <a:t>Fizik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9"/>
          <p:cNvSpPr/>
          <p:nvPr/>
        </p:nvSpPr>
        <p:spPr>
          <a:xfrm>
            <a:off x="5410080" y="2057400"/>
            <a:ext cx="1219320" cy="366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0"/>
          <p:cNvSpPr/>
          <p:nvPr/>
        </p:nvSpPr>
        <p:spPr>
          <a:xfrm>
            <a:off x="4363920" y="2060640"/>
            <a:ext cx="1111680" cy="366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TEL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1"/>
          <p:cNvSpPr/>
          <p:nvPr/>
        </p:nvSpPr>
        <p:spPr>
          <a:xfrm>
            <a:off x="1766880" y="2052720"/>
            <a:ext cx="1111680" cy="366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RLO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2"/>
          <p:cNvSpPr/>
          <p:nvPr/>
        </p:nvSpPr>
        <p:spPr>
          <a:xfrm>
            <a:off x="3592080" y="2058840"/>
            <a:ext cx="820440" cy="366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3"/>
          <p:cNvSpPr/>
          <p:nvPr/>
        </p:nvSpPr>
        <p:spPr>
          <a:xfrm>
            <a:off x="6477120" y="2057400"/>
            <a:ext cx="838080" cy="366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T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4"/>
          <p:cNvSpPr/>
          <p:nvPr/>
        </p:nvSpPr>
        <p:spPr>
          <a:xfrm>
            <a:off x="2901960" y="1928880"/>
            <a:ext cx="749160" cy="5792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5"/>
          <p:cNvSpPr/>
          <p:nvPr/>
        </p:nvSpPr>
        <p:spPr>
          <a:xfrm>
            <a:off x="2902320" y="2022480"/>
            <a:ext cx="675720" cy="366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6"/>
          <p:cNvSpPr/>
          <p:nvPr/>
        </p:nvSpPr>
        <p:spPr>
          <a:xfrm>
            <a:off x="4343400" y="1905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7"/>
          <p:cNvSpPr/>
          <p:nvPr/>
        </p:nvSpPr>
        <p:spPr>
          <a:xfrm>
            <a:off x="5486400" y="1905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8"/>
          <p:cNvSpPr/>
          <p:nvPr/>
        </p:nvSpPr>
        <p:spPr>
          <a:xfrm>
            <a:off x="6553080" y="1905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722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TCP/IP Protokol Katmanları</a:t>
            </a:r>
            <a:r>
              <a:rPr b="0" lang="tr-TR" sz="3200" spc="-1" strike="noStrike">
                <a:solidFill>
                  <a:srgbClr val="000000"/>
                </a:solidFill>
                <a:latin typeface="Turkish Times New Roman"/>
              </a:rPr>
              <a:t> (Devam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A96E-4306-41F3-99A7-E3243D28121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TCP/IP Veri Aktarımı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8" name="Picture 3" descr="MCj03252340000[1]"/>
          <p:cNvPicPr/>
          <p:nvPr/>
        </p:nvPicPr>
        <p:blipFill>
          <a:blip r:embed="rId1"/>
          <a:stretch/>
        </p:blipFill>
        <p:spPr>
          <a:xfrm>
            <a:off x="250920" y="2198520"/>
            <a:ext cx="1081080" cy="8971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MCj02816080000[1]"/>
          <p:cNvPicPr/>
          <p:nvPr/>
        </p:nvPicPr>
        <p:blipFill>
          <a:blip r:embed="rId2"/>
          <a:stretch/>
        </p:blipFill>
        <p:spPr>
          <a:xfrm>
            <a:off x="7956720" y="2054160"/>
            <a:ext cx="718920" cy="7113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179280" y="19098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ermina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7020000" y="17654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ermina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1476360" y="23414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İşlem Gönderi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6516720" y="22701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İşlem Alım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4140360" y="2341440"/>
            <a:ext cx="8632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0"/>
          <p:cNvGrpSpPr/>
          <p:nvPr/>
        </p:nvGrpSpPr>
        <p:grpSpPr>
          <a:xfrm>
            <a:off x="-59760" y="3346560"/>
            <a:ext cx="2112480" cy="1920960"/>
            <a:chOff x="-59760" y="3346560"/>
            <a:chExt cx="2112480" cy="1920960"/>
          </a:xfrm>
        </p:grpSpPr>
        <p:sp>
          <p:nvSpPr>
            <p:cNvPr id="216" name="Text Box 11"/>
            <p:cNvSpPr/>
            <p:nvPr/>
          </p:nvSpPr>
          <p:spPr>
            <a:xfrm>
              <a:off x="206280" y="3346560"/>
              <a:ext cx="1846440" cy="39888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2"/>
            <p:cNvSpPr/>
            <p:nvPr/>
          </p:nvSpPr>
          <p:spPr>
            <a:xfrm>
              <a:off x="179280" y="3860640"/>
              <a:ext cx="1846440" cy="39888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3"/>
            <p:cNvSpPr/>
            <p:nvPr/>
          </p:nvSpPr>
          <p:spPr>
            <a:xfrm>
              <a:off x="179280" y="4381560"/>
              <a:ext cx="1846440" cy="39888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4"/>
            <p:cNvSpPr/>
            <p:nvPr/>
          </p:nvSpPr>
          <p:spPr>
            <a:xfrm>
              <a:off x="179280" y="4868640"/>
              <a:ext cx="1846440" cy="39888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5"/>
            <p:cNvSpPr/>
            <p:nvPr/>
          </p:nvSpPr>
          <p:spPr>
            <a:xfrm>
              <a:off x="-59760" y="4862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6"/>
            <p:cNvSpPr/>
            <p:nvPr/>
          </p:nvSpPr>
          <p:spPr>
            <a:xfrm>
              <a:off x="-59760" y="4357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7"/>
            <p:cNvSpPr/>
            <p:nvPr/>
          </p:nvSpPr>
          <p:spPr>
            <a:xfrm>
              <a:off x="-59760" y="3854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-59760" y="3357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19"/>
          <p:cNvSpPr/>
          <p:nvPr/>
        </p:nvSpPr>
        <p:spPr>
          <a:xfrm>
            <a:off x="2340000" y="55818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011100111101111001111001110111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1042920" y="5365800"/>
            <a:ext cx="0" cy="57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1042920" y="5942160"/>
            <a:ext cx="691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7956720" y="5365800"/>
            <a:ext cx="0" cy="57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3"/>
          <p:cNvSpPr/>
          <p:nvPr/>
        </p:nvSpPr>
        <p:spPr>
          <a:xfrm>
            <a:off x="2771640" y="60865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Fiziksel veri aktarımı; Kablolar vb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24"/>
          <p:cNvGrpSpPr/>
          <p:nvPr/>
        </p:nvGrpSpPr>
        <p:grpSpPr>
          <a:xfrm>
            <a:off x="2341440" y="3422520"/>
            <a:ext cx="4535640" cy="2016360"/>
            <a:chOff x="2341440" y="3422520"/>
            <a:chExt cx="4535640" cy="2016360"/>
          </a:xfrm>
        </p:grpSpPr>
        <p:sp>
          <p:nvSpPr>
            <p:cNvPr id="230" name="Text Box 25"/>
            <p:cNvSpPr/>
            <p:nvPr/>
          </p:nvSpPr>
          <p:spPr>
            <a:xfrm>
              <a:off x="2989440" y="3422520"/>
              <a:ext cx="86364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2989440" y="3927600"/>
              <a:ext cx="86364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3853080" y="3927600"/>
              <a:ext cx="100800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TCP 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8"/>
            <p:cNvSpPr/>
            <p:nvPr/>
          </p:nvSpPr>
          <p:spPr>
            <a:xfrm>
              <a:off x="2989440" y="4503600"/>
              <a:ext cx="86364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9"/>
            <p:cNvSpPr/>
            <p:nvPr/>
          </p:nvSpPr>
          <p:spPr>
            <a:xfrm>
              <a:off x="2990880" y="5033880"/>
              <a:ext cx="86364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0"/>
            <p:cNvSpPr/>
            <p:nvPr/>
          </p:nvSpPr>
          <p:spPr>
            <a:xfrm>
              <a:off x="3853080" y="4503600"/>
              <a:ext cx="100800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TCP 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1"/>
            <p:cNvSpPr/>
            <p:nvPr/>
          </p:nvSpPr>
          <p:spPr>
            <a:xfrm>
              <a:off x="4861080" y="4503600"/>
              <a:ext cx="100800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IP 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2"/>
            <p:cNvSpPr/>
            <p:nvPr/>
          </p:nvSpPr>
          <p:spPr>
            <a:xfrm>
              <a:off x="3853080" y="5033880"/>
              <a:ext cx="100800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TCP 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33"/>
            <p:cNvSpPr/>
            <p:nvPr/>
          </p:nvSpPr>
          <p:spPr>
            <a:xfrm>
              <a:off x="4861080" y="5033880"/>
              <a:ext cx="100800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IP 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2341440" y="5033880"/>
              <a:ext cx="64800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CR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5869080" y="5033880"/>
              <a:ext cx="1008000" cy="4050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MAC 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 Box 36"/>
          <p:cNvSpPr/>
          <p:nvPr/>
        </p:nvSpPr>
        <p:spPr>
          <a:xfrm>
            <a:off x="7068960" y="3422520"/>
            <a:ext cx="1846440" cy="3988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Uygul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7042320" y="3936960"/>
            <a:ext cx="1846080" cy="3988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Taşı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7042320" y="4457880"/>
            <a:ext cx="1846080" cy="3988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A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7042320" y="4944960"/>
            <a:ext cx="1846080" cy="3988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Fizik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8870040" y="4933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8870040" y="4429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8870040" y="3925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8870040" y="3429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119640" y="64911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CRC: Hata kontrol k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A4A4-7DF8-4ADC-84A1-D98D6994819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Taşıma Katmanı Protokoller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CP (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</a:rPr>
              <a:t>Transmission Control Protocol-Transfer Kontrol Protokolü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Veri aktarımı yapılacak iki bilgisayar arasındaki bağlantıyı kur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Hata denetimi yapar. Paketler gitmediyse bir daha gönder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UDP (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</a:rPr>
              <a:t>User Datagram Protocol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TCP gibi ağ üzerinden paketi gönderir ama bu protokol paketin gidip gitmediğini takip etmez ve paketin yerine ulaşıp ulaşmayacağını garantilemez. Daha çok küçük paketlerin tüm PC’lere gönderilmesinde kullanıl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04:43:35Z</dcterms:created>
  <dc:creator>Tuna GÖKSU</dc:creator>
  <dc:description/>
  <dc:language>en-US</dc:language>
  <cp:lastModifiedBy>Bilal</cp:lastModifiedBy>
  <dcterms:modified xsi:type="dcterms:W3CDTF">2012-11-27T15:56:56Z</dcterms:modified>
  <cp:revision>21</cp:revision>
  <dc:subject/>
  <dc:title>Slayt 1</dc:title>
</cp:coreProperties>
</file>