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ED4-39B4-49EA-BB2D-2E9C2227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3F7-C21C-4A4F-9B33-C762E576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AE4-3065-4F14-B8D1-AD3B918A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E2A-2852-48ED-8326-CF3A2657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D36-B081-463C-A458-13951BD4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9E85-D2AA-4F52-9E88-D00BE3DB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4C3E-5A6F-4365-8C27-51338639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7E89-C033-47F6-817C-B1343920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8056-01F1-4694-A6CA-281D225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A150-D870-4EB5-A799-CA344156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088A-01D6-4F94-897D-E697B63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963-61E2-4DDE-A6DB-EE289858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BA65-AB86-4421-996E-CDF055E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2D74-110C-4509-BE4C-2314871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73C1-2621-4ABF-A49E-A3311714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8620-B66E-48E8-A149-2E783FAA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A194-4FB4-4DD2-A6E8-CCB04EAB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DC2-C1C2-497E-9E01-CC55F533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DF3-9B96-41CC-91CD-2E7C6A50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1ED-0888-4E58-A267-48607BE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9DD-C2F6-45E0-9D6A-8E468F96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820-573D-443C-B48A-478E839A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C84-975E-4B45-B1AD-FC5E2FB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A78-A66A-433D-AB3A-F628964D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7457-5CDB-4C0A-959F-154D8ED0196D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8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CF8C-84B1-4775-BCE2-5E1CBBE165E3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06633"/>
                </a:solidFill>
                <a:latin typeface="Garamond"/>
              </a:rPr>
              <a:t>Alt Ağla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lt Ağ Maskesi bir IP adresinin hangi bitlerinin ağ adresine ait bitler hangi bitlerinin host adresine ait bitler olduğunun anlaşılması için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lt ağ maskesindeki 1’ler IP adresinin ağ adresi kısmını, 0’lar ise IP adresinin host adresi kısmını göster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rneğin C sınıfı bir IP adresinin varsayılan maskesinde 24 tane bir 8 tane 0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 Tablos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ubnetting_c"/>
          <p:cNvPicPr/>
          <p:nvPr/>
        </p:nvPicPr>
        <p:blipFill>
          <a:blip r:embed="rId1"/>
          <a:stretch/>
        </p:blipFill>
        <p:spPr>
          <a:xfrm>
            <a:off x="1984320" y="1052640"/>
            <a:ext cx="4935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ğ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IP Adresi 10.20.237.15 ve Alt Ağ Maskesi 255.255.248.0 olan bilgisayarın Ağ Adresi nasıl bulun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ubnetting_d"/>
          <p:cNvPicPr/>
          <p:nvPr/>
        </p:nvPicPr>
        <p:blipFill>
          <a:blip r:embed="rId1"/>
          <a:stretch/>
        </p:blipFill>
        <p:spPr>
          <a:xfrm>
            <a:off x="1332000" y="3141720"/>
            <a:ext cx="6553080" cy="113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ubnetting_e"/>
          <p:cNvPicPr/>
          <p:nvPr/>
        </p:nvPicPr>
        <p:blipFill>
          <a:blip r:embed="rId2"/>
          <a:stretch/>
        </p:blipFill>
        <p:spPr>
          <a:xfrm>
            <a:off x="1332000" y="4508640"/>
            <a:ext cx="6553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daki Host Sayıs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nceki örnekte maskede 11 adet sıfır bulunduğu için her ağdaki host sayıs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2^11 = 2048 olarak bulun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ost sayısını bulmada genel formül 2^n dir. Buradaki n maskedeki 0’ların sayı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Broadcast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43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Maskedeki sıfırlarla eşleşen IP adresi bitlerinin tamamı 1 yapılarak broadcast adresi hesaplan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852640"/>
          <a:ext cx="7499520" cy="1838520"/>
        </p:xfrm>
        <a:graphic>
          <a:graphicData uri="http://schemas.openxmlformats.org/drawingml/2006/table">
            <a:tbl>
              <a:tblPr/>
              <a:tblGrid>
                <a:gridCol w="1874880"/>
                <a:gridCol w="1876320"/>
                <a:gridCol w="1874880"/>
                <a:gridCol w="187344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74"/>
          <p:cNvSpPr/>
          <p:nvPr/>
        </p:nvSpPr>
        <p:spPr>
          <a:xfrm>
            <a:off x="5911920" y="2506680"/>
            <a:ext cx="273672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9:43:26Z</dcterms:created>
  <dc:creator>Mithat Şimşek</dc:creator>
  <dc:description/>
  <dc:language>en-US</dc:language>
  <cp:lastModifiedBy>Bilal</cp:lastModifiedBy>
  <dcterms:modified xsi:type="dcterms:W3CDTF">2012-11-27T15:56:12Z</dcterms:modified>
  <cp:revision>4</cp:revision>
  <dc:subject/>
  <dc:title>Alt Ağlar</dc:title>
</cp:coreProperties>
</file>