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FFEE-9EB9-4B12-B2A9-ACF1B41D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5D7C-231F-423A-9D37-19B77595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8CD-0965-411C-B7AD-AF77E270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A387-1EE1-43AE-AEE3-79BFD306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4A37-6B68-4D29-8BB8-FD303E83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299C-DE1D-4F9A-88DF-14135BC0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DB0A-9135-4243-9A54-A419BD5E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CF72-D916-4B73-AD60-AACF7D72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987B-23B8-458D-AF8C-79F7323C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7315-9E7A-4E2E-84FA-3B266EA6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BAA3-2118-4B78-902F-B4B27BC4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DBBD-C84D-4EBE-B5E5-E10AFA95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BE94-5BF9-4AEE-B37C-FF4B3A4F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A2D7-B448-4B2F-9388-336AE1C6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26F9-ED69-4A18-9D73-86E2F33E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71CC-6CD2-4581-BE14-0E335ADC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256E-6C61-4BCF-A54E-621A82D9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C935-99B9-4B8A-AD59-9150CF25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D418-8B19-418B-A812-F67E4882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90DB-ADB2-4840-9C58-0C23D70A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215-2C76-4476-817E-5097776B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6FD-A591-46FE-9A27-E6138AA0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7EB-9F63-4E24-AC46-C7BC3109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F008-01C8-4484-855C-320C79AB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5F19-7155-49C1-9E45-7BE69D9F08C4}" type="slidenum">
              <a:rPr b="0" lang="tr-T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8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1870-BD34-4504-BBA6-8A561E59786C}" type="slidenum">
              <a:rPr b="0" lang="tr-T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06633"/>
                </a:solidFill>
                <a:latin typeface="Garamond"/>
              </a:rPr>
              <a:t>Alt Ağlar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lt Ağ Maskes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lt Ağ Maskesi bir IP adresinin hangi bitlerinin ağ adresine ait bitler hangi bitlerinin host adresine ait bitler olduğunun anlaşılması için var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alt ağ maskesindeki 1’ler IP adresinin ağ adresi kısmını, 0’lar ise IP adresinin host adresi kısmını göster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Örneğin C sınıfı bir IP adresinin varsayılan maskesinde 24 tane bir 8 tane 0 var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lt Ağ Maskesi Tablos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subnetting_c"/>
          <p:cNvPicPr/>
          <p:nvPr/>
        </p:nvPicPr>
        <p:blipFill>
          <a:blip r:embed="rId1"/>
          <a:stretch/>
        </p:blipFill>
        <p:spPr>
          <a:xfrm>
            <a:off x="1984320" y="1052640"/>
            <a:ext cx="4935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ğ Adresini Hesapla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IP Adresi 10.20.237.15 ve Alt Ağ Maskesi 255.255.248.0 olan bilgisayarın Ağ Adresi nasıl bulunu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subnetting_d"/>
          <p:cNvPicPr/>
          <p:nvPr/>
        </p:nvPicPr>
        <p:blipFill>
          <a:blip r:embed="rId1"/>
          <a:stretch/>
        </p:blipFill>
        <p:spPr>
          <a:xfrm>
            <a:off x="1332000" y="3141720"/>
            <a:ext cx="6553080" cy="113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subnetting_e"/>
          <p:cNvPicPr/>
          <p:nvPr/>
        </p:nvPicPr>
        <p:blipFill>
          <a:blip r:embed="rId2"/>
          <a:stretch/>
        </p:blipFill>
        <p:spPr>
          <a:xfrm>
            <a:off x="1332000" y="4508640"/>
            <a:ext cx="65530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lt Ağdaki Host Sayısı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Önceki örnekte maskede 11 adet sıfır bulunduğu için her ağdaki host sayısı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2^11 = 2048 olarak bulunu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ost sayısını bulmada genel formül 2^n dir. Buradaki n maskedeki 0’ların sayıs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Broadcast Adresini Hesapla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64352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Maskedeki sıfırlarla eşleşen IP adresi bitlerinin tamamı 1 yapılarak broadcast adresi hesaplan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5640" y="2852640"/>
          <a:ext cx="7499520" cy="1838520"/>
        </p:xfrm>
        <a:graphic>
          <a:graphicData uri="http://schemas.openxmlformats.org/drawingml/2006/table">
            <a:tbl>
              <a:tblPr/>
              <a:tblGrid>
                <a:gridCol w="1874880"/>
                <a:gridCol w="1876320"/>
                <a:gridCol w="1874880"/>
                <a:gridCol w="1873440"/>
              </a:tblGrid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1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1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01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1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1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0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74"/>
          <p:cNvSpPr/>
          <p:nvPr/>
        </p:nvSpPr>
        <p:spPr>
          <a:xfrm>
            <a:off x="5911920" y="2506680"/>
            <a:ext cx="2736720" cy="18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09:43:26Z</dcterms:created>
  <dc:creator>Mithat Şimşek</dc:creator>
  <dc:description/>
  <dc:language>en-US</dc:language>
  <cp:lastModifiedBy>Bilal</cp:lastModifiedBy>
  <dcterms:modified xsi:type="dcterms:W3CDTF">2012-11-27T15:56:12Z</dcterms:modified>
  <cp:revision>4</cp:revision>
  <dc:subject/>
  <dc:title>Alt Ağlar</dc:title>
</cp:coreProperties>
</file>