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8C06-EED5-49FE-A8C8-C748DF06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1B69-FAC0-461C-9690-1542E5F5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F58C-F220-4353-9294-9DE36BF7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0B99-2529-4C0C-8C20-AFAD960B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6D24-99DA-45B2-BC19-DA8B7EFE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4ECD-4D78-4335-9B18-B9B4D7F1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0EA9-6C9D-44AB-AF4F-3B4C1133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5C14-95E0-40F1-B8F1-FBB5AEB5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3957-94E8-46F7-BE91-A1B93235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5A15-C085-4A16-B029-C2AB2A6C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5306-6971-4B68-A51E-0B92B72F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6641-0026-4075-A4B8-C3BF8AEB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054D-37E1-4830-91F2-859D51A7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2EAE-6A6D-43D0-9C8F-6E78B617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A183-0FAB-481A-8CFF-33959D2D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B4E4-448F-461F-B9A4-DFC1900A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49A2-8EE3-4338-964E-01E3ECD3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35A4-3316-418A-B2DD-412835E8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2936-B23A-49D0-B2A7-BB575925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D85D-458B-4696-838D-75760168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D214-D321-4AD6-AB82-9193EEE4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BEDE-4CB7-4223-AC60-BCAF6838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8B76-3C37-4A2C-9C0B-903A9EF5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549E-9BAD-4119-8082-4619701D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9900-A8C9-416A-A9BA-0626A10E8BC2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13 Dikdörtgen"/>
          <p:cNvSpPr/>
          <p:nvPr/>
        </p:nvSpPr>
        <p:spPr>
          <a:xfrm>
            <a:off x="535536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24 Dikdörtgen"/>
          <p:cNvSpPr/>
          <p:nvPr/>
        </p:nvSpPr>
        <p:spPr>
          <a:xfrm>
            <a:off x="535536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9804-BD60-4355-B3E2-DD4BAEC4B6F7}" type="slidenum">
              <a:rPr b="0" lang="tr-TR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r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r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ukarıdaki C deyimini şekildeki tabloya uygulayalım. Varsayalım router’a gelen paketin hedefi D, 192.4.10.3 olsu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İşlemler sırası ile şöyle olacaktı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255.0.0.0 &amp; 192.4.10.3 eşit midir 30.0.0.0? Hayı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255.0.0.0 &amp; 192.4.10.3 eşit midir 40.0.0.0? Hayı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255.255.0.0 &amp; 192.4.10.3 eşit midir 128.1.0.0? Hayı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255.255.255.0 &amp; 192.4.10.3 eşit midir 192.4.10.0? Evet. Öyleyse paketi netxhop[4]’e yani 128.1.0.9’a gönder.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Router’lar ve IP Adreslemesi Prensip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Farklı ağları birbirlerine bağlamak için router’ları kullandığımızı biliyoru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 router bu işi yapabilmek için yine üzerinde TCP/IP protokol yazılımlarını çalıştırmalı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yazlımlar çalışıyor ise demektir ki router’larında IP adresleri bulunması gerek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aha önce, bir ağdaki bilgisayarların router’a sanki ağdaki bir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iğer bilgisayarmış gibi eriştiklerini söylemişti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Router’lar ve IP Adreslemesi Prensip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Fakat router’lar birden fazla ağı birbirlerine bağladıklarına göre birden fazla IP’ye sahip olmaları gerekir. Bunun sebebi: router’ın bağlandığı her ağ için ayrı birer ağ arayüz donanımı vardır. Ve bu ağların ağ adresleri (yani bu ağdaki hostların IP adreslerinin prefix’i) farklı olmak zorund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olayısı ile router bağlandığı her ağdan birer IP sahip olmalıdır. Bu durum takip eden şekilde gösterilmiş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Router’lara bağlandıkları ağ adresinden IP adresleri verilmes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79280" y="1916280"/>
            <a:ext cx="8785080" cy="4752360"/>
            <a:chOff x="179280" y="1916280"/>
            <a:chExt cx="8785080" cy="4752360"/>
          </a:xfrm>
        </p:grpSpPr>
        <p:graphicFrame>
          <p:nvGraphicFramePr>
            <p:cNvPr id="109" name="Object 5"/>
            <p:cNvGraphicFramePr/>
            <p:nvPr/>
          </p:nvGraphicFramePr>
          <p:xfrm>
            <a:off x="5971680" y="5776200"/>
            <a:ext cx="1679400" cy="892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71680" y="5776200"/>
                      <a:ext cx="1679400" cy="89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Line 6"/>
            <p:cNvSpPr/>
            <p:nvPr/>
          </p:nvSpPr>
          <p:spPr>
            <a:xfrm>
              <a:off x="179280" y="2987640"/>
              <a:ext cx="31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Oval 7"/>
            <p:cNvSpPr/>
            <p:nvPr/>
          </p:nvSpPr>
          <p:spPr>
            <a:xfrm>
              <a:off x="4775760" y="2643120"/>
              <a:ext cx="1426320" cy="154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Rectangle 8"/>
            <p:cNvSpPr/>
            <p:nvPr/>
          </p:nvSpPr>
          <p:spPr>
            <a:xfrm>
              <a:off x="3191760" y="4183560"/>
              <a:ext cx="317520" cy="34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Line 9"/>
            <p:cNvSpPr/>
            <p:nvPr/>
          </p:nvSpPr>
          <p:spPr>
            <a:xfrm flipH="1">
              <a:off x="2241720" y="4354560"/>
              <a:ext cx="94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Line 10"/>
            <p:cNvSpPr/>
            <p:nvPr/>
          </p:nvSpPr>
          <p:spPr>
            <a:xfrm flipV="1">
              <a:off x="2241720" y="2984760"/>
              <a:ext cx="0" cy="136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Line 11"/>
            <p:cNvSpPr/>
            <p:nvPr/>
          </p:nvSpPr>
          <p:spPr>
            <a:xfrm>
              <a:off x="3509280" y="4354560"/>
              <a:ext cx="205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Line 12"/>
            <p:cNvSpPr/>
            <p:nvPr/>
          </p:nvSpPr>
          <p:spPr>
            <a:xfrm flipV="1">
              <a:off x="5568840" y="4183560"/>
              <a:ext cx="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6677640" y="4525560"/>
              <a:ext cx="316440" cy="34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Line 14"/>
            <p:cNvSpPr/>
            <p:nvPr/>
          </p:nvSpPr>
          <p:spPr>
            <a:xfrm>
              <a:off x="6202080" y="3498120"/>
              <a:ext cx="63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Line 15"/>
            <p:cNvSpPr/>
            <p:nvPr/>
          </p:nvSpPr>
          <p:spPr>
            <a:xfrm>
              <a:off x="6836400" y="3498120"/>
              <a:ext cx="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Line 16"/>
            <p:cNvSpPr/>
            <p:nvPr/>
          </p:nvSpPr>
          <p:spPr>
            <a:xfrm flipV="1">
              <a:off x="2558520" y="4354560"/>
              <a:ext cx="63324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Line 17"/>
            <p:cNvSpPr/>
            <p:nvPr/>
          </p:nvSpPr>
          <p:spPr>
            <a:xfrm flipH="1" flipV="1">
              <a:off x="3508920" y="4354200"/>
              <a:ext cx="633240" cy="68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Line 18"/>
            <p:cNvSpPr/>
            <p:nvPr/>
          </p:nvSpPr>
          <p:spPr>
            <a:xfrm flipH="1">
              <a:off x="6836040" y="4011120"/>
              <a:ext cx="47412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Line 19"/>
            <p:cNvSpPr/>
            <p:nvPr/>
          </p:nvSpPr>
          <p:spPr>
            <a:xfrm flipH="1" flipV="1">
              <a:off x="6836040" y="4867560"/>
              <a:ext cx="63324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Text Box 20"/>
            <p:cNvSpPr/>
            <p:nvPr/>
          </p:nvSpPr>
          <p:spPr>
            <a:xfrm>
              <a:off x="179280" y="2400480"/>
              <a:ext cx="317664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Ethernet </a:t>
              </a: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131.108.0.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Text Box 21"/>
            <p:cNvSpPr/>
            <p:nvPr/>
          </p:nvSpPr>
          <p:spPr>
            <a:xfrm>
              <a:off x="1116360" y="5066640"/>
              <a:ext cx="168156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131.108.99.5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Text Box 22"/>
            <p:cNvSpPr/>
            <p:nvPr/>
          </p:nvSpPr>
          <p:spPr>
            <a:xfrm>
              <a:off x="3919320" y="5066640"/>
              <a:ext cx="186840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223.240.129.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Text Box 23"/>
            <p:cNvSpPr/>
            <p:nvPr/>
          </p:nvSpPr>
          <p:spPr>
            <a:xfrm>
              <a:off x="7282800" y="5308920"/>
              <a:ext cx="168156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78.0.0.17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Text Box 24"/>
            <p:cNvSpPr/>
            <p:nvPr/>
          </p:nvSpPr>
          <p:spPr>
            <a:xfrm>
              <a:off x="7095960" y="3369960"/>
              <a:ext cx="186840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223.240.129.17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Text Box 25"/>
            <p:cNvSpPr/>
            <p:nvPr/>
          </p:nvSpPr>
          <p:spPr>
            <a:xfrm>
              <a:off x="5414040" y="1916280"/>
              <a:ext cx="1868400" cy="4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223.240.129.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Line 26"/>
            <p:cNvSpPr/>
            <p:nvPr/>
          </p:nvSpPr>
          <p:spPr>
            <a:xfrm flipH="1">
              <a:off x="5601240" y="2643120"/>
              <a:ext cx="56016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Text Box 27"/>
            <p:cNvSpPr/>
            <p:nvPr/>
          </p:nvSpPr>
          <p:spPr>
            <a:xfrm>
              <a:off x="3171960" y="3369960"/>
              <a:ext cx="99216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Text Box 28"/>
            <p:cNvSpPr/>
            <p:nvPr/>
          </p:nvSpPr>
          <p:spPr>
            <a:xfrm>
              <a:off x="7963920" y="4388040"/>
              <a:ext cx="929880" cy="4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Text Box 29"/>
            <p:cNvSpPr/>
            <p:nvPr/>
          </p:nvSpPr>
          <p:spPr>
            <a:xfrm>
              <a:off x="6261480" y="5906880"/>
              <a:ext cx="168120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78.0.0.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Line 30"/>
            <p:cNvSpPr/>
            <p:nvPr/>
          </p:nvSpPr>
          <p:spPr>
            <a:xfrm flipH="1">
              <a:off x="3358440" y="3854880"/>
              <a:ext cx="186840" cy="24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Line 31"/>
            <p:cNvSpPr/>
            <p:nvPr/>
          </p:nvSpPr>
          <p:spPr>
            <a:xfrm flipH="1">
              <a:off x="7095600" y="4694760"/>
              <a:ext cx="93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Text Box 32"/>
            <p:cNvSpPr/>
            <p:nvPr/>
          </p:nvSpPr>
          <p:spPr>
            <a:xfrm>
              <a:off x="4820400" y="2756160"/>
              <a:ext cx="117900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Token-Ring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Line 33"/>
            <p:cNvSpPr/>
            <p:nvPr/>
          </p:nvSpPr>
          <p:spPr>
            <a:xfrm>
              <a:off x="6835320" y="4871520"/>
              <a:ext cx="0" cy="9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Router’lar ve IP Adreslemesi Prensip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Router’ların birden fazla IP adresine sahip olmaları gibi birden fazla ağ arayüz kartına sahip bilgisayarlar da bu arayüz kartları ile farklı ağlara bağlanmak için birden fazla IP adresine sahip olabilirler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P Datagram Forwarding (IP Paketlerinin İletilmes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router aldığı bir paketi direkt olarak üzerinde hiçbir değişiklik yapmadan diğer ağa kopyalayama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Çünkü iki ağın iletim ortamı, teknolojisi ve ağ protokolleri farklı ola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sebeplerden router aldığı bir paketi açıp gideceği ağı bulmalı uygun dönüştürmeyi yap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in gideceği adrese bakarak bir sonraki gideceği nokta bulun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işlem router’ların içerinde kayıtlı bulunan yönlendirme tablosuna (routing table) bakılarak yapıl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P Datagram Forwar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4" name="Group 4"/>
          <p:cNvGrpSpPr/>
          <p:nvPr/>
        </p:nvGrpSpPr>
        <p:grpSpPr>
          <a:xfrm>
            <a:off x="395280" y="2276640"/>
            <a:ext cx="8137440" cy="1080720"/>
            <a:chOff x="395280" y="2276640"/>
            <a:chExt cx="8137440" cy="1080720"/>
          </a:xfrm>
        </p:grpSpPr>
        <p:graphicFrame>
          <p:nvGraphicFramePr>
            <p:cNvPr id="145" name="Object 5"/>
            <p:cNvGraphicFramePr/>
            <p:nvPr/>
          </p:nvGraphicFramePr>
          <p:xfrm>
            <a:off x="395280" y="2491560"/>
            <a:ext cx="1557360" cy="83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6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2491560"/>
                      <a:ext cx="1557360" cy="8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47" name="Group 6"/>
            <p:cNvGrpSpPr/>
            <p:nvPr/>
          </p:nvGrpSpPr>
          <p:grpSpPr>
            <a:xfrm>
              <a:off x="1936080" y="2718720"/>
              <a:ext cx="646200" cy="374760"/>
              <a:chOff x="1936080" y="2718720"/>
              <a:chExt cx="646200" cy="374760"/>
            </a:xfrm>
          </p:grpSpPr>
          <p:sp>
            <p:nvSpPr>
              <p:cNvPr id="148" name="Rectangle 7"/>
              <p:cNvSpPr/>
              <p:nvPr/>
            </p:nvSpPr>
            <p:spPr>
              <a:xfrm>
                <a:off x="2157840" y="2718720"/>
                <a:ext cx="212400" cy="374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Line 8"/>
              <p:cNvSpPr/>
              <p:nvPr/>
            </p:nvSpPr>
            <p:spPr>
              <a:xfrm>
                <a:off x="1936080" y="2905920"/>
                <a:ext cx="21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Line 9"/>
              <p:cNvSpPr/>
              <p:nvPr/>
            </p:nvSpPr>
            <p:spPr>
              <a:xfrm>
                <a:off x="2370240" y="2905920"/>
                <a:ext cx="21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1" name="Text Box 10"/>
            <p:cNvSpPr/>
            <p:nvPr/>
          </p:nvSpPr>
          <p:spPr>
            <a:xfrm>
              <a:off x="2014560" y="2276640"/>
              <a:ext cx="5972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840240" y="2652840"/>
              <a:ext cx="7416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Net1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53" name="Object 12"/>
            <p:cNvGraphicFramePr/>
            <p:nvPr/>
          </p:nvGraphicFramePr>
          <p:xfrm>
            <a:off x="4783320" y="2518560"/>
            <a:ext cx="1557360" cy="83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4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83320" y="2518560"/>
                      <a:ext cx="1557360" cy="8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Object 13"/>
            <p:cNvGraphicFramePr/>
            <p:nvPr/>
          </p:nvGraphicFramePr>
          <p:xfrm>
            <a:off x="2595240" y="2519640"/>
            <a:ext cx="1557360" cy="837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6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95240" y="2519640"/>
                      <a:ext cx="1557360" cy="83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Object 14"/>
            <p:cNvGraphicFramePr/>
            <p:nvPr/>
          </p:nvGraphicFramePr>
          <p:xfrm>
            <a:off x="6975360" y="2496960"/>
            <a:ext cx="1557360" cy="837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75360" y="2496960"/>
                      <a:ext cx="1557360" cy="83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59" name="Group 15"/>
            <p:cNvGrpSpPr/>
            <p:nvPr/>
          </p:nvGrpSpPr>
          <p:grpSpPr>
            <a:xfrm>
              <a:off x="6328440" y="2717280"/>
              <a:ext cx="646200" cy="375120"/>
              <a:chOff x="6328440" y="2717280"/>
              <a:chExt cx="646200" cy="375120"/>
            </a:xfrm>
          </p:grpSpPr>
          <p:sp>
            <p:nvSpPr>
              <p:cNvPr id="160" name="Rectangle 16"/>
              <p:cNvSpPr/>
              <p:nvPr/>
            </p:nvSpPr>
            <p:spPr>
              <a:xfrm>
                <a:off x="6550200" y="2717280"/>
                <a:ext cx="212400" cy="37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" name="Line 17"/>
              <p:cNvSpPr/>
              <p:nvPr/>
            </p:nvSpPr>
            <p:spPr>
              <a:xfrm>
                <a:off x="6328440" y="2904840"/>
                <a:ext cx="21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>
                <a:off x="6762600" y="2904840"/>
                <a:ext cx="21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9"/>
            <p:cNvGrpSpPr/>
            <p:nvPr/>
          </p:nvGrpSpPr>
          <p:grpSpPr>
            <a:xfrm>
              <a:off x="4148640" y="2717280"/>
              <a:ext cx="646200" cy="375120"/>
              <a:chOff x="4148640" y="2717280"/>
              <a:chExt cx="646200" cy="375120"/>
            </a:xfrm>
          </p:grpSpPr>
          <p:sp>
            <p:nvSpPr>
              <p:cNvPr id="164" name="Rectangle 20"/>
              <p:cNvSpPr/>
              <p:nvPr/>
            </p:nvSpPr>
            <p:spPr>
              <a:xfrm>
                <a:off x="4370400" y="2717280"/>
                <a:ext cx="212400" cy="37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>
                <a:off x="4148640" y="2904840"/>
                <a:ext cx="21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" name="Line 22"/>
              <p:cNvSpPr/>
              <p:nvPr/>
            </p:nvSpPr>
            <p:spPr>
              <a:xfrm>
                <a:off x="4582800" y="2904840"/>
                <a:ext cx="21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67" name="Text Box 23"/>
            <p:cNvSpPr/>
            <p:nvPr/>
          </p:nvSpPr>
          <p:spPr>
            <a:xfrm>
              <a:off x="3065040" y="2652840"/>
              <a:ext cx="7416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Net2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Text Box 24"/>
            <p:cNvSpPr/>
            <p:nvPr/>
          </p:nvSpPr>
          <p:spPr>
            <a:xfrm>
              <a:off x="5240520" y="2652840"/>
              <a:ext cx="7416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Net3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Text Box 25"/>
            <p:cNvSpPr/>
            <p:nvPr/>
          </p:nvSpPr>
          <p:spPr>
            <a:xfrm>
              <a:off x="7416000" y="2652840"/>
              <a:ext cx="7416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Net4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Text Box 26"/>
            <p:cNvSpPr/>
            <p:nvPr/>
          </p:nvSpPr>
          <p:spPr>
            <a:xfrm>
              <a:off x="6402600" y="2303280"/>
              <a:ext cx="5972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3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Text Box 27"/>
            <p:cNvSpPr/>
            <p:nvPr/>
          </p:nvSpPr>
          <p:spPr>
            <a:xfrm>
              <a:off x="4239360" y="2324880"/>
              <a:ext cx="5972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172" name=""/>
          <p:cNvGraphicFramePr/>
          <p:nvPr/>
        </p:nvGraphicFramePr>
        <p:xfrm>
          <a:off x="1835280" y="3645000"/>
          <a:ext cx="5189400" cy="2495520"/>
        </p:xfrm>
        <a:graphic>
          <a:graphicData uri="http://schemas.openxmlformats.org/drawingml/2006/table">
            <a:tbl>
              <a:tblPr/>
              <a:tblGrid>
                <a:gridCol w="2128680"/>
                <a:gridCol w="306072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tination (Hede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xt Hop (Bir sonraki Atlanacak Nok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kt Dağı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kt Dağı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Text Box 94"/>
          <p:cNvSpPr/>
          <p:nvPr/>
        </p:nvSpPr>
        <p:spPr>
          <a:xfrm>
            <a:off x="2700360" y="6237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R2’deki Yönlendirme Tablosu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P Datagram Forwar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468360" y="2060640"/>
            <a:ext cx="8206920" cy="1944360"/>
            <a:chOff x="468360" y="2060640"/>
            <a:chExt cx="8206920" cy="1944360"/>
          </a:xfrm>
        </p:grpSpPr>
        <p:graphicFrame>
          <p:nvGraphicFramePr>
            <p:cNvPr id="176" name="Object 5"/>
            <p:cNvGraphicFramePr/>
            <p:nvPr/>
          </p:nvGraphicFramePr>
          <p:xfrm>
            <a:off x="468360" y="2725920"/>
            <a:ext cx="1570680" cy="67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2725920"/>
                      <a:ext cx="157068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8" name="Group 6"/>
            <p:cNvGrpSpPr/>
            <p:nvPr/>
          </p:nvGrpSpPr>
          <p:grpSpPr>
            <a:xfrm>
              <a:off x="2022480" y="2908800"/>
              <a:ext cx="652320" cy="301320"/>
              <a:chOff x="2022480" y="2908800"/>
              <a:chExt cx="652320" cy="301320"/>
            </a:xfrm>
          </p:grpSpPr>
          <p:sp>
            <p:nvSpPr>
              <p:cNvPr id="179" name="Rectangle 7"/>
              <p:cNvSpPr/>
              <p:nvPr/>
            </p:nvSpPr>
            <p:spPr>
              <a:xfrm>
                <a:off x="2246040" y="2908800"/>
                <a:ext cx="214200" cy="301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Line 8"/>
              <p:cNvSpPr/>
              <p:nvPr/>
            </p:nvSpPr>
            <p:spPr>
              <a:xfrm>
                <a:off x="2022480" y="305928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" name="Line 9"/>
              <p:cNvSpPr/>
              <p:nvPr/>
            </p:nvSpPr>
            <p:spPr>
              <a:xfrm>
                <a:off x="2460600" y="305928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2" name="Text Box 10"/>
            <p:cNvSpPr/>
            <p:nvPr/>
          </p:nvSpPr>
          <p:spPr>
            <a:xfrm>
              <a:off x="2101320" y="2553120"/>
              <a:ext cx="6026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Text Box 11"/>
            <p:cNvSpPr/>
            <p:nvPr/>
          </p:nvSpPr>
          <p:spPr>
            <a:xfrm>
              <a:off x="655200" y="2855880"/>
              <a:ext cx="11217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30.0.0.0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84" name="Object 12"/>
            <p:cNvGraphicFramePr/>
            <p:nvPr/>
          </p:nvGraphicFramePr>
          <p:xfrm>
            <a:off x="4893840" y="2747520"/>
            <a:ext cx="1570680" cy="672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5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93840" y="2747520"/>
                      <a:ext cx="1570680" cy="67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Object 13"/>
            <p:cNvGraphicFramePr/>
            <p:nvPr/>
          </p:nvGraphicFramePr>
          <p:xfrm>
            <a:off x="2687400" y="2748600"/>
            <a:ext cx="1570680" cy="672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7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87400" y="2748600"/>
                      <a:ext cx="1570680" cy="67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8" name="Object 14"/>
            <p:cNvGraphicFramePr/>
            <p:nvPr/>
          </p:nvGraphicFramePr>
          <p:xfrm>
            <a:off x="7104600" y="2730240"/>
            <a:ext cx="1570680" cy="672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04600" y="2730240"/>
                      <a:ext cx="1570680" cy="67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0" name="Group 15"/>
            <p:cNvGrpSpPr/>
            <p:nvPr/>
          </p:nvGrpSpPr>
          <p:grpSpPr>
            <a:xfrm>
              <a:off x="6452280" y="2907360"/>
              <a:ext cx="652320" cy="301320"/>
              <a:chOff x="6452280" y="2907360"/>
              <a:chExt cx="652320" cy="301320"/>
            </a:xfrm>
          </p:grpSpPr>
          <p:sp>
            <p:nvSpPr>
              <p:cNvPr id="191" name="Rectangle 16"/>
              <p:cNvSpPr/>
              <p:nvPr/>
            </p:nvSpPr>
            <p:spPr>
              <a:xfrm>
                <a:off x="6675840" y="2907360"/>
                <a:ext cx="214200" cy="301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" name="Line 17"/>
              <p:cNvSpPr/>
              <p:nvPr/>
            </p:nvSpPr>
            <p:spPr>
              <a:xfrm>
                <a:off x="6452280" y="30578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" name="Line 18"/>
              <p:cNvSpPr/>
              <p:nvPr/>
            </p:nvSpPr>
            <p:spPr>
              <a:xfrm>
                <a:off x="6890400" y="30578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" name="Group 19"/>
            <p:cNvGrpSpPr/>
            <p:nvPr/>
          </p:nvGrpSpPr>
          <p:grpSpPr>
            <a:xfrm>
              <a:off x="4254120" y="2907360"/>
              <a:ext cx="652320" cy="301320"/>
              <a:chOff x="4254120" y="2907360"/>
              <a:chExt cx="652320" cy="301320"/>
            </a:xfrm>
          </p:grpSpPr>
          <p:sp>
            <p:nvSpPr>
              <p:cNvPr id="195" name="Rectangle 20"/>
              <p:cNvSpPr/>
              <p:nvPr/>
            </p:nvSpPr>
            <p:spPr>
              <a:xfrm>
                <a:off x="4477680" y="2907360"/>
                <a:ext cx="214200" cy="301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Line 21"/>
              <p:cNvSpPr/>
              <p:nvPr/>
            </p:nvSpPr>
            <p:spPr>
              <a:xfrm>
                <a:off x="4254120" y="30578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Line 22"/>
              <p:cNvSpPr/>
              <p:nvPr/>
            </p:nvSpPr>
            <p:spPr>
              <a:xfrm>
                <a:off x="4692240" y="30578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98" name="Text Box 23"/>
            <p:cNvSpPr/>
            <p:nvPr/>
          </p:nvSpPr>
          <p:spPr>
            <a:xfrm>
              <a:off x="2899440" y="2855880"/>
              <a:ext cx="1308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40.0.0.0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Text Box 24"/>
            <p:cNvSpPr/>
            <p:nvPr/>
          </p:nvSpPr>
          <p:spPr>
            <a:xfrm>
              <a:off x="5143320" y="2855880"/>
              <a:ext cx="1308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28.1.0.0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Text Box 25"/>
            <p:cNvSpPr/>
            <p:nvPr/>
          </p:nvSpPr>
          <p:spPr>
            <a:xfrm>
              <a:off x="7200360" y="2855880"/>
              <a:ext cx="1308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92.4.10.0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Text Box 26"/>
            <p:cNvSpPr/>
            <p:nvPr/>
          </p:nvSpPr>
          <p:spPr>
            <a:xfrm>
              <a:off x="6527160" y="2574720"/>
              <a:ext cx="6022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3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Text Box 27"/>
            <p:cNvSpPr/>
            <p:nvPr/>
          </p:nvSpPr>
          <p:spPr>
            <a:xfrm>
              <a:off x="4345200" y="2592000"/>
              <a:ext cx="6026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Line 28"/>
            <p:cNvSpPr/>
            <p:nvPr/>
          </p:nvSpPr>
          <p:spPr>
            <a:xfrm flipV="1">
              <a:off x="1810440" y="3106440"/>
              <a:ext cx="37404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Line 29"/>
            <p:cNvSpPr/>
            <p:nvPr/>
          </p:nvSpPr>
          <p:spPr>
            <a:xfrm flipH="1">
              <a:off x="2524680" y="2397600"/>
              <a:ext cx="37404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Line 30"/>
            <p:cNvSpPr/>
            <p:nvPr/>
          </p:nvSpPr>
          <p:spPr>
            <a:xfrm flipV="1">
              <a:off x="4037760" y="3106440"/>
              <a:ext cx="37368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Line 31"/>
            <p:cNvSpPr/>
            <p:nvPr/>
          </p:nvSpPr>
          <p:spPr>
            <a:xfrm flipV="1">
              <a:off x="6248880" y="3049560"/>
              <a:ext cx="373680" cy="58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Line 32"/>
            <p:cNvSpPr/>
            <p:nvPr/>
          </p:nvSpPr>
          <p:spPr>
            <a:xfrm flipH="1">
              <a:off x="4752720" y="2397600"/>
              <a:ext cx="37368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Line 33"/>
            <p:cNvSpPr/>
            <p:nvPr/>
          </p:nvSpPr>
          <p:spPr>
            <a:xfrm flipH="1">
              <a:off x="6963480" y="2380320"/>
              <a:ext cx="373680" cy="58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Text Box 34"/>
            <p:cNvSpPr/>
            <p:nvPr/>
          </p:nvSpPr>
          <p:spPr>
            <a:xfrm>
              <a:off x="1216080" y="3616200"/>
              <a:ext cx="11221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30.0.0.7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Text Box 35"/>
            <p:cNvSpPr/>
            <p:nvPr/>
          </p:nvSpPr>
          <p:spPr>
            <a:xfrm>
              <a:off x="2338200" y="2060640"/>
              <a:ext cx="11217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40.0.0.7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Text Box 36"/>
            <p:cNvSpPr/>
            <p:nvPr/>
          </p:nvSpPr>
          <p:spPr>
            <a:xfrm>
              <a:off x="4582440" y="2060640"/>
              <a:ext cx="1308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28.1.0.8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Text Box 37"/>
            <p:cNvSpPr/>
            <p:nvPr/>
          </p:nvSpPr>
          <p:spPr>
            <a:xfrm>
              <a:off x="3460320" y="3616200"/>
              <a:ext cx="11221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40.0.0.8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Text Box 38"/>
            <p:cNvSpPr/>
            <p:nvPr/>
          </p:nvSpPr>
          <p:spPr>
            <a:xfrm>
              <a:off x="6826320" y="2060640"/>
              <a:ext cx="14958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92.4.10.9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Text Box 39"/>
            <p:cNvSpPr/>
            <p:nvPr/>
          </p:nvSpPr>
          <p:spPr>
            <a:xfrm>
              <a:off x="5687640" y="3581640"/>
              <a:ext cx="13251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28.1.0.9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215" name=""/>
          <p:cNvGraphicFramePr/>
          <p:nvPr/>
        </p:nvGraphicFramePr>
        <p:xfrm>
          <a:off x="324000" y="4076640"/>
          <a:ext cx="8559720" cy="1371600"/>
        </p:xfrm>
        <a:graphic>
          <a:graphicData uri="http://schemas.openxmlformats.org/drawingml/2006/table">
            <a:tbl>
              <a:tblPr/>
              <a:tblGrid>
                <a:gridCol w="2847960"/>
                <a:gridCol w="2873160"/>
                <a:gridCol w="28386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t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xt H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0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.0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.0.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.0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.0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kt Dağı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.1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.25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kt dağı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.4.1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.255.25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.1.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137"/>
          <p:cNvSpPr/>
          <p:nvPr/>
        </p:nvSpPr>
        <p:spPr>
          <a:xfrm>
            <a:off x="539640" y="587700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Merkezdeki Router’ın (R2) Yönlendirme Tablosu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r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önlendirme tablosundan bakarak bir sonraki atlama noktasını (next hop) seçmek işine yönlendirme (routing) veya aldığını başkasına iletme (forwarding) den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işlem şöyle gerçekleşir: Gelen paketteki hedef adres alınır. Bu adrese D diyelim. Tablodaki destination kısmına bakılarak gelen adres D için bir next hop olup olmadığına bakıl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işlem maske kullanılarak yapılır. Şöyle k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if( ( mask[i]) &amp; D = = Destination[i]) forward to netxhop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(Not: &amp;, bit düzeyinde VE işlemidir)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20:50:37Z</dcterms:created>
  <dc:creator>Tuna GÖKSU</dc:creator>
  <dc:description/>
  <dc:language>en-US</dc:language>
  <cp:lastModifiedBy>Bilal</cp:lastModifiedBy>
  <dcterms:modified xsi:type="dcterms:W3CDTF">2012-11-27T15:55:31Z</dcterms:modified>
  <cp:revision>8</cp:revision>
  <dc:subject/>
  <dc:title>Slayt 1</dc:title>
</cp:coreProperties>
</file>