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4BB42-E0A0-4F93-818C-A45C615C4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F7DBB-F2CF-42FC-B391-934D0F881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5615E-8C26-405E-9383-E1A543794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32BAF-A039-45D6-A7F8-9F73457F5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D82AC-6DFF-4F21-AB80-F95976881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DD9E8-37EE-4EC1-A818-D1DD4E79E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91E2C-F2C0-4469-98B7-951E35101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7C478-8BFF-4968-B89E-B6B7852FD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74E9C-6949-441A-95EE-0383BDBF9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EF22B-7504-493A-AB31-AD5CC6847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B7C62-19B6-4284-98D4-FD493D05B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00415-A5C6-43DB-AD7A-D241E2C5C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2EBC8-C1A9-4E7F-A193-F66FA7889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2F4EF-E535-4B26-8C0F-FABA8C3CB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E40B3-584B-44E6-B1B4-B68129DB7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D7308-9AFD-49C1-91FD-5CFC6EBC0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325697-81ED-4DB0-B8AE-E59223A50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7B933-E504-4F7B-8908-E02BC2642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3B26E-B7BD-4211-A6C3-0B0A3D5FE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22F4C-8585-4209-941A-3A1283927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CE425-CC56-492A-BDF0-2478402A3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E1157-7D55-4FD3-8C2B-AF65FA5A6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65A63-E147-402D-A47C-F6FA82276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4645D-7D8F-4703-B53F-D5F9D49F4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5C64-428F-49C1-BDE7-601D30331758}"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13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2438280"/>
            <a:ext cx="9009000" cy="1052640"/>
            <a:chOff x="0" y="2438280"/>
            <a:chExt cx="9009000" cy="1052640"/>
          </a:xfrm>
        </p:grpSpPr>
        <p:grpSp>
          <p:nvGrpSpPr>
            <p:cNvPr id="50" name="Group 3"/>
            <p:cNvGrpSpPr/>
            <p:nvPr/>
          </p:nvGrpSpPr>
          <p:grpSpPr>
            <a:xfrm>
              <a:off x="293760" y="2546280"/>
              <a:ext cx="712440" cy="474840"/>
              <a:chOff x="293760" y="2546280"/>
              <a:chExt cx="712440" cy="474840"/>
            </a:xfrm>
          </p:grpSpPr>
          <p:sp>
            <p:nvSpPr>
              <p:cNvPr id="5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 name="Group 6"/>
            <p:cNvGrpSpPr/>
            <p:nvPr/>
          </p:nvGrpSpPr>
          <p:grpSpPr>
            <a:xfrm>
              <a:off x="417600" y="2968560"/>
              <a:ext cx="739800" cy="474840"/>
              <a:chOff x="417600" y="2968560"/>
              <a:chExt cx="739800" cy="474840"/>
            </a:xfrm>
          </p:grpSpPr>
          <p:sp>
            <p:nvSpPr>
              <p:cNvPr id="5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 name="24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2"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E36F-5309-4A51-BBD1-BA94FB4A7697}" type="slidenum">
              <a:rPr b="0" lang="tr-T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 (WLAN)</a:t>
            </a: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333399"/>
              </a:solidFill>
              <a:latin typeface="Tahoma"/>
            </a:endParaRPr>
          </a:p>
        </p:txBody>
      </p:sp>
      <p:pic>
        <p:nvPicPr>
          <p:cNvPr id="120" name="Picture 4" descr=""/>
          <p:cNvPicPr/>
          <p:nvPr/>
        </p:nvPicPr>
        <p:blipFill>
          <a:blip r:embed="rId1"/>
          <a:stretch/>
        </p:blipFill>
        <p:spPr>
          <a:xfrm>
            <a:off x="250920" y="2492280"/>
            <a:ext cx="2881080" cy="2673360"/>
          </a:xfrm>
          <a:prstGeom prst="rect">
            <a:avLst/>
          </a:prstGeom>
          <a:ln w="0">
            <a:noFill/>
          </a:ln>
        </p:spPr>
      </p:pic>
      <p:pic>
        <p:nvPicPr>
          <p:cNvPr id="121" name="Picture 7" descr=""/>
          <p:cNvPicPr/>
          <p:nvPr/>
        </p:nvPicPr>
        <p:blipFill>
          <a:blip r:embed="rId2"/>
          <a:stretch/>
        </p:blipFill>
        <p:spPr>
          <a:xfrm>
            <a:off x="3995640" y="2478240"/>
            <a:ext cx="3961080" cy="3398760"/>
          </a:xfrm>
          <a:prstGeom prst="rect">
            <a:avLst/>
          </a:prstGeom>
          <a:ln w="0">
            <a:noFill/>
          </a:ln>
        </p:spPr>
      </p:pic>
      <p:sp>
        <p:nvSpPr>
          <p:cNvPr id="122" name="Text Box 10"/>
          <p:cNvSpPr/>
          <p:nvPr/>
        </p:nvSpPr>
        <p:spPr>
          <a:xfrm>
            <a:off x="5219280" y="5805360"/>
            <a:ext cx="19468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3300"/>
                </a:solidFill>
                <a:latin typeface="Arial"/>
                <a:ea typeface="Arial"/>
              </a:rPr>
              <a:t>Erişim Noktası</a:t>
            </a:r>
            <a:endParaRPr b="0" lang="en-US" sz="2000" spc="-1" strike="noStrike">
              <a:solidFill>
                <a:srgbClr val="000000"/>
              </a:solidFill>
              <a:latin typeface="Tahoma"/>
            </a:endParaRPr>
          </a:p>
        </p:txBody>
      </p:sp>
      <p:sp>
        <p:nvSpPr>
          <p:cNvPr id="123" name="Line 11"/>
          <p:cNvSpPr/>
          <p:nvPr/>
        </p:nvSpPr>
        <p:spPr>
          <a:xfrm flipV="1">
            <a:off x="5938920" y="4436640"/>
            <a:ext cx="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 name="Text Box 12"/>
          <p:cNvSpPr/>
          <p:nvPr/>
        </p:nvSpPr>
        <p:spPr>
          <a:xfrm>
            <a:off x="1187280" y="1844640"/>
            <a:ext cx="17290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Ad-Hoc</a:t>
            </a:r>
            <a:endParaRPr b="0" lang="en-US" sz="2800" spc="-1" strike="noStrike">
              <a:solidFill>
                <a:srgbClr val="000000"/>
              </a:solidFill>
              <a:latin typeface="Tahoma"/>
            </a:endParaRPr>
          </a:p>
        </p:txBody>
      </p:sp>
      <p:sp>
        <p:nvSpPr>
          <p:cNvPr id="125" name="Text Box 13"/>
          <p:cNvSpPr/>
          <p:nvPr/>
        </p:nvSpPr>
        <p:spPr>
          <a:xfrm>
            <a:off x="4643280" y="1824120"/>
            <a:ext cx="35290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AP Donanımlı Yapı</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Kablosuz LAN Sisteminde Kullanılan Cihazlar</a:t>
            </a:r>
            <a:endParaRPr b="0" lang="en-US" sz="28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rişim Cihazı (Access Point)</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LAN kurulması için merkezi konumda olan ve kapsama alanı içerisindeki tüm trafiği yöneten erişim cihazı köprüleme mantığıyla çalış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erişimler, üzerinde bulunan antenlerle havadan, kablolu ağa bütünleştirilmesi de ethernet gibi LAN teknolojisiyle yapıl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Uç sistemlerden daha yükseğe monte edilmesi yararlıd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rişim noktası cihazları kuruluma ve teknolojiye dayanarak 10 metrelerden 500 metreye kapsama alanına sahip olabilmekteyken, 10 ile 250 arasında kullanıcıyı desteklemekted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Kablosuz LAN Sisteminde Kullanılan Cihazlar</a:t>
            </a:r>
            <a:endParaRPr b="0" lang="en-US" sz="28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 erişim noktası cihazının kapsama alanındaki uç sistemlerin sayısı arttıkça tıkanma olasılığı artar ve kablosuz ağın başarımı düş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u sebeple, bir sonraki slaytta görüldüğü gibi hem kapsama alanını genişletmek hem de erişim cihazı başına düşen kullanıcı sayısını azaltmak için aynı ağ içerisinde birden çok erişim cihazı kullanılabili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Tahoma"/>
              </a:rPr>
              <a:t>Kablolu LAN ve Kablosuz LAN’ların Erişim Noktaları ile Birleştirilmesi</a:t>
            </a:r>
            <a:r>
              <a:rPr b="0" lang="tr-TR" sz="4400" spc="-1" strike="noStrike">
                <a:solidFill>
                  <a:srgbClr val="333399"/>
                </a:solidFill>
                <a:latin typeface="Tahoma"/>
              </a:rPr>
              <a:t> </a:t>
            </a:r>
            <a:endParaRPr b="0" lang="en-US" sz="4400" spc="-1" strike="noStrike">
              <a:solidFill>
                <a:srgbClr val="333399"/>
              </a:solidFill>
              <a:latin typeface="Tahoma"/>
            </a:endParaRPr>
          </a:p>
        </p:txBody>
      </p:sp>
      <p:pic>
        <p:nvPicPr>
          <p:cNvPr id="131" name="Picture 3" descr=""/>
          <p:cNvPicPr/>
          <p:nvPr/>
        </p:nvPicPr>
        <p:blipFill>
          <a:blip r:embed="rId1"/>
          <a:stretch/>
        </p:blipFill>
        <p:spPr>
          <a:xfrm>
            <a:off x="395280" y="2060640"/>
            <a:ext cx="8748720" cy="463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Erişim cihazı (AP)</a:t>
            </a:r>
            <a:endParaRPr b="0" lang="en-US" sz="4400" spc="-1" strike="noStrike">
              <a:solidFill>
                <a:srgbClr val="333399"/>
              </a:solidFill>
              <a:latin typeface="Tahoma"/>
            </a:endParaRPr>
          </a:p>
        </p:txBody>
      </p:sp>
      <p:pic>
        <p:nvPicPr>
          <p:cNvPr id="133" name="Picture 3" descr=""/>
          <p:cNvPicPr/>
          <p:nvPr/>
        </p:nvPicPr>
        <p:blipFill>
          <a:blip r:embed="rId1"/>
          <a:stretch/>
        </p:blipFill>
        <p:spPr>
          <a:xfrm>
            <a:off x="1763640" y="2060640"/>
            <a:ext cx="6048360" cy="446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Dikkat Edilecek Özellikleri</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tandartlar: Cihazın desteklediği kablosuz LAN standartları.</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odülasyon: Cihazın desteklediği modülasyon yöntemleri (OFD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Veri transfer değerleri: Veri transferi yapabildiği hız değerleri.</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ğ bağlantısı tipi: Desteklediği ağ bağlantı tipi (Infrastructure ve Ad-hoc).</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Çalışma modları: Çalışabildiği kablosuz bağlantı modları (Erişim Noktası, AP-to-AP Bridge, Point-to-MultiPoint Bridge, Wireless Cli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Dikkat Edilecek Özellikleri</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Frekans bandı: Cihazın çalıştığı frekans aralığı (MHz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Verici çıkış gücü: Cihazın verici gücü (db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ıcı hassasiyeti: Cihazın alıcı hassasiyeti (db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ış anten tipi: Cihazın takılabilen anten tipi.</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ğ desteği: Cihazın kullanılabileceği ağlar ( server and Client)</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venlik: Cihazın desteklediği güvenlik modları (64-bit, 128-bit 152-bit WEP şifreleme, WPA, 802.x vb.)</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Çalışma menzili: Cihazın iletişim kurabildiği menzili (Kapalı alanda,Açık alanda) </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CI ve PCMCIA Adaptörü </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r başka kablosuz bilgisayar ağı parçası, son kullanıcıların bilgisayarına takılabilen WLAN arayüzü ve dâhili alıcı verici anteni bulunan PCI veya PCMCI kartıdı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erektiği durumlarda güçlü antenlerin de takılabilmesi için üzerinde yuvası bulunan bu kart, köprü cihazlarının kablosuz ağ bağdaştırıcısı olarak kullanılabildiği gibi ISA veya PCI adaptörleri aracılığı ile günümüz kişisel bilgisayarlarına da takılabilmekted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nümüz diz üstü bilgisayarlarında bu adaptörler standart donanım olarak sunulmaktadı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CI Adaptörü</a:t>
            </a:r>
            <a:endParaRPr b="0" lang="en-US" sz="4400" spc="-1" strike="noStrike">
              <a:solidFill>
                <a:srgbClr val="333399"/>
              </a:solidFill>
              <a:latin typeface="Tahoma"/>
            </a:endParaRPr>
          </a:p>
        </p:txBody>
      </p:sp>
      <p:pic>
        <p:nvPicPr>
          <p:cNvPr id="141" name="Picture 3"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nten</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02.11 standardındaki cihazlar temel olarak iki tür anten kullanmakt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çok noktaya iletim için</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a:t>
            </a:r>
            <a:r>
              <a:rPr b="0" lang="en-US" sz="1800" spc="-1" strike="noStrike">
                <a:solidFill>
                  <a:srgbClr val="000000"/>
                </a:solidFill>
                <a:latin typeface="Tahoma"/>
              </a:rPr>
              <a:t>omni directional</a:t>
            </a:r>
            <a:r>
              <a:rPr b="0" lang="tr-TR" sz="1800" spc="-1" strike="noStrike">
                <a:solidFill>
                  <a:srgbClr val="000000"/>
                </a:solidFill>
                <a:latin typeface="Tahoma"/>
              </a:rPr>
              <a:t>” ve</a:t>
            </a: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iletişim için yönlendirilmiş</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a:t>
            </a:r>
            <a:r>
              <a:rPr b="0" lang="en-US" sz="1800" spc="-1" strike="noStrike">
                <a:solidFill>
                  <a:srgbClr val="000000"/>
                </a:solidFill>
                <a:latin typeface="Tahoma"/>
              </a:rPr>
              <a:t>bidirectional</a:t>
            </a:r>
            <a:r>
              <a:rPr b="0" lang="tr-TR"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nten için tipik olarak erişim mesafesi 45 m civarınd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erel düzenlemelerin elverdiği durumlarda yüksek kazançlı antenler ve güçlendiricilerle mesafe 40 Km ve üstüne çıkabil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iletim için kullanılan antenler LAN’ lar arası köprüleme için tercih edilmekte olup görüş hizasının sağlanmasını gerektir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t>
            </a:r>
            <a:r>
              <a:rPr b="0" lang="en-US" sz="2000" spc="-1" strike="noStrike">
                <a:solidFill>
                  <a:srgbClr val="000000"/>
                </a:solidFill>
                <a:latin typeface="Tahoma"/>
              </a:rPr>
              <a:t>Omni directional</a:t>
            </a:r>
            <a:r>
              <a:rPr b="0" lang="tr-TR" sz="2000" spc="-1" strike="noStrike">
                <a:solidFill>
                  <a:srgbClr val="000000"/>
                </a:solidFill>
                <a:latin typeface="Tahoma"/>
              </a:rPr>
              <a:t>” uygulamalarda erişim cihazının (baz istasyonunun) yerleşimi çok önemlidir. Radyo frekans girişimlerine dikkat edilmelid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iletişim teknolojisi, en basit tanımıyla, noktadan noktaya veya bir ağ yapısı şeklinde bağlantı sağlayan bir teknolojidi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açıdan bakıldığında kablosuz iletişim teknolojisi, günümüzde yaygın olarak kullanılan kablolu veya fiberoptik iletişim yapılarıyla benzerlik göstermektedi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iletişim teknolojisini diğerlerinden ayıran nokta ise, iletim ortamı olarak havayı kullanmasıdı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etal kablolar, elektrik akımını iletirken kablosuz ve optik iletim sistemleri belli frekanstan elektro manyetik dalga iletmektedir.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Üniversite kampüsünde uygulanan kablosuz LAN’da kullanılan antenler</a:t>
            </a:r>
            <a:r>
              <a:rPr b="0" lang="tr-TR" sz="4400" spc="-1" strike="noStrike">
                <a:solidFill>
                  <a:srgbClr val="333399"/>
                </a:solidFill>
                <a:latin typeface="Tahoma"/>
              </a:rPr>
              <a:t> </a:t>
            </a:r>
            <a:endParaRPr b="0" lang="en-US" sz="4400" spc="-1" strike="noStrike">
              <a:solidFill>
                <a:srgbClr val="333399"/>
              </a:solidFill>
              <a:latin typeface="Tahoma"/>
            </a:endParaRPr>
          </a:p>
        </p:txBody>
      </p:sp>
      <p:pic>
        <p:nvPicPr>
          <p:cNvPr id="145" name="Picture 3" descr=""/>
          <p:cNvPicPr/>
          <p:nvPr/>
        </p:nvPicPr>
        <p:blipFill>
          <a:blip r:embed="rId1"/>
          <a:stretch/>
        </p:blipFill>
        <p:spPr>
          <a:xfrm>
            <a:off x="0" y="2060640"/>
            <a:ext cx="9144000" cy="466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da Güvenlik</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ağlarda güvenlik üzerinde en çok durulması gereken konulardan birid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Genel olarak radyo işaretlerinin havadan iletilmesi bu işaretlerin izlenebilmesini ve takip edilebilmesine olanak sağlamakt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mikro dalga iletim sistemleri izlenmesi çok zor bir haberleşme yöntemidir ancak noktadan çok noktaya iletimler teknik açıdan izlenmesi daha kolay bir haberleşme türüdü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u tür sistemlerde dahili kriptolama özellikleri mevcut olmasında rağmen son yıllarda yapılan çalışmalar bu tür sistemlerin saldırıya sanıldığından daha zayıf olduğunu göstermişt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Güvenliği artırmak için en basit yaklaşım VPN teknolojilerinin, kablosuz haberleşme sistemleri ile birlikte kullanılmasıdır ancak bu yaklaşım maliyetlerin artmasına neden olmaktad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Kablosuz Ağları Güvenli Hale Getirme</a:t>
            </a:r>
            <a:r>
              <a:rPr b="0" lang="tr-TR" sz="4400" spc="-1" strike="noStrike">
                <a:solidFill>
                  <a:srgbClr val="333399"/>
                </a:solidFill>
                <a:latin typeface="Tahoma"/>
              </a:rPr>
              <a:t> </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AC Adres Filtreleme</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u metot, AP ile iletişim kurmaya izin verilmiş kullanıcıların kablosuz ağ kartlarının MAC adreslerinin listelenmesi ve kullanılmasıdır.</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EP</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Paylaşılmış olan gizli anahtar mantığına dayalıdır. Bu anahtar veri paketlerini göndermeden önce şifrelemek ve bunların veri bütünlüğünü kontrol etmek için kullanılır.</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a giriş  anahtarını bilen herkes kablosuz ağa dahil olabilir. Kullanıcılardan birinin WEP anahtarını birine vermesi/çaldırması sonucunda WEP kullanarak güvence altına alınan kablosuz ağda güvenlikten eser kalmayacakt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Kablosuz Ağları Güvenli Hale Getirme</a:t>
            </a:r>
            <a:endParaRPr b="0" lang="en-US" sz="3600" spc="-1" strike="noStrike">
              <a:solidFill>
                <a:srgbClr val="333399"/>
              </a:solidFill>
              <a:latin typeface="Tahoma"/>
            </a:endParaRPr>
          </a:p>
        </p:txBody>
      </p:sp>
      <p:sp>
        <p:nvSpPr>
          <p:cNvPr id="151" name="PlaceHolder 2"/>
          <p:cNvSpPr>
            <a:spLocks noGrp="1"/>
          </p:cNvSpPr>
          <p:nvPr>
            <p:ph/>
          </p:nvPr>
        </p:nvSpPr>
        <p:spPr>
          <a:xfrm>
            <a:off x="1182600" y="2017440"/>
            <a:ext cx="7772400" cy="48402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WPA</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EP’de çıkan güvenlik açıklarının giderilmesi ve yeni özelliklerin eklenmesi ile çıkarılmış güvenlik protokolü.</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Erişim Noktasını görünmez kılma: SSID Saklama</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SID: Access Point’in tanımlayıcı adı.</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rişim noktaları, ortamdaki kablosuz cihazların kendisini bulabilmesi için kendilerini devamlı anons ederler.</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venlik önlemi olarak bu anonsları yaptırmayabiliriz ve sadece erişim noktasının adını bilen cihazlar kablosuz ağa dahil olabil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da Keşif</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ablosuz ağlarda keşif civar çevrede bulunan erişim noktalarının tespitidi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Çeşitli programlar kullanılabilir fakat bunlardan en önemlileri ve iş yapar durumda olanları Windows sistemler için Netstumbler, Linux sistemler için Kismet’dir. Kismet aynı zamanda Windows işletim sisteminde de çalışabilmektedi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İletişim Yöntemleri</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Kızılötes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Radyo yayını</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a:t>
            </a:r>
            <a:r>
              <a:rPr b="0" lang="tr-TR" sz="3200" spc="-1" strike="noStrike">
                <a:solidFill>
                  <a:srgbClr val="000000"/>
                </a:solidFill>
                <a:latin typeface="Tahoma"/>
              </a:rPr>
              <a:t>k</a:t>
            </a:r>
            <a:r>
              <a:rPr b="0" lang="en-US" sz="3200" spc="-1" strike="noStrike">
                <a:solidFill>
                  <a:srgbClr val="000000"/>
                </a:solidFill>
                <a:latin typeface="Tahoma"/>
              </a:rPr>
              <a:t>ro</a:t>
            </a:r>
            <a:r>
              <a:rPr b="0" lang="tr-TR" sz="3200" spc="-1" strike="noStrike">
                <a:solidFill>
                  <a:srgbClr val="000000"/>
                </a:solidFill>
                <a:latin typeface="Tahoma"/>
              </a:rPr>
              <a:t>dalga</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stasyonla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uetoot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Uydu</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link/Downlin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ve kablolu ağın ortak kullanımı</a:t>
            </a:r>
            <a:endParaRPr b="0" lang="en-US" sz="4400" spc="-1" strike="noStrike">
              <a:solidFill>
                <a:srgbClr val="333399"/>
              </a:solidFill>
              <a:latin typeface="Tahoma"/>
            </a:endParaRPr>
          </a:p>
        </p:txBody>
      </p:sp>
      <p:pic>
        <p:nvPicPr>
          <p:cNvPr id="108" name="Picture 4" descr=""/>
          <p:cNvPicPr/>
          <p:nvPr/>
        </p:nvPicPr>
        <p:blipFill>
          <a:blip r:embed="rId1"/>
          <a:stretch/>
        </p:blipFill>
        <p:spPr>
          <a:xfrm>
            <a:off x="900000" y="2017800"/>
            <a:ext cx="7488360" cy="456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 Standartları</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LAN, aslında var olan LAN teknolojilerinin fiziksel katmanının (ethernet vb.) ve kısmen veri bağı (data link) katmanının kablosuz hale getirilmesidir denilebil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amaçla kablosuz LAN için uluslararası standartlar belirtilmişt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standartlara örnek olarak</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EEE (The Institue of Electronic Electronic Engineers- Elektrik Elektronik Mühendisleri Enstitüsü)’ nin belirlediği 802.11, 802.11a, 802.11b ve 802.11g il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TSI (The Eureopean Telecommunication standards Institute) tarafından tanımlanan HiperLAN1 ve HiperLAN2 standartları gösterilebil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 standartlarının karşılaştırılması</a:t>
            </a:r>
            <a:endParaRPr b="0" lang="en-US" sz="4400" spc="-1" strike="noStrike">
              <a:solidFill>
                <a:srgbClr val="333399"/>
              </a:solidFill>
              <a:latin typeface="Tahoma"/>
            </a:endParaRPr>
          </a:p>
        </p:txBody>
      </p:sp>
      <p:graphicFrame>
        <p:nvGraphicFramePr>
          <p:cNvPr id="112" name=""/>
          <p:cNvGraphicFramePr/>
          <p:nvPr/>
        </p:nvGraphicFramePr>
        <p:xfrm>
          <a:off x="324000" y="2060640"/>
          <a:ext cx="8640720" cy="4608360"/>
        </p:xfrm>
        <a:graphic>
          <a:graphicData uri="http://schemas.openxmlformats.org/drawingml/2006/table">
            <a:tbl>
              <a:tblPr/>
              <a:tblGrid>
                <a:gridCol w="1898640"/>
                <a:gridCol w="2327040"/>
                <a:gridCol w="1319400"/>
                <a:gridCol w="1485720"/>
                <a:gridCol w="1609920"/>
              </a:tblGrid>
              <a:tr h="471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Kategori /Standar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Verdana"/>
                          <a:ea typeface="Times New Roman"/>
                        </a:rPr>
                        <a:t>Max. Veri Oranı (Data Rate)</a:t>
                      </a:r>
                      <a:r>
                        <a:rPr b="0" lang="tr-TR" sz="1200" spc="-1" strike="noStrike">
                          <a:solidFill>
                            <a:srgbClr val="000000"/>
                          </a:solidFill>
                          <a:latin typeface="Verdan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Frekans (Hz)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Mesafe (Bina İç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Mesafe (Bina Dışı)</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 (1997)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a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5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20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b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1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8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4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g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8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4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n</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aziran 2009)</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8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5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y</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aziran 2008)</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7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6 (WiMA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66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 0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6a</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WiMA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11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iperLAN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iperLAN2</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omeRF</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45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ctr" pos="48888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r>
                        <a:rPr b="0" lang="tr-TR" sz="1200" spc="-1" strike="noStrike">
                          <a:solidFill>
                            <a:srgbClr val="000000"/>
                          </a:solidFill>
                          <a:latin typeface="Verdan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Bluetooth</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Courier New"/>
                        </a:rPr>
                        <a:t>1</a:t>
                      </a:r>
                      <a:r>
                        <a:rPr b="0" lang="tr-TR" sz="1200" spc="-1" strike="noStrike">
                          <a:solidFill>
                            <a:srgbClr val="000000"/>
                          </a:solidFill>
                          <a:latin typeface="Verdana"/>
                          <a:ea typeface="Times New Roman"/>
                        </a:rPr>
                        <a:t>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 YAPILARI</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İki tip kablosuz ağ yapısı vardı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3300"/>
                </a:solidFill>
                <a:latin typeface="Tahoma"/>
              </a:rPr>
              <a:t>Ad-Hoc veya Peer to Pe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3300"/>
                </a:solidFill>
                <a:latin typeface="Tahoma"/>
              </a:rPr>
              <a:t>Access Point Donanımlı Yapı</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Ad-Hoc veya Peer to Peer  Yapı</a:t>
            </a:r>
            <a:endParaRPr b="0" lang="en-US" sz="40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Her biri kablosuz ağ kartına sahip bilgisayarlardan oluşu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Her bilgisayar direkt olarak istediği bir başka kablosuz donanıma sahip bilgisayarla haberleşerek bu yolla dosya ve yazıcı paylaşımını sağlarl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ccess Point Donanımlı Yapı</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teknolojide, bir kablosuz ağ merkez bir istasyon kullanarak haberleşebili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tip yapıda Access point, kablosuz bilgisayarların iletimini sağlayarak bir hub gibi hareket ed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Diğer adı Infrastructure dı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2T18:07:27Z</dcterms:created>
  <dc:creator>Hatice FINDIK</dc:creator>
  <dc:description/>
  <dc:language>en-US</dc:language>
  <cp:lastModifiedBy>Bilal</cp:lastModifiedBy>
  <dcterms:modified xsi:type="dcterms:W3CDTF">2012-11-27T15:58:22Z</dcterms:modified>
  <cp:revision>9</cp:revision>
  <dc:subject/>
  <dc:title>Kablosuz Ağlar (WLAN)</dc:title>
</cp:coreProperties>
</file>