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075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075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67816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ffff"/>
                </a:solidFill>
                <a:latin typeface="Futura Md BT"/>
              </a:rPr>
              <a:t>SLAYT</a:t>
            </a:r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 </a:t>
            </a:r>
            <a:fld id="{F2DB901D-1FB6-49BE-8B2E-9B4E7680C37F}" type="slidenum">
              <a:rPr b="1" lang="en-US" sz="1000" spc="-1" strike="noStrike">
                <a:solidFill>
                  <a:srgbClr val="ffffff"/>
                </a:solidFill>
                <a:latin typeface="Futura Md BT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logo_2005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922320"/>
          </a:xfrm>
          <a:prstGeom prst="rect">
            <a:avLst/>
          </a:prstGeom>
          <a:ln w="0">
            <a:noFill/>
          </a:ln>
        </p:spPr>
      </p:pic>
      <p:sp>
        <p:nvSpPr>
          <p:cNvPr id="6" name="7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7816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ffff"/>
                </a:solidFill>
                <a:latin typeface="Futura Md BT"/>
              </a:rPr>
              <a:t>SLAYT</a:t>
            </a:r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 </a:t>
            </a:r>
            <a:fld id="{2DF1361A-E050-4DF7-802C-DCC69D11A76C}" type="slidenum">
              <a:rPr b="1" lang="en-US" sz="1000" spc="-1" strike="noStrike">
                <a:solidFill>
                  <a:srgbClr val="ffffff"/>
                </a:solidFill>
                <a:latin typeface="Futura Md BT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4" descr="logo_2005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922320"/>
          </a:xfrm>
          <a:prstGeom prst="rect">
            <a:avLst/>
          </a:prstGeom>
          <a:ln w="0">
            <a:noFill/>
          </a:ln>
        </p:spPr>
      </p:pic>
      <p:sp>
        <p:nvSpPr>
          <p:cNvPr id="47" name="7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8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ed.see.plymouth.ac.uk/bogda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Futura Md BT"/>
              </a:rPr>
              <a:t>Ağ Standartları ve Protokolleri</a:t>
            </a:r>
            <a:endParaRPr b="0" lang="en-US" sz="44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64310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 Narrow"/>
              </a:rPr>
              <a:t>Kaynak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gdan Ghita –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ed.see.plymouth.ac.uk/bogdan</a:t>
            </a: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 -- http://www.bilisimogretmeni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n avantaj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lar arasında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nd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 arayüz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elli bir katman içindeki iç gelişmelerin evrilmesine olanak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 katmanda alternatif hizmetler veril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 aracılığıyla sunulan farklı seçenekler ve yollar vasıtası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iç mekanizmaları diğer katmanlara gözükm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lar gerekli değilse tamamen kaldırılmalıdır ya da daha basit sürümlerle değişti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ğ standart örgüt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2120" y="1790640"/>
            <a:ext cx="7991640" cy="41148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luslararası Standartlar Örgüt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I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SI de dahil bir dizi standart geliştir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 Mühendislik Görev Gücü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ET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est For Comment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RFC)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elgelerini yay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ğıtını ve ilgili protokolleri gelişti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vrupa Telekomünikasyon Standartları Enstitüsü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T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e diğer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ISO OSI Refer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ns 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Model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I - Open Systems Inter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tarafından geliştirild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9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nik Komi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7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t komi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77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SI (Distributed SI)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olarak başlad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de gözden geçiril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-7498 standard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nda tanımland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öneri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rtak bir terminoloji ve ağ çerçevesi sağ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(Open System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nterconnection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I –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şirketler tarafından üretilen bilgisayarların birbiriyle iletişim kurmasını sağlayan iletişim standar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ğ çerçeves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&gt; REFE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vcut kurulumlar buna dayanı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sistemler için tasarland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nımlanan standartlara, formatlara ve anlamlara (semantics) uyan sistemle iletişime olanak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 Hizmet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219320"/>
          <a:ext cx="8229600" cy="5127480"/>
        </p:xfrm>
        <a:graphic>
          <a:graphicData uri="http://schemas.openxmlformats.org/drawingml/2006/table">
            <a:tbl>
              <a:tblPr/>
              <a:tblGrid>
                <a:gridCol w="2448000"/>
                <a:gridCol w="57816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826920" y="1052640"/>
          <a:ext cx="7777440" cy="531792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OSI’de Verilerin Ad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2"/>
          <p:cNvSpPr/>
          <p:nvPr/>
        </p:nvSpPr>
        <p:spPr>
          <a:xfrm flipV="1">
            <a:off x="7615080" y="1838160"/>
            <a:ext cx="1800" cy="37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rc 3"/>
          <p:cNvSpPr/>
          <p:nvPr/>
        </p:nvSpPr>
        <p:spPr>
          <a:xfrm rot="5400000">
            <a:off x="7126200" y="5543640"/>
            <a:ext cx="434880" cy="54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rc 4"/>
          <p:cNvSpPr/>
          <p:nvPr/>
        </p:nvSpPr>
        <p:spPr>
          <a:xfrm flipH="1" rot="16200000">
            <a:off x="1154160" y="5543640"/>
            <a:ext cx="434880" cy="54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1643040" y="6032520"/>
            <a:ext cx="542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 flipV="1">
            <a:off x="1100160" y="1838160"/>
            <a:ext cx="1440" cy="3795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1933200" y="513072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1933200" y="281448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 flipH="1">
            <a:off x="1933200" y="339408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933200" y="400860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 flipH="1">
            <a:off x="1933200" y="455148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H="1">
            <a:off x="1933200" y="165744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933200" y="223668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4249800" y="1512720"/>
            <a:ext cx="1103400" cy="325440"/>
            <a:chOff x="4249800" y="1512720"/>
            <a:chExt cx="1103400" cy="325440"/>
          </a:xfrm>
        </p:grpSpPr>
        <p:sp>
          <p:nvSpPr>
            <p:cNvPr id="149" name="Text Box 15"/>
            <p:cNvSpPr/>
            <p:nvPr/>
          </p:nvSpPr>
          <p:spPr>
            <a:xfrm>
              <a:off x="4604400" y="1512720"/>
              <a:ext cx="74880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6"/>
            <p:cNvSpPr/>
            <p:nvPr/>
          </p:nvSpPr>
          <p:spPr>
            <a:xfrm>
              <a:off x="4249800" y="1512720"/>
              <a:ext cx="35460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3922560" y="2092320"/>
            <a:ext cx="1460520" cy="325440"/>
            <a:chOff x="3922560" y="2092320"/>
            <a:chExt cx="1460520" cy="325440"/>
          </a:xfrm>
        </p:grpSpPr>
        <p:sp>
          <p:nvSpPr>
            <p:cNvPr id="152" name="Text Box 18"/>
            <p:cNvSpPr/>
            <p:nvPr/>
          </p:nvSpPr>
          <p:spPr>
            <a:xfrm>
              <a:off x="4633200" y="2092320"/>
              <a:ext cx="749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4277880" y="2092320"/>
              <a:ext cx="3549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3922560" y="2092320"/>
              <a:ext cx="3553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Text Box 21"/>
          <p:cNvSpPr/>
          <p:nvPr/>
        </p:nvSpPr>
        <p:spPr>
          <a:xfrm>
            <a:off x="2543040" y="4983120"/>
            <a:ext cx="3251160" cy="325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6491160" y="14763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7 -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491160" y="437184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2 – Data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6491160" y="379260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 –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6491160" y="20559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 – Pres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6491160" y="2633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5 –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6491160" y="321300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 –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6491160" y="4946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 -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0" y="14763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7 -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0" y="437184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2 – Data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0" y="379260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 –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0" y="20559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 – Pres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0" y="2633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5 –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4"/>
          <p:cNvSpPr/>
          <p:nvPr/>
        </p:nvSpPr>
        <p:spPr>
          <a:xfrm>
            <a:off x="0" y="321300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 –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0" y="4946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 -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6"/>
          <p:cNvSpPr/>
          <p:nvPr/>
        </p:nvSpPr>
        <p:spPr>
          <a:xfrm>
            <a:off x="6962760" y="927000"/>
            <a:ext cx="1262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7"/>
          <p:cNvSpPr/>
          <p:nvPr/>
        </p:nvSpPr>
        <p:spPr>
          <a:xfrm>
            <a:off x="436680" y="927000"/>
            <a:ext cx="14065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–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Veri akış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pSp>
        <p:nvGrpSpPr>
          <p:cNvPr id="173" name="Group 39"/>
          <p:cNvGrpSpPr/>
          <p:nvPr/>
        </p:nvGrpSpPr>
        <p:grpSpPr>
          <a:xfrm>
            <a:off x="3559320" y="2657520"/>
            <a:ext cx="1823400" cy="326880"/>
            <a:chOff x="3559320" y="2657520"/>
            <a:chExt cx="1823400" cy="326880"/>
          </a:xfrm>
        </p:grpSpPr>
        <p:sp>
          <p:nvSpPr>
            <p:cNvPr id="174" name="Text Box 40"/>
            <p:cNvSpPr/>
            <p:nvPr/>
          </p:nvSpPr>
          <p:spPr>
            <a:xfrm>
              <a:off x="4633920" y="2657520"/>
              <a:ext cx="74880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41"/>
            <p:cNvSpPr/>
            <p:nvPr/>
          </p:nvSpPr>
          <p:spPr>
            <a:xfrm>
              <a:off x="427824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42"/>
            <p:cNvSpPr/>
            <p:nvPr/>
          </p:nvSpPr>
          <p:spPr>
            <a:xfrm>
              <a:off x="391464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55932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44"/>
          <p:cNvGrpSpPr/>
          <p:nvPr/>
        </p:nvGrpSpPr>
        <p:grpSpPr>
          <a:xfrm>
            <a:off x="3241800" y="3213000"/>
            <a:ext cx="2170080" cy="325440"/>
            <a:chOff x="3241800" y="3213000"/>
            <a:chExt cx="2170080" cy="325440"/>
          </a:xfrm>
        </p:grpSpPr>
        <p:sp>
          <p:nvSpPr>
            <p:cNvPr id="179" name="Text Box 45"/>
            <p:cNvSpPr/>
            <p:nvPr/>
          </p:nvSpPr>
          <p:spPr>
            <a:xfrm>
              <a:off x="4662720" y="3213000"/>
              <a:ext cx="7491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46"/>
            <p:cNvSpPr/>
            <p:nvPr/>
          </p:nvSpPr>
          <p:spPr>
            <a:xfrm>
              <a:off x="430704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7"/>
            <p:cNvSpPr/>
            <p:nvPr/>
          </p:nvSpPr>
          <p:spPr>
            <a:xfrm>
              <a:off x="3953160" y="321300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8"/>
            <p:cNvSpPr/>
            <p:nvPr/>
          </p:nvSpPr>
          <p:spPr>
            <a:xfrm>
              <a:off x="359748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49"/>
            <p:cNvSpPr/>
            <p:nvPr/>
          </p:nvSpPr>
          <p:spPr>
            <a:xfrm>
              <a:off x="324180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50"/>
          <p:cNvGrpSpPr/>
          <p:nvPr/>
        </p:nvGrpSpPr>
        <p:grpSpPr>
          <a:xfrm>
            <a:off x="2901960" y="3863880"/>
            <a:ext cx="2523960" cy="326880"/>
            <a:chOff x="2901960" y="3863880"/>
            <a:chExt cx="2523960" cy="326880"/>
          </a:xfrm>
        </p:grpSpPr>
        <p:sp>
          <p:nvSpPr>
            <p:cNvPr id="185" name="Text Box 51"/>
            <p:cNvSpPr/>
            <p:nvPr/>
          </p:nvSpPr>
          <p:spPr>
            <a:xfrm>
              <a:off x="4676760" y="3865320"/>
              <a:ext cx="7491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52"/>
            <p:cNvSpPr/>
            <p:nvPr/>
          </p:nvSpPr>
          <p:spPr>
            <a:xfrm>
              <a:off x="3967200" y="386532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53"/>
            <p:cNvSpPr/>
            <p:nvPr/>
          </p:nvSpPr>
          <p:spPr>
            <a:xfrm>
              <a:off x="3611520" y="386532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4"/>
            <p:cNvSpPr/>
            <p:nvPr/>
          </p:nvSpPr>
          <p:spPr>
            <a:xfrm>
              <a:off x="3257280" y="3865320"/>
              <a:ext cx="35424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55"/>
            <p:cNvSpPr/>
            <p:nvPr/>
          </p:nvSpPr>
          <p:spPr>
            <a:xfrm>
              <a:off x="2901960" y="3865320"/>
              <a:ext cx="3553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56"/>
            <p:cNvSpPr/>
            <p:nvPr/>
          </p:nvSpPr>
          <p:spPr>
            <a:xfrm>
              <a:off x="4321080" y="3863880"/>
              <a:ext cx="35568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57"/>
          <p:cNvGrpSpPr/>
          <p:nvPr/>
        </p:nvGrpSpPr>
        <p:grpSpPr>
          <a:xfrm>
            <a:off x="2543040" y="4406760"/>
            <a:ext cx="3251160" cy="327240"/>
            <a:chOff x="2543040" y="4406760"/>
            <a:chExt cx="3251160" cy="327240"/>
          </a:xfrm>
        </p:grpSpPr>
        <p:sp>
          <p:nvSpPr>
            <p:cNvPr id="192" name="Text Box 58"/>
            <p:cNvSpPr/>
            <p:nvPr/>
          </p:nvSpPr>
          <p:spPr>
            <a:xfrm>
              <a:off x="4676760" y="4408560"/>
              <a:ext cx="7477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59"/>
            <p:cNvSpPr/>
            <p:nvPr/>
          </p:nvSpPr>
          <p:spPr>
            <a:xfrm>
              <a:off x="396216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60"/>
            <p:cNvSpPr/>
            <p:nvPr/>
          </p:nvSpPr>
          <p:spPr>
            <a:xfrm>
              <a:off x="3608280" y="440856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61"/>
            <p:cNvSpPr/>
            <p:nvPr/>
          </p:nvSpPr>
          <p:spPr>
            <a:xfrm>
              <a:off x="325260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62"/>
            <p:cNvSpPr/>
            <p:nvPr/>
          </p:nvSpPr>
          <p:spPr>
            <a:xfrm>
              <a:off x="2898720" y="440856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63"/>
            <p:cNvSpPr/>
            <p:nvPr/>
          </p:nvSpPr>
          <p:spPr>
            <a:xfrm>
              <a:off x="254304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64"/>
            <p:cNvSpPr/>
            <p:nvPr/>
          </p:nvSpPr>
          <p:spPr>
            <a:xfrm>
              <a:off x="5425920" y="4408560"/>
              <a:ext cx="3682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65"/>
            <p:cNvSpPr/>
            <p:nvPr/>
          </p:nvSpPr>
          <p:spPr>
            <a:xfrm>
              <a:off x="4321080" y="4406760"/>
              <a:ext cx="355680" cy="327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OSI Katmanları Arasında Veri Aktarımı</a:t>
            </a:r>
            <a:endParaRPr b="0" lang="en-US" sz="32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01" name="Picture 4" descr="MCj03252340000[1]"/>
          <p:cNvPicPr/>
          <p:nvPr/>
        </p:nvPicPr>
        <p:blipFill>
          <a:blip r:embed="rId1"/>
          <a:stretch/>
        </p:blipFill>
        <p:spPr>
          <a:xfrm>
            <a:off x="250920" y="1341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MCj02816080000[1]"/>
          <p:cNvPicPr/>
          <p:nvPr/>
        </p:nvPicPr>
        <p:blipFill>
          <a:blip r:embed="rId2"/>
          <a:stretch/>
        </p:blipFill>
        <p:spPr>
          <a:xfrm>
            <a:off x="7667640" y="1413000"/>
            <a:ext cx="719280" cy="711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79280" y="907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093080" y="98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476360" y="1557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156360" y="141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11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209" name="Text Box 12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6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9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21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22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24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25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26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224" name="Text Box 27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28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29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30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31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32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33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34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5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36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37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38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39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40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41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5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5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6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7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Sarma (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72" name="Picture 4" descr="encapsulation"/>
          <p:cNvPicPr/>
          <p:nvPr/>
        </p:nvPicPr>
        <p:blipFill>
          <a:blip r:embed="rId1"/>
          <a:stretch/>
        </p:blipFill>
        <p:spPr>
          <a:xfrm>
            <a:off x="2031840" y="1911240"/>
            <a:ext cx="50803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Plan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34520" cy="279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88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 standartlar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çık Sistemler Arabağlantısı Modeli (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OS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Systems Interconnec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model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742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nı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742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SI yaklaşımıyla ilgili sorun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OSI – TCP/IP İlişki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Sonu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74" name="Picture 4" descr="ruleride"/>
          <p:cNvPicPr/>
          <p:nvPr/>
        </p:nvPicPr>
        <p:blipFill>
          <a:blip r:embed="rId1"/>
          <a:stretch/>
        </p:blipFill>
        <p:spPr>
          <a:xfrm>
            <a:off x="1332000" y="1089000"/>
            <a:ext cx="61927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örnekle bu katmanlar meselesine yaklaşalım: Eski zamanda iki ülke hükümdarından birinin diğerine bir mektup yollamak istediğini hayal edel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hükümdar, hiçbir zaman göndereceği bir mesaja muhatap olarak, protokolde kendisinden daha alt seviyedeki bir insanı alm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ifade ne anlama geliy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i hükümdarın muhatabı ancak diğer ülkenin hükümdar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diğer nokta da, söylemek istediği şeyleri hükümdarlar arasında alışılagelmiş bir ortak üsluba dikkat ederek söyler. Yani birbirlerinin ne demek istediklerini gayet iyi anlamakt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raya kadar olan kısım mektubun içeriğiyle alakalıydı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eki mektubun iletilmesi problemini hükümdar nasıl çözec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şini gücünü bırakıp atına binerek dört nala sürecek m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oldan geçen herhangi bir atlıya rica mı edecek? Ya da bütün yolculuk organizasyonunu kendisi mi yapaca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yır, bunların hiçbiri değ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Cevabı siz de tahmin etmiş olmalısını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n güvendiği bir vezirini çağırıp; "Şu mektubun icabına bak!" diyecekt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 şekilde bütün işinin gücünün arasında, herhangi bir mektuba mesaisini ayırmaktan kurtulmuş ol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esap sormak istediğinde de yalnız bir tek kişiyle muhatap ol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eki vezir ne yap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Onun da işi başından aşkı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lbette o da kendinden bir alt kademedeki memuruna bu işi havale eder. Ta ki atlı elçiye mektubun teslim edilmesi olayına ka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ukarıda tarif edilen yöntemle her birim bir altındaki birime bir görev havale ediyor, o görevin nasıl yapılması gerektiğini, hassasiyetlerini, inceliklerini vb. ayrıntıları en iyi şekilde biliyor ve kendinden bir üstteki birime karşı da göreviyle alakalı sorumluluk duyuyor. Ve tabii gerektiğinde hesabını da oraya veriy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uraya kadar anlatılmış olan bu hikaye, bilgisayar ağlarının haberleşme algoritmasına karşılık hayali bir yaklaşım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ikayede adı geçen birimler, haberleşmede birazdan tarif edilecek katmanlara karşılık ge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En alt birim olan atlı-elçi, fiziksel katman adı verilmiş olan ve bilgisayarlarımız arasına döşenen kablolar ile içlerinden akan sinyaller olarak düşünüle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m nasıl bir atlının yolu üzerinde başına bir iş gelse veya atı hastalanıp ölse, o problemini kendi uzmanlık alanı olduğu şekliyle çözerek aldığı görevi yerine getirir ve hükümdarın da bundan haberi bile olmaz; haberleşen sistemlerde de üstteki katman alttaki katmana yapması gereken işi söyler ve yapılıp yapılmadığını kontrol eder, ama oranın kendi iç problemlerinin ne olduğuyla ilgilenm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Çünkü üst katmanın asıl işi kendisine ait olan problemleri çözmektir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Yapılan işlemleri birbirlerinden ayrı düşünmenin bir faydası da bunları modül modül ele alarak kazanılmış olan tasarım esnekliği avantaj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asarımcılar her seviye üzerine ayrı ayrı konsantre olabilir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SO uzmanları oturmuşlar, tartışmışlar ve bu seviyelere bir standart getirmişler, onlara katmanlar olarak adlarını vermişler ve yapacakları işleri ayrıntılı bir şekilde tarif etmişlerd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OSI Modelinin Katma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8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9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4697280" y="3670200"/>
            <a:ext cx="15130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1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Fizi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t’leri bir bilgisayardan diğerine iletir ve bağlantıyı yöne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u katmanda tanımlanan standartlar taşınan verinin içeriğiyle ilgilenmezler. Daha çok işaretin şekli,fiziksel katmanda kullanılacak konnektör türü, kablo türü gibi elektriksel ve mekanik özelliklerle ilgil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ub’lar fiziksel katmanda tanımlı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10BaseT, 100BaseT, UTP, RJ-45, IEEE 802.5 (Token Ring) vb. standart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eri bağlantı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m iletim hattını hatalardan arındırılmış bir bağlantıya dönüştür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t’leri çerçeve olarak paketler ve teslimatı kontrol 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len çerçevenin doğru mu yoksa yanlış mı iletildiğini kontrol eder, eğer çerçeve hatalı iletilmişse çerçevenin yeniden gönderilmesin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yrıca ağ üzerindeki diğer bilgisayarları tanımlama, kablonun o anda kimin tarafından kullanıldığının tespitini ya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: Ethernet, Frame Relay, ISDN, Switch v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310" name="Rectangle 3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4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Rectangle 8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Futura Md BT"/>
              </a:rPr>
              <a:t>Veri İletim Katmanı İki Alt Katmandan Oluşu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541000" cy="49687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dia Access Control (MA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MAC alt katmanı veriyi hata kontrol kodu (CRC), alıcı ve gönderenin MAC adresleri ile beraber paketler ve fiziksel katmana aktar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lıcı tarafta da bu işlemleri tersine yapıp veriyi veri bağlantısı içindeki ikinci alt katman olan LLC'ye aktarmak görevi yine MAC alt katmanına ait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gical Link Control (LL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LC alt katmanı bir üst katman olan ağ katmanı için geçiş görevi görür. Protokole özel mantıksal portlar oluşturur (</a:t>
            </a:r>
            <a:r>
              <a:rPr b="0" i="1" lang="tr-TR" sz="2000" spc="-1" strike="noStrike">
                <a:solidFill>
                  <a:srgbClr val="000000"/>
                </a:solidFill>
                <a:latin typeface="Arial"/>
              </a:rPr>
              <a:t>Service Access Points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, SAP). Böylece kaynak makinede ve hedef makinede aynı protokoller iletişime geçebilir (örneğin TCP/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LC ayrıca veri paketlerinden bozuk gidenlerin (veya karşı taraf için alınanların) tekrar gönderilmesinden sorumludur. </a:t>
            </a:r>
            <a:r>
              <a:rPr b="0" i="1" lang="tr-TR" sz="2000" spc="-1" strike="noStrike">
                <a:solidFill>
                  <a:srgbClr val="000000"/>
                </a:solidFill>
                <a:latin typeface="Arial"/>
              </a:rPr>
              <a:t>Flow Control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yani alıcının işleyebileceğinden fazla veri paketi gönderilerek boğulmasının engellenmesi de LLC'nin görevi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265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Bilgisayar Ağ Mimari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ugün kullanımda olan birçok </a:t>
            </a: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mimari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 v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. TCP/IP, Novell IPX, AppleTal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 mimarisinin üst düzey tanımı aşağıdakileri içer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r işletme kavramı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r dizi amaç ve hede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Ve protokollerin üst düzey tanım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SI terminolojisinde buna </a:t>
            </a:r>
            <a:r>
              <a:rPr b="0" i="1" lang="tr-TR" sz="2600" spc="-1" strike="noStrike">
                <a:solidFill>
                  <a:srgbClr val="000000"/>
                </a:solidFill>
                <a:latin typeface="Arial"/>
              </a:rPr>
              <a:t>Referans Modeli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 den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 (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devaml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üzerinden verileri kaynaktan hedefe ile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katman, veri paketlerinin ağ adreslerini kullanarak bu paketleri uygun ağlara yönlendirme işini ya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 paketleri için uygun yolu kararlaştırır ve paket sayısını denetleyerek yoğunluğu ön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resleme işlemlerini (Mantıksal adres ve fiziksel adres çevrimleri) yürüt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önlendiriciler (Router) bu katmanda tanımlıdı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ek; IP ve I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Uçtan uca verinin iletimini ve tutarlılığını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katman 5-7 ve 1-3 arası katmanlar arası bağlantıyı sağ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Üst katmandan aldığı verileri bölümlere (segment) ayırarak bir alt katmana il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üst katmana bu bölümleri birleştirerek su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düğüm arasında mantıksal bir bağlantının kurulmasını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ynı zamanda akış kontrolü (flow control) kullanarak karşı tarafa gönderilen verinin yerine ulaşıp ulaşmadığını kontrol 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rşı tarafa gönderilen bölümlerin gönderilen sırayla birleştirilmesin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ek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, UDP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atagram Protoco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PX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 (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devaml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tu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makine üzerindeki işletim sisteminin müşterilerinin başka bir makine üzerindeki işletim sisteminin müşterileriyle oturum açmasını ve iletişim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u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lerin temsiliyle ilgilidir (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arklı donanım, işletim sistemleri arası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ygul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nel kullanım için standart protokolleri içe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osya transfer protokolle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-po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a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rmina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hangi bir hizmet programı müşterilerin kullanması gereken bir uygulama düzeyi protokolü tanımlayab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3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Oturum (Session) Katmanı İletişim Türleri</a:t>
            </a:r>
            <a:endParaRPr b="0" lang="en-US" sz="32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ek yönlü (Sim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Yarı çift yönlü (Half-Du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ift yönlü (Full-Du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326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9" name="Picture 8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10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1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13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4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Temel Kavram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440" y="1638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Hiz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ın ne yaptığını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endi üstündeki varlıkların nasıl eriştiğini veya nasıl çalıştığını tanımlam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rayü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endi üstündeki varlıkların nasıl erişeceklerini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arametrelerin neler olduğunu ve hangi sonuçların beklenmesi gerektiğini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ın nasıl çalıştığını tanımla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i sunulan hizmetleri sağ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 Soru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8200" y="1714680"/>
            <a:ext cx="875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Zamanlam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- TCP/IP proto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olleri zaten yaygın kullanımdayd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noloj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7 katman optimal değil (ö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turum ve Sunum katmanlarının pek işlevleri yo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maşıklı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urulum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lk kurulumlar hantal ve yavaştı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yaset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ürokratik örgütlerce empoze edilen daha aşağı standart olarak algıland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AMA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vramsal mimari olarak değer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şılaştırma amaçlı bir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fer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ns model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’ye Haritalam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: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Yerel ağlar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Yerel ağ işlevleri OSI’nin 1. ve 2. katmanlarına eşit ve şu hususlarla ilgi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ost’lar arasında çatışma olmadan ortama düzenli bir şekilde nasıl erişi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m ortamında fiziksel sinyal nasıl veri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aha yüksek düzeylerde veri aktarımın tutarlılığı nasıl sağlanac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-11160" y="2227320"/>
          <a:ext cx="9677520" cy="416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2227320"/>
                    <a:ext cx="967752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’ye Haritalam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: TCP/IP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- TCP/IP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Haritalamas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1041480" y="1949400"/>
            <a:ext cx="2233080" cy="3438360"/>
            <a:chOff x="1041480" y="1949400"/>
            <a:chExt cx="2233080" cy="3438360"/>
          </a:xfrm>
        </p:grpSpPr>
        <p:sp>
          <p:nvSpPr>
            <p:cNvPr id="350" name="Rectangle 4"/>
            <p:cNvSpPr/>
            <p:nvPr/>
          </p:nvSpPr>
          <p:spPr>
            <a:xfrm>
              <a:off x="1041480" y="194940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5"/>
            <p:cNvSpPr/>
            <p:nvPr/>
          </p:nvSpPr>
          <p:spPr>
            <a:xfrm>
              <a:off x="1041480" y="243144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Sun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1041480" y="293220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Otur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1041480" y="341532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İleti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1041480" y="391536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9"/>
            <p:cNvSpPr/>
            <p:nvPr/>
          </p:nvSpPr>
          <p:spPr>
            <a:xfrm>
              <a:off x="1041480" y="439812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Bağlant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10"/>
            <p:cNvSpPr/>
            <p:nvPr/>
          </p:nvSpPr>
          <p:spPr>
            <a:xfrm>
              <a:off x="1041480" y="489888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Rectangle 11"/>
          <p:cNvSpPr/>
          <p:nvPr/>
        </p:nvSpPr>
        <p:spPr>
          <a:xfrm>
            <a:off x="3529080" y="1960560"/>
            <a:ext cx="696960" cy="126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530520" y="3232080"/>
            <a:ext cx="230040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3529080" y="3914640"/>
            <a:ext cx="4649760" cy="48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3529080" y="4397400"/>
            <a:ext cx="4649760" cy="48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Herhangi bir veri bağlantı protokol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3529080" y="4897440"/>
            <a:ext cx="4649760" cy="48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Herhangi bir fiziksel katman protokol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6"/>
          <p:cNvSpPr/>
          <p:nvPr/>
        </p:nvSpPr>
        <p:spPr>
          <a:xfrm>
            <a:off x="5824440" y="3422520"/>
            <a:ext cx="2351160" cy="48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 rot="16200000">
            <a:off x="3300840" y="23515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8"/>
          <p:cNvSpPr/>
          <p:nvPr/>
        </p:nvSpPr>
        <p:spPr>
          <a:xfrm>
            <a:off x="4224240" y="1957320"/>
            <a:ext cx="696960" cy="127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9"/>
          <p:cNvSpPr/>
          <p:nvPr/>
        </p:nvSpPr>
        <p:spPr>
          <a:xfrm>
            <a:off x="7477200" y="1967040"/>
            <a:ext cx="696960" cy="14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0"/>
          <p:cNvSpPr/>
          <p:nvPr/>
        </p:nvSpPr>
        <p:spPr>
          <a:xfrm rot="16200000">
            <a:off x="4208040" y="2362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1"/>
          <p:cNvSpPr/>
          <p:nvPr/>
        </p:nvSpPr>
        <p:spPr>
          <a:xfrm rot="16200000">
            <a:off x="7292880" y="24105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6777000" y="1963800"/>
            <a:ext cx="696960" cy="14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3"/>
          <p:cNvSpPr/>
          <p:nvPr/>
        </p:nvSpPr>
        <p:spPr>
          <a:xfrm rot="16200000">
            <a:off x="6720480" y="24415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4"/>
          <p:cNvSpPr/>
          <p:nvPr/>
        </p:nvSpPr>
        <p:spPr>
          <a:xfrm>
            <a:off x="4921200" y="1962000"/>
            <a:ext cx="19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5"/>
          <p:cNvSpPr/>
          <p:nvPr/>
        </p:nvSpPr>
        <p:spPr>
          <a:xfrm>
            <a:off x="4659480" y="2373480"/>
            <a:ext cx="2350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Niçin protokol gerekli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er iletişim “kuralları”nı temsil ed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ygıt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letişimi nasıl başlatı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şlangıçta hangi özellikler pazarlık konu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söz dağarcığ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Yani hangi istekler (komutlar) verilebilir ve geçerli yanıtlar neler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Ne tür veriler gönderileb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düzgün bir biçimde nasıl sona 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Mimari Modeller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11080"/>
            <a:ext cx="7772400" cy="438444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maşık bir nesnenin basitleştirilmiş gösterimid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azı pratik durumlar modele tam oturmaya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üm arabaların yukarıdaki gibi olması beklenem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lar için de aynı şey geçer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2336760" y="2803680"/>
            <a:ext cx="4621320" cy="1203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99560" y="3232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şı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1795320" y="3352680"/>
            <a:ext cx="465120" cy="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294240" y="41068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astik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 flipH="1" flipV="1">
            <a:off x="6210360" y="3968280"/>
            <a:ext cx="309600" cy="297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508440" y="23605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"/>
          <p:cNvSpPr/>
          <p:nvPr/>
        </p:nvSpPr>
        <p:spPr>
          <a:xfrm flipH="1">
            <a:off x="6245280" y="2790720"/>
            <a:ext cx="46512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İnsan-insan iletişim protokolü örneğ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1120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da ayırtmak için İstanbul’da bir otele telefon ediyorsun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şıdaki kişi telefon alıcısının hangi tarafını kulağına dayayacağını, ne kadar yüksek sesle konuşulacağını, aletin kulağa ne kadar yakın tutulacağını 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bağlantı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lan kod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Numar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evril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rehber gerekebil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es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tel personeli telefonu kaldırdığında bağlantı kurul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ğlantı ku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rafların telefon ağıyla ilgili bilgisi olması gerekmiy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Uç noktalar - yönlendiric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İnsan-insan iletişim protokolü örneği (devamla)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Kullanılacak dilde anlaşmalıl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erhangi bir anda sadece bir taraf konuş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Dinleyen taraf birşeyi anlamadığı zaman tekrar edilmesini isteyebili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eniden ile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Diğer taraftan yanıt gelmediğinde taraflar bağlantının kesildiğinden kuşkulanırl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ağlantının zorunlu olarak sonlandırıl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İnsan-insan iletişim protokolü örneği (devamla)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Dinleyen taraf not alırken karşı tarafın beklemesini isteye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kış deneti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oğunluğu hallet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raflar aynı birimleri kullanmalı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para birimi, takvim v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 birim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r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mler tanımlanmalıdır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dört yıldızlı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, 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ki kişilik od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rminolo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onuşmayı nazikçe bitirme, böylece kaynakları diğer kullanıcılar için serbest bırak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ğlantının sonlandırıl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Bilgisayar ağ protokolleri de aşağıdakileri tanımlar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Fiziksel arayüzler, sinyal düzeyleri ve kodl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ğ adresleri, bağlantı kurma/kes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ğ veri birimlerinin büyüklüğü ve yapıs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Hata kontrol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aşarılı alındı belges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kış denetim mekanizmalar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Veri tabanı alanları ve formatlar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Uygulamaya özgü anlam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Proto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oller 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58760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ağda birçok protokol vard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lı bir şekilde birlikte çalışı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er katman kendi altındaki katmanların hizmetleri üzerine kurul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1417680" y="3957480"/>
          <a:ext cx="172872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3957480"/>
                    <a:ext cx="1728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5"/>
          <p:cNvGraphicFramePr/>
          <p:nvPr/>
        </p:nvGraphicFramePr>
        <p:xfrm>
          <a:off x="6786720" y="3925800"/>
          <a:ext cx="685800" cy="13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3925800"/>
                    <a:ext cx="68580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747720" y="3297240"/>
          <a:ext cx="90792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" y="3297240"/>
                    <a:ext cx="9079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7566120" y="3257640"/>
          <a:ext cx="907920" cy="37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66120" y="3257640"/>
                    <a:ext cx="9079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Line 8"/>
          <p:cNvSpPr/>
          <p:nvPr/>
        </p:nvSpPr>
        <p:spPr>
          <a:xfrm>
            <a:off x="2079720" y="3409920"/>
            <a:ext cx="5205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2903400" y="4025880"/>
            <a:ext cx="3965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676880" y="3645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ş istasy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3895920" y="3060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osya aktarım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7353000" y="418464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zak sunu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Group 13"/>
          <p:cNvGrpSpPr/>
          <p:nvPr/>
        </p:nvGrpSpPr>
        <p:grpSpPr>
          <a:xfrm>
            <a:off x="5033880" y="5113440"/>
            <a:ext cx="1621080" cy="971280"/>
            <a:chOff x="5033880" y="5113440"/>
            <a:chExt cx="1621080" cy="971280"/>
          </a:xfrm>
        </p:grpSpPr>
        <p:graphicFrame>
          <p:nvGraphicFramePr>
            <p:cNvPr id="398" name="Object 14"/>
            <p:cNvGraphicFramePr/>
            <p:nvPr/>
          </p:nvGraphicFramePr>
          <p:xfrm>
            <a:off x="5033880" y="5113440"/>
            <a:ext cx="1621080" cy="971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9" name="Object 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33880" y="5113440"/>
                      <a:ext cx="1621080" cy="97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0" name="Text Box 15"/>
            <p:cNvSpPr/>
            <p:nvPr/>
          </p:nvSpPr>
          <p:spPr>
            <a:xfrm>
              <a:off x="5457600" y="54468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16"/>
          <p:cNvSpPr/>
          <p:nvPr/>
        </p:nvSpPr>
        <p:spPr>
          <a:xfrm>
            <a:off x="3794760" y="36399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çtan uca tutarlılı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17"/>
          <p:cNvSpPr/>
          <p:nvPr/>
        </p:nvSpPr>
        <p:spPr>
          <a:xfrm>
            <a:off x="4468680" y="4416480"/>
            <a:ext cx="722520" cy="65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8"/>
          <p:cNvSpPr/>
          <p:nvPr/>
        </p:nvSpPr>
        <p:spPr>
          <a:xfrm>
            <a:off x="3056040" y="4721400"/>
            <a:ext cx="1303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9"/>
          <p:cNvSpPr/>
          <p:nvPr/>
        </p:nvSpPr>
        <p:spPr>
          <a:xfrm>
            <a:off x="5288040" y="4757760"/>
            <a:ext cx="1574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5547600" y="4336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laş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1"/>
          <p:cNvSpPr/>
          <p:nvPr/>
        </p:nvSpPr>
        <p:spPr>
          <a:xfrm>
            <a:off x="4998960" y="5037120"/>
            <a:ext cx="387360" cy="30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 flipV="1">
            <a:off x="6600960" y="5230800"/>
            <a:ext cx="54288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4156920" y="45338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önlendir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4"/>
          <p:cNvSpPr/>
          <p:nvPr/>
        </p:nvSpPr>
        <p:spPr>
          <a:xfrm>
            <a:off x="2376360" y="5850000"/>
            <a:ext cx="173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5"/>
          <p:cNvSpPr/>
          <p:nvPr/>
        </p:nvSpPr>
        <p:spPr>
          <a:xfrm>
            <a:off x="2492280" y="5307120"/>
            <a:ext cx="530280" cy="54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6"/>
          <p:cNvSpPr/>
          <p:nvPr/>
        </p:nvSpPr>
        <p:spPr>
          <a:xfrm flipH="1">
            <a:off x="3884760" y="4995720"/>
            <a:ext cx="669600" cy="8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7"/>
          <p:cNvSpPr/>
          <p:nvPr/>
        </p:nvSpPr>
        <p:spPr>
          <a:xfrm>
            <a:off x="1703880" y="5614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8"/>
          <p:cNvSpPr/>
          <p:nvPr/>
        </p:nvSpPr>
        <p:spPr>
          <a:xfrm>
            <a:off x="1352520" y="3676680"/>
            <a:ext cx="6336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9"/>
          <p:cNvSpPr/>
          <p:nvPr/>
        </p:nvSpPr>
        <p:spPr>
          <a:xfrm flipV="1">
            <a:off x="7383600" y="3633840"/>
            <a:ext cx="5428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3112920" y="5640480"/>
            <a:ext cx="552240" cy="138600"/>
            <a:chOff x="3112920" y="5640480"/>
            <a:chExt cx="552240" cy="138600"/>
          </a:xfrm>
        </p:grpSpPr>
        <p:sp>
          <p:nvSpPr>
            <p:cNvPr id="416" name="Line 31"/>
            <p:cNvSpPr/>
            <p:nvPr/>
          </p:nvSpPr>
          <p:spPr>
            <a:xfrm>
              <a:off x="3112920" y="576792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32"/>
            <p:cNvSpPr/>
            <p:nvPr/>
          </p:nvSpPr>
          <p:spPr>
            <a:xfrm>
              <a:off x="3215160" y="5647320"/>
              <a:ext cx="11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33"/>
            <p:cNvSpPr/>
            <p:nvPr/>
          </p:nvSpPr>
          <p:spPr>
            <a:xfrm flipV="1">
              <a:off x="3222000" y="564048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34"/>
            <p:cNvSpPr/>
            <p:nvPr/>
          </p:nvSpPr>
          <p:spPr>
            <a:xfrm flipV="1">
              <a:off x="3326040" y="564048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35"/>
            <p:cNvSpPr/>
            <p:nvPr/>
          </p:nvSpPr>
          <p:spPr>
            <a:xfrm>
              <a:off x="3326040" y="577296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36"/>
            <p:cNvSpPr/>
            <p:nvPr/>
          </p:nvSpPr>
          <p:spPr>
            <a:xfrm>
              <a:off x="3428640" y="5652000"/>
              <a:ext cx="11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37"/>
            <p:cNvSpPr/>
            <p:nvPr/>
          </p:nvSpPr>
          <p:spPr>
            <a:xfrm flipV="1">
              <a:off x="3435480" y="56440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38"/>
            <p:cNvSpPr/>
            <p:nvPr/>
          </p:nvSpPr>
          <p:spPr>
            <a:xfrm flipV="1">
              <a:off x="3539520" y="56440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39"/>
            <p:cNvSpPr/>
            <p:nvPr/>
          </p:nvSpPr>
          <p:spPr>
            <a:xfrm>
              <a:off x="3548520" y="576792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Proto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oller (devamla) 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şim için bir protokol (ya da protokol suiti) gerek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zı örgütler birden fazla suit kullanabilirler (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Novell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CP/IP proto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olle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ar belgeler halinde tanımlanır ve genellikle yazılımda kurul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esteklenecek her protokol süiti için ayrı bir yazılım paketi gerek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Öze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77960" y="1792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lgisayar ağlarını tartışmak için yararlı bi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 bir </a:t>
            </a: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katm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spesifik bir iletişim sorununu belir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nternet için bir protokol yığıtının </a:t>
            </a: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kurulu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l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kurallarının tanımlan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ğ standartlarının önem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Niye ağ standartları gerekl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sistemlerin tem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atıcı şirketlerin yaklaşımlarından bağıms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tedarike olanak sağ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likte çalışabilirliğe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) olanak sağ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lar uluslararası kapsamda olmal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eni ortaya çıkan standartları izlemek önem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ndartları kullanmanın ne zaman “güvenli” olduğunu bilmek gerek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ndartların nerden geldiğini bilmek gerek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Futura Md BT"/>
              </a:rPr>
              <a:t>Katmanlar ve Protokoller</a:t>
            </a:r>
            <a:endParaRPr b="0" lang="en-US" sz="44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Katman ve protokol kelimeleri ağ standartlarının temel kavramlarıd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Takip eden slaytta katman kavramının anlaşılması için bir örnek verilmiş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Örnekte mektupla haberleşmede “zarfı adresleme” isminde bir katman oluşturulmuş ve görevleri açıklanmıştı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“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Zarfı adresleme</a:t>
            </a: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”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Zarf alıcı hakkında bilgi içeren bir etiket taş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lecek mesajın bir parçasıdı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sajın alıcı adresine ulaşmasına yardımcı ol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dres birçok katmana bölünmüştü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st düzey yönlendir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l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rkezi dağıtı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rta düzey yönlendir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eh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l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 merkezlerine gönder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t düzey yönlendir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d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cı tarafından yerine ulaştır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resten adre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ıcı için gerek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diğer katmanlarla ilişkisi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m adresi oluşturmak için tüm alanlar gerekli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 bilgis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bir başlığı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formatını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: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Ve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aha yüksek düzeylerin başlıklarını içer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554120" y="3224160"/>
            <a:ext cx="6159600" cy="2426040"/>
            <a:chOff x="1554120" y="3224160"/>
            <a:chExt cx="6159600" cy="2426040"/>
          </a:xfrm>
        </p:grpSpPr>
        <p:grpSp>
          <p:nvGrpSpPr>
            <p:cNvPr id="112" name="Group 5"/>
            <p:cNvGrpSpPr/>
            <p:nvPr/>
          </p:nvGrpSpPr>
          <p:grpSpPr>
            <a:xfrm>
              <a:off x="1554120" y="3224160"/>
              <a:ext cx="6159600" cy="901800"/>
              <a:chOff x="1554120" y="3224160"/>
              <a:chExt cx="6159600" cy="901800"/>
            </a:xfrm>
          </p:grpSpPr>
          <p:sp>
            <p:nvSpPr>
              <p:cNvPr id="113" name="Rectangle 6"/>
              <p:cNvSpPr/>
              <p:nvPr/>
            </p:nvSpPr>
            <p:spPr>
              <a:xfrm>
                <a:off x="1554120" y="3224160"/>
                <a:ext cx="1515960" cy="90180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7"/>
              <p:cNvSpPr/>
              <p:nvPr/>
            </p:nvSpPr>
            <p:spPr>
              <a:xfrm>
                <a:off x="3078000" y="3224160"/>
                <a:ext cx="4635720" cy="90180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8"/>
              <p:cNvSpPr/>
              <p:nvPr/>
            </p:nvSpPr>
            <p:spPr>
              <a:xfrm>
                <a:off x="1708200" y="3457440"/>
                <a:ext cx="1082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Arial"/>
                  </a:rPr>
                  <a:t>Başlı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9"/>
              <p:cNvSpPr/>
              <p:nvPr/>
            </p:nvSpPr>
            <p:spPr>
              <a:xfrm>
                <a:off x="4905720" y="3479760"/>
                <a:ext cx="726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Arial"/>
                  </a:rPr>
                  <a:t>Ver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Line 10"/>
            <p:cNvSpPr/>
            <p:nvPr/>
          </p:nvSpPr>
          <p:spPr>
            <a:xfrm>
              <a:off x="2298600" y="3889440"/>
              <a:ext cx="0" cy="8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1"/>
            <p:cNvSpPr/>
            <p:nvPr/>
          </p:nvSpPr>
          <p:spPr>
            <a:xfrm>
              <a:off x="1677240" y="4826160"/>
              <a:ext cx="1319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Denet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bilgi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2"/>
            <p:cNvSpPr/>
            <p:nvPr/>
          </p:nvSpPr>
          <p:spPr>
            <a:xfrm>
              <a:off x="5318280" y="3886200"/>
              <a:ext cx="0" cy="8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4860000" y="4822920"/>
              <a:ext cx="997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a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manın İlke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bir soyutlama gerektiğinde bir katman oluşturu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 iyi tanımlanmış bir işlevi yerine getir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işlevi uluslararası standart protokollere göre seç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sınırları arayüzler arasında bilgi akışını en aza indirecek şekilde seç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sayıs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işlevleri birleştirmeyecek kadar büyük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imarinin hantal olmasını önleyecek kadar küçük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7:08:49Z</dcterms:created>
  <dc:creator>Valued Gateway Client</dc:creator>
  <dc:description/>
  <dc:language>en-US</dc:language>
  <cp:lastModifiedBy>Bilal</cp:lastModifiedBy>
  <dcterms:modified xsi:type="dcterms:W3CDTF">2012-11-27T15:58:05Z</dcterms:modified>
  <cp:revision>171</cp:revision>
  <dc:subject/>
  <dc:title>PowerPoint Presentation</dc:title>
</cp:coreProperties>
</file>