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31D-2C4F-476C-AD4B-80E65715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B5C-5D5E-445B-8549-9A8619AC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84E-F966-472C-802E-002B6852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769-0B79-4549-93A4-3FCE0876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FFDA-06B9-4CA9-8FF9-421724DE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019-BBFA-4F6C-A34B-672EC09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6092-C789-44AD-BFE9-FE8D1A3E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76DE-ECEB-44D2-AD0B-937081CB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8DD1-1F11-44E6-963B-0FCC62F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48D-6676-40DA-87C8-69F4D419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2C6E-81B2-4C45-A713-B07A717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719-3B72-44FB-8992-C49A5486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B70E-1B7D-411B-9785-683E27DE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4056-2698-4C5D-8457-1B4A70B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44AA-107A-448E-8F74-76B79CD3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9CFA-C0A4-45FA-887C-692C0259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D511-0954-4387-99FE-9D73BB22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E07-4446-48AD-9BF6-42022C43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C36-1366-4DC5-B2DD-79CF8C9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B64-5A0C-4709-A596-F32EBB66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ADF-9AE1-4E99-A7D4-4FE88B5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E91-5771-431B-90E9-60F7CF9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E1A-45F4-4AED-BB91-2233237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C4B-DE70-42AF-B9AA-40ADB6A1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044-EFCC-446C-A6EF-E2A0EAF392B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8313-F90C-48CB-8058-EBC5DDAAD167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EEAB-36F6-47A4-AF5C-D5ACCCFF669D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Düz/Çapraz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B2D5-E3E9-46FC-8787-6E2F8492E80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arılı çiftleri çöz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çözerek renk sırasına diz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step2"/>
          <p:cNvPicPr/>
          <p:nvPr/>
        </p:nvPicPr>
        <p:blipFill>
          <a:blip r:embed="rId1"/>
          <a:stretch/>
        </p:blipFill>
        <p:spPr>
          <a:xfrm>
            <a:off x="1447920" y="2743200"/>
            <a:ext cx="6095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0965-D2CC-4C22-8100-B6F7FA36FF4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3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renk sırasına diz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A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B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step3"/>
          <p:cNvPicPr/>
          <p:nvPr/>
        </p:nvPicPr>
        <p:blipFill>
          <a:blip r:embed="rId1"/>
          <a:stretch/>
        </p:blipFill>
        <p:spPr>
          <a:xfrm>
            <a:off x="2195640" y="3284640"/>
            <a:ext cx="4876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2DA-360F-4D20-A390-F6944697BC5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4. Adı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llerin uçlarını aynı hizaya getir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klaşı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½”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unluğunda soyulmuş kısım bırakı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step4"/>
          <p:cNvPicPr/>
          <p:nvPr/>
        </p:nvPicPr>
        <p:blipFill>
          <a:blip r:embed="rId1"/>
          <a:stretch/>
        </p:blipFill>
        <p:spPr>
          <a:xfrm>
            <a:off x="1547640" y="2781360"/>
            <a:ext cx="6400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2694-D367-4000-A758-F9DF67ACC73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5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konnektöre sok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ı bozmadan konnektöre sok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daki şekilde sol üst 1 numar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step5"/>
          <p:cNvPicPr/>
          <p:nvPr/>
        </p:nvPicPr>
        <p:blipFill>
          <a:blip r:embed="rId1"/>
          <a:stretch/>
        </p:blipFill>
        <p:spPr>
          <a:xfrm>
            <a:off x="5105520" y="1600200"/>
            <a:ext cx="2516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28DA-2A8F-47E9-81D0-447F7CA00ED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6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özle k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675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teller könnektörün sonuna değiyor m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lıtım plastiği şekilde görüldüğü gibi içeri girdi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tep6"/>
          <p:cNvPicPr/>
          <p:nvPr/>
        </p:nvPicPr>
        <p:blipFill>
          <a:blip r:embed="rId1"/>
          <a:stretch/>
        </p:blipFill>
        <p:spPr>
          <a:xfrm>
            <a:off x="900000" y="3141720"/>
            <a:ext cx="746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B7DB-CD95-4018-A384-A16BA8405E9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ık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281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ü sıkma pensesin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P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içine yerleş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ittirirken penseyi sıkıca sıkı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rimp-1"/>
          <p:cNvPicPr/>
          <p:nvPr/>
        </p:nvPicPr>
        <p:blipFill>
          <a:blip r:embed="rId1"/>
          <a:stretch/>
        </p:blipFill>
        <p:spPr>
          <a:xfrm>
            <a:off x="1254240" y="347040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rimp-2"/>
          <p:cNvPicPr/>
          <p:nvPr/>
        </p:nvPicPr>
        <p:blipFill>
          <a:blip r:embed="rId2"/>
          <a:stretch/>
        </p:blipFill>
        <p:spPr>
          <a:xfrm>
            <a:off x="5356080" y="4038480"/>
            <a:ext cx="323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EA3F-3CC7-4D9E-AB2F-F1D4E6EC263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8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çalışıyor m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tep8"/>
          <p:cNvPicPr/>
          <p:nvPr/>
        </p:nvPicPr>
        <p:blipFill>
          <a:blip r:embed="rId1"/>
          <a:stretch/>
        </p:blipFill>
        <p:spPr>
          <a:xfrm>
            <a:off x="1398600" y="3043080"/>
            <a:ext cx="7485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8F77-3C19-418E-BBD5-27C08C9517C4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apısal Kablol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791A-2F97-4F5F-B274-C296AA7EC8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İÇERİ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sal Kablolama Standart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Kablo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uvar Priz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tch Pan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Kanal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ine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iketleme-Dokümantasy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 Öner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6850-7ED3-4F30-BCFC-0D9514D4222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DATA KABLOLAMA STANDART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A /EIA 5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Uluslarar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SO /IEC – 11801 ISO /IEC – 118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vrupa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N 50173 EN 501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8137-F600-460A-ABDD-D65BB60AAB0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Bağlantı Kur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cable-use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F5B6-BA2E-4C7C-8633-945DBA58DE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Yapısal Kablolama Genel Yapısal Kablolama Genel Görünü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C25-C11C-4941-8DDD-FD6368CB00B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ata Kablo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5-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7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8804-4BE6-48DB-893C-AA5A7E36D23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AT6 Kablo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yırıcı parça ile kablo çiftlerinin birbiri ile etkileşimi en az seviyeye düşürülmüştü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7610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DD33-9FD1-4F18-91F1-84003E55D7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uvar Priz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leşen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va Üstü – Sıva Alt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aklı-Kapaksız, Açıl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lama, 50 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/B Renk K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rün Kalit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çilik 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da İçi Y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8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F80A-0F14-4177-A06D-27641523B32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5" descr="PL13 24 PORT, RJ45, CAT. 6 110 Punch Down Patch Panels"/>
          <p:cNvPicPr/>
          <p:nvPr/>
        </p:nvPicPr>
        <p:blipFill>
          <a:blip r:embed="rId1"/>
          <a:stretch/>
        </p:blipFill>
        <p:spPr>
          <a:xfrm>
            <a:off x="684360" y="2349360"/>
            <a:ext cx="4751280" cy="3508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at6%2096%20port%20patch%20panel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2E36-737E-428D-BDA4-4D08466BEB1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pp-19-16-s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390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kppc48"/>
          <p:cNvPicPr/>
          <p:nvPr/>
        </p:nvPicPr>
        <p:blipFill>
          <a:blip r:embed="rId2"/>
          <a:stretch/>
        </p:blipFill>
        <p:spPr>
          <a:xfrm>
            <a:off x="5148360" y="5157720"/>
            <a:ext cx="3809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456E-4B1D-4A5B-9576-378BCE318B2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5" descr="voiceppback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1(01B-2)"/>
          <p:cNvPicPr/>
          <p:nvPr/>
        </p:nvPicPr>
        <p:blipFill>
          <a:blip r:embed="rId2"/>
          <a:stretch/>
        </p:blipFill>
        <p:spPr>
          <a:xfrm>
            <a:off x="5292720" y="2133720"/>
            <a:ext cx="36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0089-A5C7-44A1-9624-B7746DDBD88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5" descr="backofpanelcloseup"/>
          <p:cNvPicPr/>
          <p:nvPr/>
        </p:nvPicPr>
        <p:blipFill>
          <a:blip r:embed="rId1"/>
          <a:stretch/>
        </p:blipFill>
        <p:spPr>
          <a:xfrm>
            <a:off x="1182600" y="2279520"/>
            <a:ext cx="3810240" cy="358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KRONE"/>
          <p:cNvPicPr/>
          <p:nvPr/>
        </p:nvPicPr>
        <p:blipFill>
          <a:blip r:embed="rId2"/>
          <a:stretch/>
        </p:blipFill>
        <p:spPr>
          <a:xfrm>
            <a:off x="5284800" y="3021120"/>
            <a:ext cx="353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2E96-E92A-47DD-BFF2-74EF0F97302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Kan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38102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çüler, Bölmeli-Bölmes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önüş-Ekleme Parça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var Geçiş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praz Vidalama, Kablo Bağ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vama, Onar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van Kanalları, Kablo Tutu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koratif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m Kapalılık, Diğer Kablolar, Elektr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nal İçi Boşl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11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659B-B3D7-46E1-AB35-748303714C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ine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8102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lçüler: 19’’ , U , (450,600,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 ve Duvar Ti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lit, Ön ve Yan Kapa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ck Demirleri Har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mostat, Fan ve Sessiz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inet İçi Elektrik Düz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 Organizasy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lara Toplu P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44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DF60-4197-4735-A922-4541D06DC31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Bilgisayar Arası Çapraz (Cross) Bağlant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030804figure3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A66-0BAC-4F98-967A-321CFD22003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iketleme - Dokümantasy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tiketleme Malzeme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ihaz ve Fiş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izim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otoğraf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19D-3921-499A-8A94-8696DF09C62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Çizi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0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789-ABFE-4DB8-AAA5-4F39D0ED993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Öner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Merkezde Top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90 + 10 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GK Deste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edek Malzeme Bulundu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tch Kablo Sayı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umun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(3 + 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8A87-10E2-4CE5-838D-D7CB8292F42B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NTER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05BD-5F84-4054-9A2E-070478A99E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(Umumi)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çok faklı ağın temel problemi aşikard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ağın üyesi olan bir bilgisayar yalnızca kendisi ile aynı ağa bağlı olan bilgisayarl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laşan bilgisayar ağları farklı ağlardaki bilgisayarların birbirleri ile haberleşmesi ihtiyacını doğur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maçla yapılan çalışmalara genel manâda üniversal servis oluşturma denild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DC65-0A9E-4211-9AFB-273DD234B25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kavramı internetworking’in te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oluşturma çalışmaları neticesinde birbirlerinden farklı ağları birbirlerine bağlamak işlemi internetworking olarak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birlerine bağlanmış faklı ağlardan oluşan nihai sistem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work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veya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iye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nya üzerinde birçok faklı internet mevcuttur; birkaç ağ içereninden binlerce ağ içeren internetlere kad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F31C-77D0-45F4-8DED-5FDAE3E9EFD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Router’ları Kullanarak Ağların Fiziksel Bağlantısını Gerçekleştir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terojen ağları birbirlerine fiziksel  olarak bağlamak için kullanılan temel cihaz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’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ziksel olarak router’lar bridge’lere benzerler. İki ağı birbirlerine bağla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lar bridge’lerden farklı olarak iki veya daha fazla farklı ağı birbirine bağlar. Bridge ise aynı türden ağları birbirine bağlay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444-6329-4276-952B-86807D9C91A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 ağları birbirlerine bağlamak üzere üretilmiş özel amaçlı bir bilgisay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endi CPU’su RAM’i ve birbirlerine bağlayacağı her ağ için bir giriş/çıkış arayüzü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daki bilgisayarlar router’ın varlığından haberdar olmak zorundadı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a bağlantıları diğer herhangi bir bilgisayara olduğu gibi gerçekleş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1CD-FB61-4796-A3C2-E6DF7FBFF74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fiziksel ağın router ile birbirlerine bağlan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in her iki ağa da bağlanmak için iki ayrı ağ arayüz donanımı mevcut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lar faklı veri iletim ortamı kullanan, farklı fiziksel adres biçimlerine sahip olan ve farklı frame formatları bulunan birden fazla ağı birbirlerine bağlamak için kullanılır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763640" y="4221000"/>
            <a:ext cx="5832360" cy="1871640"/>
            <a:chOff x="1763640" y="4221000"/>
            <a:chExt cx="5832360" cy="1871640"/>
          </a:xfrm>
        </p:grpSpPr>
        <p:graphicFrame>
          <p:nvGraphicFramePr>
            <p:cNvPr id="239" name="Object 5"/>
            <p:cNvGraphicFramePr/>
            <p:nvPr/>
          </p:nvGraphicFramePr>
          <p:xfrm>
            <a:off x="1763640" y="4221000"/>
            <a:ext cx="2243160" cy="18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5352840" y="4221000"/>
            <a:ext cx="2243160" cy="18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28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7"/>
            <p:cNvSpPr/>
            <p:nvPr/>
          </p:nvSpPr>
          <p:spPr>
            <a:xfrm>
              <a:off x="4455360" y="4776840"/>
              <a:ext cx="44856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3966840" y="5172120"/>
              <a:ext cx="4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04280" y="514800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Line 10"/>
          <p:cNvSpPr/>
          <p:nvPr/>
        </p:nvSpPr>
        <p:spPr>
          <a:xfrm flipV="1">
            <a:off x="3635280" y="566064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592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D29-A683-4E3A-8D0C-C4D6D21AD0A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working’in amacı heterojen ağlar arasında üniversal servis sağlam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’teki bütün bilgisayarlar arasında üniversal servisi sağlamak için router’lar, bir ağdaki bir bilgisayardan iletilen bir bilgiyi diğer bir ağdaki hedef bilgisayara ulaştırabilmek için, aralarında aldıkları bilgileri iletmek üzere anlaşmış olmalı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tice olarak, universal servisin sağlanabilmesi için bütün router’lar ve bilgisayarlar üzerinde çalışan ortak bir protokol yazılımı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rotokol yazılımlarına genel olarak internet yazılımı veya protokolü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DC0-0F9F-47E3-B729-CA107AC1B36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Dü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Straight-Through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&lt;-&gt;568A veya 568B&lt;-&gt;568B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ethcable568a"/>
          <p:cNvPicPr/>
          <p:nvPr/>
        </p:nvPicPr>
        <p:blipFill>
          <a:blip r:embed="rId1"/>
          <a:stretch/>
        </p:blipFill>
        <p:spPr>
          <a:xfrm>
            <a:off x="179280" y="2924280"/>
            <a:ext cx="420552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thcable568b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E0C5-9545-4DD2-9E83-11921A33696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, ağa bağlı bilgisayar veya kullanıcı tarafından görülen yönü ile birçok bilgisayarın bağlı olduğu tek bir ağ görünümü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e bağlı olan her bir bilgisayarın bir adresi vardır ve hangi ağa bağlı olduğu fark etmeksizin internete bağlı diğer bir ağdaki herhangi bir bilgisay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 kullanıcıları ve bilgisayarda çalışan ağ uygulamalarını alt katmanlardaki fiziksel yapılardan adresleme biçimlerinden soyut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88BF-2ED7-4A04-B07F-FB4760A91AF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ekilde görüldüğü gibi internetin sanal bir ağ sistemi olduğu söylenebil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619280" y="3284640"/>
            <a:ext cx="5904000" cy="2808000"/>
            <a:chOff x="1619280" y="3284640"/>
            <a:chExt cx="5904000" cy="2808000"/>
          </a:xfrm>
        </p:grpSpPr>
        <p:graphicFrame>
          <p:nvGraphicFramePr>
            <p:cNvPr id="258" name="Object 5"/>
            <p:cNvGraphicFramePr/>
            <p:nvPr/>
          </p:nvGraphicFramePr>
          <p:xfrm>
            <a:off x="2537640" y="3953160"/>
            <a:ext cx="3673440" cy="192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7640" y="3953160"/>
                      <a:ext cx="3673440" cy="19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Rectangle 6"/>
            <p:cNvSpPr/>
            <p:nvPr/>
          </p:nvSpPr>
          <p:spPr>
            <a:xfrm>
              <a:off x="1619280" y="582552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V="1">
              <a:off x="1881360" y="5424480"/>
              <a:ext cx="78696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7129440" y="5700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7260840" y="4755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342480" y="355176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374360" y="3284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800080" y="341820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1619280" y="4220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881360" y="4354560"/>
              <a:ext cx="78696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3062160" y="3551760"/>
              <a:ext cx="3934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4505400" y="35517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H="1">
              <a:off x="5817600" y="3819600"/>
              <a:ext cx="6559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 flipH="1">
              <a:off x="6080040" y="48895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H="1" flipV="1">
              <a:off x="5554800" y="5424480"/>
              <a:ext cx="157428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AA9E-D48D-403D-8862-84E74557442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görünümün altında yatan fiziksel yapı. Her bilgisayar kendi ağına bağlı ve ağlar arası bağlantı router’lar vasıtası ile yapılmış durum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403280" y="2781360"/>
            <a:ext cx="6192720" cy="3743280"/>
            <a:chOff x="1403280" y="2781360"/>
            <a:chExt cx="6192720" cy="3743280"/>
          </a:xfrm>
        </p:grpSpPr>
        <p:graphicFrame>
          <p:nvGraphicFramePr>
            <p:cNvPr id="278" name="Object 5"/>
            <p:cNvGraphicFramePr/>
            <p:nvPr/>
          </p:nvGraphicFramePr>
          <p:xfrm>
            <a:off x="2091240" y="3280320"/>
            <a:ext cx="4949640" cy="30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1240" y="3280320"/>
                      <a:ext cx="4949640" cy="30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Rectangle 6"/>
            <p:cNvSpPr/>
            <p:nvPr/>
          </p:nvSpPr>
          <p:spPr>
            <a:xfrm>
              <a:off x="6357600" y="290592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732096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718344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155480" y="27813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2366280" y="303084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140328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154080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430880" y="397368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054760" y="45169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4293360" y="44035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293360" y="497196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1815840" y="515196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1678320" y="4029120"/>
              <a:ext cx="11008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641680" y="3280320"/>
              <a:ext cx="5504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 flipH="1">
              <a:off x="3880080" y="3030840"/>
              <a:ext cx="41292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5806800" y="3155400"/>
              <a:ext cx="687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>
              <a:off x="6082200" y="402912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 flipV="1">
              <a:off x="5669280" y="5151960"/>
              <a:ext cx="15138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41554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25"/>
            <p:cNvSpPr/>
            <p:nvPr/>
          </p:nvSpPr>
          <p:spPr>
            <a:xfrm>
              <a:off x="44308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 flipV="1">
              <a:off x="5118840" y="465300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5118840" y="439236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28"/>
            <p:cNvSpPr/>
            <p:nvPr/>
          </p:nvSpPr>
          <p:spPr>
            <a:xfrm flipV="1">
              <a:off x="3742920" y="4527720"/>
              <a:ext cx="5504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4430880" y="4278600"/>
              <a:ext cx="55044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155480" y="40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4568400" y="4029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319212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3192120" y="402912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84380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5118840" y="390420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 flipV="1">
              <a:off x="4369680" y="5104800"/>
              <a:ext cx="0" cy="49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4155480" y="565128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V="1">
              <a:off x="3329640" y="5401800"/>
              <a:ext cx="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2917080" y="627516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Fiziksel ağ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7BFA-0033-41AE-BBBA-3EA9F1EED5B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netlerde kullanılmak üzere birçok protokol yazılımı geliştirilmiş olmasına rağmen, bunlardan bir tanesi internetworking için en çok kullanılan protokol olarak karşımıza çık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protokol yazılımı resmi adıyla T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CP/IP Internet Protokollerid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ğu ağ uzmanı kişi tarafından bu isim kısaca TCP/IP olarak kullanıl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D43B-549A-4BEC-9161-5015F6E0577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CP/IP bir internette kullanılmak için ilk geliştirilen protokoldü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iştirilmesine 1970’li yıllarda başlanmışt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n Savunma Bakanlığının desteği ile geliştirilen proje 1980’li yıllarda birçok kuruluş tarafından desteklenir hale gelmiş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FA78-3ABF-4821-ADE5-ED99B7199A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Çapra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Crossover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7417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B&lt;-&gt;568A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cross"/>
          <p:cNvPicPr/>
          <p:nvPr/>
        </p:nvPicPr>
        <p:blipFill>
          <a:blip r:embed="rId1"/>
          <a:stretch/>
        </p:blipFill>
        <p:spPr>
          <a:xfrm>
            <a:off x="3635280" y="206064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309-91CB-4705-85D4-35DD2CA343F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J45 conn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rj45"/>
          <p:cNvPicPr/>
          <p:nvPr/>
        </p:nvPicPr>
        <p:blipFill>
          <a:blip r:embed="rId1"/>
          <a:stretch/>
        </p:blipFill>
        <p:spPr>
          <a:xfrm>
            <a:off x="1547640" y="1979640"/>
            <a:ext cx="6301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8076-FB4A-49C2-8CD9-8C1868FA0BE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raç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TP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5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/6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45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soyu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 ke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 pens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crimper"/>
          <p:cNvPicPr/>
          <p:nvPr/>
        </p:nvPicPr>
        <p:blipFill>
          <a:blip r:embed="rId1"/>
          <a:stretch/>
        </p:blipFill>
        <p:spPr>
          <a:xfrm>
            <a:off x="4500720" y="19162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937D-5589-44CA-8516-A076F0C3832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dım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ucunu soy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rılı çiftleri çö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a di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konnektöre so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özle k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2F2-A0B7-4BAC-9434-1E0E9598BE3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ucunu soy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351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dış yalıtım kısmın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ma esnasında içerideki tellerin dışındaki yalıtım kesilmemesine dikkat ed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step1"/>
          <p:cNvPicPr/>
          <p:nvPr/>
        </p:nvPicPr>
        <p:blipFill>
          <a:blip r:embed="rId1"/>
          <a:stretch/>
        </p:blipFill>
        <p:spPr>
          <a:xfrm>
            <a:off x="914400" y="3357720"/>
            <a:ext cx="7010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55:06Z</dcterms:created>
  <dc:creator>göksu</dc:creator>
  <dc:description/>
  <dc:language>en-US</dc:language>
  <cp:lastModifiedBy>Bilal</cp:lastModifiedBy>
  <dcterms:modified xsi:type="dcterms:W3CDTF">2012-11-27T15:56:36Z</dcterms:modified>
  <cp:revision>16</cp:revision>
  <dc:subject/>
  <dc:title>Yapısal Kablolama</dc:title>
</cp:coreProperties>
</file>