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2BB-20F0-4CC9-B38B-73F12791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5DD-E447-4FCE-B9C3-803309B2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C18-112E-4947-9E44-85D03BE9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5DD-5748-4915-B3C6-EB8DC551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510D-223E-4670-AB76-DE8D4AC2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F262-5AE9-4C65-9FDD-E96247BA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1078-1483-421B-927F-1DB18C5D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A7D9-9AA7-4F8A-97AB-40616E44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DD18-6F4E-4A8C-B2B4-3A18BD44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CEE7-9B36-43EF-AA79-238969C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3C43-3303-4691-A3D7-2BE28DD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816-A7CB-4DC0-B99A-877EF6C5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9B98-F3A0-4868-8FFB-4B369B9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BA14-88BE-43F1-892A-7B013189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F2B5-437C-4D7E-95FF-A82C2C42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5429-3548-4DA6-AB15-EABF195C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F00E-55CB-4FEE-96AF-93466CE7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F48-1AC1-4E69-9A51-571FFB64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AA7-229B-491C-A082-37113A14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322-161C-4712-AECB-906DE098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9A7-64A3-4A44-ABBC-359F95EC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150-0204-4FDF-9075-FFF6E0C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282-17F3-40DF-B1DD-D969E293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49F-F330-4E1E-8A38-5021D6A2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BF8B-B709-4CC3-89E6-B7921AD9CA45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8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B367-0492-462A-8309-34AC21247A76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06633"/>
                </a:solidFill>
                <a:latin typeface="Garamond"/>
              </a:rPr>
              <a:t>Alt Ağla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lt Ağ Maskesi bir IP adresinin hangi bitlerinin ağ adresine ait bitler hangi bitlerinin host adresine ait bitler olduğunun anlaşılması için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lt ağ maskesindeki 1’ler IP adresinin ağ adresi kısmını, 0’lar ise IP adresinin host adresi kısmını göster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rneğin C sınıfı bir IP adresinin varsayılan maskesinde 24 tane bir 8 tane 0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 Tablos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ubnetting_c"/>
          <p:cNvPicPr/>
          <p:nvPr/>
        </p:nvPicPr>
        <p:blipFill>
          <a:blip r:embed="rId1"/>
          <a:stretch/>
        </p:blipFill>
        <p:spPr>
          <a:xfrm>
            <a:off x="1984320" y="1052640"/>
            <a:ext cx="4935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ğ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IP Adresi 10.20.237.15 ve Alt Ağ Maskesi 255.255.248.0 olan bilgisayarın Ağ Adresi nasıl bulun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ubnetting_d"/>
          <p:cNvPicPr/>
          <p:nvPr/>
        </p:nvPicPr>
        <p:blipFill>
          <a:blip r:embed="rId1"/>
          <a:stretch/>
        </p:blipFill>
        <p:spPr>
          <a:xfrm>
            <a:off x="1332000" y="3141720"/>
            <a:ext cx="6553080" cy="113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ubnetting_e"/>
          <p:cNvPicPr/>
          <p:nvPr/>
        </p:nvPicPr>
        <p:blipFill>
          <a:blip r:embed="rId2"/>
          <a:stretch/>
        </p:blipFill>
        <p:spPr>
          <a:xfrm>
            <a:off x="1332000" y="4508640"/>
            <a:ext cx="6553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daki Host Sayıs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nceki örnekte maskede 11 adet sıfır bulunduğu için her ağdaki host sayıs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2^11 = 2048 olarak bulun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ost sayısını bulmada genel formül 2^n dir. Buradaki n maskedeki 0’ların sayı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Broadcast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435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Maskedeki sıfırlarla eşleşen IP adresi bitlerinin tamamı 1 yapılarak broadcast adresi hesaplan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852640"/>
          <a:ext cx="7499520" cy="1838520"/>
        </p:xfrm>
        <a:graphic>
          <a:graphicData uri="http://schemas.openxmlformats.org/drawingml/2006/table">
            <a:tbl>
              <a:tblPr/>
              <a:tblGrid>
                <a:gridCol w="1874880"/>
                <a:gridCol w="1876320"/>
                <a:gridCol w="1874880"/>
                <a:gridCol w="1873440"/>
              </a:tblGrid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74"/>
          <p:cNvSpPr/>
          <p:nvPr/>
        </p:nvSpPr>
        <p:spPr>
          <a:xfrm>
            <a:off x="5911920" y="2506680"/>
            <a:ext cx="273672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9:43:26Z</dcterms:created>
  <dc:creator>Mithat Şimşek</dc:creator>
  <dc:description/>
  <dc:language>en-US</dc:language>
  <cp:lastModifiedBy>Bilal</cp:lastModifiedBy>
  <dcterms:modified xsi:type="dcterms:W3CDTF">2012-11-27T15:56:12Z</dcterms:modified>
  <cp:revision>4</cp:revision>
  <dc:subject/>
  <dc:title>Alt Ağlar</dc:title>
</cp:coreProperties>
</file>