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32.png" ContentType="image/png"/>
  <Override PartName="/ppt/media/image24.jpeg" ContentType="image/jpeg"/>
  <Override PartName="/ppt/media/image22.jpeg" ContentType="image/jpeg"/>
  <Override PartName="/ppt/media/image21.png" ContentType="image/png"/>
  <Override PartName="/ppt/media/image27.jpeg" ContentType="image/jpeg"/>
  <Override PartName="/ppt/media/image6.jpeg" ContentType="image/jpeg"/>
  <Override PartName="/ppt/media/image18.png" ContentType="image/png"/>
  <Override PartName="/ppt/media/image7.jpeg" ContentType="image/jpeg"/>
  <Override PartName="/ppt/media/image28.jpeg" ContentType="image/jpeg"/>
  <Override PartName="/ppt/media/image9.jpeg" ContentType="image/jpeg"/>
  <Override PartName="/ppt/media/image11.jpeg" ContentType="image/jpeg"/>
  <Override PartName="/ppt/media/image29.jpeg" ContentType="image/jpeg"/>
  <Override PartName="/ppt/media/image8.jpeg" ContentType="image/jpeg"/>
  <Override PartName="/ppt/media/image10.jpeg" ContentType="image/jpeg"/>
  <Override PartName="/ppt/media/image30.png" ContentType="image/png"/>
  <Override PartName="/ppt/media/image5.png" ContentType="image/png"/>
  <Override PartName="/ppt/media/image35.png" ContentType="image/pn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20.png" ContentType="image/png"/>
  <Override PartName="/ppt/media/image2.jpeg" ContentType="image/jpeg"/>
  <Override PartName="/ppt/media/image23.jpeg" ContentType="image/jpeg"/>
  <Override PartName="/ppt/media/image31.png" ContentType="image/png"/>
  <Override PartName="/ppt/media/image1.png" ContentType="image/png"/>
  <Override PartName="/ppt/media/image15.jpeg" ContentType="image/jpeg"/>
  <Override PartName="/ppt/media/image16.jpeg" ContentType="image/jpeg"/>
  <Override PartName="/ppt/media/image17.png" ContentType="image/png"/>
  <Override PartName="/ppt/media/image1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C133-F2EC-4C78-A201-B641242A8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13CA-12C4-40BB-B60A-3D8EC159F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DBBB-5C56-41C0-B2D4-13219D438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58E1-FB0E-46C7-9DEF-D3E52EDEA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39AFF-881B-4F28-A520-21D5EEF2C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2301D-3A2E-48A9-BC85-14852B389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245C5-5034-4420-A5FA-E67F57C3A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BE85D-BF0A-49A5-AE40-DE1BD2173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16FE4-2FB0-4BB2-9B58-8A8855CCC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F4829-E0E4-465D-A375-90EA1FC0F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D9D9F-9516-42BD-8A38-DBD9E8190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7FC4-3EBA-4F1E-8DD5-848C29816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B96E6-02EE-4224-B354-B9631052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DB391-8C6B-4D10-BD72-00C402B16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7AFD3-5652-4BF6-B8A5-1012F3705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E53C9-AEFC-4957-BC5A-00E683067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1C9DE-C627-4CAA-BBEF-181E114C1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B4B0-9674-40BF-9B47-6A2A8AE20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E3B9-0D8F-42E0-AB18-D60ED425B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C896-F3E6-4505-B861-DBCAD5B46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FB2F-A7E9-4361-9ABC-61B9189D1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DA3A-E841-4613-A663-7A1D48E1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6A1D-81B4-416F-BB2A-C9BD3E04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246F-8C40-4D85-B3C6-05F0AAE2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549B3-5EF3-4BE8-87E1-B7415A149D1B}" type="slidenum"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13 Dikdörtgen"/>
          <p:cNvSpPr/>
          <p:nvPr/>
        </p:nvSpPr>
        <p:spPr>
          <a:xfrm>
            <a:off x="5355360" y="6488280"/>
            <a:ext cx="389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http://www.bilisimogretmeni.com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1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4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" name="24 Dikdörtgen"/>
          <p:cNvSpPr/>
          <p:nvPr/>
        </p:nvSpPr>
        <p:spPr>
          <a:xfrm>
            <a:off x="5355360" y="6488280"/>
            <a:ext cx="389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http://www.bilisimogretmeni.com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DE877-4F76-4E5D-B606-D7206B598A4F}" type="slidenum">
              <a:rPr b="0" lang="tr-TR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6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C759F-DDB7-4E52-81F1-BFB44C2B2026}" type="slidenum">
              <a:rPr b="0" lang="tr-TR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UTP Kablo Bağlantıları</a:t>
            </a:r>
            <a:br>
              <a:rPr sz="4400"/>
            </a:b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(Düz/Çapraz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196B4-97F4-4C14-BBA5-C8F0A5E9B716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2. Adım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– </a:t>
            </a: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Sarılı çiftleri çöz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26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Telleri çözerek renk sırasına diz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Picture 4" descr="step2"/>
          <p:cNvPicPr/>
          <p:nvPr/>
        </p:nvPicPr>
        <p:blipFill>
          <a:blip r:embed="rId1"/>
          <a:stretch/>
        </p:blipFill>
        <p:spPr>
          <a:xfrm>
            <a:off x="1447920" y="2743200"/>
            <a:ext cx="6095880" cy="36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CA00F-6542-4AB1-8D79-4467FB624DE4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333399"/>
                </a:solidFill>
                <a:latin typeface="Tahoma"/>
              </a:rPr>
              <a:t>3. Adım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– </a:t>
            </a:r>
            <a:r>
              <a:rPr b="0" lang="tr-TR" sz="3600" spc="-1" strike="noStrike">
                <a:solidFill>
                  <a:srgbClr val="333399"/>
                </a:solidFill>
                <a:latin typeface="Tahoma"/>
              </a:rPr>
              <a:t>Telleri renk sırasına dizm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628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A/EIA 568A: 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Y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T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M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A/EIA 568B: 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T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Y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M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Picture 4" descr="step3"/>
          <p:cNvPicPr/>
          <p:nvPr/>
        </p:nvPicPr>
        <p:blipFill>
          <a:blip r:embed="rId1"/>
          <a:stretch/>
        </p:blipFill>
        <p:spPr>
          <a:xfrm>
            <a:off x="2195640" y="3284640"/>
            <a:ext cx="487656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56EF0-8091-42F2-B9B8-87D77762D741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4. Adım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– 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Telleri uygun ve eşit ölçüye getirm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493040" cy="69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Tellerin uçlarını aynı hizaya getir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Yaklaşı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½” </a:t>
            </a: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uzunluğunda soyulmuş kısım bırakı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Picture 4" descr="step4"/>
          <p:cNvPicPr/>
          <p:nvPr/>
        </p:nvPicPr>
        <p:blipFill>
          <a:blip r:embed="rId1"/>
          <a:stretch/>
        </p:blipFill>
        <p:spPr>
          <a:xfrm>
            <a:off x="1547640" y="2781360"/>
            <a:ext cx="6400800" cy="38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0F410-60B2-4765-BD3F-3797B96F7A96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333399"/>
                </a:solidFill>
                <a:latin typeface="Tahoma"/>
              </a:rPr>
              <a:t>5. Adım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– </a:t>
            </a:r>
            <a:r>
              <a:rPr b="0" lang="tr-TR" sz="3600" spc="-1" strike="noStrike">
                <a:solidFill>
                  <a:srgbClr val="333399"/>
                </a:solidFill>
                <a:latin typeface="Tahoma"/>
              </a:rPr>
              <a:t>Telleri konnektöre sokm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Telleri renk sırasını bozmadan konnektöre sok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Yandaki şekilde sol üst 1 numarad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8" name="Picture 4" descr="step5"/>
          <p:cNvPicPr/>
          <p:nvPr/>
        </p:nvPicPr>
        <p:blipFill>
          <a:blip r:embed="rId1"/>
          <a:stretch/>
        </p:blipFill>
        <p:spPr>
          <a:xfrm>
            <a:off x="5105520" y="1600200"/>
            <a:ext cx="251604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15569-7907-4F1B-BDF6-1E112410A192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6. Adım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- </a:t>
            </a: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Gözle kontr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000" y="2017800"/>
            <a:ext cx="8675640" cy="15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Tüm teller könnektörün sonuna değiyor mu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Yalıtım plastiği şekilde görüldüğü gibi içeri girdi m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4" descr="step6"/>
          <p:cNvPicPr/>
          <p:nvPr/>
        </p:nvPicPr>
        <p:blipFill>
          <a:blip r:embed="rId1"/>
          <a:stretch/>
        </p:blipFill>
        <p:spPr>
          <a:xfrm>
            <a:off x="900000" y="3141720"/>
            <a:ext cx="746784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7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D9698-4CD6-4DB0-A9EF-B869503A0370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7</a:t>
            </a: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. Adım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- </a:t>
            </a: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Sıkm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281800" cy="14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onnektörü sıkma pensesini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8P)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 içine yerleştiri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Telleri ittirirken penseyi sıkıca sıkı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" name="Picture 4" descr="crimp-1"/>
          <p:cNvPicPr/>
          <p:nvPr/>
        </p:nvPicPr>
        <p:blipFill>
          <a:blip r:embed="rId1"/>
          <a:stretch/>
        </p:blipFill>
        <p:spPr>
          <a:xfrm>
            <a:off x="1254240" y="3470400"/>
            <a:ext cx="3095640" cy="24256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crimp-2"/>
          <p:cNvPicPr/>
          <p:nvPr/>
        </p:nvPicPr>
        <p:blipFill>
          <a:blip r:embed="rId2"/>
          <a:stretch/>
        </p:blipFill>
        <p:spPr>
          <a:xfrm>
            <a:off x="5356080" y="4038480"/>
            <a:ext cx="323856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E50D7-FAEE-4AF5-97AF-AD300CEFCAB7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8. Adım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– Tes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ablo çalışıyor mu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Picture 4" descr="step8"/>
          <p:cNvPicPr/>
          <p:nvPr/>
        </p:nvPicPr>
        <p:blipFill>
          <a:blip r:embed="rId1"/>
          <a:stretch/>
        </p:blipFill>
        <p:spPr>
          <a:xfrm>
            <a:off x="1398600" y="3043080"/>
            <a:ext cx="7485120" cy="28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6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53B33-8FCF-448B-903B-32D7774F7285}" type="slidenum">
              <a:rPr b="0" lang="tr-TR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Yapısal Kablolam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A2A13-37A8-417D-8433-6F72D06B8492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333399"/>
                </a:solidFill>
                <a:latin typeface="Tahoma"/>
              </a:rPr>
              <a:t>İÇERİ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Yapısal Kablolama Standartlar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Data Kablolar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Duvar Prizler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Patch Pane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ablo Kanallar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abinet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Etiketleme-Dokümantasy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Genel Öneri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D05A1-4D29-43D6-8A0B-A83E9A057AF8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333399"/>
                </a:solidFill>
                <a:latin typeface="Tahoma"/>
              </a:rPr>
              <a:t>DATA KABLOLAMA STANDARTLA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Amerik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TIA /EIA 5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Uluslararas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ISO /IEC – 11801 ISO /IEC – 118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Avrupa Birliğ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EN 50173 EN 5017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D66B5-6959-4458-B5E0-A1A6815F5274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Genel Bağlantı Kurallar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6" name="Picture 4" descr="cable-use"/>
          <p:cNvPicPr/>
          <p:nvPr/>
        </p:nvPicPr>
        <p:blipFill>
          <a:blip r:embed="rId1"/>
          <a:stretch/>
        </p:blipFill>
        <p:spPr>
          <a:xfrm>
            <a:off x="826920" y="2349360"/>
            <a:ext cx="7993080" cy="29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AB0E2-9C6E-46A8-AA2C-E5E9A907A8F7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Yapısal Kablolama Genel Yapısal Kablolama Genel Görünü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3" name="Picture 3" descr=""/>
          <p:cNvPicPr/>
          <p:nvPr/>
        </p:nvPicPr>
        <p:blipFill>
          <a:blip r:embed="rId1"/>
          <a:stretch/>
        </p:blipFill>
        <p:spPr>
          <a:xfrm>
            <a:off x="324000" y="2060640"/>
            <a:ext cx="8640720" cy="45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7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AD5BC-E70F-4D50-90C6-23A2A5EF8CA5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Data Kablolar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0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Cat5-e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Cat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611280" y="2997360"/>
            <a:ext cx="3816360" cy="30193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"/>
          <p:cNvPicPr/>
          <p:nvPr/>
        </p:nvPicPr>
        <p:blipFill>
          <a:blip r:embed="rId2"/>
          <a:stretch/>
        </p:blipFill>
        <p:spPr>
          <a:xfrm>
            <a:off x="5076720" y="2924280"/>
            <a:ext cx="374508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4E209-9204-4392-8E63-2CE81B367D65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CAT6 Kablola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684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ahoma"/>
              </a:rPr>
              <a:t>Ayırıcı parça ile kablo çiftlerinin birbiri ile etkileşimi en az seviyeye düşürülmüştü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1476360" y="2852640"/>
            <a:ext cx="5761080" cy="33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07D81-C207-42E0-96F0-E59C9546884D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Duvar Priz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irleşen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Sıva Üstü – Sıva Alt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Kapaklı-Kapaksız, Açıl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Kaplama, 50 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568A/B Renk Ko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Ürün Kalites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İşçilik Özellikle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Oda İçi Ye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5508720" y="1628640"/>
            <a:ext cx="328284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FCEB4-F852-40E1-B004-602F1A76C576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Patch Panell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9" name="Picture 5" descr="PL13 24 PORT, RJ45, CAT. 6 110 Punch Down Patch Panels"/>
          <p:cNvPicPr/>
          <p:nvPr/>
        </p:nvPicPr>
        <p:blipFill>
          <a:blip r:embed="rId1"/>
          <a:stretch/>
        </p:blipFill>
        <p:spPr>
          <a:xfrm>
            <a:off x="684360" y="2349360"/>
            <a:ext cx="4751280" cy="35085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cat6%2096%20port%20patch%20panel"/>
          <p:cNvPicPr/>
          <p:nvPr/>
        </p:nvPicPr>
        <p:blipFill>
          <a:blip r:embed="rId2"/>
          <a:stretch/>
        </p:blipFill>
        <p:spPr>
          <a:xfrm>
            <a:off x="5334120" y="220500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4BA81-2116-4BAC-BAE4-5AA8B4280072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Patch Panell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3" name="Picture 5" descr="pp-19-16-s"/>
          <p:cNvPicPr/>
          <p:nvPr/>
        </p:nvPicPr>
        <p:blipFill>
          <a:blip r:embed="rId1"/>
          <a:stretch/>
        </p:blipFill>
        <p:spPr>
          <a:xfrm>
            <a:off x="179280" y="2133720"/>
            <a:ext cx="5761080" cy="39099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8" descr="tkppc48"/>
          <p:cNvPicPr/>
          <p:nvPr/>
        </p:nvPicPr>
        <p:blipFill>
          <a:blip r:embed="rId2"/>
          <a:stretch/>
        </p:blipFill>
        <p:spPr>
          <a:xfrm>
            <a:off x="5148360" y="5157720"/>
            <a:ext cx="38098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C0483-84C5-445D-8809-4DA7635325FA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Patch Panell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7" name="Picture 5" descr="voiceppback"/>
          <p:cNvPicPr/>
          <p:nvPr/>
        </p:nvPicPr>
        <p:blipFill>
          <a:blip r:embed="rId1"/>
          <a:stretch/>
        </p:blipFill>
        <p:spPr>
          <a:xfrm>
            <a:off x="468360" y="2133720"/>
            <a:ext cx="4824360" cy="36176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8" descr="C1(01B-2)"/>
          <p:cNvPicPr/>
          <p:nvPr/>
        </p:nvPicPr>
        <p:blipFill>
          <a:blip r:embed="rId2"/>
          <a:stretch/>
        </p:blipFill>
        <p:spPr>
          <a:xfrm>
            <a:off x="5292720" y="2133720"/>
            <a:ext cx="367200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49A0C-680F-4121-B950-34EF2A4AB079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Patch Panell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01" name="Picture 5" descr="backofpanelcloseup"/>
          <p:cNvPicPr/>
          <p:nvPr/>
        </p:nvPicPr>
        <p:blipFill>
          <a:blip r:embed="rId1"/>
          <a:stretch/>
        </p:blipFill>
        <p:spPr>
          <a:xfrm>
            <a:off x="1182600" y="2279520"/>
            <a:ext cx="3810240" cy="35895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8" descr="KRONE"/>
          <p:cNvPicPr/>
          <p:nvPr/>
        </p:nvPicPr>
        <p:blipFill>
          <a:blip r:embed="rId2"/>
          <a:stretch/>
        </p:blipFill>
        <p:spPr>
          <a:xfrm>
            <a:off x="5284800" y="3021120"/>
            <a:ext cx="353052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AAA4A-071E-474D-8D40-CC9833B4678E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Kablo Kanallar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1989000"/>
            <a:ext cx="381024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Ölçüler, Bölmeli-Bölmesi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Dönüş-Ekleme Parçalar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Duvar Geçişler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Çapraz Vidalama, Kablo Bağlar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Sıvama, Onarı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Tavan Kanalları, Kablo Tutuc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Dekoratifli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Tam Kapalılık, Diğer Kablolar, Elektri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Kanal İçi Boşlu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292720" y="2060640"/>
            <a:ext cx="331164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9D650-B103-4A12-A157-61C732620874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Kabinetl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2600" y="1844280"/>
            <a:ext cx="3810240" cy="42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Ölçüler: 19’’ , U , (450,600,80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Yer ve Duvar Ti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Kilit, Ön ve Yan Kapakl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Rack Demirleri Hare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Termostat, Fan ve Sessizliğ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Kabinet İçi Elektrik Düzen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Kablo Organizasyon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Kablolara Toplu P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0" name="Picture 4" descr=""/>
          <p:cNvPicPr/>
          <p:nvPr/>
        </p:nvPicPr>
        <p:blipFill>
          <a:blip r:embed="rId1"/>
          <a:stretch/>
        </p:blipFill>
        <p:spPr>
          <a:xfrm>
            <a:off x="6012000" y="1844640"/>
            <a:ext cx="24476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B3EC3-BA42-4C07-A442-8448C0A301C3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İki Bilgisayar Arası Çapraz (Cross) Bağlant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9" name="Picture 4" descr="030804figure3"/>
          <p:cNvPicPr/>
          <p:nvPr/>
        </p:nvPicPr>
        <p:blipFill>
          <a:blip r:embed="rId1"/>
          <a:stretch/>
        </p:blipFill>
        <p:spPr>
          <a:xfrm>
            <a:off x="250920" y="2205000"/>
            <a:ext cx="842472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12F43-A55B-4B04-B980-CB64AFA85A4E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Etiketleme - Dokümantasy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Etiketleme Malzemeler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Cihaz ve Fiş Etiketler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Çizim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Fotoğrafla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Garanti Süresi Etiketler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2FEFB-891D-4BAA-84C6-80A6EAF61AA2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Çiziml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16" name="Picture 3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870408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FEF2D-989A-41F8-8BE8-57AF4471220D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Genel Öneril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Tek Merkezde Topla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90 + 10 m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KGK Desteğ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Yedek Malzeme Bulundur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Patch Kablo Sayıs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Numune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Garanti Süresi (3 + 5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6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4415E-3B77-47A0-B281-4A2A22D2B69D}" type="slidenum">
              <a:rPr b="0" lang="tr-TR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333399"/>
                </a:solidFill>
                <a:latin typeface="Tahoma"/>
              </a:rPr>
              <a:t>INTERNETWORK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92461-F269-4568-AC1F-F5F53A6E2978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333399"/>
                </a:solidFill>
                <a:latin typeface="Tahoma"/>
              </a:rPr>
              <a:t>Üniversal (Umumi) Servis Kavram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irçok faklı ağın temel problemi aşikardı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ir ağın üyesi olan bir bilgisayar yalnızca kendisi ile aynı ağa bağlı olan bilgisayarlar ile haberleşebil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Yaygınlaşan bilgisayar ağları farklı ağlardaki bilgisayarların birbirleri ile haberleşmesi ihtiyacını doğurd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u amaçla yapılan çalışmalara genel manâda üniversal servis oluşturma denildi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442DD-1121-4393-9AA2-A6A5C376A0E0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333399"/>
                </a:solidFill>
                <a:latin typeface="Tahoma"/>
              </a:rPr>
              <a:t>Üniversal Servis Kavram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Üniversal servis kavramı internetworking’in temelid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Üniversal servis oluşturma çalışmaları neticesinde birbirlerinden farklı ağları birbirlerine bağlamak işlemi internetworking olarak adlandırıldı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irbirlerine bağlanmış faklı ağlardan oluşan nihai sistem </a:t>
            </a:r>
            <a:r>
              <a:rPr b="0" i="1" lang="tr-TR" sz="2800" spc="-1" strike="noStrike">
                <a:solidFill>
                  <a:srgbClr val="000000"/>
                </a:solidFill>
                <a:latin typeface="Tahoma"/>
              </a:rPr>
              <a:t>internetwork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 veya </a:t>
            </a:r>
            <a:r>
              <a:rPr b="0" i="1" lang="tr-TR" sz="2800" spc="-1" strike="noStrike">
                <a:solidFill>
                  <a:srgbClr val="000000"/>
                </a:solidFill>
                <a:latin typeface="Tahoma"/>
              </a:rPr>
              <a:t>internet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 diye adlandırıldı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Dünya üzerinde birçok faklı internet mevcuttur; birkaç ağ içereninden binlerce ağ içeren internetlere kada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30E77-A190-4A5F-AE5A-C831B503C612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Tahoma"/>
              </a:rPr>
              <a:t>Router’ları Kullanarak Ağların Fiziksel Bağlantısını Gerçekleştirm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Heterojen ağları birbirlerine fiziksel  olarak bağlamak için kullanılan temel cihaz </a:t>
            </a:r>
            <a:r>
              <a:rPr b="0" i="1" lang="tr-TR" sz="2800" spc="-1" strike="noStrike">
                <a:solidFill>
                  <a:srgbClr val="000000"/>
                </a:solidFill>
                <a:latin typeface="Tahoma"/>
              </a:rPr>
              <a:t>router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’d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Fiziksel olarak router’lar bridge’lere benzerler. İki ağı birbirlerine bağlarl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Router’lar bridge’lerden farklı olarak iki veya daha fazla farklı ağı birbirine bağlar. Bridge ise aynı türden ağları birbirine bağlayabilir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B3CD2-A192-48E9-A0B9-DF395D37C117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Router’la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Router ağları birbirlerine bağlamak üzere üretilmiş özel amaçlı bir bilgisayard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endi CPU’su RAM’i ve birbirlerine bağlayacağı her ağ için bir giriş/çıkış arayüzü mevcuttu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Ağdaki bilgisayarlar router’ın varlığından haberdar olmak zorundadırl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Router’a bağlantıları diğer herhangi bir bilgisayara olduğu gibi gerçekleşir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858CD-5567-4D85-A665-C85DB1EEB146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İki fiziksel ağın router ile birbirlerine bağlanması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19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Router’in her iki ağa da bağlanmak için iki ayrı ağ arayüz donanımı mevcuttu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Router’lar faklı veri iletim ortamı kullanan, farklı fiziksel adres biçimlerine sahip olan ve farklı frame formatları bulunan birden fazla ağı birbirlerine bağlamak için kullanılırla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8" name="Group 4"/>
          <p:cNvGrpSpPr/>
          <p:nvPr/>
        </p:nvGrpSpPr>
        <p:grpSpPr>
          <a:xfrm>
            <a:off x="1763640" y="4221000"/>
            <a:ext cx="5832360" cy="1871640"/>
            <a:chOff x="1763640" y="4221000"/>
            <a:chExt cx="5832360" cy="1871640"/>
          </a:xfrm>
        </p:grpSpPr>
        <p:graphicFrame>
          <p:nvGraphicFramePr>
            <p:cNvPr id="239" name="Object 5"/>
            <p:cNvGraphicFramePr/>
            <p:nvPr/>
          </p:nvGraphicFramePr>
          <p:xfrm>
            <a:off x="1763640" y="4221000"/>
            <a:ext cx="2243160" cy="1871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40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63640" y="4221000"/>
                      <a:ext cx="2243160" cy="187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1" name="Object 6"/>
            <p:cNvGraphicFramePr/>
            <p:nvPr/>
          </p:nvGraphicFramePr>
          <p:xfrm>
            <a:off x="5352840" y="4221000"/>
            <a:ext cx="2243160" cy="1871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42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352840" y="4221000"/>
                      <a:ext cx="2243160" cy="187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3" name="Rectangle 7"/>
            <p:cNvSpPr/>
            <p:nvPr/>
          </p:nvSpPr>
          <p:spPr>
            <a:xfrm>
              <a:off x="4455360" y="4776840"/>
              <a:ext cx="448560" cy="725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4" name="Line 8"/>
            <p:cNvSpPr/>
            <p:nvPr/>
          </p:nvSpPr>
          <p:spPr>
            <a:xfrm>
              <a:off x="3966840" y="5172120"/>
              <a:ext cx="44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5" name="Line 9"/>
            <p:cNvSpPr/>
            <p:nvPr/>
          </p:nvSpPr>
          <p:spPr>
            <a:xfrm>
              <a:off x="4904280" y="5148000"/>
              <a:ext cx="44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6" name="Line 10"/>
          <p:cNvSpPr/>
          <p:nvPr/>
        </p:nvSpPr>
        <p:spPr>
          <a:xfrm flipV="1">
            <a:off x="3635280" y="5660640"/>
            <a:ext cx="649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Text Box 11"/>
          <p:cNvSpPr/>
          <p:nvPr/>
        </p:nvSpPr>
        <p:spPr>
          <a:xfrm>
            <a:off x="3059280" y="623736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8BE7F-5ADF-4D49-93A2-6C47636EACFB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Tahoma"/>
              </a:rPr>
              <a:t>Üniversal Servisi Gerçekleştirmek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Internetworking’in amacı heterojen ağlar arasında üniversal servis sağlamaktı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Internet’teki bütün bilgisayarlar arasında üniversal servisi sağlamak için router’lar, bir ağdaki bir bilgisayardan iletilen bir bilgiyi diğer bir ağdaki hedef bilgisayara ulaştırabilmek için, aralarında aldıkları bilgileri iletmek üzere anlaşmış olmalıdırl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Netice olarak, universal servisin sağlanabilmesi için bütün router’lar ve bilgisayarlar üzerinde çalışan ortak bir protokol yazılımı olmalıdı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u protokol yazılımlarına genel olarak internet yazılımı veya protokolü denil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61D02-E413-4E98-A328-E44C1DC2DC90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500" spc="-1" strike="noStrike">
                <a:solidFill>
                  <a:srgbClr val="333399"/>
                </a:solidFill>
                <a:latin typeface="Tahoma"/>
              </a:rPr>
              <a:t>Düz kablo (</a:t>
            </a:r>
            <a:r>
              <a:rPr b="0" lang="tr-TR" sz="3500" spc="-1" strike="noStrike">
                <a:solidFill>
                  <a:srgbClr val="000000"/>
                </a:solidFill>
                <a:latin typeface="Tahoma"/>
              </a:rPr>
              <a:t>Straight-Through Ethernet Cable)</a:t>
            </a:r>
            <a:endParaRPr b="0" lang="en-US" sz="3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55280" y="2204640"/>
            <a:ext cx="73436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568A&lt;-&gt;568A veya 568B&lt;-&gt;568B olmalıdı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Picture 4" descr="ethcable568a"/>
          <p:cNvPicPr/>
          <p:nvPr/>
        </p:nvPicPr>
        <p:blipFill>
          <a:blip r:embed="rId1"/>
          <a:stretch/>
        </p:blipFill>
        <p:spPr>
          <a:xfrm>
            <a:off x="179280" y="2924280"/>
            <a:ext cx="4205520" cy="2628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ethcable568b"/>
          <p:cNvPicPr/>
          <p:nvPr/>
        </p:nvPicPr>
        <p:blipFill>
          <a:blip r:embed="rId2"/>
          <a:stretch/>
        </p:blipFill>
        <p:spPr>
          <a:xfrm>
            <a:off x="4572000" y="3860640"/>
            <a:ext cx="4211640" cy="26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1A9D8-273D-42D5-A906-421545F63851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Tahoma"/>
              </a:rPr>
              <a:t>Üniversal Servisi Gerçekleştirmek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Internet yazılımı, ağa bağlı bilgisayar veya kullanıcı tarafından görülen yönü ile birçok bilgisayarın bağlı olduğu tek bir ağ görünümü sağl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Internete bağlı olan her bir bilgisayarın bir adresi vardır ve hangi ağa bağlı olduğu fark etmeksizin internete bağlı diğer bir ağdaki herhangi bir bilgisayar ile haberleşebil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Internet yazılımı kullanıcıları ve bilgisayarda çalışan ağ uygulamalarını alt katmanlardaki fiziksel yapılardan adresleme biçimlerinden soyutla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7E622-6E91-4934-8D29-5C40480C01B1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Tahoma"/>
              </a:rPr>
              <a:t>Üniversal Servisi Gerçekleştirmek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Şekilde görüldüğü gibi internetin sanal bir ağ sistemi olduğu söylenebili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57" name="Group 4"/>
          <p:cNvGrpSpPr/>
          <p:nvPr/>
        </p:nvGrpSpPr>
        <p:grpSpPr>
          <a:xfrm>
            <a:off x="1619280" y="3284640"/>
            <a:ext cx="5904000" cy="2808000"/>
            <a:chOff x="1619280" y="3284640"/>
            <a:chExt cx="5904000" cy="2808000"/>
          </a:xfrm>
        </p:grpSpPr>
        <p:graphicFrame>
          <p:nvGraphicFramePr>
            <p:cNvPr id="258" name="Object 5"/>
            <p:cNvGraphicFramePr/>
            <p:nvPr/>
          </p:nvGraphicFramePr>
          <p:xfrm>
            <a:off x="2537640" y="3953160"/>
            <a:ext cx="3673440" cy="1924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9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37640" y="3953160"/>
                      <a:ext cx="3673440" cy="19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0" name="Rectangle 6"/>
            <p:cNvSpPr/>
            <p:nvPr/>
          </p:nvSpPr>
          <p:spPr>
            <a:xfrm>
              <a:off x="1619280" y="5825520"/>
              <a:ext cx="262080" cy="267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1" name="Line 7"/>
            <p:cNvSpPr/>
            <p:nvPr/>
          </p:nvSpPr>
          <p:spPr>
            <a:xfrm flipV="1">
              <a:off x="1881360" y="5424480"/>
              <a:ext cx="786960" cy="53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2" name="Rectangle 8"/>
            <p:cNvSpPr/>
            <p:nvPr/>
          </p:nvSpPr>
          <p:spPr>
            <a:xfrm>
              <a:off x="7129440" y="5700600"/>
              <a:ext cx="262440" cy="267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3" name="Rectangle 9"/>
            <p:cNvSpPr/>
            <p:nvPr/>
          </p:nvSpPr>
          <p:spPr>
            <a:xfrm>
              <a:off x="7260840" y="4755600"/>
              <a:ext cx="262440" cy="267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4" name="Rectangle 10"/>
            <p:cNvSpPr/>
            <p:nvPr/>
          </p:nvSpPr>
          <p:spPr>
            <a:xfrm>
              <a:off x="6342480" y="3551760"/>
              <a:ext cx="262080" cy="26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5" name="Rectangle 11"/>
            <p:cNvSpPr/>
            <p:nvPr/>
          </p:nvSpPr>
          <p:spPr>
            <a:xfrm>
              <a:off x="4374360" y="3284640"/>
              <a:ext cx="262080" cy="267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6" name="Rectangle 12"/>
            <p:cNvSpPr/>
            <p:nvPr/>
          </p:nvSpPr>
          <p:spPr>
            <a:xfrm>
              <a:off x="2800080" y="3418200"/>
              <a:ext cx="262080" cy="26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7" name="Rectangle 13"/>
            <p:cNvSpPr/>
            <p:nvPr/>
          </p:nvSpPr>
          <p:spPr>
            <a:xfrm>
              <a:off x="1619280" y="4220640"/>
              <a:ext cx="262080" cy="267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8" name="Line 14"/>
            <p:cNvSpPr/>
            <p:nvPr/>
          </p:nvSpPr>
          <p:spPr>
            <a:xfrm>
              <a:off x="1881360" y="4354560"/>
              <a:ext cx="786960" cy="26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9" name="Line 15"/>
            <p:cNvSpPr/>
            <p:nvPr/>
          </p:nvSpPr>
          <p:spPr>
            <a:xfrm>
              <a:off x="3062160" y="3551760"/>
              <a:ext cx="393480" cy="53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0" name="Line 16"/>
            <p:cNvSpPr/>
            <p:nvPr/>
          </p:nvSpPr>
          <p:spPr>
            <a:xfrm>
              <a:off x="4505400" y="3551760"/>
              <a:ext cx="0" cy="53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1" name="Line 17"/>
            <p:cNvSpPr/>
            <p:nvPr/>
          </p:nvSpPr>
          <p:spPr>
            <a:xfrm flipH="1">
              <a:off x="5817600" y="3819600"/>
              <a:ext cx="655920" cy="40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2" name="Line 18"/>
            <p:cNvSpPr/>
            <p:nvPr/>
          </p:nvSpPr>
          <p:spPr>
            <a:xfrm flipH="1">
              <a:off x="6080040" y="4889520"/>
              <a:ext cx="118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3" name="Line 19"/>
            <p:cNvSpPr/>
            <p:nvPr/>
          </p:nvSpPr>
          <p:spPr>
            <a:xfrm flipH="1" flipV="1">
              <a:off x="5554800" y="5424480"/>
              <a:ext cx="1574280" cy="40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A0F7B-7B10-4E4A-9CC3-5FC4E4ED4A1C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Tahoma"/>
              </a:rPr>
              <a:t>Üniversal Servisi Gerçekleştirmek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83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Bu görünümün altında yatan fiziksel yapı. Her bilgisayar kendi ağına bağlı ve ağlar arası bağlantı router’lar vasıtası ile yapılmış durumda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7" name="Group 4"/>
          <p:cNvGrpSpPr/>
          <p:nvPr/>
        </p:nvGrpSpPr>
        <p:grpSpPr>
          <a:xfrm>
            <a:off x="1403280" y="2781360"/>
            <a:ext cx="6192720" cy="3743280"/>
            <a:chOff x="1403280" y="2781360"/>
            <a:chExt cx="6192720" cy="3743280"/>
          </a:xfrm>
        </p:grpSpPr>
        <p:graphicFrame>
          <p:nvGraphicFramePr>
            <p:cNvPr id="278" name="Object 5"/>
            <p:cNvGraphicFramePr/>
            <p:nvPr/>
          </p:nvGraphicFramePr>
          <p:xfrm>
            <a:off x="2091240" y="3280320"/>
            <a:ext cx="4949640" cy="3018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79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91240" y="3280320"/>
                      <a:ext cx="4949640" cy="3018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0" name="Rectangle 6"/>
            <p:cNvSpPr/>
            <p:nvPr/>
          </p:nvSpPr>
          <p:spPr>
            <a:xfrm>
              <a:off x="6357600" y="2905920"/>
              <a:ext cx="275040" cy="24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Rectangle 7"/>
            <p:cNvSpPr/>
            <p:nvPr/>
          </p:nvSpPr>
          <p:spPr>
            <a:xfrm>
              <a:off x="7320960" y="3904200"/>
              <a:ext cx="275040" cy="24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2" name="Rectangle 8"/>
            <p:cNvSpPr/>
            <p:nvPr/>
          </p:nvSpPr>
          <p:spPr>
            <a:xfrm>
              <a:off x="7183440" y="5151960"/>
              <a:ext cx="275040" cy="24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3" name="Rectangle 9"/>
            <p:cNvSpPr/>
            <p:nvPr/>
          </p:nvSpPr>
          <p:spPr>
            <a:xfrm>
              <a:off x="4155480" y="2781360"/>
              <a:ext cx="275040" cy="24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Rectangle 10"/>
            <p:cNvSpPr/>
            <p:nvPr/>
          </p:nvSpPr>
          <p:spPr>
            <a:xfrm>
              <a:off x="2366280" y="3030840"/>
              <a:ext cx="275040" cy="24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Rectangle 11"/>
            <p:cNvSpPr/>
            <p:nvPr/>
          </p:nvSpPr>
          <p:spPr>
            <a:xfrm>
              <a:off x="1403280" y="3904200"/>
              <a:ext cx="275040" cy="24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Rectangle 12"/>
            <p:cNvSpPr/>
            <p:nvPr/>
          </p:nvSpPr>
          <p:spPr>
            <a:xfrm>
              <a:off x="1540800" y="5151960"/>
              <a:ext cx="275040" cy="24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Rectangle 13"/>
            <p:cNvSpPr/>
            <p:nvPr/>
          </p:nvSpPr>
          <p:spPr>
            <a:xfrm>
              <a:off x="4430880" y="3973680"/>
              <a:ext cx="136800" cy="123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14"/>
            <p:cNvSpPr/>
            <p:nvPr/>
          </p:nvSpPr>
          <p:spPr>
            <a:xfrm>
              <a:off x="5054760" y="4516920"/>
              <a:ext cx="136800" cy="123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15"/>
            <p:cNvSpPr/>
            <p:nvPr/>
          </p:nvSpPr>
          <p:spPr>
            <a:xfrm>
              <a:off x="4293360" y="4403520"/>
              <a:ext cx="136800" cy="123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16"/>
            <p:cNvSpPr/>
            <p:nvPr/>
          </p:nvSpPr>
          <p:spPr>
            <a:xfrm>
              <a:off x="4293360" y="4971960"/>
              <a:ext cx="136800" cy="123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Line 17"/>
            <p:cNvSpPr/>
            <p:nvPr/>
          </p:nvSpPr>
          <p:spPr>
            <a:xfrm flipV="1">
              <a:off x="1815840" y="5151960"/>
              <a:ext cx="1238400" cy="12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Line 18"/>
            <p:cNvSpPr/>
            <p:nvPr/>
          </p:nvSpPr>
          <p:spPr>
            <a:xfrm>
              <a:off x="1678320" y="4029120"/>
              <a:ext cx="1100880" cy="12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Line 19"/>
            <p:cNvSpPr/>
            <p:nvPr/>
          </p:nvSpPr>
          <p:spPr>
            <a:xfrm>
              <a:off x="2641680" y="3280320"/>
              <a:ext cx="550440" cy="6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Line 20"/>
            <p:cNvSpPr/>
            <p:nvPr/>
          </p:nvSpPr>
          <p:spPr>
            <a:xfrm flipH="1">
              <a:off x="3880080" y="3030840"/>
              <a:ext cx="412920" cy="87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Line 21"/>
            <p:cNvSpPr/>
            <p:nvPr/>
          </p:nvSpPr>
          <p:spPr>
            <a:xfrm flipH="1">
              <a:off x="5806800" y="3155400"/>
              <a:ext cx="687960" cy="6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Line 22"/>
            <p:cNvSpPr/>
            <p:nvPr/>
          </p:nvSpPr>
          <p:spPr>
            <a:xfrm flipH="1">
              <a:off x="6082200" y="4029120"/>
              <a:ext cx="1238400" cy="12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Line 23"/>
            <p:cNvSpPr/>
            <p:nvPr/>
          </p:nvSpPr>
          <p:spPr>
            <a:xfrm flipH="1" flipV="1">
              <a:off x="5669280" y="5151960"/>
              <a:ext cx="1513800" cy="12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Line 24"/>
            <p:cNvSpPr/>
            <p:nvPr/>
          </p:nvSpPr>
          <p:spPr>
            <a:xfrm>
              <a:off x="4155480" y="5027400"/>
              <a:ext cx="13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Line 25"/>
            <p:cNvSpPr/>
            <p:nvPr/>
          </p:nvSpPr>
          <p:spPr>
            <a:xfrm>
              <a:off x="4430880" y="5027400"/>
              <a:ext cx="13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Line 26"/>
            <p:cNvSpPr/>
            <p:nvPr/>
          </p:nvSpPr>
          <p:spPr>
            <a:xfrm flipV="1">
              <a:off x="5118840" y="4653000"/>
              <a:ext cx="0" cy="12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Line 27"/>
            <p:cNvSpPr/>
            <p:nvPr/>
          </p:nvSpPr>
          <p:spPr>
            <a:xfrm flipV="1">
              <a:off x="5118840" y="4392360"/>
              <a:ext cx="0" cy="12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Line 28"/>
            <p:cNvSpPr/>
            <p:nvPr/>
          </p:nvSpPr>
          <p:spPr>
            <a:xfrm flipV="1">
              <a:off x="3742920" y="4527720"/>
              <a:ext cx="550440" cy="24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Line 29"/>
            <p:cNvSpPr/>
            <p:nvPr/>
          </p:nvSpPr>
          <p:spPr>
            <a:xfrm flipV="1">
              <a:off x="4430880" y="4278600"/>
              <a:ext cx="550440" cy="12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30"/>
            <p:cNvSpPr/>
            <p:nvPr/>
          </p:nvSpPr>
          <p:spPr>
            <a:xfrm>
              <a:off x="4155480" y="4029120"/>
              <a:ext cx="27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31"/>
            <p:cNvSpPr/>
            <p:nvPr/>
          </p:nvSpPr>
          <p:spPr>
            <a:xfrm>
              <a:off x="4568400" y="4029120"/>
              <a:ext cx="41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Text Box 32"/>
            <p:cNvSpPr/>
            <p:nvPr/>
          </p:nvSpPr>
          <p:spPr>
            <a:xfrm>
              <a:off x="3192120" y="4902480"/>
              <a:ext cx="68796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Net 3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7" name="Text Box 33"/>
            <p:cNvSpPr/>
            <p:nvPr/>
          </p:nvSpPr>
          <p:spPr>
            <a:xfrm>
              <a:off x="3192120" y="4029120"/>
              <a:ext cx="68796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Net 1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8" name="Text Box 34"/>
            <p:cNvSpPr/>
            <p:nvPr/>
          </p:nvSpPr>
          <p:spPr>
            <a:xfrm>
              <a:off x="4843800" y="4902480"/>
              <a:ext cx="68796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Net 4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9" name="Text Box 35"/>
            <p:cNvSpPr/>
            <p:nvPr/>
          </p:nvSpPr>
          <p:spPr>
            <a:xfrm>
              <a:off x="5118840" y="3904200"/>
              <a:ext cx="68796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Net 2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0" name="Line 36"/>
            <p:cNvSpPr/>
            <p:nvPr/>
          </p:nvSpPr>
          <p:spPr>
            <a:xfrm flipV="1">
              <a:off x="4369680" y="5104800"/>
              <a:ext cx="0" cy="49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1" name="Text Box 37"/>
            <p:cNvSpPr/>
            <p:nvPr/>
          </p:nvSpPr>
          <p:spPr>
            <a:xfrm>
              <a:off x="4155480" y="5651280"/>
              <a:ext cx="9630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000" spc="-1" strike="noStrike">
                  <a:solidFill>
                    <a:srgbClr val="000000"/>
                  </a:solidFill>
                  <a:latin typeface="Tahoma"/>
                </a:rPr>
                <a:t>router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2" name="Line 38"/>
            <p:cNvSpPr/>
            <p:nvPr/>
          </p:nvSpPr>
          <p:spPr>
            <a:xfrm flipV="1">
              <a:off x="3329640" y="5401800"/>
              <a:ext cx="0" cy="87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Text Box 39"/>
            <p:cNvSpPr/>
            <p:nvPr/>
          </p:nvSpPr>
          <p:spPr>
            <a:xfrm>
              <a:off x="2917080" y="6275160"/>
              <a:ext cx="9630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000" spc="-1" strike="noStrike">
                  <a:solidFill>
                    <a:srgbClr val="000000"/>
                  </a:solidFill>
                  <a:latin typeface="Tahoma"/>
                </a:rPr>
                <a:t>Fiziksel ağ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93869-1E03-40F4-8B8C-59C8D77B6A1C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333399"/>
                </a:solidFill>
                <a:latin typeface="Tahoma"/>
              </a:rPr>
              <a:t>Internetworking Protokolleri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Internetlerde kullanılmak üzere birçok protokol yazılımı geliştirilmiş olmasına rağmen, bunlardan bir tanesi internetworking için en çok kullanılan protokol olarak karşımıza çıkmaktad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u protokol yazılımı resmi adıyla T</a:t>
            </a:r>
            <a:r>
              <a:rPr b="0" i="1" lang="tr-TR" sz="2800" spc="-1" strike="noStrike">
                <a:solidFill>
                  <a:srgbClr val="000000"/>
                </a:solidFill>
                <a:latin typeface="Tahoma"/>
              </a:rPr>
              <a:t>CP/IP Internet Protokolleridir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Çoğu ağ uzmanı kişi tarafından bu isim kısaca TCP/IP olarak kullanılır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58A3B-C883-460A-BC37-068A1A901514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333399"/>
                </a:solidFill>
                <a:latin typeface="Tahoma"/>
              </a:rPr>
              <a:t>Internetworking Protokolleri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TCP/IP bir internette kullanılmak için ilk geliştirilen protokoldü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Geliştirilmesine 1970’li yıllarda başlanmıştı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Amerikan Savunma Bakanlığının desteği ile geliştirilen proje 1980’li yıllarda birçok kuruluş tarafından desteklenir hale gelmişt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9E0AD-3C3B-4405-91A5-F161C3F8CA4C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500" spc="-1" strike="noStrike">
                <a:solidFill>
                  <a:srgbClr val="333399"/>
                </a:solidFill>
                <a:latin typeface="Tahoma"/>
              </a:rPr>
              <a:t>Çapraz Kablo (</a:t>
            </a:r>
            <a:r>
              <a:rPr b="0" lang="tr-TR" sz="3500" spc="-1" strike="noStrike">
                <a:solidFill>
                  <a:srgbClr val="000000"/>
                </a:solidFill>
                <a:latin typeface="Tahoma"/>
              </a:rPr>
              <a:t>Crossover Ethernet Cable)</a:t>
            </a:r>
            <a:endParaRPr b="0" lang="en-US" sz="3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55640" y="2349360"/>
            <a:ext cx="2741760" cy="11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568B&lt;-&gt;568A olmalıdı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Picture 6" descr="cross"/>
          <p:cNvPicPr/>
          <p:nvPr/>
        </p:nvPicPr>
        <p:blipFill>
          <a:blip r:embed="rId1"/>
          <a:stretch/>
        </p:blipFill>
        <p:spPr>
          <a:xfrm>
            <a:off x="3635280" y="2060640"/>
            <a:ext cx="51134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46D98-DE7A-4105-B3C8-552E09A8C23D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J45 connec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1" name="Picture 3" descr="rj45"/>
          <p:cNvPicPr/>
          <p:nvPr/>
        </p:nvPicPr>
        <p:blipFill>
          <a:blip r:embed="rId1"/>
          <a:stretch/>
        </p:blipFill>
        <p:spPr>
          <a:xfrm>
            <a:off x="1547640" y="1979640"/>
            <a:ext cx="630108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B293C-0558-4704-A745-D13B97944C52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Bağlantıları Yapma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- </a:t>
            </a: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Araçla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4253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UTP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5/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e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/6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ab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J45 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onnektör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ablo soyuc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Yan kesk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Sıkma pense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Picture 4" descr="crimper"/>
          <p:cNvPicPr/>
          <p:nvPr/>
        </p:nvPicPr>
        <p:blipFill>
          <a:blip r:embed="rId1"/>
          <a:stretch/>
        </p:blipFill>
        <p:spPr>
          <a:xfrm>
            <a:off x="4500720" y="1916280"/>
            <a:ext cx="44956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B720F-A909-47C4-B320-0693AC233125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Bağlantıları Yapma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- </a:t>
            </a: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Adımla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493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65920" indent="-5659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ablo ucunu soy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65920" indent="-5659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Sarılı çiftleri çöz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65920" indent="-5659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Telleri renk sırasına diz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65920" indent="-5659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Telleri uygun ve eşit ölçüye getir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65920" indent="-5659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Telleri konnektöre sok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65920" indent="-5659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Gözle k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65920" indent="-5659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Sık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65920" indent="-5659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98317-DF11-479E-A338-523689747FF9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. Adım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– </a:t>
            </a: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Kablo ucunu soym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000" y="2017800"/>
            <a:ext cx="8351640" cy="119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Kablonun dış yalıtım kısmını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– 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½”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soyu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Soyma esnasında içerideki tellerin dışındaki yalıtım kesilmemesine dikkat ed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Picture 4" descr="step1"/>
          <p:cNvPicPr/>
          <p:nvPr/>
        </p:nvPicPr>
        <p:blipFill>
          <a:blip r:embed="rId1"/>
          <a:stretch/>
        </p:blipFill>
        <p:spPr>
          <a:xfrm>
            <a:off x="914400" y="3357720"/>
            <a:ext cx="7010280" cy="28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1T17:55:06Z</dcterms:created>
  <dc:creator>göksu</dc:creator>
  <dc:description/>
  <dc:language>en-US</dc:language>
  <cp:lastModifiedBy>Bilal</cp:lastModifiedBy>
  <dcterms:modified xsi:type="dcterms:W3CDTF">2012-11-27T15:56:36Z</dcterms:modified>
  <cp:revision>16</cp:revision>
  <dc:subject/>
  <dc:title>Yapısal Kablolama</dc:title>
</cp:coreProperties>
</file>