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FB5F-F298-4513-8AA8-257E7A7EBDF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6705-6542-4CC9-9AC1-FEA769CF322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PAnet was developed by the military to be a means of communications in the event that regular channels broke down.  Since the ARPAnet was a network of nodes, if any one node was out, the messages could be rerouted through another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D95E-DD0E-4EA0-A12A-412B1624ECF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27C-90C4-4CE3-BCB1-9321A5C04E7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5061-6AA5-485B-8A66-CEE9C1EF306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320D-7353-445D-BB40-5B05D5A7313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74B7-EB8E-4EC1-A280-AB698912C45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13AA-B405-4830-93D0-8D62971D677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07D-A829-4126-9C31-3123E012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ED6-B4BF-4C8A-A3DE-863C2DE0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E74-F319-4061-8053-AAB67552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53E-D917-47F7-A41F-A16D1F18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568B-7BB7-481E-A2AB-B41F037D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CB0C-2561-4A91-B85A-993C2768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78F7-C136-4B8D-845A-46E9B418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E2D2-A850-4780-BDF5-A17A0008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0EDD-84A0-4008-A9D7-E1FE0032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F543-8769-41AA-B4E0-0C7B137D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E37E-B952-4ECA-85F5-9548FF64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568-D904-4A4B-8D84-18238C6C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1744-EAEC-4CB9-9BB4-06CF9F12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4142-DE91-409C-A695-9A27B984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FCB6-8528-4C0E-95C1-8FEB00C2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3BC8-87C9-4B3D-86F3-B31A78ED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44E1-A592-4383-94A7-42345262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F6B-FB78-4930-B309-D2DF93DA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DF4-DFCF-4D37-8914-AB946CEB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9D4-4217-4882-9C2F-9C101CC9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E07-9A34-4D57-89A9-BCD589DA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984-2EF2-408F-BDE9-36A79BF5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B4C-A3B7-4315-943B-76AC7DD4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BA1-DF3A-4F03-8270-C22D36F9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5B3B-FF66-4FFB-9E3E-0A046B3331C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92FB-4760-4F7C-AE68-9C1BD094C2B9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CP/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7638-142B-47C5-9DE0-B550A4BF2EC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 Başlığı (TCP Head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2187720"/>
          <a:ext cx="8209080" cy="4557600"/>
        </p:xfrm>
        <a:graphic>
          <a:graphicData uri="http://schemas.openxmlformats.org/drawingml/2006/table">
            <a:tbl>
              <a:tblPr/>
              <a:tblGrid>
                <a:gridCol w="2051280"/>
                <a:gridCol w="2054160"/>
                <a:gridCol w="2050920"/>
                <a:gridCol w="2052720"/>
              </a:tblGrid>
              <a:tr h="57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aynak portu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portu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Sıra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Alındı bilgisi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ofseti (4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yrılmış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yraklar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Pencere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Checksum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Kontrol Toplamı – 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il İşaretçiler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– Değişken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6FB9-6555-4C0F-BD18-8DA0C8A7736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/IP Başlı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ynak ve hedef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: Gönderici ve alıcı pc’lerin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ra numarası:Paketin hangi bölümü olduğunu göster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ındı bilgisi numarası: Bir sonraki gelecek olan paket bölüm 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encere: Alıcının daha ne kadar paket bölümü alacağını belir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hecksum: İletim biriminden geçen bit'lerin sayıs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98C3-DC6F-4A75-B4AE-1B14F7DE19A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CMP (Internet Control Message Protocol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önderilmesi sırasında hata oluştuğunda mesaj veya rapor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ing komu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RP (Address Resolution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el ağdaki adresleri veya donanım adreslerini (MAC adres) ön bellek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C adresi ağ adresine ve ağ adresini de MAC adresine çev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GMP (Internet Group Management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i bir gruptaki hostları, multicast (Bir gönderici ile ağ üzerinde birden fazla alıcı arasında kurulan iletişim</a:t>
            </a:r>
            <a:r>
              <a:rPr b="0" lang="tr-T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grup) router’a bildiri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2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8F0F-9A93-4A5F-9BBA-C590F016E6F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(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nternet Protoc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P adresi bir ağa bağlı bilgisayarların ağ üzerinden birbirlerine veri yollamak için kullandıkları adrestir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Başlığ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4360" y="2997360"/>
          <a:ext cx="8137440" cy="368748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453960"/>
                <a:gridCol w="279360"/>
                <a:gridCol w="1438200"/>
                <a:gridCol w="238320"/>
                <a:gridCol w="18795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versiy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başlık uzunluğ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izmet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lam uzunl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im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dur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Ofs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k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Başlık kontrol toplamı 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ecks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ynak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6B2-F277-4DE8-89D2-E2667054BD3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Başlığ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izmet türü: Host’un ne tür bir hizmet istediği: Hızlı (örneğin ses), hatasız (örneğin dosya) veya güvenli iletim gib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imlik: Paket bölümünün bağlı olduğu bölümün kimliği, o pakete ait olan bölümlerin hepsinde aynı tanım ya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TL (Time to Live): Paketin ömr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şlık kontrol toplamı: Sadece paketin kontrolünü sağ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D78A-630A-4FC8-9F11-A6828C9F37D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(</a:t>
            </a:r>
            <a:r>
              <a:rPr b="0" lang="tr-TR" sz="4000" spc="-1" strike="noStrike">
                <a:solidFill>
                  <a:srgbClr val="333399"/>
                </a:solidFill>
                <a:latin typeface="Times New Roman"/>
              </a:rPr>
              <a:t>Internet Protocol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6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 olarak IPv4 adresler kullanılıy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oplam 32 bit ve noktalarla ayrılmış 4 adet 8 bitlik say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rnek bir IP adres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0000 10011100 00001110 0000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.x.y.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.156.14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leri dünyada 2</a:t>
            </a:r>
            <a:r>
              <a:rPr b="0" lang="tr-TR" sz="28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= 4 milyard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 ip adresleri : Evden modem ile bağlan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 ip adresleri: I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2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2FB-7332-46AC-906E-5BEB8359FE9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ir IP adresi iki kısımdan oluşur. Bu kısımlar prefix (ön ek) ve suffix (son ek olarak) adlandırıl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u iki seviyeli hiyerarşi iletilen paketin yönlendirme işinin kolayca yapılabilmesi için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6293-0009-43C0-A6A1-2FA0DDD90F9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Pre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efix: IP adresinin prefix kısmı bir bilgisayarın bağlı bulunduğu ağın fiziksel adres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da internete bağlı olan her bir fiziksel ağın ayrı birer adresi bulunması gerektiğini göster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e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ağ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(network address)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 bir ağa bağlı tüm bilgisayarların IP adreslerinde prefix (ön ek) olarak yazılacak olan adres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66A1-CC86-4C38-93DE-3F454D63641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Suf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ffix: IP adresinin suffix kısmı bir ağ içinde bir bilgisayarı diğerlerinden ayıran kısım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a bağlı tüm bilgisayarların prefixleri aynı olmak zorunda olduğuna göre, bir ağ içinde kullanılan tüm suffixler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iki farklı ağ içindeki iki bilgisayarın suffix kısımları aynı o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inin suffix kısmına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host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7175-2F15-4C93-B610-B230C99E42B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P adresi hiyerarşisi bize iki şeyi temin e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Birincisi internete bağlı her bilgisayarın farklı bir adresi olmasın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İkinci olarak ağ adreslerinin tek bir merkezden dağıtılmasını gerekli kılmakla beraber, host adreslerinin seçimini ağ adreslerini alan kişilere bırakı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BEE2-654C-4663-A90E-333EA6F733B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Internet’in Kısa Tarihçes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569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İlk geniş alan ağı olan ARPANET 1960’lı yılların ortasında askeri amaçlarla ortaya çıkt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Problem:  Nükleer bir savaş esnasında telefon hatlarının çoğunun tahrip olması durumunda bilgisayar iletişiminin sürdürülmesi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Çözüm: Paul Baran, Rand Corp. tarafından geliştiril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Baran paket-anahtarlamalı  ağ fikrini geliştird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Her mesaj küçük parçalara bölünmesi ve bu parçaların varış noktasına başarı ile ulaşıp orijinal mesajın oluşturulmas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Küçük parçalara bölünen mesajlar hızlı hatlar üzerinden yollan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69’de ağın detayları ARPA’ya (Advanced Research Projects Agency) sun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2, ağların ağı ortaya çıkmaya başladı. 40 bilgisayardan oluşan bir ARPANET gösterisi yapıld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0FC9-3A74-4636-BED5-94907A9E49A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P adreslerinin 32 bit olduğunu daha önce belirtmişt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eki bu 32 bitin kaç biti prefix yani ağ adresi ve kaç biti suffix yani host adres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ağ teknolojilerinden dolayı çok host içerebilen ağlar olabileceği gibi host sayısı az olan ağlar da olacakt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1AF0-41CE-4489-B549-8120D620950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efix ve suffix in uzunluk seçimi internete bağlanabilecek olan ağ sayısını ve bir ağdaki host sayısını doğrudan etkilediği için uzunluk seçimi dikkatli yapı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adresleri tasarlanırken prefix ve suffix için sabit uzunluk olmasının ihtiyaçları karşılamayacağı görülmüş ve IP adresleri prefix ve suffix bitlerinin sayısına göre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ç temel sınıfa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yrılmı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nun yanısıra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iki de özel amaçlı sınıf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luşturulmuş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sınıfları sonraki slaytta gösterildiği gibi başlangıçtaki 4 bit ile birbirlerinden ayrılır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1FE1-B71C-4E83-93D3-7FE2C2E0FE9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280" y="2349360"/>
          <a:ext cx="8713800" cy="2963880"/>
        </p:xfrm>
        <a:graphic>
          <a:graphicData uri="http://schemas.openxmlformats.org/drawingml/2006/table">
            <a:tbl>
              <a:tblPr/>
              <a:tblGrid>
                <a:gridCol w="793800"/>
                <a:gridCol w="250920"/>
                <a:gridCol w="250920"/>
                <a:gridCol w="253800"/>
                <a:gridCol w="322200"/>
                <a:gridCol w="720720"/>
                <a:gridCol w="1871640"/>
                <a:gridCol w="2089440"/>
                <a:gridCol w="2160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2    3            7  8                             15 16                                 23 24                            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İleride Kullanılmak Üzere Ayrılmı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053B-96A6-4D12-85E8-6E4DA12608D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8360" y="2708280"/>
          <a:ext cx="7907400" cy="2894040"/>
        </p:xfrm>
        <a:graphic>
          <a:graphicData uri="http://schemas.openxmlformats.org/drawingml/2006/table">
            <a:tbl>
              <a:tblPr/>
              <a:tblGrid>
                <a:gridCol w="842760"/>
                <a:gridCol w="1155960"/>
                <a:gridCol w="825480"/>
                <a:gridCol w="857160"/>
                <a:gridCol w="880920"/>
                <a:gridCol w="1121040"/>
                <a:gridCol w="222408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ad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daki PC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.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16,777,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-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655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-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.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25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B446-C2AC-43F8-810C-A2DEF734402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415360" cy="42483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 sınıfı 224-239 ve ağ 28 bit ile göster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40 ve üzeri E sınıf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B2CC-39B2-45B0-B303-60EF3518983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 Sınıfı (1-12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167480" y="2422440"/>
            <a:ext cx="2669400" cy="1278720"/>
            <a:chOff x="1167480" y="2422440"/>
            <a:chExt cx="2669400" cy="1278720"/>
          </a:xfrm>
        </p:grpSpPr>
        <p:sp>
          <p:nvSpPr>
            <p:cNvPr id="303" name="Text Box 5"/>
            <p:cNvSpPr/>
            <p:nvPr/>
          </p:nvSpPr>
          <p:spPr>
            <a:xfrm>
              <a:off x="1167480" y="2563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1596960" y="2427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2236680" y="2422440"/>
              <a:ext cx="0" cy="70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1747800" y="3241440"/>
              <a:ext cx="17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8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24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3652560" y="2734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0"/>
          <p:cNvGrpSpPr/>
          <p:nvPr/>
        </p:nvGrpSpPr>
        <p:grpSpPr>
          <a:xfrm>
            <a:off x="956880" y="3933720"/>
            <a:ext cx="6198840" cy="2018880"/>
            <a:chOff x="956880" y="3933720"/>
            <a:chExt cx="6198840" cy="2018880"/>
          </a:xfrm>
        </p:grpSpPr>
        <p:sp>
          <p:nvSpPr>
            <p:cNvPr id="309" name="Rectangle 11"/>
            <p:cNvSpPr/>
            <p:nvPr/>
          </p:nvSpPr>
          <p:spPr>
            <a:xfrm>
              <a:off x="1847880" y="471240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26.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2"/>
            <p:cNvSpPr/>
            <p:nvPr/>
          </p:nvSpPr>
          <p:spPr>
            <a:xfrm flipV="1" rot="5400000">
              <a:off x="2500200" y="3920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3"/>
            <p:cNvSpPr/>
            <p:nvPr/>
          </p:nvSpPr>
          <p:spPr>
            <a:xfrm>
              <a:off x="956880" y="54928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 flipV="1">
              <a:off x="1282680" y="5065920"/>
              <a:ext cx="762120" cy="51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2245320" y="3933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4175280" y="5454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 flipH="1" flipV="1">
              <a:off x="2901600" y="508500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4932360" y="227664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.255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01B0-4118-4339-8366-7C356E262D9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B Sınıfı (128-19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037160" y="2854440"/>
            <a:ext cx="2669400" cy="1278720"/>
            <a:chOff x="1037160" y="2854440"/>
            <a:chExt cx="2669400" cy="1278720"/>
          </a:xfrm>
        </p:grpSpPr>
        <p:sp>
          <p:nvSpPr>
            <p:cNvPr id="321" name="Text Box 5"/>
            <p:cNvSpPr/>
            <p:nvPr/>
          </p:nvSpPr>
          <p:spPr>
            <a:xfrm>
              <a:off x="1037160" y="2995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1466640" y="2859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"/>
            <p:cNvSpPr/>
            <p:nvPr/>
          </p:nvSpPr>
          <p:spPr>
            <a:xfrm>
              <a:off x="2266920" y="285444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1574280" y="367344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3522600" y="3167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812160" y="4365720"/>
            <a:ext cx="6199200" cy="2018520"/>
            <a:chOff x="812160" y="4365720"/>
            <a:chExt cx="6199200" cy="2018520"/>
          </a:xfrm>
        </p:grpSpPr>
        <p:sp>
          <p:nvSpPr>
            <p:cNvPr id="327" name="Rectangle 11"/>
            <p:cNvSpPr/>
            <p:nvPr/>
          </p:nvSpPr>
          <p:spPr>
            <a:xfrm>
              <a:off x="1703160" y="514404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.</a:t>
              </a: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  <a:ea typeface="Arial"/>
                </a:rPr>
                <a:t>26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 flipV="1" rot="5400000">
              <a:off x="2355480" y="4352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812160" y="592452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V="1">
              <a:off x="1137960" y="5497200"/>
              <a:ext cx="76212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2100600" y="4365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4030920" y="5886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H="1" flipV="1">
              <a:off x="3003120" y="551664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8"/>
          <p:cNvSpPr/>
          <p:nvPr/>
        </p:nvSpPr>
        <p:spPr>
          <a:xfrm>
            <a:off x="4932360" y="2492280"/>
            <a:ext cx="37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1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1.26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1.26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0D6-99FD-4CAD-898D-5C850B51216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C Sınıfı (192-22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121760" y="263376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    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539720" y="2496960"/>
            <a:ext cx="1973520" cy="70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2700360" y="24922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696320" y="331164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595680" y="28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776240" y="4781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9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26.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 flipV="1" rot="5400000">
            <a:off x="2428920" y="3989880"/>
            <a:ext cx="476280" cy="1219320"/>
          </a:xfrm>
          <a:custGeom>
            <a:avLst/>
            <a:gdLst>
              <a:gd name="textAreaLeft" fmla="*/ 304200 w 476280"/>
              <a:gd name="textAreaRight" fmla="*/ 476640 w 476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885600" y="55627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 flipV="1">
            <a:off x="1211400" y="5135040"/>
            <a:ext cx="76176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2173680" y="40035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32-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4104000" y="552456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(Pc veya ciha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 flipH="1" flipV="1">
            <a:off x="3363480" y="5154480"/>
            <a:ext cx="1352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5076720" y="2133720"/>
            <a:ext cx="34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94.26.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94.26.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25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94.26.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1CBA-83FC-44C4-B065-9B88B762494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Bir İnternet Uygulamas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179280" y="2133720"/>
            <a:ext cx="8785440" cy="4723920"/>
            <a:chOff x="179280" y="2133720"/>
            <a:chExt cx="8785440" cy="4723920"/>
          </a:xfrm>
        </p:grpSpPr>
        <p:graphicFrame>
          <p:nvGraphicFramePr>
            <p:cNvPr id="354" name="Object 5"/>
            <p:cNvGraphicFramePr/>
            <p:nvPr/>
          </p:nvGraphicFramePr>
          <p:xfrm>
            <a:off x="5512680" y="2133720"/>
            <a:ext cx="2577600" cy="103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1268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6"/>
            <p:cNvGraphicFramePr/>
            <p:nvPr/>
          </p:nvGraphicFramePr>
          <p:xfrm>
            <a:off x="284040" y="4871880"/>
            <a:ext cx="2577600" cy="103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040" y="487188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7"/>
            <p:cNvGraphicFramePr/>
            <p:nvPr/>
          </p:nvGraphicFramePr>
          <p:xfrm>
            <a:off x="5850000" y="4963680"/>
            <a:ext cx="2577600" cy="103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50000" y="4963680"/>
                      <a:ext cx="257760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0" name="Rectangle 8"/>
            <p:cNvSpPr/>
            <p:nvPr/>
          </p:nvSpPr>
          <p:spPr>
            <a:xfrm>
              <a:off x="4163400" y="365256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4163400" y="529164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2814120" y="3816360"/>
              <a:ext cx="1349280" cy="1311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4500720" y="2996640"/>
              <a:ext cx="1349280" cy="95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>
              <a:off x="2814120" y="545544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5" name="Object 13"/>
            <p:cNvGraphicFramePr/>
            <p:nvPr/>
          </p:nvGraphicFramePr>
          <p:xfrm>
            <a:off x="284040" y="2133720"/>
            <a:ext cx="2577600" cy="1031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6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04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Rectangle 14"/>
            <p:cNvSpPr/>
            <p:nvPr/>
          </p:nvSpPr>
          <p:spPr>
            <a:xfrm>
              <a:off x="4163400" y="246132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4500720" y="541188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2814120" y="26251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500720" y="2625120"/>
              <a:ext cx="10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>
              <a:off x="790200" y="30405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2139480" y="30261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6861960" y="31172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>
              <a:off x="7997760" y="27601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2"/>
            <p:cNvSpPr/>
            <p:nvPr/>
          </p:nvSpPr>
          <p:spPr>
            <a:xfrm>
              <a:off x="958680" y="58309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3"/>
            <p:cNvSpPr/>
            <p:nvPr/>
          </p:nvSpPr>
          <p:spPr>
            <a:xfrm>
              <a:off x="6693480" y="59036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4"/>
            <p:cNvSpPr/>
            <p:nvPr/>
          </p:nvSpPr>
          <p:spPr>
            <a:xfrm>
              <a:off x="8211240" y="5634000"/>
              <a:ext cx="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5"/>
            <p:cNvSpPr/>
            <p:nvPr/>
          </p:nvSpPr>
          <p:spPr>
            <a:xfrm>
              <a:off x="531360" y="3353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6"/>
            <p:cNvSpPr/>
            <p:nvPr/>
          </p:nvSpPr>
          <p:spPr>
            <a:xfrm>
              <a:off x="1880640" y="33573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7"/>
            <p:cNvSpPr/>
            <p:nvPr/>
          </p:nvSpPr>
          <p:spPr>
            <a:xfrm>
              <a:off x="7948800" y="6125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8"/>
            <p:cNvSpPr/>
            <p:nvPr/>
          </p:nvSpPr>
          <p:spPr>
            <a:xfrm>
              <a:off x="7738920" y="3087720"/>
              <a:ext cx="5061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"/>
            <p:cNvSpPr/>
            <p:nvPr/>
          </p:nvSpPr>
          <p:spPr>
            <a:xfrm>
              <a:off x="6434640" y="623160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0"/>
            <p:cNvSpPr/>
            <p:nvPr/>
          </p:nvSpPr>
          <p:spPr>
            <a:xfrm>
              <a:off x="6603480" y="344484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1"/>
            <p:cNvSpPr/>
            <p:nvPr/>
          </p:nvSpPr>
          <p:spPr>
            <a:xfrm>
              <a:off x="696240" y="615852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2"/>
            <p:cNvSpPr/>
            <p:nvPr/>
          </p:nvSpPr>
          <p:spPr>
            <a:xfrm>
              <a:off x="6356160" y="5247720"/>
              <a:ext cx="18550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92.5.4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3"/>
            <p:cNvSpPr/>
            <p:nvPr/>
          </p:nvSpPr>
          <p:spPr>
            <a:xfrm>
              <a:off x="790200" y="5247720"/>
              <a:ext cx="16862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618732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21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5"/>
            <p:cNvSpPr/>
            <p:nvPr/>
          </p:nvSpPr>
          <p:spPr>
            <a:xfrm>
              <a:off x="79020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6"/>
            <p:cNvSpPr/>
            <p:nvPr/>
          </p:nvSpPr>
          <p:spPr>
            <a:xfrm flipH="1" flipV="1">
              <a:off x="4500720" y="4100400"/>
              <a:ext cx="84312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7"/>
            <p:cNvSpPr/>
            <p:nvPr/>
          </p:nvSpPr>
          <p:spPr>
            <a:xfrm flipH="1">
              <a:off x="4332240" y="4592160"/>
              <a:ext cx="101160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8"/>
            <p:cNvSpPr/>
            <p:nvPr/>
          </p:nvSpPr>
          <p:spPr>
            <a:xfrm flipH="1" flipV="1">
              <a:off x="4500720" y="2953080"/>
              <a:ext cx="843120" cy="13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9"/>
            <p:cNvSpPr/>
            <p:nvPr/>
          </p:nvSpPr>
          <p:spPr>
            <a:xfrm>
              <a:off x="5343840" y="4264560"/>
              <a:ext cx="13492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0"/>
            <p:cNvSpPr/>
            <p:nvPr/>
          </p:nvSpPr>
          <p:spPr>
            <a:xfrm>
              <a:off x="666360" y="61257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1"/>
            <p:cNvSpPr/>
            <p:nvPr/>
          </p:nvSpPr>
          <p:spPr>
            <a:xfrm>
              <a:off x="7948800" y="611460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2"/>
            <p:cNvSpPr/>
            <p:nvPr/>
          </p:nvSpPr>
          <p:spPr>
            <a:xfrm>
              <a:off x="6400800" y="618408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3"/>
            <p:cNvSpPr/>
            <p:nvPr/>
          </p:nvSpPr>
          <p:spPr>
            <a:xfrm>
              <a:off x="7720200" y="306972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4"/>
            <p:cNvSpPr/>
            <p:nvPr/>
          </p:nvSpPr>
          <p:spPr>
            <a:xfrm>
              <a:off x="6588360" y="343044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5"/>
            <p:cNvSpPr/>
            <p:nvPr/>
          </p:nvSpPr>
          <p:spPr>
            <a:xfrm>
              <a:off x="1846800" y="33393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6"/>
            <p:cNvSpPr/>
            <p:nvPr/>
          </p:nvSpPr>
          <p:spPr>
            <a:xfrm>
              <a:off x="501480" y="33285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7"/>
            <p:cNvSpPr/>
            <p:nvPr/>
          </p:nvSpPr>
          <p:spPr>
            <a:xfrm>
              <a:off x="7615440" y="6395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8"/>
            <p:cNvSpPr/>
            <p:nvPr/>
          </p:nvSpPr>
          <p:spPr>
            <a:xfrm>
              <a:off x="6097320" y="653004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9"/>
            <p:cNvSpPr/>
            <p:nvPr/>
          </p:nvSpPr>
          <p:spPr>
            <a:xfrm>
              <a:off x="7398000" y="3353760"/>
              <a:ext cx="14878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28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0"/>
            <p:cNvSpPr/>
            <p:nvPr/>
          </p:nvSpPr>
          <p:spPr>
            <a:xfrm>
              <a:off x="6018840" y="3743280"/>
              <a:ext cx="16264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6.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1"/>
            <p:cNvSpPr/>
            <p:nvPr/>
          </p:nvSpPr>
          <p:spPr>
            <a:xfrm>
              <a:off x="437760" y="644256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0.0.0.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52"/>
            <p:cNvSpPr/>
            <p:nvPr/>
          </p:nvSpPr>
          <p:spPr>
            <a:xfrm>
              <a:off x="1554480" y="36378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3"/>
            <p:cNvSpPr/>
            <p:nvPr/>
          </p:nvSpPr>
          <p:spPr>
            <a:xfrm>
              <a:off x="179280" y="3623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351F-9E08-4674-94DD-8A57077F521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azı IP adresleri özel anlamlar taşırlar ve hostlara IP adresi olarak verilemezler. Bu IP adreslerinin tablosu bir sonraki slaytta verilmişti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F4F3-D8F0-4A65-868C-FA40218D2DA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arihçe (Devam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5 yılında başarılı bir biçimde ARPANET işlevsel bir ağ konumunu aldı, birçok organizasyon bu ağa katıldı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3, Internetworking Working Group(INWG) TCP/IP’ye temel halini verdi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TCP/IP UNIX işletim sistemine eklen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4, DNS (Domain Name System) tanıtıldı.  Tamamlanması 4 sene sürd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5, NSFNET süper bilgisayarlar arası TCP/IP tabanlı ağın oluşturulup çalıştırılması için kur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90, ARPANET kaldırıld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nternet’i başlangıçta yoğun olarak akademik dünya kullanmakla beraber, artık Internet bilgi  çağı toplumlarının her kesimi için vazgeçilmez bir araç olmuşt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41B8-A5EA-463A-99E1-E079924A824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2048040"/>
          <a:ext cx="8704080" cy="429408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2016000"/>
                <a:gridCol w="323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esin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 Amaçla Kullanıldığ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 bilgisaya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mik IP alan bilgisayarların açılışında DHCP ve bootsrap’te kullanılı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r ağın adesini belirt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önlendirilmiş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s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ilen 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broadcast mesaj gönderilmesini s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ınırlandırılmı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el bir ağda broadcast mesaj gönderilmesini sağ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hangi bir değ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op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amaçlı kullanım iç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0F92-6BF0-4AFB-A371-FFFE5C4AB64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27 ile başlayan adresler : Bir makinenin kendisi ile konuşması (loopback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ocalhost: 127.0.0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İlk oktet 0 veya 255 olama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C834-12A1-46D6-832E-670B12E388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ve Broadcast Numara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 sınıfı 192.23.123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92.23.12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92.23.123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 sınıfı 142.50.120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42.50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42.50.255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CE54-1FBA-45B8-BDB4-3DBE5D9719D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yrılmış IP Adresl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631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azı IP adresleri bazı kullanımlar için ayrılmıştır. Yerel ağlar için ayrılmış adresle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0.0.0.0 - 10.255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72.16.0.0 - 172.31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92.168.0.0 - 192.168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69.254.0.0 - 169.254.255.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ir ağı göstermekt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55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roadcast adres; bir ağ içerisindeki tüm PC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F89C-B798-4D57-904A-AE590DE954A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lıştır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31.107.20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08.234.23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08.15.45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ukarıdaki adresle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sınıf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t ağ maske numaras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ğlı olduğu ağ numarası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adcast adreslerini yazını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0" dur="1" fill="hold"/>
                                  <p:tgtEl>
                                    <p:spTgt spid="4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041E-6488-40C3-83C9-9BDA176CF65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CP/IP’nin Özellikler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çık protokol standartları. Standartlar kolaylıkla elde edilebilir ve herhangi bir işletim sistemi  ya da bilgisayar donanımından bağımsız geliştirilebil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ziksel ağ donanımından bağımsızlık. Bu özellik TCP/IP’ ye birçok değişik ağ ile entegrasyon olanağ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Ethernet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Token ring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X25 ağ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FDDI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9" dur="1" fill="hold"/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0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1" dur="1" fill="hold"/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2" dur="1" fill="hold"/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2276-4426-4858-AC19-6C906CF40BF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Times New Roman"/>
              </a:rPr>
              <a:t>TCP/IP’nin Özellikleri (Deva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Ortak bir adresleme yapısı. Bu sayede herhangi bir TCP/IP aygıtı dünya çapında tek olarak adreslen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utarlı ve geniş çaplı kullanıcı servisleri için standardize edilmiş üst katman protokoller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/IP protokol ailesindeki tüm protokoller şu üç Internet standardı yayınlarından birinden temin edi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ilitary Standards (MIL STD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nternet Engineering Notes (IE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Request For Comment (RF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0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1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2" dur="1" fill="hold"/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EDE2-9DF7-4BD0-A607-5127FC2EE55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0" y="2349360"/>
            <a:ext cx="9109080" cy="4942080"/>
            <a:chOff x="0" y="2349360"/>
            <a:chExt cx="9109080" cy="4942080"/>
          </a:xfrm>
        </p:grpSpPr>
        <p:sp>
          <p:nvSpPr>
            <p:cNvPr id="124" name="Rectangle 3"/>
            <p:cNvSpPr/>
            <p:nvPr/>
          </p:nvSpPr>
          <p:spPr>
            <a:xfrm>
              <a:off x="0" y="2349360"/>
              <a:ext cx="9109080" cy="49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998640" y="4004640"/>
              <a:ext cx="17017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1116000" y="4003200"/>
              <a:ext cx="13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996840" y="431136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1187280" y="4311360"/>
              <a:ext cx="14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990720" y="463176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1187280" y="461844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990720" y="495612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117252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990720" y="5280120"/>
              <a:ext cx="170316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152856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990720" y="560484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090440" y="5591160"/>
              <a:ext cx="13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Veri İle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990720" y="592920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144440" y="591696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3657600" y="5280120"/>
              <a:ext cx="170352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412092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3657600" y="5604840"/>
              <a:ext cx="1703520" cy="648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1"/>
            <p:cNvSpPr/>
            <p:nvPr/>
          </p:nvSpPr>
          <p:spPr>
            <a:xfrm>
              <a:off x="3976560" y="57535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3657600" y="495612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83940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4"/>
            <p:cNvSpPr/>
            <p:nvPr/>
          </p:nvSpPr>
          <p:spPr>
            <a:xfrm>
              <a:off x="3657600" y="3983040"/>
              <a:ext cx="1703520" cy="10026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750480" y="4247640"/>
              <a:ext cx="1396800" cy="3988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095880" y="5150520"/>
              <a:ext cx="2667240" cy="4539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7"/>
            <p:cNvSpPr/>
            <p:nvPr/>
          </p:nvSpPr>
          <p:spPr>
            <a:xfrm>
              <a:off x="7162920" y="521568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>
              <a:off x="6095880" y="5604840"/>
              <a:ext cx="2667240" cy="648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69105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7740720" y="5669640"/>
              <a:ext cx="936720" cy="519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LIP 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6095880" y="469656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64008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77724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4"/>
            <p:cNvSpPr/>
            <p:nvPr/>
          </p:nvSpPr>
          <p:spPr>
            <a:xfrm>
              <a:off x="6095880" y="391788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5"/>
            <p:cNvSpPr/>
            <p:nvPr/>
          </p:nvSpPr>
          <p:spPr>
            <a:xfrm>
              <a:off x="6172200" y="3983040"/>
              <a:ext cx="83808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6"/>
            <p:cNvSpPr/>
            <p:nvPr/>
          </p:nvSpPr>
          <p:spPr>
            <a:xfrm>
              <a:off x="716292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7"/>
            <p:cNvSpPr/>
            <p:nvPr/>
          </p:nvSpPr>
          <p:spPr>
            <a:xfrm>
              <a:off x="792468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 flipV="1">
              <a:off x="5334120" y="3917880"/>
              <a:ext cx="761760" cy="64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>
              <a:off x="5372280" y="4372200"/>
              <a:ext cx="723600" cy="594360"/>
            </a:xfrm>
            <a:prstGeom prst="pi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 flipV="1">
              <a:off x="5334120" y="4696200"/>
              <a:ext cx="761760" cy="2595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1"/>
            <p:cNvSpPr/>
            <p:nvPr/>
          </p:nvSpPr>
          <p:spPr>
            <a:xfrm flipV="1">
              <a:off x="5334120" y="5150520"/>
              <a:ext cx="761760" cy="1296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2"/>
            <p:cNvSpPr/>
            <p:nvPr/>
          </p:nvSpPr>
          <p:spPr>
            <a:xfrm>
              <a:off x="5334120" y="560484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3"/>
            <p:cNvSpPr/>
            <p:nvPr/>
          </p:nvSpPr>
          <p:spPr>
            <a:xfrm>
              <a:off x="5334120" y="625320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4"/>
            <p:cNvSpPr/>
            <p:nvPr/>
          </p:nvSpPr>
          <p:spPr>
            <a:xfrm>
              <a:off x="1368000" y="638316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5"/>
            <p:cNvSpPr/>
            <p:nvPr/>
          </p:nvSpPr>
          <p:spPr>
            <a:xfrm>
              <a:off x="3916440" y="6383160"/>
              <a:ext cx="999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6"/>
            <p:cNvSpPr/>
            <p:nvPr/>
          </p:nvSpPr>
          <p:spPr>
            <a:xfrm>
              <a:off x="2700360" y="559800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7"/>
            <p:cNvSpPr/>
            <p:nvPr/>
          </p:nvSpPr>
          <p:spPr>
            <a:xfrm>
              <a:off x="2700360" y="624672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8"/>
            <p:cNvSpPr/>
            <p:nvPr/>
          </p:nvSpPr>
          <p:spPr>
            <a:xfrm>
              <a:off x="2700360" y="529128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2700360" y="4985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2700360" y="4004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6300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IC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>
              <a:off x="7956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3"/>
            <p:cNvSpPr/>
            <p:nvPr/>
          </p:nvSpPr>
          <p:spPr>
            <a:xfrm>
              <a:off x="61563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I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TCP/IP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 Mukayes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468360" y="206064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ygulama Katmanı (Application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şıma Katmanı (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Katmanı (Network Layer/Internet Layer/Internetwork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iziksel Katman (Network Access Layer/Link and Physical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263C-78BE-480C-A11B-3DC420033E7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58960" y="2792520"/>
            <a:ext cx="38005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61120" y="2792520"/>
            <a:ext cx="20239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758960" y="3782880"/>
            <a:ext cx="265428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9840" y="2052720"/>
            <a:ext cx="11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cf01"/>
                </a:solidFill>
                <a:latin typeface="Times New Roman"/>
              </a:rPr>
              <a:t>Uygu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758960" y="5492880"/>
            <a:ext cx="5626080" cy="672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514600" y="5711760"/>
            <a:ext cx="41277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Ethernet, X.25, Token-Ring, Dial-up,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8960" y="4654440"/>
            <a:ext cx="5626080" cy="673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969640" y="4951440"/>
            <a:ext cx="28749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EEE 802.2 / LAPB/ H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711520" y="3898800"/>
            <a:ext cx="77292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349880" y="3782880"/>
            <a:ext cx="303516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414680" y="3886200"/>
            <a:ext cx="206244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536920" y="2890800"/>
            <a:ext cx="15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5642640" y="2890800"/>
            <a:ext cx="100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1758960" y="1928880"/>
            <a:ext cx="562608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81080" y="292428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urkish Times New Roman"/>
              </a:rPr>
              <a:t>U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69480" y="3944880"/>
            <a:ext cx="146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0c900"/>
                </a:solidFill>
                <a:latin typeface="Times New Roman"/>
              </a:rPr>
              <a:t>Yönlendi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179640" y="527544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c0128"/>
                </a:solidFill>
                <a:latin typeface="Times New Roman"/>
              </a:rPr>
              <a:t>Fizik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5410080" y="2057400"/>
            <a:ext cx="12193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4363920" y="206064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766880" y="205272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R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3592080" y="2058840"/>
            <a:ext cx="82044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477120" y="2057400"/>
            <a:ext cx="8380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2901960" y="1928880"/>
            <a:ext cx="74916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2902320" y="2022480"/>
            <a:ext cx="6757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4343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5486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655308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22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CP/IP Protokol Katmanları</a:t>
            </a:r>
            <a:r>
              <a:rPr b="0" lang="tr-TR" sz="3200" spc="-1" strike="noStrike">
                <a:solidFill>
                  <a:srgbClr val="000000"/>
                </a:solidFill>
                <a:latin typeface="Turkish Times New Roman"/>
              </a:rPr>
              <a:t> (Devam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323E-ACB7-4B8D-9977-080909B2B57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CP/IP Veri Aktarım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Picture 3" descr="MCj03252340000[1]"/>
          <p:cNvPicPr/>
          <p:nvPr/>
        </p:nvPicPr>
        <p:blipFill>
          <a:blip r:embed="rId1"/>
          <a:stretch/>
        </p:blipFill>
        <p:spPr>
          <a:xfrm>
            <a:off x="250920" y="219852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MCj02816080000[1]"/>
          <p:cNvPicPr/>
          <p:nvPr/>
        </p:nvPicPr>
        <p:blipFill>
          <a:blip r:embed="rId2"/>
          <a:stretch/>
        </p:blipFill>
        <p:spPr>
          <a:xfrm>
            <a:off x="7956720" y="205416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9280" y="1909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020000" y="1765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476360" y="23414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516720" y="22701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140360" y="2341440"/>
            <a:ext cx="8632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0"/>
          <p:cNvGrpSpPr/>
          <p:nvPr/>
        </p:nvGrpSpPr>
        <p:grpSpPr>
          <a:xfrm>
            <a:off x="-59760" y="3346560"/>
            <a:ext cx="2112480" cy="1920960"/>
            <a:chOff x="-59760" y="3346560"/>
            <a:chExt cx="2112480" cy="1920960"/>
          </a:xfrm>
        </p:grpSpPr>
        <p:sp>
          <p:nvSpPr>
            <p:cNvPr id="216" name="Text Box 11"/>
            <p:cNvSpPr/>
            <p:nvPr/>
          </p:nvSpPr>
          <p:spPr>
            <a:xfrm>
              <a:off x="206280" y="3346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79280" y="3860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179280" y="4381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179280" y="4868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-59760" y="4862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-59760" y="4357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-59760" y="385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-59760" y="335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9"/>
          <p:cNvSpPr/>
          <p:nvPr/>
        </p:nvSpPr>
        <p:spPr>
          <a:xfrm>
            <a:off x="2340000" y="55818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10429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1042920" y="5942160"/>
            <a:ext cx="69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79567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60865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4"/>
          <p:cNvGrpSpPr/>
          <p:nvPr/>
        </p:nvGrpSpPr>
        <p:grpSpPr>
          <a:xfrm>
            <a:off x="2341440" y="3422520"/>
            <a:ext cx="4535640" cy="2016360"/>
            <a:chOff x="2341440" y="3422520"/>
            <a:chExt cx="4535640" cy="2016360"/>
          </a:xfrm>
        </p:grpSpPr>
        <p:sp>
          <p:nvSpPr>
            <p:cNvPr id="230" name="Text Box 25"/>
            <p:cNvSpPr/>
            <p:nvPr/>
          </p:nvSpPr>
          <p:spPr>
            <a:xfrm>
              <a:off x="2989440" y="342252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989440" y="3927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3853080" y="3927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8"/>
            <p:cNvSpPr/>
            <p:nvPr/>
          </p:nvSpPr>
          <p:spPr>
            <a:xfrm>
              <a:off x="2989440" y="4503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9"/>
            <p:cNvSpPr/>
            <p:nvPr/>
          </p:nvSpPr>
          <p:spPr>
            <a:xfrm>
              <a:off x="2990880" y="503388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0"/>
            <p:cNvSpPr/>
            <p:nvPr/>
          </p:nvSpPr>
          <p:spPr>
            <a:xfrm>
              <a:off x="3853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4861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2"/>
            <p:cNvSpPr/>
            <p:nvPr/>
          </p:nvSpPr>
          <p:spPr>
            <a:xfrm>
              <a:off x="3853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4861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2341440" y="5033880"/>
              <a:ext cx="64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869080" y="5033880"/>
              <a:ext cx="1008000" cy="405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AC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36"/>
          <p:cNvSpPr/>
          <p:nvPr/>
        </p:nvSpPr>
        <p:spPr>
          <a:xfrm>
            <a:off x="7068960" y="3422520"/>
            <a:ext cx="184644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7042320" y="3936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7042320" y="445788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7042320" y="4944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8870040" y="4933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887004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8870040" y="392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88700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119640" y="64911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RC: Hata kontrol k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9F3D-5AC3-42AB-B2B9-9C2E4A93EBB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aşıma Katmanı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C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Transmission Control Protocol-Transfer Kontrol Protokolü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eri aktarımı yapılacak iki bilgisayar arasındaki bağlantıyı kur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ta denetimi yapar. Paketler gitmediyse bir dah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UD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 gibi ağ üzerinden paketi gönderir ama bu protokol paketin gidip gitmediğini takip etmez ve paketin yerine ulaşıp ulaşmayacağını garantilemez. Daha çok küçük paketlerin tüm PC’lere gönderilmesinde kullan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3:35Z</dcterms:created>
  <dc:creator>Tuna GÖKSU</dc:creator>
  <dc:description/>
  <dc:language>en-US</dc:language>
  <cp:lastModifiedBy>Bilal</cp:lastModifiedBy>
  <dcterms:modified xsi:type="dcterms:W3CDTF">2012-11-27T15:56:56Z</dcterms:modified>
  <cp:revision>21</cp:revision>
  <dc:subject/>
  <dc:title>Slayt 1</dc:title>
</cp:coreProperties>
</file>