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4CA-2F49-4C8F-93B3-04440D04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D4C-B6C7-4DBC-9336-4DF71BC0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324-7F92-4635-AD67-8FB83E09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803-CB4E-4DA8-8B5A-9A2AAFD4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A22F-7975-4AEF-9365-6361F52D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7AFE-776D-4C38-9C7D-E9F3E7AB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BEE2-F77E-4E48-8715-2D535323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5D90-0FDE-41AB-83CB-5F323C81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86D2-260B-46AF-884A-86AA70F9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E652-3B67-4890-81F5-C03A2163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7C83-40B0-4DB7-9070-8CA9A9D6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BE0-FB74-4836-920F-EF19449E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2587-8E5A-47B2-BF6A-F7F9BE50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0A28-689E-43DB-9638-23DA1617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D449-04FC-4187-A7C1-9CBF48A4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A189-7059-4343-94CD-ECB84728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C971-AB11-4E9E-B268-89FA1738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786-2510-439B-8AF3-77547BF3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770-C46E-470D-B723-D90B0180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5D8-30B0-40C9-A49C-FC82FBD3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47D-E212-43B6-98C6-CABC8DDF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7F4-A641-40AC-9FF9-376BE8C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4A2-A65D-4061-893A-1E1AF50D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FA2-82E5-4529-ACF4-F5DB4B97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25A4-3096-4D2F-9DED-4F1D15FE57BD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FDBC-DDDC-4922-9BE4-CBE99A13B567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ukarıdaki C deyimini şekildeki tabloya uygulayalım. Varsayalım router’a gelen paketin hedefi D, 192.4.10.3 olsu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İşlemler sırası ile şöyle olacakt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3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4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0.0 &amp; 192.4.10.3 eşit midir 128.1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255.0 &amp; 192.4.10.3 eşit midir 192.4.10.0? Evet. Öyleyse paketi netxhop[4]’e yani 128.1.0.9’a gönde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rklı ağları birbirlerine bağlamak için router’ları kullandığımızı biliyoru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router bu işi yapabilmek için yine üzerinde TCP/IP protokol yazılımlarını çalıştırmal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yazlımlar çalışıyor ise demektir ki router’larında IP adresleri bulunması gerek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ha önce, bir ağdaki bilgisayarların router’a sanki ağdaki bir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ğer bilgisayarmış gibi eriştiklerini söylemişti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router’lar birden fazla ağı birbirlerine bağladıklarına göre birden fazla IP’ye sahip olmaları gerekir. Bunun sebebi: router’ın bağlandığı her ağ için ayrı birer ağ arayüz donanımı vardır. Ve bu ağların ağ adresleri (yani bu ağdaki hostların IP adreslerinin prefix’i)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layısı ile router bağlandığı her ağdan birer IP sahip olmalıdır. Bu durum takip eden şekilde gösterilmiş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Router’lara bağlandıkları ağ adresinden IP adresleri verilmes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79280" y="1916280"/>
            <a:ext cx="8785080" cy="4752360"/>
            <a:chOff x="179280" y="1916280"/>
            <a:chExt cx="8785080" cy="4752360"/>
          </a:xfrm>
        </p:grpSpPr>
        <p:graphicFrame>
          <p:nvGraphicFramePr>
            <p:cNvPr id="109" name="Object 5"/>
            <p:cNvGraphicFramePr/>
            <p:nvPr/>
          </p:nvGraphicFramePr>
          <p:xfrm>
            <a:off x="5971680" y="5776200"/>
            <a:ext cx="1679400" cy="89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71680" y="5776200"/>
                      <a:ext cx="1679400" cy="8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Line 6"/>
            <p:cNvSpPr/>
            <p:nvPr/>
          </p:nvSpPr>
          <p:spPr>
            <a:xfrm>
              <a:off x="179280" y="298764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7"/>
            <p:cNvSpPr/>
            <p:nvPr/>
          </p:nvSpPr>
          <p:spPr>
            <a:xfrm>
              <a:off x="4775760" y="2643120"/>
              <a:ext cx="1426320" cy="154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3191760" y="4183560"/>
              <a:ext cx="31752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 flipH="1">
              <a:off x="2241720" y="4354560"/>
              <a:ext cx="94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 flipV="1">
              <a:off x="2241720" y="2984760"/>
              <a:ext cx="0" cy="136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3509280" y="4354560"/>
              <a:ext cx="20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 flipV="1">
              <a:off x="5568840" y="41835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6677640" y="4525560"/>
              <a:ext cx="31644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14"/>
            <p:cNvSpPr/>
            <p:nvPr/>
          </p:nvSpPr>
          <p:spPr>
            <a:xfrm>
              <a:off x="6202080" y="3498120"/>
              <a:ext cx="63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Line 15"/>
            <p:cNvSpPr/>
            <p:nvPr/>
          </p:nvSpPr>
          <p:spPr>
            <a:xfrm>
              <a:off x="6836400" y="3498120"/>
              <a:ext cx="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16"/>
            <p:cNvSpPr/>
            <p:nvPr/>
          </p:nvSpPr>
          <p:spPr>
            <a:xfrm flipV="1">
              <a:off x="2558520" y="4354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H="1" flipV="1">
              <a:off x="3508920" y="4354200"/>
              <a:ext cx="633240" cy="68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 flipH="1">
              <a:off x="6836040" y="4011120"/>
              <a:ext cx="47412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9"/>
            <p:cNvSpPr/>
            <p:nvPr/>
          </p:nvSpPr>
          <p:spPr>
            <a:xfrm flipH="1" flipV="1">
              <a:off x="6836040" y="4867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179280" y="2400480"/>
              <a:ext cx="317664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1116360" y="506664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99.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3919320" y="506664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23"/>
            <p:cNvSpPr/>
            <p:nvPr/>
          </p:nvSpPr>
          <p:spPr>
            <a:xfrm>
              <a:off x="7282800" y="530892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24"/>
            <p:cNvSpPr/>
            <p:nvPr/>
          </p:nvSpPr>
          <p:spPr>
            <a:xfrm>
              <a:off x="7095960" y="336996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25"/>
            <p:cNvSpPr/>
            <p:nvPr/>
          </p:nvSpPr>
          <p:spPr>
            <a:xfrm>
              <a:off x="5414040" y="1916280"/>
              <a:ext cx="186840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Line 26"/>
            <p:cNvSpPr/>
            <p:nvPr/>
          </p:nvSpPr>
          <p:spPr>
            <a:xfrm flipH="1">
              <a:off x="5601240" y="2643120"/>
              <a:ext cx="56016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3171960" y="3369960"/>
              <a:ext cx="9921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7963920" y="4388040"/>
              <a:ext cx="92988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6261480" y="5906880"/>
              <a:ext cx="16812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Line 30"/>
            <p:cNvSpPr/>
            <p:nvPr/>
          </p:nvSpPr>
          <p:spPr>
            <a:xfrm flipH="1">
              <a:off x="3358440" y="3854880"/>
              <a:ext cx="18684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31"/>
            <p:cNvSpPr/>
            <p:nvPr/>
          </p:nvSpPr>
          <p:spPr>
            <a:xfrm flipH="1">
              <a:off x="7095600" y="4694760"/>
              <a:ext cx="93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32"/>
            <p:cNvSpPr/>
            <p:nvPr/>
          </p:nvSpPr>
          <p:spPr>
            <a:xfrm>
              <a:off x="4820400" y="2756160"/>
              <a:ext cx="117900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Token-Ri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Line 33"/>
            <p:cNvSpPr/>
            <p:nvPr/>
          </p:nvSpPr>
          <p:spPr>
            <a:xfrm>
              <a:off x="6835320" y="4871520"/>
              <a:ext cx="0" cy="9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Router’ların birden fazla IP adresine sahip olmaları gibi birden fazla ağ arayüz kartına sahip bilgisayarlar da bu arayüz kartları ile farklı ağlara bağlanmak için birden fazla IP adresine sahip olabilirle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 (IP Paketlerinin İletilmes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router aldığı bir paketi direkt olarak üzerinde hiçbir değişiklik yapmadan diğer ağa kopyalayama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ünkü iki ağın iletim ortamı, teknolojisi ve ağ protokolleri farklı o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sebeplerden router aldığı bir paketi açıp gideceği ağı bulmalı uygun dönüştürmeyi yap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ideceği adrese bakarak bir sonraki gideceği nokta bulun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router’ların içerinde kayıtlı bulunan yönlendirme tablosuna (routing table) bakılarak yap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395280" y="2276640"/>
            <a:ext cx="8137440" cy="1080720"/>
            <a:chOff x="395280" y="2276640"/>
            <a:chExt cx="8137440" cy="1080720"/>
          </a:xfrm>
        </p:grpSpPr>
        <p:graphicFrame>
          <p:nvGraphicFramePr>
            <p:cNvPr id="145" name="Object 5"/>
            <p:cNvGraphicFramePr/>
            <p:nvPr/>
          </p:nvGraphicFramePr>
          <p:xfrm>
            <a:off x="395280" y="2491560"/>
            <a:ext cx="1557360" cy="83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2491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7" name="Group 6"/>
            <p:cNvGrpSpPr/>
            <p:nvPr/>
          </p:nvGrpSpPr>
          <p:grpSpPr>
            <a:xfrm>
              <a:off x="1936080" y="2718720"/>
              <a:ext cx="646200" cy="374760"/>
              <a:chOff x="1936080" y="2718720"/>
              <a:chExt cx="646200" cy="374760"/>
            </a:xfrm>
          </p:grpSpPr>
          <p:sp>
            <p:nvSpPr>
              <p:cNvPr id="148" name="Rectangle 7"/>
              <p:cNvSpPr/>
              <p:nvPr/>
            </p:nvSpPr>
            <p:spPr>
              <a:xfrm>
                <a:off x="2157840" y="2718720"/>
                <a:ext cx="212400" cy="37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1936080" y="290592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"/>
              <p:cNvSpPr/>
              <p:nvPr/>
            </p:nvSpPr>
            <p:spPr>
              <a:xfrm>
                <a:off x="2370240" y="290592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1" name="Text Box 10"/>
            <p:cNvSpPr/>
            <p:nvPr/>
          </p:nvSpPr>
          <p:spPr>
            <a:xfrm>
              <a:off x="2014560" y="227664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402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53" name="Object 12"/>
            <p:cNvGraphicFramePr/>
            <p:nvPr/>
          </p:nvGraphicFramePr>
          <p:xfrm>
            <a:off x="4783320" y="2518560"/>
            <a:ext cx="1557360" cy="8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3320" y="2518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13"/>
            <p:cNvGraphicFramePr/>
            <p:nvPr/>
          </p:nvGraphicFramePr>
          <p:xfrm>
            <a:off x="2595240" y="2519640"/>
            <a:ext cx="1557360" cy="83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5240" y="251964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14"/>
            <p:cNvGraphicFramePr/>
            <p:nvPr/>
          </p:nvGraphicFramePr>
          <p:xfrm>
            <a:off x="6975360" y="2496960"/>
            <a:ext cx="1557360" cy="83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75360" y="249696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9" name="Group 15"/>
            <p:cNvGrpSpPr/>
            <p:nvPr/>
          </p:nvGrpSpPr>
          <p:grpSpPr>
            <a:xfrm>
              <a:off x="6328440" y="2717280"/>
              <a:ext cx="646200" cy="375120"/>
              <a:chOff x="6328440" y="2717280"/>
              <a:chExt cx="646200" cy="375120"/>
            </a:xfrm>
          </p:grpSpPr>
          <p:sp>
            <p:nvSpPr>
              <p:cNvPr id="160" name="Rectangle 16"/>
              <p:cNvSpPr/>
              <p:nvPr/>
            </p:nvSpPr>
            <p:spPr>
              <a:xfrm>
                <a:off x="65502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63284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67626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9"/>
            <p:cNvGrpSpPr/>
            <p:nvPr/>
          </p:nvGrpSpPr>
          <p:grpSpPr>
            <a:xfrm>
              <a:off x="4148640" y="2717280"/>
              <a:ext cx="646200" cy="375120"/>
              <a:chOff x="4148640" y="2717280"/>
              <a:chExt cx="646200" cy="375120"/>
            </a:xfrm>
          </p:grpSpPr>
          <p:sp>
            <p:nvSpPr>
              <p:cNvPr id="164" name="Rectangle 20"/>
              <p:cNvSpPr/>
              <p:nvPr/>
            </p:nvSpPr>
            <p:spPr>
              <a:xfrm>
                <a:off x="43704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41486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45828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7" name="Text Box 23"/>
            <p:cNvSpPr/>
            <p:nvPr/>
          </p:nvSpPr>
          <p:spPr>
            <a:xfrm>
              <a:off x="30650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524052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741600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4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26"/>
            <p:cNvSpPr/>
            <p:nvPr/>
          </p:nvSpPr>
          <p:spPr>
            <a:xfrm>
              <a:off x="6402600" y="23032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4239360" y="23248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1835280" y="3645000"/>
          <a:ext cx="5189400" cy="2495520"/>
        </p:xfrm>
        <a:graphic>
          <a:graphicData uri="http://schemas.openxmlformats.org/drawingml/2006/table">
            <a:tbl>
              <a:tblPr/>
              <a:tblGrid>
                <a:gridCol w="2128680"/>
                <a:gridCol w="30607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 (Hed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 (Bir sonraki Atlanacak Nok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94"/>
          <p:cNvSpPr/>
          <p:nvPr/>
        </p:nvSpPr>
        <p:spPr>
          <a:xfrm>
            <a:off x="2700360" y="623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R2’deki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468360" y="2060640"/>
            <a:ext cx="8206920" cy="1944360"/>
            <a:chOff x="468360" y="2060640"/>
            <a:chExt cx="8206920" cy="1944360"/>
          </a:xfrm>
        </p:grpSpPr>
        <p:graphicFrame>
          <p:nvGraphicFramePr>
            <p:cNvPr id="176" name="Object 5"/>
            <p:cNvGraphicFramePr/>
            <p:nvPr/>
          </p:nvGraphicFramePr>
          <p:xfrm>
            <a:off x="468360" y="2725920"/>
            <a:ext cx="157068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2725920"/>
                      <a:ext cx="157068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8" name="Group 6"/>
            <p:cNvGrpSpPr/>
            <p:nvPr/>
          </p:nvGrpSpPr>
          <p:grpSpPr>
            <a:xfrm>
              <a:off x="2022480" y="2908800"/>
              <a:ext cx="652320" cy="301320"/>
              <a:chOff x="2022480" y="2908800"/>
              <a:chExt cx="652320" cy="301320"/>
            </a:xfrm>
          </p:grpSpPr>
          <p:sp>
            <p:nvSpPr>
              <p:cNvPr id="179" name="Rectangle 7"/>
              <p:cNvSpPr/>
              <p:nvPr/>
            </p:nvSpPr>
            <p:spPr>
              <a:xfrm>
                <a:off x="2246040" y="290880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202248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46060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2" name="Text Box 10"/>
            <p:cNvSpPr/>
            <p:nvPr/>
          </p:nvSpPr>
          <p:spPr>
            <a:xfrm>
              <a:off x="2101320" y="255312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655200" y="285588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84" name="Object 12"/>
            <p:cNvGraphicFramePr/>
            <p:nvPr/>
          </p:nvGraphicFramePr>
          <p:xfrm>
            <a:off x="4893840" y="2747520"/>
            <a:ext cx="1570680" cy="67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5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3840" y="274752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13"/>
            <p:cNvGraphicFramePr/>
            <p:nvPr/>
          </p:nvGraphicFramePr>
          <p:xfrm>
            <a:off x="2687400" y="2748600"/>
            <a:ext cx="1570680" cy="672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7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7400" y="274860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14"/>
            <p:cNvGraphicFramePr/>
            <p:nvPr/>
          </p:nvGraphicFramePr>
          <p:xfrm>
            <a:off x="7104600" y="2730240"/>
            <a:ext cx="1570680" cy="672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04600" y="273024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0" name="Group 15"/>
            <p:cNvGrpSpPr/>
            <p:nvPr/>
          </p:nvGrpSpPr>
          <p:grpSpPr>
            <a:xfrm>
              <a:off x="6452280" y="2907360"/>
              <a:ext cx="652320" cy="301320"/>
              <a:chOff x="6452280" y="2907360"/>
              <a:chExt cx="652320" cy="301320"/>
            </a:xfrm>
          </p:grpSpPr>
          <p:sp>
            <p:nvSpPr>
              <p:cNvPr id="191" name="Rectangle 16"/>
              <p:cNvSpPr/>
              <p:nvPr/>
            </p:nvSpPr>
            <p:spPr>
              <a:xfrm>
                <a:off x="667584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645228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Line 18"/>
              <p:cNvSpPr/>
              <p:nvPr/>
            </p:nvSpPr>
            <p:spPr>
              <a:xfrm>
                <a:off x="689040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" name="Group 19"/>
            <p:cNvGrpSpPr/>
            <p:nvPr/>
          </p:nvGrpSpPr>
          <p:grpSpPr>
            <a:xfrm>
              <a:off x="4254120" y="2907360"/>
              <a:ext cx="652320" cy="301320"/>
              <a:chOff x="4254120" y="2907360"/>
              <a:chExt cx="652320" cy="301320"/>
            </a:xfrm>
          </p:grpSpPr>
          <p:sp>
            <p:nvSpPr>
              <p:cNvPr id="195" name="Rectangle 20"/>
              <p:cNvSpPr/>
              <p:nvPr/>
            </p:nvSpPr>
            <p:spPr>
              <a:xfrm>
                <a:off x="447768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21"/>
              <p:cNvSpPr/>
              <p:nvPr/>
            </p:nvSpPr>
            <p:spPr>
              <a:xfrm>
                <a:off x="425412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Line 22"/>
              <p:cNvSpPr/>
              <p:nvPr/>
            </p:nvSpPr>
            <p:spPr>
              <a:xfrm>
                <a:off x="469224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>
              <a:off x="289944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>
              <a:off x="514332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Text Box 25"/>
            <p:cNvSpPr/>
            <p:nvPr/>
          </p:nvSpPr>
          <p:spPr>
            <a:xfrm>
              <a:off x="720036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6527160" y="2574720"/>
              <a:ext cx="6022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4345200" y="259200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1810440" y="310644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 flipH="1">
              <a:off x="2524680" y="239760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 flipV="1">
              <a:off x="4037760" y="310644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6248880" y="304956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Line 32"/>
            <p:cNvSpPr/>
            <p:nvPr/>
          </p:nvSpPr>
          <p:spPr>
            <a:xfrm flipH="1">
              <a:off x="4752720" y="239760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 flipH="1">
              <a:off x="6963480" y="238032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121608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2338200" y="206064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4582440" y="206064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346032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6826320" y="2060640"/>
              <a:ext cx="149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5687640" y="3581640"/>
              <a:ext cx="1325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324000" y="4076640"/>
          <a:ext cx="8559720" cy="1371600"/>
        </p:xfrm>
        <a:graphic>
          <a:graphicData uri="http://schemas.openxmlformats.org/drawingml/2006/table">
            <a:tbl>
              <a:tblPr/>
              <a:tblGrid>
                <a:gridCol w="2847960"/>
                <a:gridCol w="2873160"/>
                <a:gridCol w="2838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.4.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25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137"/>
          <p:cNvSpPr/>
          <p:nvPr/>
        </p:nvSpPr>
        <p:spPr>
          <a:xfrm>
            <a:off x="539640" y="5877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Merkezdeki Router’ın (R2)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önlendirme tablosundan bakarak bir sonraki atlama noktasını (next hop) seçmek işine yönlendirme (routing) veya aldığını başkasına iletme (forwarding)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şöyle gerçekleşir: Gelen paketteki hedef adres alınır. Bu adrese D diyelim. Tablodaki destination kısmına bakılarak gelen adres D için bir next hop olup olmadığına bak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maske kullanılarak yapılır. Şöyle k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f( ( mask[i]) &amp; D = = Destination[i]) forward to netxhop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(Not: &amp;, bit düzeyinde VE işlemidir)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50:37Z</dcterms:created>
  <dc:creator>Tuna GÖKSU</dc:creator>
  <dc:description/>
  <dc:language>en-US</dc:language>
  <cp:lastModifiedBy>Bilal</cp:lastModifiedBy>
  <dcterms:modified xsi:type="dcterms:W3CDTF">2012-11-27T15:55:31Z</dcterms:modified>
  <cp:revision>8</cp:revision>
  <dc:subject/>
  <dc:title>Slayt 1</dc:title>
</cp:coreProperties>
</file>