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0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075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075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0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22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utura Md B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9"/>
          <p:cNvSpPr/>
          <p:nvPr/>
        </p:nvSpPr>
        <p:spPr>
          <a:xfrm>
            <a:off x="67816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000" spc="-1" strike="noStrike">
                <a:solidFill>
                  <a:srgbClr val="ffffff"/>
                </a:solidFill>
                <a:latin typeface="Futura Md BT"/>
              </a:rPr>
              <a:t>SLAYT</a:t>
            </a:r>
            <a:r>
              <a:rPr b="1" lang="en-US" sz="1000" spc="-1" strike="noStrike">
                <a:solidFill>
                  <a:srgbClr val="ffffff"/>
                </a:solidFill>
                <a:latin typeface="Futura Md BT"/>
              </a:rPr>
              <a:t> </a:t>
            </a:r>
            <a:fld id="{DD83C20B-6FBF-4263-87B1-DC9D1FA2AD47}" type="slidenum">
              <a:rPr b="1" lang="en-US" sz="1000" spc="-1" strike="noStrike">
                <a:solidFill>
                  <a:srgbClr val="ffffff"/>
                </a:solidFill>
                <a:latin typeface="Futura Md BT"/>
              </a:rPr>
              <a:t>&lt;number&gt;</a:t>
            </a:fld>
            <a:r>
              <a:rPr b="1" lang="en-US" sz="1000" spc="-1" strike="noStrike">
                <a:solidFill>
                  <a:srgbClr val="ffffff"/>
                </a:solidFill>
                <a:latin typeface="Futura Md BT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4" descr="logo_2005"/>
          <p:cNvPicPr/>
          <p:nvPr/>
        </p:nvPicPr>
        <p:blipFill>
          <a:blip r:embed="rId2"/>
          <a:stretch/>
        </p:blipFill>
        <p:spPr>
          <a:xfrm>
            <a:off x="8280360" y="0"/>
            <a:ext cx="863640" cy="922320"/>
          </a:xfrm>
          <a:prstGeom prst="rect">
            <a:avLst/>
          </a:prstGeom>
          <a:ln w="0">
            <a:noFill/>
          </a:ln>
        </p:spPr>
      </p:pic>
      <p:sp>
        <p:nvSpPr>
          <p:cNvPr id="6" name="7 Dikdörtgen"/>
          <p:cNvSpPr/>
          <p:nvPr/>
        </p:nvSpPr>
        <p:spPr>
          <a:xfrm>
            <a:off x="4320" y="6396120"/>
            <a:ext cx="44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http://www.bilisimogretmeni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0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22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9"/>
          <p:cNvSpPr/>
          <p:nvPr/>
        </p:nvSpPr>
        <p:spPr>
          <a:xfrm>
            <a:off x="67816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000" spc="-1" strike="noStrike">
                <a:solidFill>
                  <a:srgbClr val="ffffff"/>
                </a:solidFill>
                <a:latin typeface="Futura Md BT"/>
              </a:rPr>
              <a:t>SLAYT</a:t>
            </a:r>
            <a:r>
              <a:rPr b="1" lang="en-US" sz="1000" spc="-1" strike="noStrike">
                <a:solidFill>
                  <a:srgbClr val="ffffff"/>
                </a:solidFill>
                <a:latin typeface="Futura Md BT"/>
              </a:rPr>
              <a:t> </a:t>
            </a:r>
            <a:fld id="{4463185B-ED38-45C0-B608-D7BE2EBD196F}" type="slidenum">
              <a:rPr b="1" lang="en-US" sz="1000" spc="-1" strike="noStrike">
                <a:solidFill>
                  <a:srgbClr val="ffffff"/>
                </a:solidFill>
                <a:latin typeface="Futura Md BT"/>
              </a:rPr>
              <a:t>&lt;number&gt;</a:t>
            </a:fld>
            <a:r>
              <a:rPr b="1" lang="en-US" sz="1000" spc="-1" strike="noStrike">
                <a:solidFill>
                  <a:srgbClr val="ffffff"/>
                </a:solidFill>
                <a:latin typeface="Futura Md BT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24" descr="logo_2005"/>
          <p:cNvPicPr/>
          <p:nvPr/>
        </p:nvPicPr>
        <p:blipFill>
          <a:blip r:embed="rId2"/>
          <a:stretch/>
        </p:blipFill>
        <p:spPr>
          <a:xfrm>
            <a:off x="8280360" y="0"/>
            <a:ext cx="863640" cy="922320"/>
          </a:xfrm>
          <a:prstGeom prst="rect">
            <a:avLst/>
          </a:prstGeom>
          <a:ln w="0">
            <a:noFill/>
          </a:ln>
        </p:spPr>
      </p:pic>
      <p:sp>
        <p:nvSpPr>
          <p:cNvPr id="47" name="7 Dikdörtgen"/>
          <p:cNvSpPr/>
          <p:nvPr/>
        </p:nvSpPr>
        <p:spPr>
          <a:xfrm>
            <a:off x="4320" y="6396120"/>
            <a:ext cx="44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http://www.bilisimogretmeni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8 Dikdörtgen"/>
          <p:cNvSpPr/>
          <p:nvPr/>
        </p:nvSpPr>
        <p:spPr>
          <a:xfrm>
            <a:off x="4320" y="6396120"/>
            <a:ext cx="44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http://www.bilisimogretmeni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utura Md B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ted.see.plymouth.ac.uk/bogdan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Futura Md BT"/>
              </a:rPr>
              <a:t>Ağ Standartları ve Protokolleri</a:t>
            </a:r>
            <a:endParaRPr b="0" lang="en-US" sz="44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0" y="643104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 Narrow"/>
              </a:rPr>
              <a:t>Kaynak: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ogdan Ghita –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ted.see.plymouth.ac.uk/bogdan</a:t>
            </a:r>
            <a:r>
              <a:rPr b="1" lang="tr-TR" sz="1200" spc="-1" strike="noStrike">
                <a:solidFill>
                  <a:srgbClr val="000000"/>
                </a:solidFill>
                <a:latin typeface="Times New Roman"/>
              </a:rPr>
              <a:t> -- http://www.bilisimogretmeni.com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Katmanların avantajları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atmanlar arasında 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ndar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 arayüzl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elli bir katman içindeki iç gelişmelerin evrilmesine olanak sağ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ir katmanda alternatif hizmetler verilebil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atman aracılığıyla sunulan farklı seçenekler ve yollar vasıtasıy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Her katmanın iç mekanizmaları diğer katmanlara gözükm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atmanlar gerekli değilse tamamen kaldırılmalıdır ya da daha basit sürümlerle değiştirilmel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Ağ standart örgütleri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82120" y="1790640"/>
            <a:ext cx="7991640" cy="411480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Uluslararası Standartlar Örgütü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IS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OSI de dahil bir dizi standart geliştiri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İnternet Mühendislik Görev Gücü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IET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quest For Comments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RFC)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elgelerini yayım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CP/IP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yığıtını ve ilgili protokolleri geliştir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vrupa Telekomünikasyon Standartları Enstitüsü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ETS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Ve diğerl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ISO OSI Refer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ans </a:t>
            </a: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Model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i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SI - Open Systems Interconn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O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tarafından geliştirild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– 19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nik Komit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7,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lt komit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977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’d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SI (Distributed SI)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olarak başlad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994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’de gözden geçiril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-7498 standard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ında tanımland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atman öneri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Ortak bir terminoloji ve ağ çerçevesi sağ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8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OSI (Open System 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I</a:t>
            </a: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nterconnection)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SI –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farklı şirketler tarafından üretilen bilgisayarların birbiriyle iletişim kurmasını sağlayan iletişim standard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ğ çerçeves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-&gt; REFER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N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Mevcut kurulumlar buna dayanı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çık sistemler için tasarlandı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anımlanan standartlara, formatlara ve anlamlara (semantics) uyan sistemle iletişime olanak sağ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OSI 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Katman Hizmetleri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1219320"/>
          <a:ext cx="8229600" cy="5127480"/>
        </p:xfrm>
        <a:graphic>
          <a:graphicData uri="http://schemas.openxmlformats.org/drawingml/2006/table">
            <a:tbl>
              <a:tblPr/>
              <a:tblGrid>
                <a:gridCol w="2448000"/>
                <a:gridCol w="5781600"/>
              </a:tblGrid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t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örev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ygula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llanıcının uygulamalar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ynı dilin konuşulması; veri formatlama, şifrele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ur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ğlantının kurulması ve yönetilmes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şı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nin bölümlere ayrılarak karşı tarafa gitmesinin kontrol edilmes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 bölümlerinin paketlere ayrılması, ağ adreslerinin fiziksel adreslere çevrim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 İleti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ğ paketlerinin çerçevelere ayrılmas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ziks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ziksel veri aktarım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826920" y="1052640"/>
          <a:ext cx="7777440" cy="5317920"/>
        </p:xfrm>
        <a:graphic>
          <a:graphicData uri="http://schemas.openxmlformats.org/drawingml/2006/table">
            <a:tbl>
              <a:tblPr/>
              <a:tblGrid>
                <a:gridCol w="3024360"/>
                <a:gridCol w="47530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t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DU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Protocol Data Unit)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ygula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TP, FTP, SMT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CII, JPEG, PG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ur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BIOS, DHC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şı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CP, UDP, SP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, IP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 İleti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ernet,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me Relay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SD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ziks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,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Kablo, Konnektö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826920" y="1341360"/>
          <a:ext cx="7777440" cy="4483080"/>
        </p:xfrm>
        <a:graphic>
          <a:graphicData uri="http://schemas.openxmlformats.org/drawingml/2006/table">
            <a:tbl>
              <a:tblPr/>
              <a:tblGrid>
                <a:gridCol w="3529080"/>
                <a:gridCol w="4248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t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llanılan Veri Ad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ygula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Ver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ur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şı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gment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Bölü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cket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Pake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 İleti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me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Çerçev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ziks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(Bi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OSI’de Verilerin Adı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Line 2"/>
          <p:cNvSpPr/>
          <p:nvPr/>
        </p:nvSpPr>
        <p:spPr>
          <a:xfrm flipV="1">
            <a:off x="7615080" y="1838160"/>
            <a:ext cx="1800" cy="379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rc 3"/>
          <p:cNvSpPr/>
          <p:nvPr/>
        </p:nvSpPr>
        <p:spPr>
          <a:xfrm rot="5400000">
            <a:off x="7126200" y="5543640"/>
            <a:ext cx="434880" cy="5428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rc 4"/>
          <p:cNvSpPr/>
          <p:nvPr/>
        </p:nvSpPr>
        <p:spPr>
          <a:xfrm flipH="1" rot="16200000">
            <a:off x="1154160" y="5543640"/>
            <a:ext cx="434880" cy="5428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5"/>
          <p:cNvSpPr/>
          <p:nvPr/>
        </p:nvSpPr>
        <p:spPr>
          <a:xfrm>
            <a:off x="1643040" y="6032520"/>
            <a:ext cx="5429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6"/>
          <p:cNvSpPr/>
          <p:nvPr/>
        </p:nvSpPr>
        <p:spPr>
          <a:xfrm flipV="1">
            <a:off x="1100160" y="1838160"/>
            <a:ext cx="1440" cy="3795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7"/>
          <p:cNvSpPr/>
          <p:nvPr/>
        </p:nvSpPr>
        <p:spPr>
          <a:xfrm flipH="1">
            <a:off x="1933200" y="5130720"/>
            <a:ext cx="5281560" cy="18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8"/>
          <p:cNvSpPr/>
          <p:nvPr/>
        </p:nvSpPr>
        <p:spPr>
          <a:xfrm flipH="1">
            <a:off x="1933200" y="2814480"/>
            <a:ext cx="5281560" cy="18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9"/>
          <p:cNvSpPr/>
          <p:nvPr/>
        </p:nvSpPr>
        <p:spPr>
          <a:xfrm flipH="1">
            <a:off x="1933200" y="3394080"/>
            <a:ext cx="5281560" cy="144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0"/>
          <p:cNvSpPr/>
          <p:nvPr/>
        </p:nvSpPr>
        <p:spPr>
          <a:xfrm flipH="1">
            <a:off x="1933200" y="4008600"/>
            <a:ext cx="5281560" cy="144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1"/>
          <p:cNvSpPr/>
          <p:nvPr/>
        </p:nvSpPr>
        <p:spPr>
          <a:xfrm flipH="1">
            <a:off x="1933200" y="4551480"/>
            <a:ext cx="5281560" cy="144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2"/>
          <p:cNvSpPr/>
          <p:nvPr/>
        </p:nvSpPr>
        <p:spPr>
          <a:xfrm flipH="1">
            <a:off x="1933200" y="1657440"/>
            <a:ext cx="5281560" cy="144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3"/>
          <p:cNvSpPr/>
          <p:nvPr/>
        </p:nvSpPr>
        <p:spPr>
          <a:xfrm flipH="1">
            <a:off x="1933200" y="2236680"/>
            <a:ext cx="5281560" cy="18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14"/>
          <p:cNvGrpSpPr/>
          <p:nvPr/>
        </p:nvGrpSpPr>
        <p:grpSpPr>
          <a:xfrm>
            <a:off x="4249800" y="1512720"/>
            <a:ext cx="1103400" cy="325440"/>
            <a:chOff x="4249800" y="1512720"/>
            <a:chExt cx="1103400" cy="325440"/>
          </a:xfrm>
        </p:grpSpPr>
        <p:sp>
          <p:nvSpPr>
            <p:cNvPr id="149" name="Text Box 15"/>
            <p:cNvSpPr/>
            <p:nvPr/>
          </p:nvSpPr>
          <p:spPr>
            <a:xfrm>
              <a:off x="4604400" y="1512720"/>
              <a:ext cx="74880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Text Box 16"/>
            <p:cNvSpPr/>
            <p:nvPr/>
          </p:nvSpPr>
          <p:spPr>
            <a:xfrm>
              <a:off x="4249800" y="1512720"/>
              <a:ext cx="35460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Group 17"/>
          <p:cNvGrpSpPr/>
          <p:nvPr/>
        </p:nvGrpSpPr>
        <p:grpSpPr>
          <a:xfrm>
            <a:off x="3922560" y="2092320"/>
            <a:ext cx="1460520" cy="325440"/>
            <a:chOff x="3922560" y="2092320"/>
            <a:chExt cx="1460520" cy="325440"/>
          </a:xfrm>
        </p:grpSpPr>
        <p:sp>
          <p:nvSpPr>
            <p:cNvPr id="152" name="Text Box 18"/>
            <p:cNvSpPr/>
            <p:nvPr/>
          </p:nvSpPr>
          <p:spPr>
            <a:xfrm>
              <a:off x="4633200" y="2092320"/>
              <a:ext cx="74988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Text Box 19"/>
            <p:cNvSpPr/>
            <p:nvPr/>
          </p:nvSpPr>
          <p:spPr>
            <a:xfrm>
              <a:off x="4277880" y="2092320"/>
              <a:ext cx="35496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Text Box 20"/>
            <p:cNvSpPr/>
            <p:nvPr/>
          </p:nvSpPr>
          <p:spPr>
            <a:xfrm>
              <a:off x="3922560" y="2092320"/>
              <a:ext cx="35532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Text Box 21"/>
          <p:cNvSpPr/>
          <p:nvPr/>
        </p:nvSpPr>
        <p:spPr>
          <a:xfrm>
            <a:off x="2543040" y="4983120"/>
            <a:ext cx="3251160" cy="325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2"/>
          <p:cNvSpPr/>
          <p:nvPr/>
        </p:nvSpPr>
        <p:spPr>
          <a:xfrm>
            <a:off x="6491160" y="1476360"/>
            <a:ext cx="2224080" cy="361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7 -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23"/>
          <p:cNvSpPr/>
          <p:nvPr/>
        </p:nvSpPr>
        <p:spPr>
          <a:xfrm>
            <a:off x="6491160" y="4371840"/>
            <a:ext cx="2224080" cy="3621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2 – Data lin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24"/>
          <p:cNvSpPr/>
          <p:nvPr/>
        </p:nvSpPr>
        <p:spPr>
          <a:xfrm>
            <a:off x="6491160" y="3792600"/>
            <a:ext cx="2224080" cy="361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3 –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25"/>
          <p:cNvSpPr/>
          <p:nvPr/>
        </p:nvSpPr>
        <p:spPr>
          <a:xfrm>
            <a:off x="6491160" y="2055960"/>
            <a:ext cx="2224080" cy="361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6 – Pres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26"/>
          <p:cNvSpPr/>
          <p:nvPr/>
        </p:nvSpPr>
        <p:spPr>
          <a:xfrm>
            <a:off x="6491160" y="2633760"/>
            <a:ext cx="2224080" cy="361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5 – 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27"/>
          <p:cNvSpPr/>
          <p:nvPr/>
        </p:nvSpPr>
        <p:spPr>
          <a:xfrm>
            <a:off x="6491160" y="3213000"/>
            <a:ext cx="2224080" cy="3621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4 – Trans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28"/>
          <p:cNvSpPr/>
          <p:nvPr/>
        </p:nvSpPr>
        <p:spPr>
          <a:xfrm>
            <a:off x="6491160" y="4946760"/>
            <a:ext cx="2224080" cy="361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1 - Phys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29"/>
          <p:cNvSpPr/>
          <p:nvPr/>
        </p:nvSpPr>
        <p:spPr>
          <a:xfrm>
            <a:off x="0" y="1476360"/>
            <a:ext cx="2224080" cy="361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7 -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30"/>
          <p:cNvSpPr/>
          <p:nvPr/>
        </p:nvSpPr>
        <p:spPr>
          <a:xfrm>
            <a:off x="0" y="4371840"/>
            <a:ext cx="2224080" cy="3621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2 – Data lin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1"/>
          <p:cNvSpPr/>
          <p:nvPr/>
        </p:nvSpPr>
        <p:spPr>
          <a:xfrm>
            <a:off x="0" y="3792600"/>
            <a:ext cx="2224080" cy="361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3 –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32"/>
          <p:cNvSpPr/>
          <p:nvPr/>
        </p:nvSpPr>
        <p:spPr>
          <a:xfrm>
            <a:off x="0" y="2055960"/>
            <a:ext cx="2224080" cy="361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6 – Pres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33"/>
          <p:cNvSpPr/>
          <p:nvPr/>
        </p:nvSpPr>
        <p:spPr>
          <a:xfrm>
            <a:off x="0" y="2633760"/>
            <a:ext cx="2224080" cy="361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5 – 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34"/>
          <p:cNvSpPr/>
          <p:nvPr/>
        </p:nvSpPr>
        <p:spPr>
          <a:xfrm>
            <a:off x="0" y="3213000"/>
            <a:ext cx="2224080" cy="3621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4 – Trans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5"/>
          <p:cNvSpPr/>
          <p:nvPr/>
        </p:nvSpPr>
        <p:spPr>
          <a:xfrm>
            <a:off x="0" y="4946760"/>
            <a:ext cx="2224080" cy="361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1 - Phys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36"/>
          <p:cNvSpPr/>
          <p:nvPr/>
        </p:nvSpPr>
        <p:spPr>
          <a:xfrm>
            <a:off x="6962760" y="927000"/>
            <a:ext cx="12621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7"/>
          <p:cNvSpPr/>
          <p:nvPr/>
        </p:nvSpPr>
        <p:spPr>
          <a:xfrm>
            <a:off x="436680" y="927000"/>
            <a:ext cx="140652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Se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OSI – 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Veri akışı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grpSp>
        <p:nvGrpSpPr>
          <p:cNvPr id="173" name="Group 39"/>
          <p:cNvGrpSpPr/>
          <p:nvPr/>
        </p:nvGrpSpPr>
        <p:grpSpPr>
          <a:xfrm>
            <a:off x="3559320" y="2657520"/>
            <a:ext cx="1823400" cy="326880"/>
            <a:chOff x="3559320" y="2657520"/>
            <a:chExt cx="1823400" cy="326880"/>
          </a:xfrm>
        </p:grpSpPr>
        <p:sp>
          <p:nvSpPr>
            <p:cNvPr id="174" name="Text Box 40"/>
            <p:cNvSpPr/>
            <p:nvPr/>
          </p:nvSpPr>
          <p:spPr>
            <a:xfrm>
              <a:off x="4633920" y="2657520"/>
              <a:ext cx="748800" cy="326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41"/>
            <p:cNvSpPr/>
            <p:nvPr/>
          </p:nvSpPr>
          <p:spPr>
            <a:xfrm>
              <a:off x="4278240" y="2657520"/>
              <a:ext cx="355320" cy="326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42"/>
            <p:cNvSpPr/>
            <p:nvPr/>
          </p:nvSpPr>
          <p:spPr>
            <a:xfrm>
              <a:off x="3914640" y="2657520"/>
              <a:ext cx="355320" cy="326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Text Box 43"/>
            <p:cNvSpPr/>
            <p:nvPr/>
          </p:nvSpPr>
          <p:spPr>
            <a:xfrm>
              <a:off x="3559320" y="2657520"/>
              <a:ext cx="355320" cy="326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Group 44"/>
          <p:cNvGrpSpPr/>
          <p:nvPr/>
        </p:nvGrpSpPr>
        <p:grpSpPr>
          <a:xfrm>
            <a:off x="3241800" y="3213000"/>
            <a:ext cx="2170080" cy="325440"/>
            <a:chOff x="3241800" y="3213000"/>
            <a:chExt cx="2170080" cy="325440"/>
          </a:xfrm>
        </p:grpSpPr>
        <p:sp>
          <p:nvSpPr>
            <p:cNvPr id="179" name="Text Box 45"/>
            <p:cNvSpPr/>
            <p:nvPr/>
          </p:nvSpPr>
          <p:spPr>
            <a:xfrm>
              <a:off x="4662720" y="3213000"/>
              <a:ext cx="74916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Text Box 46"/>
            <p:cNvSpPr/>
            <p:nvPr/>
          </p:nvSpPr>
          <p:spPr>
            <a:xfrm>
              <a:off x="4307040" y="3213000"/>
              <a:ext cx="35568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47"/>
            <p:cNvSpPr/>
            <p:nvPr/>
          </p:nvSpPr>
          <p:spPr>
            <a:xfrm>
              <a:off x="3953160" y="3213000"/>
              <a:ext cx="35388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48"/>
            <p:cNvSpPr/>
            <p:nvPr/>
          </p:nvSpPr>
          <p:spPr>
            <a:xfrm>
              <a:off x="3597480" y="3213000"/>
              <a:ext cx="35568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49"/>
            <p:cNvSpPr/>
            <p:nvPr/>
          </p:nvSpPr>
          <p:spPr>
            <a:xfrm>
              <a:off x="3241800" y="3213000"/>
              <a:ext cx="35568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Group 50"/>
          <p:cNvGrpSpPr/>
          <p:nvPr/>
        </p:nvGrpSpPr>
        <p:grpSpPr>
          <a:xfrm>
            <a:off x="2901960" y="3863880"/>
            <a:ext cx="2523960" cy="326880"/>
            <a:chOff x="2901960" y="3863880"/>
            <a:chExt cx="2523960" cy="326880"/>
          </a:xfrm>
        </p:grpSpPr>
        <p:sp>
          <p:nvSpPr>
            <p:cNvPr id="185" name="Text Box 51"/>
            <p:cNvSpPr/>
            <p:nvPr/>
          </p:nvSpPr>
          <p:spPr>
            <a:xfrm>
              <a:off x="4676760" y="3865320"/>
              <a:ext cx="74916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Text Box 52"/>
            <p:cNvSpPr/>
            <p:nvPr/>
          </p:nvSpPr>
          <p:spPr>
            <a:xfrm>
              <a:off x="3967200" y="3865320"/>
              <a:ext cx="35388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53"/>
            <p:cNvSpPr/>
            <p:nvPr/>
          </p:nvSpPr>
          <p:spPr>
            <a:xfrm>
              <a:off x="3611520" y="3865320"/>
              <a:ext cx="35568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Text Box 54"/>
            <p:cNvSpPr/>
            <p:nvPr/>
          </p:nvSpPr>
          <p:spPr>
            <a:xfrm>
              <a:off x="3257280" y="3865320"/>
              <a:ext cx="35424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55"/>
            <p:cNvSpPr/>
            <p:nvPr/>
          </p:nvSpPr>
          <p:spPr>
            <a:xfrm>
              <a:off x="2901960" y="3865320"/>
              <a:ext cx="35532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Text Box 56"/>
            <p:cNvSpPr/>
            <p:nvPr/>
          </p:nvSpPr>
          <p:spPr>
            <a:xfrm>
              <a:off x="4321080" y="3863880"/>
              <a:ext cx="355680" cy="326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Group 57"/>
          <p:cNvGrpSpPr/>
          <p:nvPr/>
        </p:nvGrpSpPr>
        <p:grpSpPr>
          <a:xfrm>
            <a:off x="2543040" y="4406760"/>
            <a:ext cx="3251160" cy="327240"/>
            <a:chOff x="2543040" y="4406760"/>
            <a:chExt cx="3251160" cy="327240"/>
          </a:xfrm>
        </p:grpSpPr>
        <p:sp>
          <p:nvSpPr>
            <p:cNvPr id="192" name="Text Box 58"/>
            <p:cNvSpPr/>
            <p:nvPr/>
          </p:nvSpPr>
          <p:spPr>
            <a:xfrm>
              <a:off x="4676760" y="4408560"/>
              <a:ext cx="74772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Text Box 59"/>
            <p:cNvSpPr/>
            <p:nvPr/>
          </p:nvSpPr>
          <p:spPr>
            <a:xfrm>
              <a:off x="3962160" y="4408560"/>
              <a:ext cx="35568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Text Box 60"/>
            <p:cNvSpPr/>
            <p:nvPr/>
          </p:nvSpPr>
          <p:spPr>
            <a:xfrm>
              <a:off x="3608280" y="4408560"/>
              <a:ext cx="35388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Text Box 61"/>
            <p:cNvSpPr/>
            <p:nvPr/>
          </p:nvSpPr>
          <p:spPr>
            <a:xfrm>
              <a:off x="3252600" y="4408560"/>
              <a:ext cx="35568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Text Box 62"/>
            <p:cNvSpPr/>
            <p:nvPr/>
          </p:nvSpPr>
          <p:spPr>
            <a:xfrm>
              <a:off x="2898720" y="4408560"/>
              <a:ext cx="35388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Text Box 63"/>
            <p:cNvSpPr/>
            <p:nvPr/>
          </p:nvSpPr>
          <p:spPr>
            <a:xfrm>
              <a:off x="2543040" y="4408560"/>
              <a:ext cx="35568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Text Box 64"/>
            <p:cNvSpPr/>
            <p:nvPr/>
          </p:nvSpPr>
          <p:spPr>
            <a:xfrm>
              <a:off x="5425920" y="4408560"/>
              <a:ext cx="36828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Text Box 65"/>
            <p:cNvSpPr/>
            <p:nvPr/>
          </p:nvSpPr>
          <p:spPr>
            <a:xfrm>
              <a:off x="4321080" y="4406760"/>
              <a:ext cx="355680" cy="327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Futura Md BT"/>
              </a:rPr>
              <a:t>OSI Katmanları Arasında Veri Aktarımı</a:t>
            </a:r>
            <a:endParaRPr b="0" lang="en-US" sz="3200" spc="-1" strike="noStrike">
              <a:solidFill>
                <a:srgbClr val="ffffff"/>
              </a:solidFill>
              <a:latin typeface="Futura Md BT"/>
            </a:endParaRPr>
          </a:p>
        </p:txBody>
      </p:sp>
      <p:pic>
        <p:nvPicPr>
          <p:cNvPr id="201" name="Picture 4" descr="MCj03252340000[1]"/>
          <p:cNvPicPr/>
          <p:nvPr/>
        </p:nvPicPr>
        <p:blipFill>
          <a:blip r:embed="rId1"/>
          <a:stretch/>
        </p:blipFill>
        <p:spPr>
          <a:xfrm>
            <a:off x="250920" y="1341360"/>
            <a:ext cx="1081080" cy="8971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MCj02816080000[1]"/>
          <p:cNvPicPr/>
          <p:nvPr/>
        </p:nvPicPr>
        <p:blipFill>
          <a:blip r:embed="rId2"/>
          <a:stretch/>
        </p:blipFill>
        <p:spPr>
          <a:xfrm>
            <a:off x="7667640" y="1413000"/>
            <a:ext cx="719280" cy="7110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6"/>
          <p:cNvSpPr/>
          <p:nvPr/>
        </p:nvSpPr>
        <p:spPr>
          <a:xfrm>
            <a:off x="179280" y="9079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Terminal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7093080" y="981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Terminal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1476360" y="155736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İşlem Gönderi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6156360" y="1413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İşlem Alım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4140360" y="1268280"/>
            <a:ext cx="86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Group 11"/>
          <p:cNvGrpSpPr/>
          <p:nvPr/>
        </p:nvGrpSpPr>
        <p:grpSpPr>
          <a:xfrm>
            <a:off x="65520" y="2316240"/>
            <a:ext cx="2129760" cy="3400560"/>
            <a:chOff x="65520" y="2316240"/>
            <a:chExt cx="2129760" cy="3400560"/>
          </a:xfrm>
        </p:grpSpPr>
        <p:sp>
          <p:nvSpPr>
            <p:cNvPr id="209" name="Text Box 12"/>
            <p:cNvSpPr/>
            <p:nvPr/>
          </p:nvSpPr>
          <p:spPr>
            <a:xfrm>
              <a:off x="349200" y="2338200"/>
              <a:ext cx="184608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Uygula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Text Box 13"/>
            <p:cNvSpPr/>
            <p:nvPr/>
          </p:nvSpPr>
          <p:spPr>
            <a:xfrm>
              <a:off x="349200" y="2797200"/>
              <a:ext cx="184608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Sun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Text Box 14"/>
            <p:cNvSpPr/>
            <p:nvPr/>
          </p:nvSpPr>
          <p:spPr>
            <a:xfrm>
              <a:off x="349200" y="3301920"/>
              <a:ext cx="184608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Otur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Text Box 15"/>
            <p:cNvSpPr/>
            <p:nvPr/>
          </p:nvSpPr>
          <p:spPr>
            <a:xfrm>
              <a:off x="349200" y="3805200"/>
              <a:ext cx="184608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Taşı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Text Box 16"/>
            <p:cNvSpPr/>
            <p:nvPr/>
          </p:nvSpPr>
          <p:spPr>
            <a:xfrm>
              <a:off x="349200" y="4309920"/>
              <a:ext cx="184608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Ağ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Text Box 17"/>
            <p:cNvSpPr/>
            <p:nvPr/>
          </p:nvSpPr>
          <p:spPr>
            <a:xfrm>
              <a:off x="349200" y="4813200"/>
              <a:ext cx="184608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Veri ileti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Text Box 18"/>
            <p:cNvSpPr/>
            <p:nvPr/>
          </p:nvSpPr>
          <p:spPr>
            <a:xfrm>
              <a:off x="349200" y="5317920"/>
              <a:ext cx="184608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Fiziks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Text Box 19"/>
            <p:cNvSpPr/>
            <p:nvPr/>
          </p:nvSpPr>
          <p:spPr>
            <a:xfrm>
              <a:off x="65520" y="5340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Text Box 20"/>
            <p:cNvSpPr/>
            <p:nvPr/>
          </p:nvSpPr>
          <p:spPr>
            <a:xfrm>
              <a:off x="65520" y="483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Text Box 21"/>
            <p:cNvSpPr/>
            <p:nvPr/>
          </p:nvSpPr>
          <p:spPr>
            <a:xfrm>
              <a:off x="65520" y="4332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Text Box 22"/>
            <p:cNvSpPr/>
            <p:nvPr/>
          </p:nvSpPr>
          <p:spPr>
            <a:xfrm>
              <a:off x="65520" y="3827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Text Box 23"/>
            <p:cNvSpPr/>
            <p:nvPr/>
          </p:nvSpPr>
          <p:spPr>
            <a:xfrm>
              <a:off x="72000" y="3324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Text Box 24"/>
            <p:cNvSpPr/>
            <p:nvPr/>
          </p:nvSpPr>
          <p:spPr>
            <a:xfrm>
              <a:off x="65520" y="2819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 Box 25"/>
            <p:cNvSpPr/>
            <p:nvPr/>
          </p:nvSpPr>
          <p:spPr>
            <a:xfrm>
              <a:off x="65520" y="2316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Group 26"/>
          <p:cNvGrpSpPr/>
          <p:nvPr/>
        </p:nvGrpSpPr>
        <p:grpSpPr>
          <a:xfrm>
            <a:off x="6690240" y="2316240"/>
            <a:ext cx="2129760" cy="3400560"/>
            <a:chOff x="6690240" y="2316240"/>
            <a:chExt cx="2129760" cy="3400560"/>
          </a:xfrm>
        </p:grpSpPr>
        <p:sp>
          <p:nvSpPr>
            <p:cNvPr id="224" name="Text Box 27"/>
            <p:cNvSpPr/>
            <p:nvPr/>
          </p:nvSpPr>
          <p:spPr>
            <a:xfrm>
              <a:off x="6973920" y="2338200"/>
              <a:ext cx="184608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Uygula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Text Box 28"/>
            <p:cNvSpPr/>
            <p:nvPr/>
          </p:nvSpPr>
          <p:spPr>
            <a:xfrm>
              <a:off x="6973920" y="2797200"/>
              <a:ext cx="184608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Sun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Text Box 29"/>
            <p:cNvSpPr/>
            <p:nvPr/>
          </p:nvSpPr>
          <p:spPr>
            <a:xfrm>
              <a:off x="6973920" y="3301920"/>
              <a:ext cx="184608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Otur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Text Box 30"/>
            <p:cNvSpPr/>
            <p:nvPr/>
          </p:nvSpPr>
          <p:spPr>
            <a:xfrm>
              <a:off x="6973920" y="3805200"/>
              <a:ext cx="184608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Taşı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Text Box 31"/>
            <p:cNvSpPr/>
            <p:nvPr/>
          </p:nvSpPr>
          <p:spPr>
            <a:xfrm>
              <a:off x="6973920" y="4309920"/>
              <a:ext cx="184608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Ağ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Text Box 32"/>
            <p:cNvSpPr/>
            <p:nvPr/>
          </p:nvSpPr>
          <p:spPr>
            <a:xfrm>
              <a:off x="6973920" y="4813200"/>
              <a:ext cx="184608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Veri ileti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Text Box 33"/>
            <p:cNvSpPr/>
            <p:nvPr/>
          </p:nvSpPr>
          <p:spPr>
            <a:xfrm>
              <a:off x="6973920" y="5317920"/>
              <a:ext cx="184608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Fiziks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Text Box 34"/>
            <p:cNvSpPr/>
            <p:nvPr/>
          </p:nvSpPr>
          <p:spPr>
            <a:xfrm>
              <a:off x="6690240" y="5340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Text Box 35"/>
            <p:cNvSpPr/>
            <p:nvPr/>
          </p:nvSpPr>
          <p:spPr>
            <a:xfrm>
              <a:off x="6690240" y="483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Text Box 36"/>
            <p:cNvSpPr/>
            <p:nvPr/>
          </p:nvSpPr>
          <p:spPr>
            <a:xfrm>
              <a:off x="6690240" y="4332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Text Box 37"/>
            <p:cNvSpPr/>
            <p:nvPr/>
          </p:nvSpPr>
          <p:spPr>
            <a:xfrm>
              <a:off x="6690240" y="3827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 Box 38"/>
            <p:cNvSpPr/>
            <p:nvPr/>
          </p:nvSpPr>
          <p:spPr>
            <a:xfrm>
              <a:off x="6696720" y="3324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Text Box 39"/>
            <p:cNvSpPr/>
            <p:nvPr/>
          </p:nvSpPr>
          <p:spPr>
            <a:xfrm>
              <a:off x="6690240" y="2819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Text Box 40"/>
            <p:cNvSpPr/>
            <p:nvPr/>
          </p:nvSpPr>
          <p:spPr>
            <a:xfrm>
              <a:off x="6690240" y="2316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Text Box 41"/>
          <p:cNvSpPr/>
          <p:nvPr/>
        </p:nvSpPr>
        <p:spPr>
          <a:xfrm>
            <a:off x="2627280" y="2322360"/>
            <a:ext cx="86364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42"/>
          <p:cNvSpPr/>
          <p:nvPr/>
        </p:nvSpPr>
        <p:spPr>
          <a:xfrm>
            <a:off x="3490920" y="232236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43"/>
          <p:cNvSpPr/>
          <p:nvPr/>
        </p:nvSpPr>
        <p:spPr>
          <a:xfrm>
            <a:off x="2556000" y="2827440"/>
            <a:ext cx="86364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44"/>
          <p:cNvSpPr/>
          <p:nvPr/>
        </p:nvSpPr>
        <p:spPr>
          <a:xfrm>
            <a:off x="3419640" y="2827440"/>
            <a:ext cx="50292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45"/>
          <p:cNvSpPr/>
          <p:nvPr/>
        </p:nvSpPr>
        <p:spPr>
          <a:xfrm>
            <a:off x="3924360" y="282744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46"/>
          <p:cNvSpPr/>
          <p:nvPr/>
        </p:nvSpPr>
        <p:spPr>
          <a:xfrm>
            <a:off x="2556000" y="3403440"/>
            <a:ext cx="86364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47"/>
          <p:cNvSpPr/>
          <p:nvPr/>
        </p:nvSpPr>
        <p:spPr>
          <a:xfrm>
            <a:off x="3419640" y="3403440"/>
            <a:ext cx="50292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48"/>
          <p:cNvSpPr/>
          <p:nvPr/>
        </p:nvSpPr>
        <p:spPr>
          <a:xfrm>
            <a:off x="3924360" y="340344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49"/>
          <p:cNvSpPr/>
          <p:nvPr/>
        </p:nvSpPr>
        <p:spPr>
          <a:xfrm>
            <a:off x="4427640" y="3403440"/>
            <a:ext cx="503280" cy="64260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O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50"/>
          <p:cNvSpPr/>
          <p:nvPr/>
        </p:nvSpPr>
        <p:spPr>
          <a:xfrm>
            <a:off x="2557440" y="3933720"/>
            <a:ext cx="86364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51"/>
          <p:cNvSpPr/>
          <p:nvPr/>
        </p:nvSpPr>
        <p:spPr>
          <a:xfrm>
            <a:off x="3421080" y="393372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52"/>
          <p:cNvSpPr/>
          <p:nvPr/>
        </p:nvSpPr>
        <p:spPr>
          <a:xfrm>
            <a:off x="3925800" y="393372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53"/>
          <p:cNvSpPr/>
          <p:nvPr/>
        </p:nvSpPr>
        <p:spPr>
          <a:xfrm>
            <a:off x="4429080" y="3933720"/>
            <a:ext cx="503280" cy="64260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O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54"/>
          <p:cNvSpPr/>
          <p:nvPr/>
        </p:nvSpPr>
        <p:spPr>
          <a:xfrm>
            <a:off x="4932360" y="393372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55"/>
          <p:cNvSpPr/>
          <p:nvPr/>
        </p:nvSpPr>
        <p:spPr>
          <a:xfrm>
            <a:off x="2557440" y="4411800"/>
            <a:ext cx="86364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56"/>
          <p:cNvSpPr/>
          <p:nvPr/>
        </p:nvSpPr>
        <p:spPr>
          <a:xfrm>
            <a:off x="3421080" y="441180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57"/>
          <p:cNvSpPr/>
          <p:nvPr/>
        </p:nvSpPr>
        <p:spPr>
          <a:xfrm>
            <a:off x="3925800" y="441180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58"/>
          <p:cNvSpPr/>
          <p:nvPr/>
        </p:nvSpPr>
        <p:spPr>
          <a:xfrm>
            <a:off x="4429080" y="4411800"/>
            <a:ext cx="503280" cy="64260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O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59"/>
          <p:cNvSpPr/>
          <p:nvPr/>
        </p:nvSpPr>
        <p:spPr>
          <a:xfrm>
            <a:off x="4932360" y="441180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60"/>
          <p:cNvSpPr/>
          <p:nvPr/>
        </p:nvSpPr>
        <p:spPr>
          <a:xfrm>
            <a:off x="5435640" y="441180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61"/>
          <p:cNvSpPr/>
          <p:nvPr/>
        </p:nvSpPr>
        <p:spPr>
          <a:xfrm>
            <a:off x="2847960" y="4987800"/>
            <a:ext cx="86364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62"/>
          <p:cNvSpPr/>
          <p:nvPr/>
        </p:nvSpPr>
        <p:spPr>
          <a:xfrm>
            <a:off x="3711600" y="498780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63"/>
          <p:cNvSpPr/>
          <p:nvPr/>
        </p:nvSpPr>
        <p:spPr>
          <a:xfrm>
            <a:off x="4216320" y="498780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64"/>
          <p:cNvSpPr/>
          <p:nvPr/>
        </p:nvSpPr>
        <p:spPr>
          <a:xfrm>
            <a:off x="4719600" y="4987800"/>
            <a:ext cx="503280" cy="64260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O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65"/>
          <p:cNvSpPr/>
          <p:nvPr/>
        </p:nvSpPr>
        <p:spPr>
          <a:xfrm>
            <a:off x="5222880" y="498780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66"/>
          <p:cNvSpPr/>
          <p:nvPr/>
        </p:nvSpPr>
        <p:spPr>
          <a:xfrm>
            <a:off x="5726160" y="498780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67"/>
          <p:cNvSpPr/>
          <p:nvPr/>
        </p:nvSpPr>
        <p:spPr>
          <a:xfrm>
            <a:off x="2340000" y="498780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V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68"/>
          <p:cNvSpPr/>
          <p:nvPr/>
        </p:nvSpPr>
        <p:spPr>
          <a:xfrm>
            <a:off x="6229440" y="498780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V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69"/>
          <p:cNvSpPr/>
          <p:nvPr/>
        </p:nvSpPr>
        <p:spPr>
          <a:xfrm>
            <a:off x="2340000" y="54450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011100111101111001111001110111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70"/>
          <p:cNvSpPr/>
          <p:nvPr/>
        </p:nvSpPr>
        <p:spPr>
          <a:xfrm>
            <a:off x="1116000" y="5734080"/>
            <a:ext cx="0" cy="57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71"/>
          <p:cNvSpPr/>
          <p:nvPr/>
        </p:nvSpPr>
        <p:spPr>
          <a:xfrm>
            <a:off x="1116000" y="6308640"/>
            <a:ext cx="6769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72"/>
          <p:cNvSpPr/>
          <p:nvPr/>
        </p:nvSpPr>
        <p:spPr>
          <a:xfrm>
            <a:off x="7885080" y="5734080"/>
            <a:ext cx="0" cy="57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73"/>
          <p:cNvSpPr/>
          <p:nvPr/>
        </p:nvSpPr>
        <p:spPr>
          <a:xfrm>
            <a:off x="2556000" y="645336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Fiziksel veri aktarımı; Kablolar vb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Futura Md BT"/>
              </a:rPr>
              <a:t>Sarma (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encapsulation</a:t>
            </a:r>
            <a:r>
              <a:rPr b="0" i="1" lang="tr-TR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pic>
        <p:nvPicPr>
          <p:cNvPr id="272" name="Picture 4" descr="encapsulation"/>
          <p:cNvPicPr/>
          <p:nvPr/>
        </p:nvPicPr>
        <p:blipFill>
          <a:blip r:embed="rId1"/>
          <a:stretch/>
        </p:blipFill>
        <p:spPr>
          <a:xfrm>
            <a:off x="2031840" y="1911240"/>
            <a:ext cx="508032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Plan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534520" cy="279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1000"/>
          </a:bodyPr>
          <a:p>
            <a:pPr marL="288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8360" indent="-288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Ağ standartlar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8360" indent="-288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roto</a:t>
            </a: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koll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8360" indent="-288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Açık Sistemler Arabağlantısı Modeli (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 OSI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en Systems Interconnection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model</a:t>
            </a: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78880" indent="-1742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Tanı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8880" indent="-1742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OSI yaklaşımıyla ilgili sorun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360" indent="-288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OSI – TCP/IP İlişkis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8360" indent="-288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Sonu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Eski Zamanlardan Bir Örnek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pic>
        <p:nvPicPr>
          <p:cNvPr id="274" name="Picture 4" descr="ruleride"/>
          <p:cNvPicPr/>
          <p:nvPr/>
        </p:nvPicPr>
        <p:blipFill>
          <a:blip r:embed="rId1"/>
          <a:stretch/>
        </p:blipFill>
        <p:spPr>
          <a:xfrm>
            <a:off x="1332000" y="1089000"/>
            <a:ext cx="619272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Eski Zamanlardan Bir Örnek (D.)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ir örnekle bu katmanlar meselesine yaklaşalım: Eski zamanda iki ülke hükümdarından birinin diğerine bir mektup yollamak istediğini hayal edel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ir hükümdar, hiçbir zaman göndereceği bir mesaja muhatap olarak, protokolde kendisinden daha alt seviyedeki bir insanı alma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 ifade ne anlama geliy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Yani hükümdarın muhatabı ancak diğer ülkenin hükümdarıd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ir diğer nokta da, söylemek istediği şeyleri hükümdarlar arasında alışılagelmiş bir ortak üsluba dikkat ederek söyler. Yani birbirlerinin ne demek istediklerini gayet iyi anlamaktadır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raya kadar olan kısım mektubun içeriğiyle alakalıydı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Eski Zamanlardan Bir Örnek (D.)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Peki mektubun iletilmesi problemini hükümdar nasıl çözece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İşini gücünü bırakıp atına binerek dört nala sürecek m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Yoldan geçen herhangi bir atlıya rica mı edecek? Ya da bütün yolculuk organizasyonunu kendisi mi yapaca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Hayır, bunların hiçbiri değ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Cevabı siz de tahmin etmiş olmalısınız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En güvendiği bir vezirini çağırıp; "Şu mektubun icabına bak!" diyecekt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Bu şekilde bütün işinin gücünün arasında, herhangi bir mektuba mesaisini ayırmaktan kurtulmuş ol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Hesap sormak istediğinde de yalnız bir tek kişiyle muhatap ol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Peki vezir ne yap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Onun da işi başından aşkı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Elbette o da kendinden bir alt kademedeki memuruna bu işi havale eder. Ta ki atlı elçiye mektubun teslim edilmesi olayına kad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Eski Zamanlardan Bir Örnek (D.)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Yukarıda tarif edilen yöntemle her birim bir altındaki birime bir görev havale ediyor, o görevin nasıl yapılması gerektiğini, hassasiyetlerini, inceliklerini vb. ayrıntıları en iyi şekilde biliyor ve kendinden bir üstteki birime karşı da göreviyle alakalı sorumluluk duyuyor. Ve tabii gerektiğinde hesabını da oraya veriy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uraya kadar anlatılmış olan bu hikaye, bilgisayar ağlarının haberleşme algoritmasına karşılık hayali bir yaklaşımdı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Hikayede adı geçen birimler, haberleşmede birazdan tarif edilecek katmanlara karşılık gel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Eski Zamanlardan Bir Örnek (D.)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En alt birim olan atlı-elçi, fiziksel katman adı verilmiş olan ve bilgisayarlarımız arasına döşenen kablolar ile içlerinden akan sinyaller olarak düşünülebil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Hem nasıl bir atlının yolu üzerinde başına bir iş gelse veya atı hastalanıp ölse, o problemini kendi uzmanlık alanı olduğu şekliyle çözerek aldığı görevi yerine getirir ve hükümdarın da bundan haberi bile olmaz; haberleşen sistemlerde de üstteki katman alttaki katmana yapması gereken işi söyler ve yapılıp yapılmadığını kontrol eder, ama oranın kendi iç problemlerinin ne olduğuyla ilgilenme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Çünkü üst katmanın asıl işi kendisine ait olan problemleri çözmektir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Yapılan işlemleri birbirlerinden ayrı düşünmenin bir faydası da bunları modül modül ele alarak kazanılmış olan tasarım esnekliği avantajıdı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Tasarımcılar her seviye üzerine ayrı ayrı konsantre olabilirl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ISO uzmanları oturmuşlar, tartışmışlar ve bu seviyelere bir standart getirmişler, onlara katmanlar olarak adlarını vermişler ve yapacakları işleri ayrıntılı bir şekilde tarif etmişlerd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OSI Modelinin Katmanları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755640" y="1676520"/>
            <a:ext cx="388764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Uygul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755640" y="2135160"/>
            <a:ext cx="388764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Su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755640" y="2639880"/>
            <a:ext cx="388764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Otu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755640" y="3143160"/>
            <a:ext cx="388764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Taşı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8"/>
          <p:cNvSpPr/>
          <p:nvPr/>
        </p:nvSpPr>
        <p:spPr>
          <a:xfrm>
            <a:off x="755640" y="3648240"/>
            <a:ext cx="388764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A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9"/>
          <p:cNvSpPr/>
          <p:nvPr/>
        </p:nvSpPr>
        <p:spPr>
          <a:xfrm>
            <a:off x="755640" y="4151160"/>
            <a:ext cx="388764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Veri ilet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10"/>
          <p:cNvSpPr/>
          <p:nvPr/>
        </p:nvSpPr>
        <p:spPr>
          <a:xfrm>
            <a:off x="755640" y="4656240"/>
            <a:ext cx="388764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Fizik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1"/>
          <p:cNvSpPr/>
          <p:nvPr/>
        </p:nvSpPr>
        <p:spPr>
          <a:xfrm>
            <a:off x="322200" y="4700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2"/>
          <p:cNvSpPr/>
          <p:nvPr/>
        </p:nvSpPr>
        <p:spPr>
          <a:xfrm>
            <a:off x="322200" y="4195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13"/>
          <p:cNvSpPr/>
          <p:nvPr/>
        </p:nvSpPr>
        <p:spPr>
          <a:xfrm>
            <a:off x="322200" y="3692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14"/>
          <p:cNvSpPr/>
          <p:nvPr/>
        </p:nvSpPr>
        <p:spPr>
          <a:xfrm>
            <a:off x="322200" y="3187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15"/>
          <p:cNvSpPr/>
          <p:nvPr/>
        </p:nvSpPr>
        <p:spPr>
          <a:xfrm>
            <a:off x="331560" y="2684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6"/>
          <p:cNvSpPr/>
          <p:nvPr/>
        </p:nvSpPr>
        <p:spPr>
          <a:xfrm>
            <a:off x="322200" y="2179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17"/>
          <p:cNvSpPr/>
          <p:nvPr/>
        </p:nvSpPr>
        <p:spPr>
          <a:xfrm>
            <a:off x="322200" y="1676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Freeform 18"/>
          <p:cNvSpPr/>
          <p:nvPr/>
        </p:nvSpPr>
        <p:spPr>
          <a:xfrm>
            <a:off x="4643280" y="1700280"/>
            <a:ext cx="1297080" cy="8650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Freeform 19"/>
          <p:cNvSpPr/>
          <p:nvPr/>
        </p:nvSpPr>
        <p:spPr>
          <a:xfrm>
            <a:off x="4645080" y="2565360"/>
            <a:ext cx="1295280" cy="5684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20"/>
          <p:cNvSpPr/>
          <p:nvPr/>
        </p:nvSpPr>
        <p:spPr>
          <a:xfrm>
            <a:off x="4697280" y="3670200"/>
            <a:ext cx="1513080" cy="71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21"/>
          <p:cNvSpPr/>
          <p:nvPr/>
        </p:nvSpPr>
        <p:spPr>
          <a:xfrm flipV="1">
            <a:off x="4643280" y="4411440"/>
            <a:ext cx="1584360" cy="64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22"/>
          <p:cNvSpPr/>
          <p:nvPr/>
        </p:nvSpPr>
        <p:spPr>
          <a:xfrm>
            <a:off x="4859280" y="321300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Ara katman- Yazılım ve donanım aras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24"/>
          <p:cNvSpPr/>
          <p:nvPr/>
        </p:nvSpPr>
        <p:spPr>
          <a:xfrm>
            <a:off x="6046920" y="2349360"/>
            <a:ext cx="309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Uygulama Grubu-Yazılı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25"/>
          <p:cNvSpPr/>
          <p:nvPr/>
        </p:nvSpPr>
        <p:spPr>
          <a:xfrm>
            <a:off x="6372360" y="419580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Ağ Grubu-Donanı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OSI 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Katmanları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Fizik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it’leri bir bilgisayardan diğerine iletir ve bağlantıyı yönet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u katmanda tanımlanan standartlar taşınan verinin içeriğiyle ilgilenmezler. Daha çok işaretin şekli,fiziksel katmanda kullanılacak konnektör türü, kablo türü gibi elektriksel ve mekanik özelliklerle ilgilen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Hub’lar fiziksel katmanda tanımlıdı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10BaseT, 100BaseT, UTP, RJ-45, IEEE 802.5 (Token Ring) vb. standart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Veri bağlantıs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Ham iletim hattını hatalardan arındırılmış bir bağlantıya dönüştürü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it’leri çerçeve olarak paketler ve teslimatı kontrol e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İletilen çerçevenin doğru mu yoksa yanlış mı iletildiğini kontrol eder, eğer çerçeve hatalı iletilmişse çerçevenin yeniden gönderilmesini sağ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yrıca ağ üzerindeki diğer bilgisayarları tanımlama, kablonun o anda kimin tarafından kullanıldığının tespitini yap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Örn: Ethernet, Frame Relay, ISDN, Switch ve B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Group 2"/>
          <p:cNvGrpSpPr/>
          <p:nvPr/>
        </p:nvGrpSpPr>
        <p:grpSpPr>
          <a:xfrm>
            <a:off x="971640" y="1989000"/>
            <a:ext cx="7704000" cy="3095640"/>
            <a:chOff x="971640" y="1989000"/>
            <a:chExt cx="7704000" cy="3095640"/>
          </a:xfrm>
        </p:grpSpPr>
        <p:sp>
          <p:nvSpPr>
            <p:cNvPr id="310" name="Rectangle 3"/>
            <p:cNvSpPr/>
            <p:nvPr/>
          </p:nvSpPr>
          <p:spPr>
            <a:xfrm>
              <a:off x="2700360" y="1989000"/>
              <a:ext cx="4248000" cy="93528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808080"/>
                  </a:solidFill>
                  <a:latin typeface="Tahoma"/>
                </a:rPr>
                <a:t>Veri İletim Katman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Rectangle 4"/>
            <p:cNvSpPr/>
            <p:nvPr/>
          </p:nvSpPr>
          <p:spPr>
            <a:xfrm>
              <a:off x="971640" y="3860640"/>
              <a:ext cx="3240000" cy="1224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808080"/>
                  </a:solidFill>
                  <a:latin typeface="Tahoma"/>
                </a:rPr>
                <a:t>LLC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808080"/>
                  </a:solidFill>
                  <a:latin typeface="Tahoma"/>
                </a:rPr>
                <a:t>(Logical Link Control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Rectangle 5"/>
            <p:cNvSpPr/>
            <p:nvPr/>
          </p:nvSpPr>
          <p:spPr>
            <a:xfrm>
              <a:off x="5435640" y="3860640"/>
              <a:ext cx="3240000" cy="1224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808080"/>
                  </a:solidFill>
                  <a:latin typeface="Tahoma"/>
                </a:rPr>
                <a:t>MAC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808080"/>
                  </a:solidFill>
                  <a:latin typeface="Tahoma"/>
                </a:rPr>
                <a:t>(Media Access Control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6"/>
            <p:cNvSpPr/>
            <p:nvPr/>
          </p:nvSpPr>
          <p:spPr>
            <a:xfrm flipH="1">
              <a:off x="2700000" y="2924280"/>
              <a:ext cx="1366920" cy="865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7"/>
            <p:cNvSpPr/>
            <p:nvPr/>
          </p:nvSpPr>
          <p:spPr>
            <a:xfrm>
              <a:off x="5867280" y="2924280"/>
              <a:ext cx="865440" cy="865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Rectangle 8"/>
          <p:cNvSpPr/>
          <p:nvPr/>
        </p:nvSpPr>
        <p:spPr>
          <a:xfrm>
            <a:off x="301680" y="228600"/>
            <a:ext cx="85406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Futura Md BT"/>
              </a:rPr>
              <a:t>Veri İletim Katmanı İki Alt Katmandan Oluşu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178920" y="1052640"/>
            <a:ext cx="8541000" cy="496872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Media Access Control (MA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MAC alt katmanı veriyi hata kontrol kodu (CRC), alıcı ve gönderenin MAC adresleri ile beraber paketler ve fiziksel katmana aktarı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Alıcı tarafta da bu işlemleri tersine yapıp veriyi veri bağlantısı içindeki ikinci alt katman olan LLC'ye aktarmak görevi yine MAC alt katmanına aitt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Logical Link Control (LL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LLC alt katmanı bir üst katman olan ağ katmanı için geçiş görevi görür. Protokole özel mantıksal portlar oluşturur (</a:t>
            </a:r>
            <a:r>
              <a:rPr b="0" i="1" lang="tr-TR" sz="2000" spc="-1" strike="noStrike">
                <a:solidFill>
                  <a:srgbClr val="000000"/>
                </a:solidFill>
                <a:latin typeface="Arial"/>
              </a:rPr>
              <a:t>Service Access Points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, SAP). Böylece kaynak makinede ve hedef makinede aynı protokoller iletişime geçebilir (örneğin TCP/I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LLC ayrıca veri paketlerinden bozuk gidenlerin (veya karşı taraf için alınanların) tekrar gönderilmesinden sorumludur. </a:t>
            </a:r>
            <a:r>
              <a:rPr b="0" i="1" lang="tr-TR" sz="2000" spc="-1" strike="noStrike">
                <a:solidFill>
                  <a:srgbClr val="000000"/>
                </a:solidFill>
                <a:latin typeface="Arial"/>
              </a:rPr>
              <a:t>Flow Control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 yani alıcının işleyebileceğinden fazla veri paketi gönderilerek boğulmasının engellenmesi de LLC'nin görevid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265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Bilgisayar Ağ Mimarileri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Bugün kullanımda olan birçok </a:t>
            </a:r>
            <a:r>
              <a:rPr b="1" lang="tr-TR" sz="2600" spc="-1" strike="noStrike">
                <a:solidFill>
                  <a:srgbClr val="000000"/>
                </a:solidFill>
                <a:latin typeface="Arial"/>
              </a:rPr>
              <a:t>mimari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 v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ör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. TCP/IP, Novell IPX, AppleTal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Bir ağ mimarisinin üst düzey tanımı aşağıdakileri içeri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Bir işletme kavramı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Bir dizi amaç ve hedef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Ve protokollerin üst düzey tanımı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OSI terminolojisinde buna </a:t>
            </a:r>
            <a:r>
              <a:rPr b="0" i="1" lang="tr-TR" sz="2600" spc="-1" strike="noStrike">
                <a:solidFill>
                  <a:srgbClr val="000000"/>
                </a:solidFill>
                <a:latin typeface="Arial"/>
              </a:rPr>
              <a:t>Referans Modeli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 deni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OSI 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Katmanları</a:t>
            </a: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 (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devamla</a:t>
            </a: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.)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ğ üzerinden verileri kaynaktan hedefe ilet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 katman, veri paketlerinin ağ adreslerini kullanarak bu paketleri uygun ağlara yönlendirme işini yap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Veri paketleri için uygun yolu kararlaştırır ve paket sayısını denetleyerek yoğunluğu ön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dresleme işlemlerini (Mantıksal adres ve fiziksel adres çevrimleri) yürütü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Yönlendiriciler (Router) bu katmanda tanımlıdır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Örnek; IP ve I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İlet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Uçtan uca verinin iletimini ve tutarlılığını sağ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 katman 5-7 ve 1-3 arası katmanlar arası bağlantıyı sağl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Üst katmandan aldığı verileri bölümlere (segment) ayırarak bir alt katmana ilet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Bir üst katmana bu bölümleri birleştirerek sun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İki düğüm arasında mantıksal bir bağlantının kurulmasını sağ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ynı zamanda akış kontrolü (flow control) kullanarak karşı tarafa gönderilen verinin yerine ulaşıp ulaşmadığını kontrol e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arşı tarafa gönderilen bölümlerin gönderilen sırayla birleştirilmesini sağ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Örnek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, UDP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Datagram Protocol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PX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OSI 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Katmanları</a:t>
            </a: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 (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devamla</a:t>
            </a: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.)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Otu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ir makine üzerindeki işletim sisteminin müşterilerinin başka bir makine üzerindeki işletim sisteminin müşterileriyle oturum açmasını ve iletişimi sağ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un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Verilerin temsiliyle ilgilidir (ö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Farklı donanım, işletim sistemleri arasın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Uygul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Genel kullanım için standart protokolleri içer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ö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Dosya transfer protokoller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e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-post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sana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erminal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Herhangi bir hizmet programı müşterilerin kullanması gereken bir uygulama düzeyi protokolü tanımlayabil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532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Futura Md BT"/>
              </a:rPr>
              <a:t>Oturum (Session) Katmanı İletişim Türleri</a:t>
            </a:r>
            <a:endParaRPr b="0" lang="en-US" sz="32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932360" cy="449892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Tek yönlü (Simple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Yarı çift yönlü (Half-Duple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Çift yönlü (Full-Duple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Group 4"/>
          <p:cNvGrpSpPr/>
          <p:nvPr/>
        </p:nvGrpSpPr>
        <p:grpSpPr>
          <a:xfrm>
            <a:off x="4932360" y="1587600"/>
            <a:ext cx="4030560" cy="761760"/>
            <a:chOff x="4932360" y="1587600"/>
            <a:chExt cx="4030560" cy="761760"/>
          </a:xfrm>
        </p:grpSpPr>
        <p:pic>
          <p:nvPicPr>
            <p:cNvPr id="326" name="Picture 5" descr="MCj02805640000[1]"/>
            <p:cNvPicPr/>
            <p:nvPr/>
          </p:nvPicPr>
          <p:blipFill>
            <a:blip r:embed="rId1"/>
            <a:stretch/>
          </p:blipFill>
          <p:spPr>
            <a:xfrm>
              <a:off x="8028000" y="1587600"/>
              <a:ext cx="93492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Picture 6" descr="MCj02805640000[1]"/>
            <p:cNvPicPr/>
            <p:nvPr/>
          </p:nvPicPr>
          <p:blipFill>
            <a:blip r:embed="rId2"/>
            <a:stretch/>
          </p:blipFill>
          <p:spPr>
            <a:xfrm>
              <a:off x="4932360" y="1587600"/>
              <a:ext cx="93492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AutoShape 7"/>
            <p:cNvSpPr/>
            <p:nvPr/>
          </p:nvSpPr>
          <p:spPr>
            <a:xfrm>
              <a:off x="6227640" y="1773360"/>
              <a:ext cx="1657440" cy="287280"/>
            </a:xfrm>
            <a:prstGeom prst="rightArrow">
              <a:avLst>
                <a:gd name="adj1" fmla="val 50000"/>
                <a:gd name="adj2" fmla="val 14423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9" name="Picture 8" descr="MCj02805640000[1]"/>
          <p:cNvPicPr/>
          <p:nvPr/>
        </p:nvPicPr>
        <p:blipFill>
          <a:blip r:embed="rId3"/>
          <a:stretch/>
        </p:blipFill>
        <p:spPr>
          <a:xfrm>
            <a:off x="7954920" y="3141720"/>
            <a:ext cx="934920" cy="76212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9" descr="MCj02805640000[1]"/>
          <p:cNvPicPr/>
          <p:nvPr/>
        </p:nvPicPr>
        <p:blipFill>
          <a:blip r:embed="rId4"/>
          <a:stretch/>
        </p:blipFill>
        <p:spPr>
          <a:xfrm>
            <a:off x="4859280" y="3141720"/>
            <a:ext cx="934920" cy="762120"/>
          </a:xfrm>
          <a:prstGeom prst="rect">
            <a:avLst/>
          </a:prstGeom>
          <a:ln w="0">
            <a:noFill/>
          </a:ln>
        </p:spPr>
      </p:pic>
      <p:sp>
        <p:nvSpPr>
          <p:cNvPr id="331" name="AutoShape 10"/>
          <p:cNvSpPr/>
          <p:nvPr/>
        </p:nvSpPr>
        <p:spPr>
          <a:xfrm>
            <a:off x="6084720" y="5300640"/>
            <a:ext cx="1657440" cy="287280"/>
          </a:xfrm>
          <a:prstGeom prst="leftRightArrow">
            <a:avLst>
              <a:gd name="adj1" fmla="val 50000"/>
              <a:gd name="adj2" fmla="val 11485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Picture 11" descr="MCj02805640000[1]"/>
          <p:cNvPicPr/>
          <p:nvPr/>
        </p:nvPicPr>
        <p:blipFill>
          <a:blip r:embed="rId5"/>
          <a:stretch/>
        </p:blipFill>
        <p:spPr>
          <a:xfrm>
            <a:off x="7954920" y="5013360"/>
            <a:ext cx="934920" cy="7621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2" descr="MCj02805640000[1]"/>
          <p:cNvPicPr/>
          <p:nvPr/>
        </p:nvPicPr>
        <p:blipFill>
          <a:blip r:embed="rId6"/>
          <a:stretch/>
        </p:blipFill>
        <p:spPr>
          <a:xfrm>
            <a:off x="4859280" y="5013360"/>
            <a:ext cx="934920" cy="762120"/>
          </a:xfrm>
          <a:prstGeom prst="rect">
            <a:avLst/>
          </a:prstGeom>
          <a:ln w="0">
            <a:noFill/>
          </a:ln>
        </p:spPr>
      </p:pic>
      <p:sp>
        <p:nvSpPr>
          <p:cNvPr id="334" name="AutoShape 13"/>
          <p:cNvSpPr/>
          <p:nvPr/>
        </p:nvSpPr>
        <p:spPr>
          <a:xfrm>
            <a:off x="6227640" y="3141720"/>
            <a:ext cx="1657440" cy="287280"/>
          </a:xfrm>
          <a:prstGeom prst="rightArrow">
            <a:avLst>
              <a:gd name="adj1" fmla="val 50000"/>
              <a:gd name="adj2" fmla="val 14423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AutoShape 14"/>
          <p:cNvSpPr/>
          <p:nvPr/>
        </p:nvSpPr>
        <p:spPr>
          <a:xfrm flipH="1">
            <a:off x="6227640" y="3500280"/>
            <a:ext cx="1657440" cy="287640"/>
          </a:xfrm>
          <a:prstGeom prst="rightArrow">
            <a:avLst>
              <a:gd name="adj1" fmla="val 50000"/>
              <a:gd name="adj2" fmla="val 14405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15"/>
          <p:cNvSpPr/>
          <p:nvPr/>
        </p:nvSpPr>
        <p:spPr>
          <a:xfrm>
            <a:off x="6372360" y="292428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ö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16"/>
          <p:cNvSpPr/>
          <p:nvPr/>
        </p:nvSpPr>
        <p:spPr>
          <a:xfrm>
            <a:off x="7020000" y="3716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son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17"/>
          <p:cNvSpPr/>
          <p:nvPr/>
        </p:nvSpPr>
        <p:spPr>
          <a:xfrm>
            <a:off x="6372360" y="5516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aynı 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OSI 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Temel Kavramları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440" y="163836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Hizm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atmanın ne yaptığını tanım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endi üstündeki varlıkların nasıl eriştiğini veya nasıl çalıştığını tanımlam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Arayüz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endi üstündeki varlıkların nasıl erişeceklerini tanım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Parametrelerin neler olduğunu ve hangi sonuçların beklenmesi gerektiğini tanım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roto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atmanın nasıl çalıştığını tanımla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yani sunulan hizmetleri sağla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OSI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 Sorunları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38200" y="1714680"/>
            <a:ext cx="8758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Zamanlama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- TCP/IP proto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kolleri zaten yaygın kullanımdayd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e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knoloji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7 katman optimal değil (ör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Oturum ve Sunum katmanlarının pek işlevleri yok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Karmaşıklık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Kurulum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ilk kurulumlar hantal ve yavaştı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Siyaset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bürokratik örgütlerce empoze edilen daha aşağı standart olarak algılandı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500" spc="-1" strike="noStrike">
                <a:solidFill>
                  <a:srgbClr val="000000"/>
                </a:solidFill>
                <a:latin typeface="Arial"/>
              </a:rPr>
              <a:t>AMA</a:t>
            </a: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Kavramsal mimari olarak değerl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Karşılaştırma amaçlı bir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fer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ans modeli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OSI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’ye Haritalama</a:t>
            </a: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: 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Yerel ağlar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Yerel ağ işlevleri OSI’nin 1. ve 2. katmanlarına eşit ve şu hususlarla ilgil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Host’lar arasında çatışma olmadan ortama düzenli bir şekilde nasıl erişilec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İletim ortamında fiziksel sinyal nasıl verilec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Daha yüksek düzeylerde veri aktarımın tutarlılığı nasıl sağlanac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Object 2"/>
          <p:cNvGraphicFramePr/>
          <p:nvPr/>
        </p:nvGraphicFramePr>
        <p:xfrm>
          <a:off x="-11160" y="2227320"/>
          <a:ext cx="9677520" cy="416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160" y="2227320"/>
                    <a:ext cx="9677520" cy="416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OSI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’ye Haritalama</a:t>
            </a: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: TCP/IP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OSI - TCP/IP 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Haritalaması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grpSp>
        <p:nvGrpSpPr>
          <p:cNvPr id="349" name="Group 3"/>
          <p:cNvGrpSpPr/>
          <p:nvPr/>
        </p:nvGrpSpPr>
        <p:grpSpPr>
          <a:xfrm>
            <a:off x="1041480" y="1949400"/>
            <a:ext cx="2233080" cy="3438360"/>
            <a:chOff x="1041480" y="1949400"/>
            <a:chExt cx="2233080" cy="3438360"/>
          </a:xfrm>
        </p:grpSpPr>
        <p:sp>
          <p:nvSpPr>
            <p:cNvPr id="350" name="Rectangle 4"/>
            <p:cNvSpPr/>
            <p:nvPr/>
          </p:nvSpPr>
          <p:spPr>
            <a:xfrm>
              <a:off x="1041480" y="1949400"/>
              <a:ext cx="2233080" cy="488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200" spc="-1" strike="noStrike">
                  <a:solidFill>
                    <a:srgbClr val="000000"/>
                  </a:solidFill>
                  <a:latin typeface="Arial"/>
                </a:rPr>
                <a:t>Uygulam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Rectangle 5"/>
            <p:cNvSpPr/>
            <p:nvPr/>
          </p:nvSpPr>
          <p:spPr>
            <a:xfrm>
              <a:off x="1041480" y="2431440"/>
              <a:ext cx="2233080" cy="489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200" spc="-1" strike="noStrike">
                  <a:solidFill>
                    <a:srgbClr val="000000"/>
                  </a:solidFill>
                  <a:latin typeface="Arial"/>
                </a:rPr>
                <a:t>Sunu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Rectangle 6"/>
            <p:cNvSpPr/>
            <p:nvPr/>
          </p:nvSpPr>
          <p:spPr>
            <a:xfrm>
              <a:off x="1041480" y="2932200"/>
              <a:ext cx="2233080" cy="489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200" spc="-1" strike="noStrike">
                  <a:solidFill>
                    <a:srgbClr val="000000"/>
                  </a:solidFill>
                  <a:latin typeface="Arial"/>
                </a:rPr>
                <a:t>Oturu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Rectangle 7"/>
            <p:cNvSpPr/>
            <p:nvPr/>
          </p:nvSpPr>
          <p:spPr>
            <a:xfrm>
              <a:off x="1041480" y="3415320"/>
              <a:ext cx="2233080" cy="488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200" spc="-1" strike="noStrike">
                  <a:solidFill>
                    <a:srgbClr val="000000"/>
                  </a:solidFill>
                  <a:latin typeface="Arial"/>
                </a:rPr>
                <a:t>İleti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Rectangle 8"/>
            <p:cNvSpPr/>
            <p:nvPr/>
          </p:nvSpPr>
          <p:spPr>
            <a:xfrm>
              <a:off x="1041480" y="3915360"/>
              <a:ext cx="2233080" cy="489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200" spc="-1" strike="noStrike">
                  <a:solidFill>
                    <a:srgbClr val="000000"/>
                  </a:solidFill>
                  <a:latin typeface="Arial"/>
                </a:rPr>
                <a:t>Ağ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Rectangle 9"/>
            <p:cNvSpPr/>
            <p:nvPr/>
          </p:nvSpPr>
          <p:spPr>
            <a:xfrm>
              <a:off x="1041480" y="4398120"/>
              <a:ext cx="2233080" cy="489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200" spc="-1" strike="noStrike">
                  <a:solidFill>
                    <a:srgbClr val="000000"/>
                  </a:solidFill>
                  <a:latin typeface="Arial"/>
                </a:rPr>
                <a:t>Bağlantı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Rectangle 10"/>
            <p:cNvSpPr/>
            <p:nvPr/>
          </p:nvSpPr>
          <p:spPr>
            <a:xfrm>
              <a:off x="1041480" y="4898880"/>
              <a:ext cx="2233080" cy="488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200" spc="-1" strike="noStrike">
                  <a:solidFill>
                    <a:srgbClr val="000000"/>
                  </a:solidFill>
                  <a:latin typeface="Arial"/>
                </a:rPr>
                <a:t>Fizikse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Rectangle 11"/>
          <p:cNvSpPr/>
          <p:nvPr/>
        </p:nvSpPr>
        <p:spPr>
          <a:xfrm>
            <a:off x="3529080" y="1960560"/>
            <a:ext cx="696960" cy="1263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12"/>
          <p:cNvSpPr/>
          <p:nvPr/>
        </p:nvSpPr>
        <p:spPr>
          <a:xfrm>
            <a:off x="3530520" y="3232080"/>
            <a:ext cx="2300400" cy="682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13"/>
          <p:cNvSpPr/>
          <p:nvPr/>
        </p:nvSpPr>
        <p:spPr>
          <a:xfrm>
            <a:off x="3529080" y="3914640"/>
            <a:ext cx="4649760" cy="489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14"/>
          <p:cNvSpPr/>
          <p:nvPr/>
        </p:nvSpPr>
        <p:spPr>
          <a:xfrm>
            <a:off x="3529080" y="4397400"/>
            <a:ext cx="4649760" cy="48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Herhangi bir veri bağlantı protokol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15"/>
          <p:cNvSpPr/>
          <p:nvPr/>
        </p:nvSpPr>
        <p:spPr>
          <a:xfrm>
            <a:off x="3529080" y="4897440"/>
            <a:ext cx="4649760" cy="48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Herhangi bir fiziksel katman protokol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16"/>
          <p:cNvSpPr/>
          <p:nvPr/>
        </p:nvSpPr>
        <p:spPr>
          <a:xfrm>
            <a:off x="5824440" y="3422520"/>
            <a:ext cx="2351160" cy="489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D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17"/>
          <p:cNvSpPr/>
          <p:nvPr/>
        </p:nvSpPr>
        <p:spPr>
          <a:xfrm rot="16200000">
            <a:off x="3300840" y="235152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po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18"/>
          <p:cNvSpPr/>
          <p:nvPr/>
        </p:nvSpPr>
        <p:spPr>
          <a:xfrm>
            <a:off x="4224240" y="1957320"/>
            <a:ext cx="696960" cy="1276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19"/>
          <p:cNvSpPr/>
          <p:nvPr/>
        </p:nvSpPr>
        <p:spPr>
          <a:xfrm>
            <a:off x="7477200" y="1967040"/>
            <a:ext cx="696960" cy="1457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20"/>
          <p:cNvSpPr/>
          <p:nvPr/>
        </p:nvSpPr>
        <p:spPr>
          <a:xfrm rot="16200000">
            <a:off x="4208040" y="236232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21"/>
          <p:cNvSpPr/>
          <p:nvPr/>
        </p:nvSpPr>
        <p:spPr>
          <a:xfrm rot="16200000">
            <a:off x="7292880" y="241056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N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22"/>
          <p:cNvSpPr/>
          <p:nvPr/>
        </p:nvSpPr>
        <p:spPr>
          <a:xfrm>
            <a:off x="6777000" y="1963800"/>
            <a:ext cx="696960" cy="1457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23"/>
          <p:cNvSpPr/>
          <p:nvPr/>
        </p:nvSpPr>
        <p:spPr>
          <a:xfrm rot="16200000">
            <a:off x="6720480" y="244152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24"/>
          <p:cNvSpPr/>
          <p:nvPr/>
        </p:nvSpPr>
        <p:spPr>
          <a:xfrm>
            <a:off x="4921200" y="1962000"/>
            <a:ext cx="196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25"/>
          <p:cNvSpPr/>
          <p:nvPr/>
        </p:nvSpPr>
        <p:spPr>
          <a:xfrm>
            <a:off x="4659480" y="2373480"/>
            <a:ext cx="2350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Vs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Niçin protokol gerekli</a:t>
            </a: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oller iletişim “kuralları”nı temsil ed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Aygıtlar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iletişimi nasıl başlatı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aşlangıçta hangi özellikler pazarlık konu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İletişim söz dağarcığ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Yani hangi istekler (komutlar) verilebilir ve geçerli yanıtlar neler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Ne tür veriler gönderilebil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İletişim düzgün bir biçimde nasıl sona e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Mimari Modeller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11080"/>
            <a:ext cx="7772400" cy="438444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Bir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karmaşık bir nesnenin basitleştirilmiş gösterimidi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Bazı pratik durumlar modele tam oturmayabili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üm arabaların yukarıdaki gibi olması beklenem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ğlar için de aynı şey geçer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Object 4" descr=""/>
          <p:cNvPicPr/>
          <p:nvPr/>
        </p:nvPicPr>
        <p:blipFill>
          <a:blip r:embed="rId1"/>
          <a:stretch/>
        </p:blipFill>
        <p:spPr>
          <a:xfrm>
            <a:off x="2336760" y="2803680"/>
            <a:ext cx="4621320" cy="12031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799560" y="323208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şık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6"/>
          <p:cNvSpPr/>
          <p:nvPr/>
        </p:nvSpPr>
        <p:spPr>
          <a:xfrm flipV="1">
            <a:off x="1795320" y="3352680"/>
            <a:ext cx="465120" cy="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6294240" y="410688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Lastik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8"/>
          <p:cNvSpPr/>
          <p:nvPr/>
        </p:nvSpPr>
        <p:spPr>
          <a:xfrm flipH="1" flipV="1">
            <a:off x="6210360" y="3968280"/>
            <a:ext cx="309600" cy="297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6508440" y="236052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Mo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0"/>
          <p:cNvSpPr/>
          <p:nvPr/>
        </p:nvSpPr>
        <p:spPr>
          <a:xfrm flipH="1">
            <a:off x="6245280" y="2790720"/>
            <a:ext cx="465120" cy="32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İnsan-insan iletişim protokolü örneği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820000" cy="511200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Oda ayırtmak için İstanbul’da bir otele telefon ediyorsunu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Karşıdaki kişi telefon alıcısının hangi tarafını kulağına dayayacağını, ne kadar yüksek sesle konuşulacağını, aletin kulağa ne kadar yakın tutulacağını bili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ğ bağlantıs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Alan kodu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Numara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çevrilir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rehber gerekebilir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resl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Otel personeli telefonu kaldırdığında bağlantı kurulu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ağlantı ku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Tarafların telefon ağıyla ilgili bilgisi olması gerekmiy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Uç noktalar - yönlendiricl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Futura Md BT"/>
              </a:rPr>
              <a:t>İnsan-insan iletişim protokolü örneği (devamla)</a:t>
            </a:r>
            <a:endParaRPr b="0" lang="en-US" sz="36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100" spc="-1" strike="noStrike">
                <a:solidFill>
                  <a:srgbClr val="000000"/>
                </a:solidFill>
                <a:latin typeface="Arial"/>
              </a:rPr>
              <a:t>Kullanılacak dilde anlaşmalıla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Herhangi bir anda sadece bir taraf konuş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o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100" spc="-1" strike="noStrike">
                <a:solidFill>
                  <a:srgbClr val="000000"/>
                </a:solidFill>
                <a:latin typeface="Arial"/>
              </a:rPr>
              <a:t>Dinleyen taraf birşeyi anlamadığı zaman tekrar edilmesini isteyebili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Yeniden ilet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100" spc="-1" strike="noStrike">
                <a:solidFill>
                  <a:srgbClr val="000000"/>
                </a:solidFill>
                <a:latin typeface="Arial"/>
              </a:rPr>
              <a:t>Diğer taraftan yanıt gelmediğinde taraflar bağlantının kesildiğinden kuşkulanırla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ağlantının zorunlu olarak sonlandırılmas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Futura Md BT"/>
              </a:rPr>
              <a:t>İnsan-insan iletişim protokolü örneği (devamla)</a:t>
            </a:r>
            <a:endParaRPr b="0" lang="en-US" sz="36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534160" cy="365760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Dinleyen taraf not alırken karşı tarafın beklemesini isteyebili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kış denetim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yoğunluğu hallet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Taraflar aynı birimleri kullanmalı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para birimi, takvim v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Veri birimle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er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imler tanımlanmalıdır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ör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.‘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dört yıldızlı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’, ‘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iki kişilik oda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’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rminolo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Konuşmayı nazikçe bitirme, böylece kaynakları diğer kullanıcılar için serbest bırak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rmal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ağlantının sonlandırılmas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Futura Md BT"/>
              </a:rPr>
              <a:t>Bilgisayar ağ protokolleri de aşağıdakileri tanımlar</a:t>
            </a:r>
            <a:endParaRPr b="0" lang="en-US" sz="36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Fiziksel arayüzler, sinyal düzeyleri ve kodla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Ağ adresleri, bağlantı kurma/kesm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Ağ veri birimlerinin büyüklüğü ve yapısı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Hata kontrol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Başarılı alındı belges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Akış denetim mekanizmalar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Veri tabanı alanları ve formatlar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Uygulamaya özgü anlam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Proto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koller 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587600"/>
            <a:ext cx="7772400" cy="144144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ir ağda birçok protokol vardı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atmanlı bir şekilde birlikte çalışır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Her katman kendi altındaki katmanların hizmetleri üzerine kurulu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4" name="Object 4"/>
          <p:cNvGraphicFramePr/>
          <p:nvPr/>
        </p:nvGraphicFramePr>
        <p:xfrm>
          <a:off x="1417680" y="3957480"/>
          <a:ext cx="1728720" cy="138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7680" y="3957480"/>
                    <a:ext cx="172872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6" name="Object 5"/>
          <p:cNvGraphicFramePr/>
          <p:nvPr/>
        </p:nvGraphicFramePr>
        <p:xfrm>
          <a:off x="6786720" y="3925800"/>
          <a:ext cx="685800" cy="133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6720" y="3925800"/>
                    <a:ext cx="685800" cy="13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8" name="Object 6"/>
          <p:cNvGraphicFramePr/>
          <p:nvPr/>
        </p:nvGraphicFramePr>
        <p:xfrm>
          <a:off x="747720" y="3297240"/>
          <a:ext cx="907920" cy="37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9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7720" y="3297240"/>
                    <a:ext cx="90792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0" name="Object 7"/>
          <p:cNvGraphicFramePr/>
          <p:nvPr/>
        </p:nvGraphicFramePr>
        <p:xfrm>
          <a:off x="7566120" y="3257640"/>
          <a:ext cx="907920" cy="377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1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66120" y="3257640"/>
                    <a:ext cx="90792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2" name="Line 8"/>
          <p:cNvSpPr/>
          <p:nvPr/>
        </p:nvSpPr>
        <p:spPr>
          <a:xfrm>
            <a:off x="2079720" y="3409920"/>
            <a:ext cx="52052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Line 9"/>
          <p:cNvSpPr/>
          <p:nvPr/>
        </p:nvSpPr>
        <p:spPr>
          <a:xfrm>
            <a:off x="2903400" y="4025880"/>
            <a:ext cx="3965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10"/>
          <p:cNvSpPr/>
          <p:nvPr/>
        </p:nvSpPr>
        <p:spPr>
          <a:xfrm>
            <a:off x="1676880" y="364500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İş istasyon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11"/>
          <p:cNvSpPr/>
          <p:nvPr/>
        </p:nvSpPr>
        <p:spPr>
          <a:xfrm>
            <a:off x="3895920" y="3060720"/>
            <a:ext cx="17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Dosya aktarım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12"/>
          <p:cNvSpPr/>
          <p:nvPr/>
        </p:nvSpPr>
        <p:spPr>
          <a:xfrm>
            <a:off x="7353000" y="4184640"/>
            <a:ext cx="14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Uzak sunuc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Group 13"/>
          <p:cNvGrpSpPr/>
          <p:nvPr/>
        </p:nvGrpSpPr>
        <p:grpSpPr>
          <a:xfrm>
            <a:off x="5033880" y="5113440"/>
            <a:ext cx="1621080" cy="971280"/>
            <a:chOff x="5033880" y="5113440"/>
            <a:chExt cx="1621080" cy="971280"/>
          </a:xfrm>
        </p:grpSpPr>
        <p:graphicFrame>
          <p:nvGraphicFramePr>
            <p:cNvPr id="398" name="Object 14"/>
            <p:cNvGraphicFramePr/>
            <p:nvPr/>
          </p:nvGraphicFramePr>
          <p:xfrm>
            <a:off x="5033880" y="5113440"/>
            <a:ext cx="1621080" cy="9712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99" name="Object 14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033880" y="5113440"/>
                      <a:ext cx="1621080" cy="971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0" name="Text Box 15"/>
            <p:cNvSpPr/>
            <p:nvPr/>
          </p:nvSpPr>
          <p:spPr>
            <a:xfrm>
              <a:off x="5457600" y="5446800"/>
              <a:ext cx="71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W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Text Box 16"/>
          <p:cNvSpPr/>
          <p:nvPr/>
        </p:nvSpPr>
        <p:spPr>
          <a:xfrm>
            <a:off x="3794760" y="3639960"/>
            <a:ext cx="20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Uçtan uca tutarlılı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Oval 17"/>
          <p:cNvSpPr/>
          <p:nvPr/>
        </p:nvSpPr>
        <p:spPr>
          <a:xfrm>
            <a:off x="4468680" y="4416480"/>
            <a:ext cx="722520" cy="6588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18"/>
          <p:cNvSpPr/>
          <p:nvPr/>
        </p:nvSpPr>
        <p:spPr>
          <a:xfrm>
            <a:off x="3056040" y="4721400"/>
            <a:ext cx="13032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9"/>
          <p:cNvSpPr/>
          <p:nvPr/>
        </p:nvSpPr>
        <p:spPr>
          <a:xfrm>
            <a:off x="5288040" y="4757760"/>
            <a:ext cx="15746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20"/>
          <p:cNvSpPr/>
          <p:nvPr/>
        </p:nvSpPr>
        <p:spPr>
          <a:xfrm>
            <a:off x="5547600" y="433692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Ağlaş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21"/>
          <p:cNvSpPr/>
          <p:nvPr/>
        </p:nvSpPr>
        <p:spPr>
          <a:xfrm>
            <a:off x="4998960" y="5037120"/>
            <a:ext cx="387360" cy="309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22"/>
          <p:cNvSpPr/>
          <p:nvPr/>
        </p:nvSpPr>
        <p:spPr>
          <a:xfrm flipV="1">
            <a:off x="6600960" y="5230800"/>
            <a:ext cx="542880" cy="27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23"/>
          <p:cNvSpPr/>
          <p:nvPr/>
        </p:nvSpPr>
        <p:spPr>
          <a:xfrm>
            <a:off x="4156920" y="453384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Yönlendiri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24"/>
          <p:cNvSpPr/>
          <p:nvPr/>
        </p:nvSpPr>
        <p:spPr>
          <a:xfrm>
            <a:off x="2376360" y="5850000"/>
            <a:ext cx="1730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25"/>
          <p:cNvSpPr/>
          <p:nvPr/>
        </p:nvSpPr>
        <p:spPr>
          <a:xfrm>
            <a:off x="2492280" y="5307120"/>
            <a:ext cx="530280" cy="54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26"/>
          <p:cNvSpPr/>
          <p:nvPr/>
        </p:nvSpPr>
        <p:spPr>
          <a:xfrm flipH="1">
            <a:off x="3884760" y="4995720"/>
            <a:ext cx="669600" cy="852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27"/>
          <p:cNvSpPr/>
          <p:nvPr/>
        </p:nvSpPr>
        <p:spPr>
          <a:xfrm>
            <a:off x="1703880" y="56149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28"/>
          <p:cNvSpPr/>
          <p:nvPr/>
        </p:nvSpPr>
        <p:spPr>
          <a:xfrm>
            <a:off x="1352520" y="3676680"/>
            <a:ext cx="63360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29"/>
          <p:cNvSpPr/>
          <p:nvPr/>
        </p:nvSpPr>
        <p:spPr>
          <a:xfrm flipV="1">
            <a:off x="7383600" y="3633840"/>
            <a:ext cx="542880" cy="5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Group 30"/>
          <p:cNvGrpSpPr/>
          <p:nvPr/>
        </p:nvGrpSpPr>
        <p:grpSpPr>
          <a:xfrm>
            <a:off x="3112920" y="5640480"/>
            <a:ext cx="552240" cy="138600"/>
            <a:chOff x="3112920" y="5640480"/>
            <a:chExt cx="552240" cy="138600"/>
          </a:xfrm>
        </p:grpSpPr>
        <p:sp>
          <p:nvSpPr>
            <p:cNvPr id="416" name="Line 31"/>
            <p:cNvSpPr/>
            <p:nvPr/>
          </p:nvSpPr>
          <p:spPr>
            <a:xfrm>
              <a:off x="3112920" y="5767920"/>
              <a:ext cx="116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32"/>
            <p:cNvSpPr/>
            <p:nvPr/>
          </p:nvSpPr>
          <p:spPr>
            <a:xfrm>
              <a:off x="3215160" y="5647320"/>
              <a:ext cx="11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33"/>
            <p:cNvSpPr/>
            <p:nvPr/>
          </p:nvSpPr>
          <p:spPr>
            <a:xfrm flipV="1">
              <a:off x="3222000" y="5640480"/>
              <a:ext cx="0" cy="13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34"/>
            <p:cNvSpPr/>
            <p:nvPr/>
          </p:nvSpPr>
          <p:spPr>
            <a:xfrm flipV="1">
              <a:off x="3326040" y="5640480"/>
              <a:ext cx="0" cy="13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Line 35"/>
            <p:cNvSpPr/>
            <p:nvPr/>
          </p:nvSpPr>
          <p:spPr>
            <a:xfrm>
              <a:off x="3326040" y="5772960"/>
              <a:ext cx="116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Line 36"/>
            <p:cNvSpPr/>
            <p:nvPr/>
          </p:nvSpPr>
          <p:spPr>
            <a:xfrm>
              <a:off x="3428640" y="5652000"/>
              <a:ext cx="11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37"/>
            <p:cNvSpPr/>
            <p:nvPr/>
          </p:nvSpPr>
          <p:spPr>
            <a:xfrm flipV="1">
              <a:off x="3435480" y="5644080"/>
              <a:ext cx="0" cy="13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38"/>
            <p:cNvSpPr/>
            <p:nvPr/>
          </p:nvSpPr>
          <p:spPr>
            <a:xfrm flipV="1">
              <a:off x="3539520" y="5644080"/>
              <a:ext cx="0" cy="13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39"/>
            <p:cNvSpPr/>
            <p:nvPr/>
          </p:nvSpPr>
          <p:spPr>
            <a:xfrm>
              <a:off x="3548520" y="5767920"/>
              <a:ext cx="116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Proto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koller (devamla) 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İletişim için bir protokol (ya da protokol suiti) gerekl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azı örgütler birden fazla suit kullanabilirler (ö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Novell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CP/IP proto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oller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ollar belgeler halinde tanımlanır ve genellikle yazılımda kurul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Desteklenecek her protokol süiti için ayrı bir yazılım paketi gerek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Özet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77960" y="1792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ilgisayar ağlarını tartışmak için yararlı bir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Her bir </a:t>
            </a:r>
            <a:r>
              <a:rPr b="0" i="1" lang="tr-TR" sz="2400" spc="-1" strike="noStrike">
                <a:solidFill>
                  <a:srgbClr val="000000"/>
                </a:solidFill>
                <a:latin typeface="Arial"/>
              </a:rPr>
              <a:t>katma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spesifik bir iletişim sorununu belir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nternet için bir protokol yığıtının </a:t>
            </a:r>
            <a:r>
              <a:rPr b="0" i="1" lang="tr-TR" sz="2400" spc="-1" strike="noStrike">
                <a:solidFill>
                  <a:srgbClr val="000000"/>
                </a:solidFill>
                <a:latin typeface="Arial"/>
              </a:rPr>
              <a:t>kurulu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to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oll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İletişim kurallarının tanımlanmas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Ağ standartlarının önemi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4920" y="11970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Niye ağ standartları gerekli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çık sistemlerin teme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atıcı şirketlerin yaklaşımlarından bağımsı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çık tedarike olanak sağlı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irlikte çalışabilirliğe (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operability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) olanak sağlı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ndar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lar uluslararası kapsamda olmal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Yeni ortaya çıkan standartları izlemek önem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tandartları kullanmanın ne zaman “güvenli” olduğunu bilmek gerek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tandartların nerden geldiğini bilmek gerek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ff"/>
                </a:solidFill>
                <a:latin typeface="Futura Md BT"/>
              </a:rPr>
              <a:t>Katmanlar ve Protokoller</a:t>
            </a:r>
            <a:endParaRPr b="0" lang="en-US" sz="44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Katman ve protokol kelimeleri ağ standartlarının temel kavramlarıdı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Takip eden slaytta katman kavramının anlaşılması için bir örnek verilmişt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Örnekte mektupla haberleşmede “zarfı adresleme” isminde bir katman oluşturulmuş ve görevleri açıklanmıştı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utura Md BT"/>
              </a:rPr>
              <a:t>“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Zarfı adresleme</a:t>
            </a:r>
            <a:r>
              <a:rPr b="0" lang="en-US" sz="4000" spc="-1" strike="noStrike">
                <a:solidFill>
                  <a:srgbClr val="ffffff"/>
                </a:solidFill>
                <a:latin typeface="Futura Md BT"/>
              </a:rPr>
              <a:t>” 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katmanı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Zarf alıcı hakkında bilgi içeren bir etiket taş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İletilecek mesajın bir parçasıdı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Mesajın alıcı adresine ulaşmasına yardımcı ol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dres birçok katmana bölünmüştü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Üst düzey yönlendir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ülk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merkezi dağıtı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Orta düzey yönlendir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şeh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ülk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posta merkezlerine gönderili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lt düzey yönlendir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e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cad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postacı tarafından yerine ulaştırılı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dresten adre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d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lıcı için gerek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Her katmanın diğer katmanlarla ilişkisi var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am adresi oluşturmak için tüm alanlar gereklid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Katman bilgisi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Her katmanın bir başlığı var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İletişim formatını tanım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: </a:t>
            </a:r>
            <a:r>
              <a:rPr b="0" i="1" lang="tr-TR" sz="2800" spc="-1" strike="noStrike">
                <a:solidFill>
                  <a:srgbClr val="000000"/>
                </a:solidFill>
                <a:latin typeface="Arial"/>
              </a:rPr>
              <a:t>Ver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daha yüksek düzeylerin başlıklarını içerebil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4"/>
          <p:cNvGrpSpPr/>
          <p:nvPr/>
        </p:nvGrpSpPr>
        <p:grpSpPr>
          <a:xfrm>
            <a:off x="1554120" y="3224160"/>
            <a:ext cx="6159600" cy="2426040"/>
            <a:chOff x="1554120" y="3224160"/>
            <a:chExt cx="6159600" cy="2426040"/>
          </a:xfrm>
        </p:grpSpPr>
        <p:grpSp>
          <p:nvGrpSpPr>
            <p:cNvPr id="112" name="Group 5"/>
            <p:cNvGrpSpPr/>
            <p:nvPr/>
          </p:nvGrpSpPr>
          <p:grpSpPr>
            <a:xfrm>
              <a:off x="1554120" y="3224160"/>
              <a:ext cx="6159600" cy="901800"/>
              <a:chOff x="1554120" y="3224160"/>
              <a:chExt cx="6159600" cy="901800"/>
            </a:xfrm>
          </p:grpSpPr>
          <p:sp>
            <p:nvSpPr>
              <p:cNvPr id="113" name="Rectangle 6"/>
              <p:cNvSpPr/>
              <p:nvPr/>
            </p:nvSpPr>
            <p:spPr>
              <a:xfrm>
                <a:off x="1554120" y="3224160"/>
                <a:ext cx="1515960" cy="901800"/>
              </a:xfrm>
              <a:prstGeom prst="rect">
                <a:avLst/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Rectangle 7"/>
              <p:cNvSpPr/>
              <p:nvPr/>
            </p:nvSpPr>
            <p:spPr>
              <a:xfrm>
                <a:off x="3078000" y="3224160"/>
                <a:ext cx="4635720" cy="901800"/>
              </a:xfrm>
              <a:prstGeom prst="rect">
                <a:avLst/>
              </a:prstGeom>
              <a:solidFill>
                <a:srgbClr val="00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Rectangle 8"/>
              <p:cNvSpPr/>
              <p:nvPr/>
            </p:nvSpPr>
            <p:spPr>
              <a:xfrm>
                <a:off x="1708200" y="3457440"/>
                <a:ext cx="10825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000000"/>
                    </a:solidFill>
                    <a:latin typeface="Arial"/>
                  </a:rPr>
                  <a:t>Başlı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Rectangle 9"/>
              <p:cNvSpPr/>
              <p:nvPr/>
            </p:nvSpPr>
            <p:spPr>
              <a:xfrm>
                <a:off x="4905720" y="3479760"/>
                <a:ext cx="7261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000000"/>
                    </a:solidFill>
                    <a:latin typeface="Arial"/>
                  </a:rPr>
                  <a:t>Ver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" name="Line 10"/>
            <p:cNvSpPr/>
            <p:nvPr/>
          </p:nvSpPr>
          <p:spPr>
            <a:xfrm>
              <a:off x="2298600" y="3889440"/>
              <a:ext cx="0" cy="87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11"/>
            <p:cNvSpPr/>
            <p:nvPr/>
          </p:nvSpPr>
          <p:spPr>
            <a:xfrm>
              <a:off x="1677240" y="4826160"/>
              <a:ext cx="13190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000000"/>
                  </a:solidFill>
                  <a:latin typeface="Arial"/>
                </a:rPr>
                <a:t>Deneti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000000"/>
                  </a:solidFill>
                  <a:latin typeface="Arial"/>
                </a:rPr>
                <a:t>bilgis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12"/>
            <p:cNvSpPr/>
            <p:nvPr/>
          </p:nvSpPr>
          <p:spPr>
            <a:xfrm>
              <a:off x="5318280" y="3886200"/>
              <a:ext cx="0" cy="87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Rectangle 13"/>
            <p:cNvSpPr/>
            <p:nvPr/>
          </p:nvSpPr>
          <p:spPr>
            <a:xfrm>
              <a:off x="4860000" y="4822920"/>
              <a:ext cx="997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Mes</a:t>
              </a:r>
              <a:r>
                <a:rPr b="0" lang="tr-TR" sz="2400" spc="-1" strike="noStrike">
                  <a:solidFill>
                    <a:srgbClr val="000000"/>
                  </a:solidFill>
                  <a:latin typeface="Arial"/>
                </a:rPr>
                <a:t>a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Katmanlamanın İlkeleri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-360" y="98100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Farklı bir soyutlama gerektiğinde bir katman oluşturulmalı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Her katman iyi tanımlanmış bir işlevi yerine getirmel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Her katmanın işlevi uluslararası standart protokollere göre seçilmel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atman sınırları arayüzler arasında bilgi akışını en aza indirecek şekilde seçilmel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atman sayısı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Farklı işlevleri birleştirmeyecek kadar büyük olmalı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Mimarinin hantal olmasını önleyecek kadar küçük olmalı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6T07:08:49Z</dcterms:created>
  <dc:creator>Valued Gateway Client</dc:creator>
  <dc:description/>
  <dc:language>en-US</dc:language>
  <cp:lastModifiedBy>Bilal</cp:lastModifiedBy>
  <dcterms:modified xsi:type="dcterms:W3CDTF">2012-11-27T15:58:05Z</dcterms:modified>
  <cp:revision>171</cp:revision>
  <dc:subject/>
  <dc:title>PowerPoint Presentation</dc:title>
</cp:coreProperties>
</file>