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70C-D1C3-431D-B553-212CF86A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89C-6D74-4697-BB05-1C546957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121-EEF8-4C99-B5B6-734ADE99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440-1755-4753-82A2-ADF22C52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ACD4-B2FE-42F7-B8AF-58E0F13F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52ED-61CC-4A7D-8B26-B41B085C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A85D-A17F-4A75-B645-3ECC6DCE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A351-25B2-43FE-8E4A-3EF9E304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8AAB-A494-4B79-AD99-8B2D854E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E328-C72B-4941-BA4B-96BF5471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7CD9-593E-4E52-B247-943D02B2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7C3-27B8-4D83-A1A1-D178D7A8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96AC-980F-4CC4-BBDE-59E9251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4185-8DCD-4015-B721-62A8803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A5BA-62D1-48E8-91D5-5547BB00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44A9-AEB4-472F-BB1A-AA8F6C0C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074C-EA93-4988-B941-3184F44D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0B5-4692-4A1F-9AFB-E49C172C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838-6CEF-4A24-ACEB-DF234FBE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ABC-A3FC-4577-A7E2-A5E31351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584-CB88-450C-84A0-491A4485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EB4-7618-40B4-9431-9056ABC1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C54-E141-4617-9611-340744FE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541-D789-4B30-99F1-1CB23836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61F4-C94E-402A-AAA7-2EDF3AD39E0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F507-85AE-4C91-AA15-851CEA62EC2F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1A31-2D47-4534-8CBC-D941386730C4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(Düz/Çapraz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0956-DE25-490E-BB0F-97875DD63DD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arılı çiftleri çöz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çözerek renk sırasına diz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step2"/>
          <p:cNvPicPr/>
          <p:nvPr/>
        </p:nvPicPr>
        <p:blipFill>
          <a:blip r:embed="rId1"/>
          <a:stretch/>
        </p:blipFill>
        <p:spPr>
          <a:xfrm>
            <a:off x="1447920" y="2743200"/>
            <a:ext cx="6095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A071-385C-4EBD-8FEA-F45D95839C7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3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renk sırasına diz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2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A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B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step3"/>
          <p:cNvPicPr/>
          <p:nvPr/>
        </p:nvPicPr>
        <p:blipFill>
          <a:blip r:embed="rId1"/>
          <a:stretch/>
        </p:blipFill>
        <p:spPr>
          <a:xfrm>
            <a:off x="2195640" y="3284640"/>
            <a:ext cx="48765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5073-7399-47CE-AE75-5BBCB675628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4. Adı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llerin uçlarını aynı hizaya getir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klaşı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½”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zunluğunda soyulmuş kısım bırakı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step4"/>
          <p:cNvPicPr/>
          <p:nvPr/>
        </p:nvPicPr>
        <p:blipFill>
          <a:blip r:embed="rId1"/>
          <a:stretch/>
        </p:blipFill>
        <p:spPr>
          <a:xfrm>
            <a:off x="1547640" y="2781360"/>
            <a:ext cx="6400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3009-1F92-40AF-8966-2F79CC6AF9E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5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konnektöre sok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ı bozmadan konnektöre sok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daki şekilde sol üst 1 numar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step5"/>
          <p:cNvPicPr/>
          <p:nvPr/>
        </p:nvPicPr>
        <p:blipFill>
          <a:blip r:embed="rId1"/>
          <a:stretch/>
        </p:blipFill>
        <p:spPr>
          <a:xfrm>
            <a:off x="5105520" y="1600200"/>
            <a:ext cx="2516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180F-3F3E-4F4F-9300-25CADDA9C85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6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özle k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675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üm teller könnektörün sonuna değiyor m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lıtım plastiği şekilde görüldüğü gibi içeri girdi m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tep6"/>
          <p:cNvPicPr/>
          <p:nvPr/>
        </p:nvPicPr>
        <p:blipFill>
          <a:blip r:embed="rId1"/>
          <a:stretch/>
        </p:blipFill>
        <p:spPr>
          <a:xfrm>
            <a:off x="900000" y="3141720"/>
            <a:ext cx="7467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202E-27A0-4EF9-939E-645021EBB9F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ık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281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ü sıkma pensesin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P)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içine yerleşt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ittirirken penseyi sıkıca sıkı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crimp-1"/>
          <p:cNvPicPr/>
          <p:nvPr/>
        </p:nvPicPr>
        <p:blipFill>
          <a:blip r:embed="rId1"/>
          <a:stretch/>
        </p:blipFill>
        <p:spPr>
          <a:xfrm>
            <a:off x="1254240" y="347040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rimp-2"/>
          <p:cNvPicPr/>
          <p:nvPr/>
        </p:nvPicPr>
        <p:blipFill>
          <a:blip r:embed="rId2"/>
          <a:stretch/>
        </p:blipFill>
        <p:spPr>
          <a:xfrm>
            <a:off x="5356080" y="4038480"/>
            <a:ext cx="32385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62EA-19DC-4058-AB4F-CFB181E9DCF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8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çalışıyor m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step8"/>
          <p:cNvPicPr/>
          <p:nvPr/>
        </p:nvPicPr>
        <p:blipFill>
          <a:blip r:embed="rId1"/>
          <a:stretch/>
        </p:blipFill>
        <p:spPr>
          <a:xfrm>
            <a:off x="1398600" y="3043080"/>
            <a:ext cx="7485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5D3E-1655-46D4-92ED-945AE3CF6F18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apısal Kablol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65E5-9031-4BF8-9103-7087B3029E5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İÇERİ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pısal Kablolama Standart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ta Kablo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uvar Priz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atch Pane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Kanal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ine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iketleme-Dokümantasy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 Öner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E5C-0AD3-4D8C-AD36-6F735E77CCE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DATA KABLOLAMA STANDARTL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IA /EIA 5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Uluslarar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SO /IEC – 11801 ISO /IEC – 118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vrupa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N 50173 EN 501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EF10-C55E-41E2-93E3-26B89EE17C1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Bağlantı Kur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cable-use"/>
          <p:cNvPicPr/>
          <p:nvPr/>
        </p:nvPicPr>
        <p:blipFill>
          <a:blip r:embed="rId1"/>
          <a:stretch/>
        </p:blipFill>
        <p:spPr>
          <a:xfrm>
            <a:off x="826920" y="2349360"/>
            <a:ext cx="799308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2780-EB22-4319-AEFA-BC3A3560006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Yapısal Kablolama Genel Yapısal Kablolama Genel Görünü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FB1B-3AD3-4BC2-AF00-EFB03A9C2F1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ata Kablo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5-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81636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745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6D3-B8A9-480D-BA13-BFB0BDDD309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CAT6 Kablo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yırıcı parça ile kablo çiftlerinin birbiri ile etkileşimi en az seviyeye düşürülmüştü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576108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4881-29D2-4C0B-9E7B-0983DFBC21E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uvar Priz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leşen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ıva Üstü – Sıva Alt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aklı-Kapaksız, Açıl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lama, 50 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/B Renk K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Ürün Kalit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şçilik Özell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da İçi Y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282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D68C-F71B-400F-8F51-83AC3FDB557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5" descr="PL13 24 PORT, RJ45, CAT. 6 110 Punch Down Patch Panels"/>
          <p:cNvPicPr/>
          <p:nvPr/>
        </p:nvPicPr>
        <p:blipFill>
          <a:blip r:embed="rId1"/>
          <a:stretch/>
        </p:blipFill>
        <p:spPr>
          <a:xfrm>
            <a:off x="684360" y="2349360"/>
            <a:ext cx="4751280" cy="3508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cat6%2096%20port%20patch%20panel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98BD-D071-4216-A5E7-CCD249B617C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pp-19-16-s"/>
          <p:cNvPicPr/>
          <p:nvPr/>
        </p:nvPicPr>
        <p:blipFill>
          <a:blip r:embed="rId1"/>
          <a:stretch/>
        </p:blipFill>
        <p:spPr>
          <a:xfrm>
            <a:off x="179280" y="2133720"/>
            <a:ext cx="5761080" cy="390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tkppc48"/>
          <p:cNvPicPr/>
          <p:nvPr/>
        </p:nvPicPr>
        <p:blipFill>
          <a:blip r:embed="rId2"/>
          <a:stretch/>
        </p:blipFill>
        <p:spPr>
          <a:xfrm>
            <a:off x="5148360" y="5157720"/>
            <a:ext cx="3809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8935-767D-4372-A03D-2E8122687AD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5" descr="voiceppback"/>
          <p:cNvPicPr/>
          <p:nvPr/>
        </p:nvPicPr>
        <p:blipFill>
          <a:blip r:embed="rId1"/>
          <a:stretch/>
        </p:blipFill>
        <p:spPr>
          <a:xfrm>
            <a:off x="468360" y="2133720"/>
            <a:ext cx="4824360" cy="361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1(01B-2)"/>
          <p:cNvPicPr/>
          <p:nvPr/>
        </p:nvPicPr>
        <p:blipFill>
          <a:blip r:embed="rId2"/>
          <a:stretch/>
        </p:blipFill>
        <p:spPr>
          <a:xfrm>
            <a:off x="5292720" y="2133720"/>
            <a:ext cx="3672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8450-A0F0-48DB-AE5F-939823F63FB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icture 5" descr="backofpanelcloseup"/>
          <p:cNvPicPr/>
          <p:nvPr/>
        </p:nvPicPr>
        <p:blipFill>
          <a:blip r:embed="rId1"/>
          <a:stretch/>
        </p:blipFill>
        <p:spPr>
          <a:xfrm>
            <a:off x="1182600" y="2279520"/>
            <a:ext cx="3810240" cy="3589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KRONE"/>
          <p:cNvPicPr/>
          <p:nvPr/>
        </p:nvPicPr>
        <p:blipFill>
          <a:blip r:embed="rId2"/>
          <a:stretch/>
        </p:blipFill>
        <p:spPr>
          <a:xfrm>
            <a:off x="5284800" y="3021120"/>
            <a:ext cx="3530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2526-E7D9-4517-8A80-6A4847E38F7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Kan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38102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lçüler, Bölmeli-Bölmes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önüş-Ekleme Parça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uvar Geçiş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apraz Vidalama, Kablo Bağ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vama, Onarı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van Kanalları, Kablo Tutu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koratifl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m Kapalılık, Diğer Kablolar, Elektr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anal İçi Boşlu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311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DD80-16BB-49A4-8D9C-63CCF0313B9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inet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38102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lçüler: 19’’ , U , (450,600,8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 ve Duvar Ti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ilit, Ön ve Yan Kapa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ack Demirleri Hare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rmostat, Fan ve Sessiz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inet İçi Elektrik Düze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 Organizasyo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lara Toplu P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44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F4BE-BFBE-432A-9ED3-DFA989DF170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Bilgisayar Arası Çapraz (Cross) Bağlant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030804figure3"/>
          <p:cNvPicPr/>
          <p:nvPr/>
        </p:nvPicPr>
        <p:blipFill>
          <a:blip r:embed="rId1"/>
          <a:stretch/>
        </p:blipFill>
        <p:spPr>
          <a:xfrm>
            <a:off x="250920" y="2205000"/>
            <a:ext cx="8424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B7CA-F30D-48A9-9FC8-6A67CACF6E9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iketleme - Dokümantasy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Etiketleme Malzeme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Cihaz ve Fiş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izim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otoğraf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6F6F-9189-448D-AF2A-C509692D2E9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Çizi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04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590E-5CEB-44B1-A79B-5507592D9A7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Öner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 Merkezde Top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90 + 10 m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GK Deste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edek Malzeme Bulundur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atch Kablo Sayı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Numune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(3 + 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07E8-DCA3-4003-9ACC-7A422B308D23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NTERNET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3E79-DE68-4106-820B-34314448E58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(Umumi)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çok faklı ağın temel problemi aşikard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ağın üyesi olan bir bilgisayar yalnızca kendisi ile aynı ağa bağlı olan bilgisayarl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laşan bilgisayar ağları farklı ağlardaki bilgisayarların birbirleri ile haberleşmesi ihtiyacını doğurd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maçla yapılan çalışmalara genel manâda üniversal servis oluşturma denild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65D7-B6AC-4F79-BD5A-981377E7EF2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kavramı internetworking’in teme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oluşturma çalışmaları neticesinde birbirlerinden farklı ağları birbirlerine bağlamak işlemi internetworking olarak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birlerine bağlanmış faklı ağlardan oluşan nihai sistem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work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veya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iye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ünya üzerinde birçok faklı internet mevcuttur; birkaç ağ içereninden binlerce ağ içeren internetlere kad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20D1-9DA8-4DEB-B688-F8D9E689AC2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Router’ları Kullanarak Ağların Fiziksel Bağlantısını Gerçekleştir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eterojen ağları birbirlerine fiziksel  olarak bağlamak için kullanılan temel cihaz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route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’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iziksel olarak router’lar bridge’lere benzerler. İki ağı birbirlerine bağla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lar bridge’lerden farklı olarak iki veya daha fazla farklı ağı birbirine bağlar. Bridge ise aynı türden ağları birbirine bağlayabil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0F00-FA06-4311-83F6-A4C57FB4A9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 ağları birbirlerine bağlamak üzere üretilmiş özel amaçlı bir bilgisay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endi CPU’su RAM’i ve birbirlerine bağlayacağı her ağ için bir giriş/çıkış arayüzü mevcut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daki bilgisayarlar router’ın varlığından haberdar olmak zorundadı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a bağlantıları diğer herhangi bir bilgisayara olduğu gibi gerçekleş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476-470D-4A23-86F3-BF9E6664061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fiziksel ağın router ile birbirlerine bağlan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in her iki ağa da bağlanmak için iki ayrı ağ arayüz donanımı mevcut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lar faklı veri iletim ortamı kullanan, farklı fiziksel adres biçimlerine sahip olan ve farklı frame formatları bulunan birden fazla ağı birbirlerine bağlamak için kullanılır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763640" y="4221000"/>
            <a:ext cx="5832360" cy="1871640"/>
            <a:chOff x="1763640" y="4221000"/>
            <a:chExt cx="5832360" cy="1871640"/>
          </a:xfrm>
        </p:grpSpPr>
        <p:graphicFrame>
          <p:nvGraphicFramePr>
            <p:cNvPr id="239" name="Object 5"/>
            <p:cNvGraphicFramePr/>
            <p:nvPr/>
          </p:nvGraphicFramePr>
          <p:xfrm>
            <a:off x="1763640" y="4221000"/>
            <a:ext cx="2243160" cy="187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6"/>
            <p:cNvGraphicFramePr/>
            <p:nvPr/>
          </p:nvGraphicFramePr>
          <p:xfrm>
            <a:off x="5352840" y="4221000"/>
            <a:ext cx="2243160" cy="18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28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Rectangle 7"/>
            <p:cNvSpPr/>
            <p:nvPr/>
          </p:nvSpPr>
          <p:spPr>
            <a:xfrm>
              <a:off x="4455360" y="4776840"/>
              <a:ext cx="44856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3966840" y="5172120"/>
              <a:ext cx="44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904280" y="5148000"/>
              <a:ext cx="44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Line 10"/>
          <p:cNvSpPr/>
          <p:nvPr/>
        </p:nvSpPr>
        <p:spPr>
          <a:xfrm flipV="1">
            <a:off x="3635280" y="566064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059280" y="6237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F47E-5C5F-48CC-BCC0-899D9BF3DF7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working’in amacı heterojen ağlar arasında üniversal servis sağlama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’teki bütün bilgisayarlar arasında üniversal servisi sağlamak için router’lar, bir ağdaki bir bilgisayardan iletilen bir bilgiyi diğer bir ağdaki hedef bilgisayara ulaştırabilmek için, aralarında aldıkları bilgileri iletmek üzere anlaşmış olmalı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etice olarak, universal servisin sağlanabilmesi için bütün router’lar ve bilgisayarlar üzerinde çalışan ortak bir protokol yazılımı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rotokol yazılımlarına genel olarak internet yazılımı veya protokolü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A82B-C1E5-4344-AC2B-39B0C001CB9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Dü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Straight-Through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&lt;-&gt;568A veya 568B&lt;-&gt;568B o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ethcable568a"/>
          <p:cNvPicPr/>
          <p:nvPr/>
        </p:nvPicPr>
        <p:blipFill>
          <a:blip r:embed="rId1"/>
          <a:stretch/>
        </p:blipFill>
        <p:spPr>
          <a:xfrm>
            <a:off x="179280" y="2924280"/>
            <a:ext cx="4205520" cy="26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thcable568b"/>
          <p:cNvPicPr/>
          <p:nvPr/>
        </p:nvPicPr>
        <p:blipFill>
          <a:blip r:embed="rId2"/>
          <a:stretch/>
        </p:blipFill>
        <p:spPr>
          <a:xfrm>
            <a:off x="4572000" y="3860640"/>
            <a:ext cx="42116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F926-866D-462C-8474-7E10DE10130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, ağa bağlı bilgisayar veya kullanıcı tarafından görülen yönü ile birçok bilgisayarın bağlı olduğu tek bir ağ görünümü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e bağlı olan her bir bilgisayarın bir adresi vardır ve hangi ağa bağlı olduğu fark etmeksizin internete bağlı diğer bir ağdaki herhangi bir bilgisay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 kullanıcıları ve bilgisayarda çalışan ağ uygulamalarını alt katmanlardaki fiziksel yapılardan adresleme biçimlerinden soyut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3E63-11FE-4588-81C5-998D59CD727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Şekilde görüldüğü gibi internetin sanal bir ağ sistemi olduğu söylenebil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619280" y="3284640"/>
            <a:ext cx="5904000" cy="2808000"/>
            <a:chOff x="1619280" y="3284640"/>
            <a:chExt cx="5904000" cy="2808000"/>
          </a:xfrm>
        </p:grpSpPr>
        <p:graphicFrame>
          <p:nvGraphicFramePr>
            <p:cNvPr id="258" name="Object 5"/>
            <p:cNvGraphicFramePr/>
            <p:nvPr/>
          </p:nvGraphicFramePr>
          <p:xfrm>
            <a:off x="2537640" y="3953160"/>
            <a:ext cx="3673440" cy="192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7640" y="3953160"/>
                      <a:ext cx="3673440" cy="19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Rectangle 6"/>
            <p:cNvSpPr/>
            <p:nvPr/>
          </p:nvSpPr>
          <p:spPr>
            <a:xfrm>
              <a:off x="1619280" y="582552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 flipV="1">
              <a:off x="1881360" y="5424480"/>
              <a:ext cx="78696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7129440" y="5700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7260840" y="4755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342480" y="355176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374360" y="3284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800080" y="341820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1619280" y="4220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1881360" y="4354560"/>
              <a:ext cx="78696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3062160" y="3551760"/>
              <a:ext cx="39348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4505400" y="35517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H="1">
              <a:off x="5817600" y="3819600"/>
              <a:ext cx="6559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 flipH="1">
              <a:off x="6080040" y="488952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 flipH="1" flipV="1">
              <a:off x="5554800" y="5424480"/>
              <a:ext cx="157428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AF6A-6568-419F-8544-338F338CA09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görünümün altında yatan fiziksel yapı. Her bilgisayar kendi ağına bağlı ve ağlar arası bağlantı router’lar vasıtası ile yapılmış durum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1403280" y="2781360"/>
            <a:ext cx="6192720" cy="3743280"/>
            <a:chOff x="1403280" y="2781360"/>
            <a:chExt cx="6192720" cy="3743280"/>
          </a:xfrm>
        </p:grpSpPr>
        <p:graphicFrame>
          <p:nvGraphicFramePr>
            <p:cNvPr id="278" name="Object 5"/>
            <p:cNvGraphicFramePr/>
            <p:nvPr/>
          </p:nvGraphicFramePr>
          <p:xfrm>
            <a:off x="2091240" y="3280320"/>
            <a:ext cx="4949640" cy="301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1240" y="3280320"/>
                      <a:ext cx="4949640" cy="30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Rectangle 6"/>
            <p:cNvSpPr/>
            <p:nvPr/>
          </p:nvSpPr>
          <p:spPr>
            <a:xfrm>
              <a:off x="6357600" y="290592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732096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718344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4155480" y="27813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2366280" y="303084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>
              <a:off x="140328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154080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430880" y="397368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5054760" y="45169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4293360" y="44035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293360" y="497196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1815840" y="515196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1678320" y="4029120"/>
              <a:ext cx="11008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2641680" y="3280320"/>
              <a:ext cx="5504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20"/>
            <p:cNvSpPr/>
            <p:nvPr/>
          </p:nvSpPr>
          <p:spPr>
            <a:xfrm flipH="1">
              <a:off x="3880080" y="3030840"/>
              <a:ext cx="41292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 flipH="1">
              <a:off x="5806800" y="3155400"/>
              <a:ext cx="6879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>
              <a:off x="6082200" y="402912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H="1" flipV="1">
              <a:off x="5669280" y="5151960"/>
              <a:ext cx="15138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41554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25"/>
            <p:cNvSpPr/>
            <p:nvPr/>
          </p:nvSpPr>
          <p:spPr>
            <a:xfrm>
              <a:off x="44308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 flipV="1">
              <a:off x="5118840" y="465300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5118840" y="439236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28"/>
            <p:cNvSpPr/>
            <p:nvPr/>
          </p:nvSpPr>
          <p:spPr>
            <a:xfrm flipV="1">
              <a:off x="3742920" y="4527720"/>
              <a:ext cx="55044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 flipV="1">
              <a:off x="4430880" y="4278600"/>
              <a:ext cx="55044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155480" y="402912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4568400" y="40291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319212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33"/>
            <p:cNvSpPr/>
            <p:nvPr/>
          </p:nvSpPr>
          <p:spPr>
            <a:xfrm>
              <a:off x="3192120" y="402912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84380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5118840" y="390420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36"/>
            <p:cNvSpPr/>
            <p:nvPr/>
          </p:nvSpPr>
          <p:spPr>
            <a:xfrm flipV="1">
              <a:off x="4369680" y="5104800"/>
              <a:ext cx="0" cy="49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4155480" y="565128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 flipV="1">
              <a:off x="3329640" y="5401800"/>
              <a:ext cx="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9"/>
            <p:cNvSpPr/>
            <p:nvPr/>
          </p:nvSpPr>
          <p:spPr>
            <a:xfrm>
              <a:off x="2917080" y="627516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Fiziksel ağ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25E1-0817-45BF-811D-B4A8506BC2A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nternetlerde kullanılmak üzere birçok protokol yazılımı geliştirilmiş olmasına rağmen, bunlardan bir tanesi internetworking için en çok kullanılan protokol olarak karşımıza çık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protokol yazılımı resmi adıyla T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CP/IP Internet Protokolleridi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oğu ağ uzmanı kişi tarafından bu isim kısaca TCP/IP olarak kullanıl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8485-7A18-4F22-A74B-ACC69242FF5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CP/IP bir internette kullanılmak için ilk geliştirilen protokoldü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iştirilmesine 1970’li yıllarda başlanmışt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n Savunma Bakanlığının desteği ile geliştirilen proje 1980’li yıllarda birçok kuruluş tarafından desteklenir hale gelmiş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8BF3-0C7C-4CF4-AFAD-9E10FDCF8C2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Çapra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Crossover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27417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B&lt;-&gt;568A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cross"/>
          <p:cNvPicPr/>
          <p:nvPr/>
        </p:nvPicPr>
        <p:blipFill>
          <a:blip r:embed="rId1"/>
          <a:stretch/>
        </p:blipFill>
        <p:spPr>
          <a:xfrm>
            <a:off x="3635280" y="2060640"/>
            <a:ext cx="5113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979-9D33-4BF6-AEED-9AD3F8E3AD6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J45 conn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rj45"/>
          <p:cNvPicPr/>
          <p:nvPr/>
        </p:nvPicPr>
        <p:blipFill>
          <a:blip r:embed="rId1"/>
          <a:stretch/>
        </p:blipFill>
        <p:spPr>
          <a:xfrm>
            <a:off x="1547640" y="1979640"/>
            <a:ext cx="6301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74C9-D5F2-43D9-A2A7-2D77EB4EB15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raç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TP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5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/6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J45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soyuc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 ke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 pens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crimper"/>
          <p:cNvPicPr/>
          <p:nvPr/>
        </p:nvPicPr>
        <p:blipFill>
          <a:blip r:embed="rId1"/>
          <a:stretch/>
        </p:blipFill>
        <p:spPr>
          <a:xfrm>
            <a:off x="4500720" y="19162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DADA-4279-4DF1-9C08-BBAD4846F01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dım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ucunu soy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rılı çiftleri çö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a di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konnektöre so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özle k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DC5B-6057-4908-BFEC-7D4E58154FD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ucunu soy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351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dış yalıtım kısmın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ma esnasında içerideki tellerin dışındaki yalıtım kesilmemesine dikkat ed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step1"/>
          <p:cNvPicPr/>
          <p:nvPr/>
        </p:nvPicPr>
        <p:blipFill>
          <a:blip r:embed="rId1"/>
          <a:stretch/>
        </p:blipFill>
        <p:spPr>
          <a:xfrm>
            <a:off x="914400" y="3357720"/>
            <a:ext cx="70102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55:06Z</dcterms:created>
  <dc:creator>göksu</dc:creator>
  <dc:description/>
  <dc:language>en-US</dc:language>
  <cp:lastModifiedBy>Bilal</cp:lastModifiedBy>
  <dcterms:modified xsi:type="dcterms:W3CDTF">2012-11-27T15:56:36Z</dcterms:modified>
  <cp:revision>16</cp:revision>
  <dc:subject/>
  <dc:title>Yapısal Kablolama</dc:title>
</cp:coreProperties>
</file>