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4F9-27F8-496E-B9D3-3A0D51A9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3CD-FFAC-40AF-B19B-1B970CA0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EC3-6ACE-4697-8AEB-1180A7D7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03D-4D3A-462D-89D7-C23319F0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73AB-8406-4D3E-8C1E-E20685D6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EB56-587E-49BA-9662-16DA9A01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7CFC-267F-4341-A6A0-92D9D6B4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5794-5015-4AF5-83B0-3A028EB8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AF9B-0D59-474E-9505-0B6062BF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82D6-23B2-4172-97B5-C5C82D88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EAB4-6C2A-4347-9278-6657B32B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6A8-07E7-421D-983C-0D75B9ED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75A9-369D-4EF6-B1B3-535A3223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BACB-5AAF-456A-93E2-B19E5035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D998-7553-41C9-8188-8BB2C910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30BE-57A4-4D26-81EF-45E883F3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F6D9-3AEB-40A7-9727-DDF5C0DE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3FC-60E4-424B-A410-9E62682C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50A-D2D8-4516-9FDB-B576429D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589-9B93-40C3-BAA8-19978DE1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065-869A-4EF1-9818-C5A14F4E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82C-14DA-4149-864D-F8E622DC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E02-0BB9-4DF9-8EED-DBACD747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43C-AF00-4921-9598-0DAC114A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F17E-6F1B-41A0-97B3-DB7CCF7F075E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8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3EDE-A3A5-485F-938D-B9E68F817B27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06633"/>
                </a:solidFill>
                <a:latin typeface="Garamond"/>
              </a:rPr>
              <a:t>Alt Ağlar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 Maskes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lt Ağ Maskesi bir IP adresinin hangi bitlerinin ağ adresine ait bitler hangi bitlerinin host adresine ait bitler olduğunun anlaşılması için var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lt ağ maskesindeki 1’ler IP adresinin ağ adresi kısmını, 0’lar ise IP adresinin host adresi kısmını göster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Örneğin C sınıfı bir IP adresinin varsayılan maskesinde 24 tane bir 8 tane 0 var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 Maskesi Tablos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subnetting_c"/>
          <p:cNvPicPr/>
          <p:nvPr/>
        </p:nvPicPr>
        <p:blipFill>
          <a:blip r:embed="rId1"/>
          <a:stretch/>
        </p:blipFill>
        <p:spPr>
          <a:xfrm>
            <a:off x="1984320" y="1052640"/>
            <a:ext cx="4935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ğ Adresini Hesapl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IP Adresi 10.20.237.15 ve Alt Ağ Maskesi 255.255.248.0 olan bilgisayarın Ağ Adresi nasıl bulunu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ubnetting_d"/>
          <p:cNvPicPr/>
          <p:nvPr/>
        </p:nvPicPr>
        <p:blipFill>
          <a:blip r:embed="rId1"/>
          <a:stretch/>
        </p:blipFill>
        <p:spPr>
          <a:xfrm>
            <a:off x="1332000" y="3141720"/>
            <a:ext cx="6553080" cy="113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ubnetting_e"/>
          <p:cNvPicPr/>
          <p:nvPr/>
        </p:nvPicPr>
        <p:blipFill>
          <a:blip r:embed="rId2"/>
          <a:stretch/>
        </p:blipFill>
        <p:spPr>
          <a:xfrm>
            <a:off x="1332000" y="4508640"/>
            <a:ext cx="6553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daki Host Sayısı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Önceki örnekte maskede 11 adet sıfır bulunduğu için her ağdaki host sayısı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2^11 = 2048 olarak bulun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ost sayısını bulmada genel formül 2^n dir. Buradaki n maskedeki 0’ların sayı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Broadcast Adresini Hesapl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64352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Maskedeki sıfırlarla eşleşen IP adresi bitlerinin tamamı 1 yapılarak broadcast adresi hesaplan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852640"/>
          <a:ext cx="7499520" cy="1838520"/>
        </p:xfrm>
        <a:graphic>
          <a:graphicData uri="http://schemas.openxmlformats.org/drawingml/2006/table">
            <a:tbl>
              <a:tblPr/>
              <a:tblGrid>
                <a:gridCol w="1874880"/>
                <a:gridCol w="1876320"/>
                <a:gridCol w="1874880"/>
                <a:gridCol w="1873440"/>
              </a:tblGrid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01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74"/>
          <p:cNvSpPr/>
          <p:nvPr/>
        </p:nvSpPr>
        <p:spPr>
          <a:xfrm>
            <a:off x="5911920" y="2506680"/>
            <a:ext cx="2736720" cy="18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9:43:26Z</dcterms:created>
  <dc:creator>Mithat Şimşek</dc:creator>
  <dc:description/>
  <dc:language>en-US</dc:language>
  <cp:lastModifiedBy>Bilal</cp:lastModifiedBy>
  <dcterms:modified xsi:type="dcterms:W3CDTF">2012-11-27T15:56:12Z</dcterms:modified>
  <cp:revision>4</cp:revision>
  <dc:subject/>
  <dc:title>Alt Ağlar</dc:title>
</cp:coreProperties>
</file>