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34F-2EDA-4DF7-9A6D-0A3D1E48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9CC-4D40-4CAA-B031-21B8BF4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4D6-7B1C-4BFB-97F2-46C6BC1F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48F-755E-4356-A278-C8B8B6DF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0349-FDAF-42E8-9D0B-8FBD71D7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E4D7-42C5-455D-94CF-B6E60C8D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E7C-87CC-4C98-8255-2779A276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D7F4-098D-4834-8EDB-A85A676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EAA4-0D45-472F-9E0F-33B006F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D1B2-43C3-4D90-988B-8E52368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BA1-C084-4404-8718-4916334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4F1-8041-47F3-9B63-F49CD0A0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B47C-A227-4127-9D03-07686C0B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10B1-FB3C-44BE-B0A9-CFCA3FE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DAB7-08F5-44C8-86F6-FB295EA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292C-1A56-4EA1-BF8C-C69BAD04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A6C6-B154-4564-891F-D19C08CB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5D6-2846-4856-80DC-D9C13787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E9E-67E3-4B07-BD82-FB2F447B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21C-5CF5-469A-AF37-2D11379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7A9-2975-4D94-89A3-EB4B3EC5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687-81E2-424F-9A90-09F76CC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8AD-70B9-4434-8715-1CE0E99D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81C-8C31-40CD-BB06-E818C7A8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98CB-0CEA-4B7B-A670-AB9E110FD7E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2978-B210-4A9A-9129-165F27ADFE7F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B291-3DAF-454F-9EF0-6406E4ED26A0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Düz/Çapraz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9925-2CF1-4944-ABD6-C8CC559F7D3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arılı çiftleri çöz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çözerek renk sırasına diz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step2"/>
          <p:cNvPicPr/>
          <p:nvPr/>
        </p:nvPicPr>
        <p:blipFill>
          <a:blip r:embed="rId1"/>
          <a:stretch/>
        </p:blipFill>
        <p:spPr>
          <a:xfrm>
            <a:off x="1447920" y="2743200"/>
            <a:ext cx="6095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FDC-6599-48A2-BC4E-5665B7E9A79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3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renk sırasına diz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A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B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step3"/>
          <p:cNvPicPr/>
          <p:nvPr/>
        </p:nvPicPr>
        <p:blipFill>
          <a:blip r:embed="rId1"/>
          <a:stretch/>
        </p:blipFill>
        <p:spPr>
          <a:xfrm>
            <a:off x="2195640" y="3284640"/>
            <a:ext cx="4876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851-4ACC-40E5-961D-CCF9130E44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4. Adı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llerin uçlarını aynı hizaya getir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klaşı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½”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unluğunda soyulmuş kısım bırakı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step4"/>
          <p:cNvPicPr/>
          <p:nvPr/>
        </p:nvPicPr>
        <p:blipFill>
          <a:blip r:embed="rId1"/>
          <a:stretch/>
        </p:blipFill>
        <p:spPr>
          <a:xfrm>
            <a:off x="1547640" y="2781360"/>
            <a:ext cx="6400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061F-1404-4967-90D3-99806E35A44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5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konnektöre sok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ı bozmadan konnektöre sok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daki şekilde sol üst 1 numar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step5"/>
          <p:cNvPicPr/>
          <p:nvPr/>
        </p:nvPicPr>
        <p:blipFill>
          <a:blip r:embed="rId1"/>
          <a:stretch/>
        </p:blipFill>
        <p:spPr>
          <a:xfrm>
            <a:off x="5105520" y="1600200"/>
            <a:ext cx="2516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045-7EA0-4CED-9647-061CEC23C6E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6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özle k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675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teller könnektörün sonuna değiyor m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lıtım plastiği şekilde görüldüğü gibi içeri girdi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tep6"/>
          <p:cNvPicPr/>
          <p:nvPr/>
        </p:nvPicPr>
        <p:blipFill>
          <a:blip r:embed="rId1"/>
          <a:stretch/>
        </p:blipFill>
        <p:spPr>
          <a:xfrm>
            <a:off x="900000" y="3141720"/>
            <a:ext cx="746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6B28-99A6-4D8E-BC7D-F0DE22C36B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ık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281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ü sıkma pensesin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P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içine yerleş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ittirirken penseyi sıkıca sıkı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rimp-1"/>
          <p:cNvPicPr/>
          <p:nvPr/>
        </p:nvPicPr>
        <p:blipFill>
          <a:blip r:embed="rId1"/>
          <a:stretch/>
        </p:blipFill>
        <p:spPr>
          <a:xfrm>
            <a:off x="1254240" y="347040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rimp-2"/>
          <p:cNvPicPr/>
          <p:nvPr/>
        </p:nvPicPr>
        <p:blipFill>
          <a:blip r:embed="rId2"/>
          <a:stretch/>
        </p:blipFill>
        <p:spPr>
          <a:xfrm>
            <a:off x="5356080" y="4038480"/>
            <a:ext cx="323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253-52DC-45ED-848A-0B5A7E9F382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8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çalışıyor m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tep8"/>
          <p:cNvPicPr/>
          <p:nvPr/>
        </p:nvPicPr>
        <p:blipFill>
          <a:blip r:embed="rId1"/>
          <a:stretch/>
        </p:blipFill>
        <p:spPr>
          <a:xfrm>
            <a:off x="1398600" y="3043080"/>
            <a:ext cx="7485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B33-855B-44DA-A208-629B18FC37E1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apısal Kablol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0FF9-AD3E-42F0-8740-12EE7BBDF6D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İÇERİ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sal Kablolama Standart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Kablo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uvar Priz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tch Pan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Kanal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ine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iketleme-Dokümantasy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 Öner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96F5-DC52-444F-A060-6498BA376FF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DATA KABLOLAMA STANDART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A /EIA 5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Uluslarar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SO /IEC – 11801 ISO /IEC – 118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vrupa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N 50173 EN 501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15CE-74AC-4E1D-805B-4C5DA24F843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Bağlantı Kur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cable-use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B6F-074B-4BF0-B3BB-E5F6F22FFC8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Yapısal Kablolama Genel Yapısal Kablolama Genel Görünü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50CA-8AF6-408F-9C79-EA6D9B8808E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ata Kablo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5-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7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C835-7B97-4D08-9893-8F35F3E9215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AT6 Kablo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yırıcı parça ile kablo çiftlerinin birbiri ile etkileşimi en az seviyeye düşürülmüştü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7610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CECA-526E-48FC-B24A-FC55A8FF9BA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uvar Priz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leşen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va Üstü – Sıva Alt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aklı-Kapaksız, Açıl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lama, 50 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/B Renk K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rün Kalit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çilik 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da İçi Y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8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62C-0001-4EBE-A267-AAF487F593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5" descr="PL13 24 PORT, RJ45, CAT. 6 110 Punch Down Patch Panels"/>
          <p:cNvPicPr/>
          <p:nvPr/>
        </p:nvPicPr>
        <p:blipFill>
          <a:blip r:embed="rId1"/>
          <a:stretch/>
        </p:blipFill>
        <p:spPr>
          <a:xfrm>
            <a:off x="684360" y="2349360"/>
            <a:ext cx="4751280" cy="3508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at6%2096%20port%20patch%20panel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2E53-685D-47BC-B6CE-117FED348CD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pp-19-16-s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390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kppc48"/>
          <p:cNvPicPr/>
          <p:nvPr/>
        </p:nvPicPr>
        <p:blipFill>
          <a:blip r:embed="rId2"/>
          <a:stretch/>
        </p:blipFill>
        <p:spPr>
          <a:xfrm>
            <a:off x="5148360" y="5157720"/>
            <a:ext cx="3809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DF0C-22D9-4E9D-8F68-6AD5B9D3E67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5" descr="voiceppback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1(01B-2)"/>
          <p:cNvPicPr/>
          <p:nvPr/>
        </p:nvPicPr>
        <p:blipFill>
          <a:blip r:embed="rId2"/>
          <a:stretch/>
        </p:blipFill>
        <p:spPr>
          <a:xfrm>
            <a:off x="5292720" y="2133720"/>
            <a:ext cx="36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FAF0-F626-4022-A8BE-A9BC6B9683E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5" descr="backofpanelcloseup"/>
          <p:cNvPicPr/>
          <p:nvPr/>
        </p:nvPicPr>
        <p:blipFill>
          <a:blip r:embed="rId1"/>
          <a:stretch/>
        </p:blipFill>
        <p:spPr>
          <a:xfrm>
            <a:off x="1182600" y="2279520"/>
            <a:ext cx="3810240" cy="358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KRONE"/>
          <p:cNvPicPr/>
          <p:nvPr/>
        </p:nvPicPr>
        <p:blipFill>
          <a:blip r:embed="rId2"/>
          <a:stretch/>
        </p:blipFill>
        <p:spPr>
          <a:xfrm>
            <a:off x="5284800" y="3021120"/>
            <a:ext cx="353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D47-5957-44D9-8136-BEBBBE58C6E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Kan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38102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çüler, Bölmeli-Bölmes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önüş-Ekleme Parça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var Geçiş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praz Vidalama, Kablo Bağ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vama, Onar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van Kanalları, Kablo Tutu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koratif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m Kapalılık, Diğer Kablolar, Elektr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nal İçi Boşl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11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A2B4-EDF7-4124-ABDC-1E545AFCE86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ine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8102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lçüler: 19’’ , U , (450,600,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 ve Duvar Ti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lit, Ön ve Yan Kapa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ck Demirleri Har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mostat, Fan ve Sessiz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inet İçi Elektrik Düz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 Organizasy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lara Toplu P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44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2B5-818C-41BF-9C1A-415991AF56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Bilgisayar Arası Çapraz (Cross) Bağlant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030804figure3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AC9-3CB4-4D96-98FC-14E13B619D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iketleme - Dokümantasy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tiketleme Malzeme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ihaz ve Fiş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izim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otoğraf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BC18-3004-4632-BCD0-5458291ED50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Çizi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0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84E0-9B5B-430B-A673-D09A8AE90F8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Öner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Merkezde Top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90 + 10 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GK Deste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edek Malzeme Bulundu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tch Kablo Sayı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umun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(3 + 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6234-CA72-4AC3-9D95-2F8DBFEA493E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NTER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C7C-E9CD-4911-AF79-73796F3DD40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(Umumi)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çok faklı ağın temel problemi aşikard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ağın üyesi olan bir bilgisayar yalnızca kendisi ile aynı ağa bağlı olan bilgisayarl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laşan bilgisayar ağları farklı ağlardaki bilgisayarların birbirleri ile haberleşmesi ihtiyacını doğur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maçla yapılan çalışmalara genel manâda üniversal servis oluşturma denild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7D7-FB16-4866-B2F1-6A793A2B71F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kavramı internetworking’in te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oluşturma çalışmaları neticesinde birbirlerinden farklı ağları birbirlerine bağlamak işlemi internetworking olarak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birlerine bağlanmış faklı ağlardan oluşan nihai sistem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work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veya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iye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nya üzerinde birçok faklı internet mevcuttur; birkaç ağ içereninden binlerce ağ içeren internetlere kad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46F-99F1-40E6-BFED-08FE926B4DE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Router’ları Kullanarak Ağların Fiziksel Bağlantısını Gerçekleştir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terojen ağları birbirlerine fiziksel  olarak bağlamak için kullanılan temel cihaz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’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ziksel olarak router’lar bridge’lere benzerler. İki ağı birbirlerine bağla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lar bridge’lerden farklı olarak iki veya daha fazla farklı ağı birbirine bağlar. Bridge ise aynı türden ağları birbirine bağlay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AB4-6E65-4CAD-A693-EE71152A130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 ağları birbirlerine bağlamak üzere üretilmiş özel amaçlı bir bilgisay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endi CPU’su RAM’i ve birbirlerine bağlayacağı her ağ için bir giriş/çıkış arayüzü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daki bilgisayarlar router’ın varlığından haberdar olmak zorundadı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a bağlantıları diğer herhangi bir bilgisayara olduğu gibi gerçekleş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5AC-F124-49B4-92E0-3741A86725E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fiziksel ağın router ile birbirlerine bağlan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in her iki ağa da bağlanmak için iki ayrı ağ arayüz donanımı mevcut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lar faklı veri iletim ortamı kullanan, farklı fiziksel adres biçimlerine sahip olan ve farklı frame formatları bulunan birden fazla ağı birbirlerine bağlamak için kullanılır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763640" y="4221000"/>
            <a:ext cx="5832360" cy="1871640"/>
            <a:chOff x="1763640" y="4221000"/>
            <a:chExt cx="5832360" cy="1871640"/>
          </a:xfrm>
        </p:grpSpPr>
        <p:graphicFrame>
          <p:nvGraphicFramePr>
            <p:cNvPr id="239" name="Object 5"/>
            <p:cNvGraphicFramePr/>
            <p:nvPr/>
          </p:nvGraphicFramePr>
          <p:xfrm>
            <a:off x="1763640" y="4221000"/>
            <a:ext cx="2243160" cy="18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5352840" y="4221000"/>
            <a:ext cx="2243160" cy="18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28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7"/>
            <p:cNvSpPr/>
            <p:nvPr/>
          </p:nvSpPr>
          <p:spPr>
            <a:xfrm>
              <a:off x="4455360" y="4776840"/>
              <a:ext cx="44856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3966840" y="5172120"/>
              <a:ext cx="4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04280" y="514800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Line 10"/>
          <p:cNvSpPr/>
          <p:nvPr/>
        </p:nvSpPr>
        <p:spPr>
          <a:xfrm flipV="1">
            <a:off x="3635280" y="566064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592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093D-6CEB-443D-B0AA-39BC0C5193E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working’in amacı heterojen ağlar arasında üniversal servis sağlam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’teki bütün bilgisayarlar arasında üniversal servisi sağlamak için router’lar, bir ağdaki bir bilgisayardan iletilen bir bilgiyi diğer bir ağdaki hedef bilgisayara ulaştırabilmek için, aralarında aldıkları bilgileri iletmek üzere anlaşmış olmalı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tice olarak, universal servisin sağlanabilmesi için bütün router’lar ve bilgisayarlar üzerinde çalışan ortak bir protokol yazılımı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rotokol yazılımlarına genel olarak internet yazılımı veya protokolü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34D8-6292-42CB-B720-056A22214FF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Dü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Straight-Through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&lt;-&gt;568A veya 568B&lt;-&gt;568B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ethcable568a"/>
          <p:cNvPicPr/>
          <p:nvPr/>
        </p:nvPicPr>
        <p:blipFill>
          <a:blip r:embed="rId1"/>
          <a:stretch/>
        </p:blipFill>
        <p:spPr>
          <a:xfrm>
            <a:off x="179280" y="2924280"/>
            <a:ext cx="420552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thcable568b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93D6-F473-4D20-9937-D4904FC1A85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, ağa bağlı bilgisayar veya kullanıcı tarafından görülen yönü ile birçok bilgisayarın bağlı olduğu tek bir ağ görünümü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e bağlı olan her bir bilgisayarın bir adresi vardır ve hangi ağa bağlı olduğu fark etmeksizin internete bağlı diğer bir ağdaki herhangi bir bilgisay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 kullanıcıları ve bilgisayarda çalışan ağ uygulamalarını alt katmanlardaki fiziksel yapılardan adresleme biçimlerinden soyut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B6BB-47DB-42E7-947F-7C71DB36496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ekilde görüldüğü gibi internetin sanal bir ağ sistemi olduğu söylenebil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619280" y="3284640"/>
            <a:ext cx="5904000" cy="2808000"/>
            <a:chOff x="1619280" y="3284640"/>
            <a:chExt cx="5904000" cy="2808000"/>
          </a:xfrm>
        </p:grpSpPr>
        <p:graphicFrame>
          <p:nvGraphicFramePr>
            <p:cNvPr id="258" name="Object 5"/>
            <p:cNvGraphicFramePr/>
            <p:nvPr/>
          </p:nvGraphicFramePr>
          <p:xfrm>
            <a:off x="2537640" y="3953160"/>
            <a:ext cx="3673440" cy="192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7640" y="3953160"/>
                      <a:ext cx="3673440" cy="19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Rectangle 6"/>
            <p:cNvSpPr/>
            <p:nvPr/>
          </p:nvSpPr>
          <p:spPr>
            <a:xfrm>
              <a:off x="1619280" y="582552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V="1">
              <a:off x="1881360" y="5424480"/>
              <a:ext cx="78696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7129440" y="5700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7260840" y="4755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342480" y="355176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374360" y="3284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800080" y="341820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1619280" y="4220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881360" y="4354560"/>
              <a:ext cx="78696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3062160" y="3551760"/>
              <a:ext cx="3934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4505400" y="35517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H="1">
              <a:off x="5817600" y="3819600"/>
              <a:ext cx="6559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 flipH="1">
              <a:off x="6080040" y="48895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H="1" flipV="1">
              <a:off x="5554800" y="5424480"/>
              <a:ext cx="157428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1371-66CC-4CBA-868B-FBA08C9CC37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görünümün altında yatan fiziksel yapı. Her bilgisayar kendi ağına bağlı ve ağlar arası bağlantı router’lar vasıtası ile yapılmış durum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403280" y="2781360"/>
            <a:ext cx="6192720" cy="3743280"/>
            <a:chOff x="1403280" y="2781360"/>
            <a:chExt cx="6192720" cy="3743280"/>
          </a:xfrm>
        </p:grpSpPr>
        <p:graphicFrame>
          <p:nvGraphicFramePr>
            <p:cNvPr id="278" name="Object 5"/>
            <p:cNvGraphicFramePr/>
            <p:nvPr/>
          </p:nvGraphicFramePr>
          <p:xfrm>
            <a:off x="2091240" y="3280320"/>
            <a:ext cx="4949640" cy="30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1240" y="3280320"/>
                      <a:ext cx="4949640" cy="30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Rectangle 6"/>
            <p:cNvSpPr/>
            <p:nvPr/>
          </p:nvSpPr>
          <p:spPr>
            <a:xfrm>
              <a:off x="6357600" y="290592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732096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718344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155480" y="27813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2366280" y="303084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140328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154080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430880" y="397368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054760" y="45169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4293360" y="44035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293360" y="497196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1815840" y="515196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1678320" y="4029120"/>
              <a:ext cx="11008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641680" y="3280320"/>
              <a:ext cx="5504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 flipH="1">
              <a:off x="3880080" y="3030840"/>
              <a:ext cx="41292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5806800" y="3155400"/>
              <a:ext cx="687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>
              <a:off x="6082200" y="402912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 flipV="1">
              <a:off x="5669280" y="5151960"/>
              <a:ext cx="15138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41554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25"/>
            <p:cNvSpPr/>
            <p:nvPr/>
          </p:nvSpPr>
          <p:spPr>
            <a:xfrm>
              <a:off x="44308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 flipV="1">
              <a:off x="5118840" y="465300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5118840" y="439236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28"/>
            <p:cNvSpPr/>
            <p:nvPr/>
          </p:nvSpPr>
          <p:spPr>
            <a:xfrm flipV="1">
              <a:off x="3742920" y="4527720"/>
              <a:ext cx="5504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4430880" y="4278600"/>
              <a:ext cx="55044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155480" y="40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4568400" y="4029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319212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3192120" y="402912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84380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5118840" y="390420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 flipV="1">
              <a:off x="4369680" y="5104800"/>
              <a:ext cx="0" cy="49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4155480" y="565128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V="1">
              <a:off x="3329640" y="5401800"/>
              <a:ext cx="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2917080" y="627516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Fiziksel ağ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F7F-013E-4E1B-95A8-D84281008CD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netlerde kullanılmak üzere birçok protokol yazılımı geliştirilmiş olmasına rağmen, bunlardan bir tanesi internetworking için en çok kullanılan protokol olarak karşımıza çık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protokol yazılımı resmi adıyla T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CP/IP Internet Protokollerid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ğu ağ uzmanı kişi tarafından bu isim kısaca TCP/IP olarak kullanıl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625-DA1A-45E6-9C5F-2BA67196F41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CP/IP bir internette kullanılmak için ilk geliştirilen protokoldü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iştirilmesine 1970’li yıllarda başlanmışt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n Savunma Bakanlığının desteği ile geliştirilen proje 1980’li yıllarda birçok kuruluş tarafından desteklenir hale gelmiş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9E93-083E-45F0-A128-55C8A51F2FA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Çapra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Crossover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7417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B&lt;-&gt;568A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cross"/>
          <p:cNvPicPr/>
          <p:nvPr/>
        </p:nvPicPr>
        <p:blipFill>
          <a:blip r:embed="rId1"/>
          <a:stretch/>
        </p:blipFill>
        <p:spPr>
          <a:xfrm>
            <a:off x="3635280" y="206064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42DD-5364-4374-873C-877235BE7E5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J45 conn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rj45"/>
          <p:cNvPicPr/>
          <p:nvPr/>
        </p:nvPicPr>
        <p:blipFill>
          <a:blip r:embed="rId1"/>
          <a:stretch/>
        </p:blipFill>
        <p:spPr>
          <a:xfrm>
            <a:off x="1547640" y="1979640"/>
            <a:ext cx="6301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84B3-E132-495E-A013-5C6D0D57AFE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raç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TP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5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/6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45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soyu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 ke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 pens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crimper"/>
          <p:cNvPicPr/>
          <p:nvPr/>
        </p:nvPicPr>
        <p:blipFill>
          <a:blip r:embed="rId1"/>
          <a:stretch/>
        </p:blipFill>
        <p:spPr>
          <a:xfrm>
            <a:off x="4500720" y="19162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488-4F90-4C75-9DCF-08F43A18588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dım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ucunu soy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rılı çiftleri çö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a di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konnektöre so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özle k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8D44-2E7D-4F87-8A02-C85DCB40D45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ucunu soy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351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dış yalıtım kısmın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ma esnasında içerideki tellerin dışındaki yalıtım kesilmemesine dikkat ed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step1"/>
          <p:cNvPicPr/>
          <p:nvPr/>
        </p:nvPicPr>
        <p:blipFill>
          <a:blip r:embed="rId1"/>
          <a:stretch/>
        </p:blipFill>
        <p:spPr>
          <a:xfrm>
            <a:off x="914400" y="3357720"/>
            <a:ext cx="7010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55:06Z</dcterms:created>
  <dc:creator>göksu</dc:creator>
  <dc:description/>
  <dc:language>en-US</dc:language>
  <cp:lastModifiedBy>Bilal</cp:lastModifiedBy>
  <dcterms:modified xsi:type="dcterms:W3CDTF">2012-11-27T15:56:36Z</dcterms:modified>
  <cp:revision>16</cp:revision>
  <dc:subject/>
  <dc:title>Yapısal Kablolama</dc:title>
</cp:coreProperties>
</file>