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041-EC0A-4C14-A084-9AF83B61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8A3-D2EC-440F-AFA0-6AB261F6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87A-5690-4DE4-A00D-CE6BBE65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5ED-6FE8-4BA9-84D4-7BE66F37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C71A-6ECA-49BC-B35D-AAA0C834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DBCB-F81A-49DE-B2B4-EDFCFF38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7DAE-FDB8-43A6-9EED-6205FAD6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285A-75B3-4EEE-924B-F3C4FB26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4857-1FEB-4E2E-AEA3-1DB60AF2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CD2E-BE9C-4230-B91C-8C1FD270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3EBD-7D7D-4612-A337-2AB80763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771-99AD-4FC4-8959-E1B55C01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0819-3A2E-42F7-AF81-65AF18E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AE6E-84C9-4782-A5A6-50C0642D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96D9-E560-47F8-994B-03B340A9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0C16-7F78-4E10-A6B8-0F8DA0E8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5E00-F631-48C1-B8CF-D5B1E14B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CD7-4029-4276-8511-766345C5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E1E-B908-41B2-92DB-EFBF9772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C49-8C36-45B9-B989-D78AE353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82D-A8C8-4B9D-9E95-4346D0AE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355-0511-4E26-BE84-21BEB13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0D8-70C3-42D2-B840-01D6D82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033-AAAB-4BBD-BAE6-64B589E2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8CBC-3834-475C-A1F5-ECA79509EE9F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5234-9C1E-407D-ABA0-636B78F7B75E}" type="slidenum">
              <a:rPr b="0" lang="tr-T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42920" y="213012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FDDI 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(Fiber Distrubuted Data Interfac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MAN protokolüdü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ğda genel olarak 100 Mbps'da ve 500 terminali destekl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812000" y="6165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Çarpışma (Collision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2316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IBM tarafından geliştirilmişt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Mantıksal olarak bir daire şeklinde tüm düğümlerin birbirine bağlanması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RING"/>
          <p:cNvPicPr/>
          <p:nvPr/>
        </p:nvPicPr>
        <p:blipFill>
          <a:blip r:embed="rId1"/>
          <a:stretch/>
        </p:blipFill>
        <p:spPr>
          <a:xfrm>
            <a:off x="1836720" y="2832120"/>
            <a:ext cx="4680000" cy="3416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Halka(Token Ring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900" spc="-1" strike="noStrike">
                <a:solidFill>
                  <a:srgbClr val="000000"/>
                </a:solidFill>
                <a:latin typeface="Arial"/>
              </a:rPr>
              <a:t>Token (Jeton) (3 byte’lık) bu düğümler arasında dolaşan bilgidi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r"/>
          <p:cNvPicPr/>
          <p:nvPr/>
        </p:nvPicPr>
        <p:blipFill>
          <a:blip r:embed="rId1"/>
          <a:stretch/>
        </p:blipFill>
        <p:spPr>
          <a:xfrm>
            <a:off x="1908000" y="2205000"/>
            <a:ext cx="5472360" cy="3379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908000" y="0"/>
            <a:ext cx="5670720" cy="663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0000"/>
                </a:solidFill>
                <a:latin typeface="Arial"/>
              </a:rPr>
              <a:t>Halka Topoloj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içersindeki bir bilgisayar bozulursa tüm ağ bağlantısı kesil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Çarpışma olasılığı düşük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Şu anda halka topolojilerde UTP, STP kablo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lk halka topolojiler; 4 Mbps (CAT3 UTP), daha sonra 16 Mbps(CAT4 ve üstü veya STP Tip 4) çalış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lka topolojiye uygun ethernet kartları; 4 veya 16 Mbps’da çalış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ring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80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tar-wired ring’de denilebi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erleşim fiziksel olarak yıldız olarak görünür ancak mantıksal olarak jetonlar dairesel olarak ağda iler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Yıldız topolojisindeki Hub yerine burada MAU (Multistation Access Unit) veya MSAU (Multistation Access Unit) kullanılı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u MAU’da veriler dairesel olarak gi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Hub kendisine gelen bütün sinyalleri tüm düğümlere iletirken MAU gelen sinyali bir halka şeklinde sadece bir yönde ilet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öylece ağdaki tüm düğümler jetonu a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[star-wired ring topology image]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FIG7-10"/>
          <p:cNvPicPr/>
          <p:nvPr/>
        </p:nvPicPr>
        <p:blipFill>
          <a:blip r:embed="rId1"/>
          <a:srcRect l="21565" t="21127" r="0" b="22539"/>
          <a:stretch/>
        </p:blipFill>
        <p:spPr>
          <a:xfrm>
            <a:off x="609480" y="1862280"/>
            <a:ext cx="7899480" cy="377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Klasik Halka topolojis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Topoloji</a:t>
            </a: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Star-Wired 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40000" y="1052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6666"/>
                </a:solidFill>
                <a:latin typeface="Arial"/>
              </a:rPr>
              <a:t>Star-Wired Ring topoloji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Picture 5" descr="FIG7-11"/>
          <p:cNvPicPr/>
          <p:nvPr/>
        </p:nvPicPr>
        <p:blipFill>
          <a:blip r:embed="rId1"/>
          <a:srcRect l="25312" t="30990" r="6251" b="30990"/>
          <a:stretch/>
        </p:blipFill>
        <p:spPr>
          <a:xfrm>
            <a:off x="304920" y="2133720"/>
            <a:ext cx="8610480" cy="318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Topoloji nedir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7240" y="1557000"/>
            <a:ext cx="7769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ağdaki bilgisayarların nasıl yerleşeceğini, nasıl bağlanacağını, veri iletiminin nasıl olacağını belirleyen genel yap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Fiziksel topoloji: Ağın fiziksel olarak nasıl görüneceğini belirler (Fiziksel katma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Mantıksal topoloji: Bir ağdaki veri akışının nasıl olacağını belirler (Veri iletim katman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337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336666"/>
                </a:solidFill>
                <a:latin typeface="Arial"/>
              </a:rPr>
              <a:t>MA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G7-12"/>
          <p:cNvPicPr/>
          <p:nvPr/>
        </p:nvPicPr>
        <p:blipFill>
          <a:blip r:embed="rId1"/>
          <a:srcRect l="27186" t="27145" r="5311" b="27145"/>
          <a:stretch/>
        </p:blipFill>
        <p:spPr>
          <a:xfrm>
            <a:off x="457200" y="1752480"/>
            <a:ext cx="7924680" cy="352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MAU with Station Bypassed"/>
          <p:cNvPicPr/>
          <p:nvPr/>
        </p:nvPicPr>
        <p:blipFill>
          <a:blip r:embed="rId2"/>
          <a:stretch/>
        </p:blipFill>
        <p:spPr>
          <a:xfrm>
            <a:off x="755640" y="1628640"/>
            <a:ext cx="7561440" cy="438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24000" y="115560"/>
            <a:ext cx="30956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İki MAU bağlanması için MAU’daki RI (Ring In) ve RO (Ring Out portları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Token Ring Expanded Using Two MAUs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360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ain Ring Path"/>
          <p:cNvPicPr/>
          <p:nvPr/>
        </p:nvPicPr>
        <p:blipFill>
          <a:blip r:embed="rId2"/>
          <a:stretch/>
        </p:blipFill>
        <p:spPr>
          <a:xfrm>
            <a:off x="395280" y="189000"/>
            <a:ext cx="4897440" cy="165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7240" y="1267920"/>
            <a:ext cx="776952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Tüm düğümlerin ortak bir merkeze (örneğin, hub, switch) bağlanmasıd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2" name="Picture 9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Yıldız (Star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Picture 6" descr="star"/>
          <p:cNvPicPr/>
          <p:nvPr/>
        </p:nvPicPr>
        <p:blipFill>
          <a:blip r:embed="rId1"/>
          <a:stretch/>
        </p:blipFill>
        <p:spPr>
          <a:xfrm>
            <a:off x="2556000" y="2592360"/>
            <a:ext cx="4103640" cy="3597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IG7-07"/>
          <p:cNvPicPr/>
          <p:nvPr/>
        </p:nvPicPr>
        <p:blipFill>
          <a:blip r:embed="rId2"/>
          <a:srcRect l="28347" t="30990" r="7216" b="30990"/>
          <a:stretch/>
        </p:blipFill>
        <p:spPr>
          <a:xfrm>
            <a:off x="228600" y="1905120"/>
            <a:ext cx="8686800" cy="3413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30760" y="479520"/>
            <a:ext cx="50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-wired bus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 ~ Yıldız Topoloji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57200" y="1523880"/>
            <a:ext cx="8305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1" name="Picture 5" descr="FIG7-08"/>
          <p:cNvPicPr/>
          <p:nvPr/>
        </p:nvPicPr>
        <p:blipFill>
          <a:blip r:embed="rId1"/>
          <a:srcRect l="21565" t="16904" r="0" b="16904"/>
          <a:stretch/>
        </p:blipFill>
        <p:spPr>
          <a:xfrm>
            <a:off x="457200" y="1378080"/>
            <a:ext cx="8458200" cy="4751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7240" y="115920"/>
            <a:ext cx="7769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Topoloji </a:t>
            </a:r>
            <a:br>
              <a:rPr sz="3000"/>
            </a:b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2920" y="1125360"/>
            <a:ext cx="4249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ı kurmak kolaydı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Bir bilgisayara bağlı kablo bozulduğunda ağın çalışması etkilenmez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Ağdaki sorunları tespit etmek kolay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kullanıldığında ağ trafiği art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Doğrusala göre daha fazla uzunlukta kablo gerektir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ya Switch bozulduğunda tüm ağ çalışmaz hale geli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Arial"/>
              </a:rPr>
              <a:t>Hub ve Switch gibi cihazlar nedeniyle doğrusala göre kurulumu daha pahalıdı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-Halka -Yıldız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net"/>
          <p:cNvPicPr/>
          <p:nvPr/>
        </p:nvPicPr>
        <p:blipFill>
          <a:blip r:embed="rId1"/>
          <a:stretch/>
        </p:blipFill>
        <p:spPr>
          <a:xfrm>
            <a:off x="2340000" y="1341360"/>
            <a:ext cx="5040360" cy="4851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7240" y="1052640"/>
            <a:ext cx="77695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nellikle yıldız topolojisindeki ağları birbirine bağlamak için kullanılır. Böylece ağlar büyütüle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Bir ağacın dalları farklı topolojilerdeki ağları temsil eder, ağacın gövdesi ile de bunlar birbirine bağlanabili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8" descr="tree-net"/>
          <p:cNvPicPr/>
          <p:nvPr/>
        </p:nvPicPr>
        <p:blipFill>
          <a:blip r:embed="rId1"/>
          <a:stretch/>
        </p:blipFill>
        <p:spPr>
          <a:xfrm>
            <a:off x="2340000" y="3716280"/>
            <a:ext cx="4608360" cy="29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8262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Ağaç (Tree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19640" y="1341000"/>
            <a:ext cx="43891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Hiyerarşik yapıdaki ağlar için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1"/>
          <a:stretch/>
        </p:blipFill>
        <p:spPr>
          <a:xfrm>
            <a:off x="250920" y="136440"/>
            <a:ext cx="2085840" cy="1924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rim15"/>
          <p:cNvPicPr/>
          <p:nvPr/>
        </p:nvPicPr>
        <p:blipFill>
          <a:blip r:embed="rId2"/>
          <a:stretch/>
        </p:blipFill>
        <p:spPr>
          <a:xfrm>
            <a:off x="2987640" y="3068640"/>
            <a:ext cx="4181400" cy="2324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17000"/>
            <a:ext cx="8640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Topoloji - (Avantaj ve Dezavantajlar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9280" y="1052280"/>
            <a:ext cx="410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e (segment) ulaşmak kolay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ir çok çalışma grubu bir araya getirilebil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Her bir bölümün uzunluğu kullanılan kablo ile sınırlı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Omurga kablosu bozulduğunda bölümlerdeki ağ trafiği etkilen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Kurulumu ve düzenlenmesi daha zord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66600" y="981000"/>
            <a:ext cx="464976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Ağ topoloji türler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Doğrusal (Bus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Halka (Ring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Yıldız (Star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tar-wired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ğaç (Tree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Karmaşık (Mesh Topolog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43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Gerçek Mesh topolojide tüm düğümler ağ içerisinde birbirine bağlıd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Daha çok WAN’da kullanılır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Arial"/>
              </a:rPr>
              <a:t>LAN’da kullanıldığında tüm düğümlerin birbirine mutlaka bağlı olması gerekmez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5" name="Picture 7" descr="mesh"/>
          <p:cNvPicPr/>
          <p:nvPr/>
        </p:nvPicPr>
        <p:blipFill>
          <a:blip r:embed="rId1"/>
          <a:stretch/>
        </p:blipFill>
        <p:spPr>
          <a:xfrm>
            <a:off x="2413080" y="3284640"/>
            <a:ext cx="4967280" cy="3411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9"/>
          <p:cNvSpPr/>
          <p:nvPr/>
        </p:nvSpPr>
        <p:spPr>
          <a:xfrm>
            <a:off x="3240" y="45086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Gerçek Mesh topoloj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691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Karmaşık (Mesh) Topolo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143160" y="2176560"/>
            <a:ext cx="28576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80" name="Picture 7" descr="A hierarchical network."/>
          <p:cNvPicPr/>
          <p:nvPr/>
        </p:nvPicPr>
        <p:blipFill>
          <a:blip r:embed="rId1"/>
          <a:stretch/>
        </p:blipFill>
        <p:spPr>
          <a:xfrm>
            <a:off x="2266920" y="1197000"/>
            <a:ext cx="4176720" cy="347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4938480"/>
            <a:ext cx="7010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Arial"/>
              </a:rPr>
              <a:t>Hybrid mesh topoloji, karmaşık ağlarda (veritabanı sunucularının uzak mesafeler arası bağlantıları vb.) kullanılı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1" descr="bus"/>
          <p:cNvPicPr/>
          <p:nvPr/>
        </p:nvPicPr>
        <p:blipFill>
          <a:blip r:embed="rId1"/>
          <a:stretch/>
        </p:blipFill>
        <p:spPr>
          <a:xfrm>
            <a:off x="324000" y="1341360"/>
            <a:ext cx="261936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2" descr="star"/>
          <p:cNvPicPr/>
          <p:nvPr/>
        </p:nvPicPr>
        <p:blipFill>
          <a:blip r:embed="rId2"/>
          <a:stretch/>
        </p:blipFill>
        <p:spPr>
          <a:xfrm>
            <a:off x="3851280" y="1125360"/>
            <a:ext cx="1324080" cy="117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3" descr="ring"/>
          <p:cNvPicPr/>
          <p:nvPr/>
        </p:nvPicPr>
        <p:blipFill>
          <a:blip r:embed="rId3"/>
          <a:stretch/>
        </p:blipFill>
        <p:spPr>
          <a:xfrm>
            <a:off x="324000" y="342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8" descr="tree"/>
          <p:cNvPicPr/>
          <p:nvPr/>
        </p:nvPicPr>
        <p:blipFill>
          <a:blip r:embed="rId4"/>
          <a:stretch/>
        </p:blipFill>
        <p:spPr>
          <a:xfrm>
            <a:off x="3564000" y="3429000"/>
            <a:ext cx="320976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9" descr="mesh"/>
          <p:cNvPicPr/>
          <p:nvPr/>
        </p:nvPicPr>
        <p:blipFill>
          <a:blip r:embed="rId5"/>
          <a:stretch/>
        </p:blipFill>
        <p:spPr>
          <a:xfrm>
            <a:off x="6588000" y="1341360"/>
            <a:ext cx="1324080" cy="1171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71"/>
          <p:cNvSpPr/>
          <p:nvPr/>
        </p:nvSpPr>
        <p:spPr>
          <a:xfrm>
            <a:off x="395280" y="40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Doğrus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Bus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Rectangle 173"/>
          <p:cNvSpPr/>
          <p:nvPr/>
        </p:nvSpPr>
        <p:spPr>
          <a:xfrm>
            <a:off x="539640" y="26370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Halka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Ring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Rectangle 175"/>
          <p:cNvSpPr/>
          <p:nvPr/>
        </p:nvSpPr>
        <p:spPr>
          <a:xfrm>
            <a:off x="4140360" y="33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Yıldız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Star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177"/>
          <p:cNvSpPr/>
          <p:nvPr/>
        </p:nvSpPr>
        <p:spPr>
          <a:xfrm>
            <a:off x="4140360" y="270828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Ağaç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Tree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Rectangle 179"/>
          <p:cNvSpPr/>
          <p:nvPr/>
        </p:nvSpPr>
        <p:spPr>
          <a:xfrm>
            <a:off x="6443640" y="404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Karmaşık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6666"/>
                </a:solidFill>
                <a:latin typeface="Arial"/>
              </a:rPr>
              <a:t>(Mesh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476280"/>
          <a:ext cx="8496360" cy="5773680"/>
        </p:xfrm>
        <a:graphic>
          <a:graphicData uri="http://schemas.openxmlformats.org/drawingml/2006/table">
            <a:tbl>
              <a:tblPr/>
              <a:tblGrid>
                <a:gridCol w="1295280"/>
                <a:gridCol w="1152720"/>
                <a:gridCol w="1511280"/>
                <a:gridCol w="936360"/>
                <a:gridCol w="3600720"/>
              </a:tblGrid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rulu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zenle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un çözme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 aktarımında problem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ok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, kabloda problem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ısmen 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daki bozukluk veri aktarımını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ıldı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, ancak zaman alıcı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 bir kablodaki bozukluk bir pc’yi etkile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ğaç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maşık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r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ay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ukça az</a:t>
                      </a:r>
                      <a:endParaRPr b="0" lang="en-US" sz="19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000000"/>
                </a:solidFill>
                <a:latin typeface="Arial"/>
              </a:rPr>
              <a:t>Ağ Topolojile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18864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Doğrusal (Bus) Topoloj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7240" y="1125360"/>
            <a:ext cx="776952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ir kablo yol olarak düşünülürse, bu yol üzerindeki her bir durak ağda bir düğümü (node-terminali/cihazı) temsil etmekted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Bu tek kabloya; bölüm (segment), omurga (backbone), trunk denilebil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1042920" y="3603600"/>
            <a:ext cx="6942240" cy="321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509840" y="-27000"/>
            <a:ext cx="6126120" cy="6751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71280"/>
            <a:ext cx="77691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Arial"/>
              </a:rPr>
              <a:t>Doğrusal Topoloji  - (Avantaj ve Dezavantajları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2087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vantajları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a bir bilgisayarı bağlamak oldukça kolaydı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aha az uzunlukta kablo gerektir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Dezavantajları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Omurga kabloda bir bozulma veya kesilme olursa tüm ağ bağlantısı kes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Kablonun sonunda sonlandırıcı (Terminator) olmalı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Ağda sorun olduğunda sorunun nerden kaynaklandığını bulmak zaman alıcı olabili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Tek başına tüm bir binanın ağ çözümü için genellikle kullanılmamaktadı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Arial"/>
              </a:rPr>
              <a:t>Çarpış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769080" cy="2315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90440"/>
            <a:ext cx="80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000000"/>
                </a:solidFill>
                <a:latin typeface="Arial"/>
              </a:rPr>
              <a:t>CSMA/CD (Carrier Sense Multiple Access/Collision Detect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Ethernet ve </a:t>
            </a:r>
            <a:r>
              <a:rPr b="0" lang="tr-TR" sz="26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IEEE 802.3 </a:t>
            </a: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larında kullanılan bir protok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Çarpışmayı bulma (Collision Det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ir ethernet kartı bilgi göndereceği zaman ağ trafiğini iz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ğ kablosunda veri yoksa verisini kabloya bırak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kabloda veri varsa diğer veri hedefine gidinceye kadar beklenir. Ardından veriyi gönder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ğer bu işlemler başarısız olursa çarpışma meydana ge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IEEE (Institute of Electrical and Electronics Engineers - Elektrik ve Elektronik Mühendisleri Enstitüsü) standartlar kurulu elektrik mühendisliği, elektronik, radyo, ilgili mühendislik, bilim, sanat dallarındaki standartlardan sorumludu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Times New Roman"/>
              </a:rPr>
              <a:t>Enformasyon ve İletişim Teknolojileri alanında yerel alan ağları konusundaki standartları belir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90080"/>
            <a:ext cx="7778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000000"/>
                </a:solidFill>
                <a:latin typeface="Arial"/>
              </a:rPr>
              <a:t>En çok kullanılan 802 standartlar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9400" y="1341360"/>
          <a:ext cx="8815320" cy="4950000"/>
        </p:xfrm>
        <a:graphic>
          <a:graphicData uri="http://schemas.openxmlformats.org/drawingml/2006/table">
            <a:tbl>
              <a:tblPr/>
              <a:tblGrid>
                <a:gridCol w="1811160"/>
                <a:gridCol w="1440000"/>
                <a:gridCol w="2016000"/>
                <a:gridCol w="2046240"/>
                <a:gridCol w="15019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ız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şim Metodu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lojiler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3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00 veya 10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ğrusa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aksiyel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5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veya 6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FDDI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8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veya 200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en pass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eton dolaşımı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ka ve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-wired r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optik veya UTP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 (Wireles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EEE 802.11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2 veya 54 Mbp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MA/CD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ücresel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blosuz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46:15Z</dcterms:created>
  <dc:creator>Şirin Karadeniz</dc:creator>
  <dc:description/>
  <dc:language>en-US</dc:language>
  <cp:lastModifiedBy>Adil YILDIZ</cp:lastModifiedBy>
  <dcterms:modified xsi:type="dcterms:W3CDTF">2011-10-04T08:23:59Z</dcterms:modified>
  <cp:revision>75</cp:revision>
  <dc:subject/>
  <dc:title>Ağ Topolojileri</dc:title>
</cp:coreProperties>
</file>