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jpeg" ContentType="image/jpeg"/>
  <Override PartName="/ppt/media/image3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A345-30BC-4F27-A525-9ADE5081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DDE7-8CB8-412E-896D-CBC8F11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ADD2-2E11-48B7-B607-A2429641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A09D-6CF6-4F36-938B-FA1F834A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959F-5C6C-4C32-A9FA-E731EBAB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F888-4985-418D-8CB4-33FB9715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4D16-9038-4435-B5C9-FA93367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111D-802E-4473-84D7-03CF596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8CA6-C15E-427B-99F7-8D17AA76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192-A291-42AD-A388-F8980B54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B595-9E1F-41D0-914E-FE32BF3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80BC-F89D-4784-B8FA-DA220DA5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FCB0-AECB-4545-B5DE-02D1B3F8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5154-1D0E-41B2-B7C1-B30D536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90EE-E31F-43D7-883E-983F0248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2FEC-7747-43A8-9E21-80B0DEE0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615B-7656-47F6-809C-6BF9671B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03CB-8495-4244-A406-324A4CCB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96CA-4912-49EF-B0D3-003D7587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511D-80DD-4CED-8D75-5CAC6550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3242-D4ED-4C3B-9823-E421A9B6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1342-27DE-4B53-A140-B0F99D2C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6280-A6BA-4F1C-82C7-EFF677E7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7FD2-F30C-4A26-92E3-880214A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4B75-A6A6-4DB9-8FC6-9F7DCD650133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8886-4CDA-473E-BB13-4CA8747C10C3}" type="slidenum">
              <a:rPr b="0" lang="tr-T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mages.google.com.tr/imgres?imgurl=http://refillshoppen.dk/Graphics/Products/3602_m.jpg&amp;imgrefurl=http://refillshoppen.dk/static/000309/000001/003602.asp&amp;h=150&amp;w=200&amp;sz=5&amp;tbnid=xWrsNbIwXYzF4M:&amp;tbnh=74&amp;tbnw=99&amp;hl=tr&amp;start=43&amp;prev=/images%3Fq%3Dutp%2Bstp%2Brj-45%2B%26start%3D40%26svnum%3D10%26hl%3Dtr%26lr%3D%26sa%3DN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hyperlink" Target="http://images.google.com.tr/imgres?imgurl=http://fiberlogix.com.pk/pdf/images/Multifiber%2520Assembled%2520Indoor%2520Cables_img_0.jpg&amp;imgrefurl=http://fiberlogix.com.pk/pdf/Multifiber%2520Assembled%2520Indoor%2520Cables.htm&amp;h=380&amp;w=717&amp;sz=23&amp;tbnid=u9RzJcAAcmZ5lM:&amp;tbnh=73&amp;tbnw=138&amp;hl=tr&amp;start=4&amp;prev=/images%3Fq%3Dmultifiber%26svnum%3D10%26hl%3Dtr%26lr%3D%26sa%3DN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Ağ Donanımları</a:t>
            </a:r>
            <a:br>
              <a:rPr sz="5000"/>
            </a:br>
            <a:r>
              <a:rPr b="0" lang="tr-TR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blo ve Konnektö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6372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ıldız Topolo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7993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UTP, STP kablo, RJ-45 konnekt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3_2" descr=""/>
          <p:cNvPicPr/>
          <p:nvPr/>
        </p:nvPicPr>
        <p:blipFill>
          <a:blip r:embed="rId1"/>
          <a:stretch/>
        </p:blipFill>
        <p:spPr>
          <a:xfrm>
            <a:off x="7451640" y="213372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67640" y="907920"/>
            <a:ext cx="94284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64090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ek (örneğin dahili hatlarda), dört (oldukça yaygındır) veya sekiz çift kablodan oluşabil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STP (Shielded Twisted P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32360" y="1754280"/>
            <a:ext cx="4100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TP ~ S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P kablolar UTP’ye göre daha pahalıdır ve </a:t>
            </a:r>
            <a:r>
              <a:rPr b="0" lang="tr-TR" sz="2800" spc="-1" strike="noStrike" u="sng">
                <a:solidFill>
                  <a:srgbClr val="666699"/>
                </a:solidFill>
                <a:uFillTx/>
                <a:latin typeface="Arial"/>
              </a:rPr>
              <a:t>gürültü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inyallerinde daha az etkilen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UTP kabloların yaygın olarak kullanılmakta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5280" y="115920"/>
            <a:ext cx="8208720" cy="6479640"/>
            <a:chOff x="395280" y="115920"/>
            <a:chExt cx="8208720" cy="647964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42160" y="115920"/>
              <a:ext cx="8061840" cy="34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95280" y="3709800"/>
              <a:ext cx="8136360" cy="288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284720" y="1549440"/>
            <a:ext cx="3744720" cy="1617480"/>
            <a:chOff x="4284720" y="1549440"/>
            <a:chExt cx="3744720" cy="161748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284720" y="1700280"/>
              <a:ext cx="1809720" cy="14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4360" y="154944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ÜRÜLT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ürült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9280" y="2773440"/>
            <a:ext cx="3311640" cy="1089000"/>
            <a:chOff x="179280" y="2773440"/>
            <a:chExt cx="3311640" cy="1089000"/>
          </a:xfrm>
        </p:grpSpPr>
        <p:sp>
          <p:nvSpPr>
            <p:cNvPr id="149" name="desk1"/>
            <p:cNvSpPr/>
            <p:nvPr/>
          </p:nvSpPr>
          <p:spPr>
            <a:xfrm>
              <a:off x="179280" y="2773440"/>
              <a:ext cx="1440000" cy="57600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ayna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desk1"/>
            <p:cNvSpPr/>
            <p:nvPr/>
          </p:nvSpPr>
          <p:spPr>
            <a:xfrm>
              <a:off x="2195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19280" y="3062160"/>
              <a:ext cx="57636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34941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lana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0920" y="34941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önder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651640" y="2773440"/>
            <a:ext cx="3528720" cy="1089000"/>
            <a:chOff x="5651640" y="2773440"/>
            <a:chExt cx="3528720" cy="1089000"/>
          </a:xfrm>
        </p:grpSpPr>
        <p:sp>
          <p:nvSpPr>
            <p:cNvPr id="155" name="desk1"/>
            <p:cNvSpPr/>
            <p:nvPr/>
          </p:nvSpPr>
          <p:spPr>
            <a:xfrm>
              <a:off x="7164360" y="2773440"/>
              <a:ext cx="1944720" cy="64908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def/Alıc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desk1"/>
            <p:cNvSpPr/>
            <p:nvPr/>
          </p:nvSpPr>
          <p:spPr>
            <a:xfrm>
              <a:off x="5651640" y="2773440"/>
              <a:ext cx="1008000" cy="576000"/>
            </a:xfrm>
            <a:prstGeom prst="pie">
              <a:avLst/>
            </a:pr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4360" y="34941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ıc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5080" y="3494160"/>
              <a:ext cx="21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odu çözülen ve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59640" y="3062160"/>
              <a:ext cx="5047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419640" y="2630520"/>
            <a:ext cx="2087280" cy="1015920"/>
            <a:chOff x="3419640" y="2630520"/>
            <a:chExt cx="2087280" cy="1015920"/>
          </a:xfrm>
        </p:grpSpPr>
        <p:sp>
          <p:nvSpPr>
            <p:cNvPr id="161" name=""/>
            <p:cNvSpPr/>
            <p:nvPr/>
          </p:nvSpPr>
          <p:spPr>
            <a:xfrm>
              <a:off x="3419640" y="26305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y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9640" y="3278160"/>
              <a:ext cx="20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İletişim Kanal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3133800"/>
              <a:ext cx="187308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IEEE standartlarına gör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Base-T (10 Mbps) 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100Base-T (100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ağlarda bir kablo en fazla 100 m olabil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76280"/>
            <a:ext cx="871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Çift Burgulu Kablolar (Twisted-Pair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8102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P Kablo Katego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11280" y="1015920"/>
          <a:ext cx="8137440" cy="5581800"/>
        </p:xfrm>
        <a:graphic>
          <a:graphicData uri="http://schemas.openxmlformats.org/drawingml/2006/table">
            <a:tbl>
              <a:tblPr/>
              <a:tblGrid>
                <a:gridCol w="1657080"/>
                <a:gridCol w="6480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o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ygulama Alan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CAT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lızca ses veri iletimi yapılmaz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20 Mbps’ ye kadar veri iletimi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0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622 Mb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 Gps’ ye kadar veri iletimi.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 ve 10 Gps’ ye kadar veri iletim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615600"/>
            <a:ext cx="8075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Çift Burgulu Kablo Konnektör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tür kablolar RJ-45 konnektörü ile bilgisayar bağlanır. RJ-45’in en çok kullanılan standardı 10BASE-T’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/100 Mbps hızındadır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alka ve yıldız tipi topolojilerde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2006640"/>
            <a:ext cx="35244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681120"/>
            <a:ext cx="80773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 Km’ye kadar uzayabilen geniş alanlarda, elektriksel sinyallerden etkilenmeden yüksek kapasiteli iletişim ortamı sağlamada kullanılı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24000" y="2924280"/>
            <a:ext cx="5040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len elektriksel sinyalleri ışık sinyallerine çevir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Işık fiber optik kabloda dengeli bir şekilde yol alır ve buna mod 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376360"/>
            <a:ext cx="4038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993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k, Çok modlu ve çok modlu kademeli olmak üzere 3 çeşidi vard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(Single Mode Fiber- S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tek bir modda ya da tek bir yolda ilerlemesine olanak tanır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Düşük  sinyal kayıplarının olduğu ve yüksek veri iletişim hızının gerektirdiği durumlarda kullanıl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(Multi Mode Fiber- MMF) 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ğın birden fazla modunu ileten fiberlerdi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şın çarpışmaları meydana gelebileceğinden kısa mesafeler için kullanıl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1235160"/>
            <a:ext cx="74167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1927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773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 Çeşit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00000" y="1125360"/>
            <a:ext cx="5832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Tek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8.3/125 micron S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Çoklu Mod Fiberl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.5/125 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50/12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0/14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M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1"/>
          <a:stretch/>
        </p:blipFill>
        <p:spPr>
          <a:xfrm>
            <a:off x="4356000" y="4149720"/>
            <a:ext cx="2381400" cy="2000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single-mode, multi-mode fiber optics, pictures of fiber optic cable, fiber optic pictures, free fiber optic training, how it works, Singlemode fiber, Multimode fiber, Types of Fiber Cables"/>
          <p:cNvPicPr/>
          <p:nvPr/>
        </p:nvPicPr>
        <p:blipFill>
          <a:blip r:embed="rId2"/>
          <a:stretch/>
        </p:blipFill>
        <p:spPr>
          <a:xfrm>
            <a:off x="179280" y="1125360"/>
            <a:ext cx="20480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740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ber Optik Kablol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24000" y="836640"/>
            <a:ext cx="691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ir fiberden tek yönlü haberleşme sağlanı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İki yönlü bir haberleşme için en az iki fiber gereklidir.  Veya bir fiberde hem veri gönderimi hem de verinin alımını sağlayan iki ayrı yol olma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205740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324000" y="2637000"/>
          <a:ext cx="8218440" cy="3598560"/>
        </p:xfrm>
        <a:graphic>
          <a:graphicData uri="http://schemas.openxmlformats.org/drawingml/2006/table">
            <a:tbl>
              <a:tblPr/>
              <a:tblGrid>
                <a:gridCol w="2232000"/>
                <a:gridCol w="5986440"/>
              </a:tblGrid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ex: İçerisinde sadece bir optik kablo 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ex: İçerisinde 2 optik kablo var. LAN omurga kablosu olarak çok tercih edilmekted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4520" indent="112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fiber: İçerisinde 2’den fazla optik kablo v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54200" y="278136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4200" y="3932280"/>
            <a:ext cx="1666800" cy="95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00000" y="5300640"/>
            <a:ext cx="131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Fiber Optik Kablo Konnektörle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413000"/>
          <a:ext cx="8229600" cy="4717800"/>
        </p:xfrm>
        <a:graphic>
          <a:graphicData uri="http://schemas.openxmlformats.org/drawingml/2006/table">
            <a:tbl>
              <a:tblPr/>
              <a:tblGrid>
                <a:gridCol w="4691160"/>
                <a:gridCol w="35384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(Straight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(Subscriber ti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-R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54944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1905120" cy="1419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843280" y="3141720"/>
            <a:ext cx="1904760" cy="1447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2160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blolar - Öz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620640"/>
          <a:ext cx="8353440" cy="5962680"/>
        </p:xfrm>
        <a:graphic>
          <a:graphicData uri="http://schemas.openxmlformats.org/drawingml/2006/table">
            <a:tbl>
              <a:tblPr/>
              <a:tblGrid>
                <a:gridCol w="1670040"/>
                <a:gridCol w="1513080"/>
                <a:gridCol w="1201680"/>
                <a:gridCol w="1182600"/>
                <a:gridCol w="2786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 Ad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blo Tip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Hız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Veri Transfer Uzaklığ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çıkla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ın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İnce Koaksiy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C, 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TX (Gigabit Etherne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J-45, CAT5 ve üst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BaseF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ğlar arası, Fiber optik hub ve NIC arası bağlant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BaseF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Mbps Ethernet ağlar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multi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, PC ve hub arası bağlantı için tasarlanmışt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L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er (singlemode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Mb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me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BaseSX’in daha uzun mesafeler arası kullanması için, genellikle omurga olarak kullanılı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ğrusal Topolo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oaksiyel k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2335320"/>
            <a:ext cx="6961320" cy="210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865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vizyon kablosunun daha esnek ve ince olanıdır. Bakır tellerden ve üzerinde manyetik korumadan ibaret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3240000"/>
            <a:ext cx="5616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ş eksenli (Koaksiyel) Ka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749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İki çeşitti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İnce (Thin Coax), taşıma mesafesi 185m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Kalın (Thick Coax), 500 metred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(10Base-2 ağlarda IEEE standardına göre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3611520"/>
            <a:ext cx="61196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ş eksenli (Koaksiyel)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ip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557360"/>
          <a:ext cx="7128000" cy="3581280"/>
        </p:xfrm>
        <a:graphic>
          <a:graphicData uri="http://schemas.openxmlformats.org/drawingml/2006/table">
            <a:tbl>
              <a:tblPr/>
              <a:tblGrid>
                <a:gridCol w="1492200"/>
                <a:gridCol w="2036880"/>
                <a:gridCol w="3598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İ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ED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LLAN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alın-Thicknet) - 50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BASE-2</a:t>
                      </a:r>
                      <a:r>
                        <a:rPr b="0" lang="tr-TR" sz="2000" spc="-1" strike="noStrike">
                          <a:solidFill>
                            <a:srgbClr val="9999cc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İnce-Thinnet) - 18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 T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O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en kablo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68360" y="537372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* Yerel ağlarda en çok kullanılan standart. Bunlarda kablo mesafesi IEEE standartlarına göre 185 m’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352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aksiyel Kablo </a:t>
            </a:r>
            <a:br>
              <a:rPr sz="3200"/>
            </a:b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onnektörl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499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(British Naval Connector)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da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BNC T konnekt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0Base2 sistemlerde kullanıl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kablo ucunu ve ethernet kartını bağlamak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561672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aksiyel Kablo Konnektör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3933720"/>
            <a:ext cx="74991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şeksenli kablolar BNC konnektörleri ile sonlandırılır ve bilgisayar arkasındaki aktarım aygıta takılacak T-şeklindeki bağlayıcılara takılır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blo sonunda 10Base5 ise 75, 10Base2 ise 50 Ohm’luk sonlandırıcı (Terminator)  tak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2857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Bağlantılar"/>
          <p:cNvPicPr/>
          <p:nvPr/>
        </p:nvPicPr>
        <p:blipFill>
          <a:blip r:embed="rId1"/>
          <a:stretch/>
        </p:blipFill>
        <p:spPr>
          <a:xfrm>
            <a:off x="206280" y="1484280"/>
            <a:ext cx="83264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22:48Z</dcterms:created>
  <dc:creator>Şirin Karadeniz</dc:creator>
  <dc:description/>
  <dc:language>en-US</dc:language>
  <cp:lastModifiedBy>abgulbagci</cp:lastModifiedBy>
  <dcterms:modified xsi:type="dcterms:W3CDTF">2006-10-30T09:01:27Z</dcterms:modified>
  <cp:revision>76</cp:revision>
  <dc:subject/>
  <dc:title>Ağ Donanımları</dc:title>
</cp:coreProperties>
</file>