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3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AB27-E7AD-44E9-843A-34618113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AB2-875A-43C3-8023-E3BD3ECC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469-AD32-4FCF-BAC6-82371155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82D-0DB3-4FC7-AE12-2E900E96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962A-4524-4C50-80C8-263D83BE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653-0B5B-43CE-92AA-8CE00829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B7CF-5DCE-45A6-817F-FEFD4138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5A0-4D58-4551-B772-05AE566A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9922-9789-47D8-8D70-EAD3B48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C9FD-C561-4003-AA3F-16448076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05A-484B-43F8-8FC8-38172DB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613-ED28-476B-9222-74C3A2A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BB68-FEE4-4C63-92E9-D65FCCC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5C00-3D7B-485F-8617-70353772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DB0-DA97-4EEA-9E39-0E5BF12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BC5C-B761-43F5-8104-B43F9A00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3B1B-9020-450C-9CCB-1D0BD2F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BA6-F4FA-4978-B5DB-56B310C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147-F931-4609-8D93-E7FB484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777-6667-4B81-A6B6-DFF5F28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7B9-8086-452C-A13A-D9016C71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3BE-EEE9-4864-AFD7-E564D89B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A27-CEE8-4D2A-8BFD-D92F16D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9FF-5140-41AF-84EF-AD5DC92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84BD-6449-4BA0-A331-84FE19C57D7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85A5-FD59-44DD-81D9-B6AE36FF4638}" type="slidenum">
              <a:rPr b="0" lang="tr-TR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581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Donanımları</a:t>
            </a:r>
            <a:br>
              <a:rPr sz="4000"/>
            </a:b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3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Hub </a:t>
            </a: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ve </a:t>
            </a: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259056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</a:t>
            </a: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witch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545760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3348000" y="4292640"/>
            <a:ext cx="5313240" cy="197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497200" y="4361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337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5" name="Picture 5" descr="Fig08-11"/>
          <p:cNvPicPr/>
          <p:nvPr/>
        </p:nvPicPr>
        <p:blipFill>
          <a:blip r:embed="rId1"/>
          <a:srcRect l="21879" t="16254" r="0" b="16254"/>
          <a:stretch/>
        </p:blipFill>
        <p:spPr>
          <a:xfrm>
            <a:off x="685800" y="1436760"/>
            <a:ext cx="7848720" cy="508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803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Adanmış (Dedicated) ve Paylaşılmış (Shared) Bölüm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9" name="Picture 5" descr="FIG8-10"/>
          <p:cNvPicPr/>
          <p:nvPr/>
        </p:nvPicPr>
        <p:blipFill>
          <a:blip r:embed="rId1"/>
          <a:srcRect l="21565" t="9858" r="0" b="9858"/>
          <a:stretch/>
        </p:blipFill>
        <p:spPr>
          <a:xfrm>
            <a:off x="990720" y="1495440"/>
            <a:ext cx="7594560" cy="517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ile ağda bölümle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23" name="Picture 4" descr="Fig08-12"/>
          <p:cNvPicPr/>
          <p:nvPr/>
        </p:nvPicPr>
        <p:blipFill>
          <a:blip r:embed="rId1"/>
          <a:srcRect l="21569" t="21251" r="0" b="19999"/>
          <a:stretch/>
        </p:blipFill>
        <p:spPr>
          <a:xfrm>
            <a:off x="685800" y="1523880"/>
            <a:ext cx="7974000" cy="448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 veri akışı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97392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Örnek 2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32" name="Picture 6" descr="Fig08-15"/>
          <p:cNvPicPr/>
          <p:nvPr/>
        </p:nvPicPr>
        <p:blipFill>
          <a:blip r:embed="rId1"/>
          <a:srcRect l="21569" t="31250" r="0" b="31250"/>
          <a:stretch/>
        </p:blipFill>
        <p:spPr>
          <a:xfrm>
            <a:off x="228600" y="2209680"/>
            <a:ext cx="8686800" cy="31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2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2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2. katmanında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Topolojinin merkezinde yer alarak gelen bilgiyi ilgili terminale yolla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ynı anda birden fazla çağrıya cevap ver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MAC adresler ile çalışı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e göre daha ucuzdu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atman 2 Switch Türler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tore-and-forward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iriş portundan aldıktan sonra buffer’a at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rdından paketi ilgili çıkış portuna gönder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ki hataları kontrol etmez, bu nedenle daha hızlıdı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ncak bozuk paketler ağda ilerler.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Cut-through switch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iletmeden önce hedef adresi belirler. Ardından adresin çıkış portuna bu paket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te hata olup olmadığını kontrol eder. Hatalıysa iletme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Katman 3 Switch (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Layer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3</a:t>
            </a:r>
            <a:r>
              <a:rPr b="1" lang="en-GB" sz="3600" spc="-1" strike="noStrike">
                <a:solidFill>
                  <a:srgbClr val="1d4944"/>
                </a:solidFill>
                <a:latin typeface="Arial"/>
              </a:rPr>
              <a:t> Switch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Katman 2 Switch’ler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ir hedefe giden tek bir yol ve MAC adres kullanılır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Bir ağ genişletilmek istendiğinde ve alt ağların sayısı arttırıldığında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Katman 3 Switch’ler ile performans arttırıl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OSI’nin 3. katmanı olan ‘Ağ’ katmanında çalış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Switch ve Router’ın özelliklerinin birleşimidi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leri bir Router gibi ağda yönlendire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OSI Veri İletim katmanında çalış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C adreslerini kullanarak paketleri ile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öprüler bağımsız çalışma gruplarını birbirine bağlamak için kullanıl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Birbiri ile aynı topolojide veya farklı topolojide olabil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1d4337"/>
                </a:solidFill>
                <a:latin typeface="Arial"/>
              </a:rPr>
              <a:t>Örneğin bir yıldız ve bir halka topolojisinde ağları birbirine bağlayarak tek bir ağ gibi gösterir. </a:t>
            </a:r>
            <a:endParaRPr b="0" lang="en-US" sz="26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Veri yönlendirme işlemi yap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10 Mbps ve 100 Mbps ağları birbirine bağlayabilir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OSI ve cihazlar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79640" y="1557360"/>
          <a:ext cx="6337440" cy="5095800"/>
        </p:xfrm>
        <a:graphic>
          <a:graphicData uri="http://schemas.openxmlformats.org/drawingml/2006/table">
            <a:tbl>
              <a:tblPr/>
              <a:tblGrid>
                <a:gridCol w="2419200"/>
                <a:gridCol w="391824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SI Katmanı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Cihaz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Uygula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Sun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Oturu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Taşıma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 geçidi (Gateway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Ağ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Yönlendirici (Rou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3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Veri İletim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öprü (Bridge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tman 2 Switch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Fiziksel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NIC, Yineleyici (Repeater)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Hub, MAU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1d4337"/>
                          </a:solidFill>
                          <a:latin typeface="Arial"/>
                        </a:rPr>
                        <a:t>Kablo, Alıcı ve verici</a:t>
                      </a:r>
                      <a:endParaRPr b="0" lang="en-US" sz="2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KÖPRÜ (BRIDGE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28036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Bridge Operation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056720" cy="50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7" name="Picture 5" descr="FIG8-01"/>
          <p:cNvPicPr/>
          <p:nvPr/>
        </p:nvPicPr>
        <p:blipFill>
          <a:blip r:embed="rId1"/>
          <a:srcRect l="21565" t="15492" r="0" b="16904"/>
          <a:stretch/>
        </p:blipFill>
        <p:spPr>
          <a:xfrm>
            <a:off x="539640" y="1557360"/>
            <a:ext cx="8128080" cy="4662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İki farklı ağ ve köprü 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" y="1523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763640" y="1681200"/>
            <a:ext cx="5191200" cy="4653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alka topolojide köprü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0647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Kablonun kapasitesinden daha fazla mesafelere bağlantı kurulması gerektiğinde araya bir yükseltici konularak sinyalin güçlendirilmesini sağlayan cihazdı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5" name="Picture 4" descr="10/100 Series Repeater"/>
          <p:cNvPicPr/>
          <p:nvPr/>
        </p:nvPicPr>
        <p:blipFill>
          <a:blip r:embed="rId1"/>
          <a:stretch/>
        </p:blipFill>
        <p:spPr>
          <a:xfrm>
            <a:off x="611280" y="4005360"/>
            <a:ext cx="3024000" cy="2320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repeater1"/>
          <p:cNvPicPr/>
          <p:nvPr/>
        </p:nvPicPr>
        <p:blipFill>
          <a:blip r:embed="rId2"/>
          <a:stretch/>
        </p:blipFill>
        <p:spPr>
          <a:xfrm>
            <a:off x="4067280" y="4437000"/>
            <a:ext cx="4286160" cy="140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İNELEYİCİ (REPEA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OSI’nin 1. katmanında çalıştığı için verinin içeriğine bakmaz, sadece sinyalleri güçlendirir. Ağ trafiğini yönetmez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59" name="Picture 6" descr="lesson_repeater"/>
          <p:cNvPicPr/>
          <p:nvPr/>
        </p:nvPicPr>
        <p:blipFill>
          <a:blip r:embed="rId1"/>
          <a:stretch/>
        </p:blipFill>
        <p:spPr>
          <a:xfrm>
            <a:off x="2050920" y="3141720"/>
            <a:ext cx="4249800" cy="321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ineleyici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 kablosunun erişebileceği maksimum mesafeyi uzatırlar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Ağdaki maksimum düğüm sayısını arttır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blo arızalarının etkisini azalta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Farklı kablo tipleri kullanan ağları birleştirebili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http://www.turkcenet.org/yerel_htm/repeater_ve_bridge.htm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Ağlar arası (LAN-LAN, LAN-WAN, WAN-WAN) haberleşmenin yapılabilmesi için ara bağlantıyı sağlar. 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Gelen paketin başlığından ve yönlendirme tablosu bilgilerinden yararlanarak yönlendirme kararlarını verme yeteneğine sahipt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826920" y="4365720"/>
            <a:ext cx="3168720" cy="1842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356000" y="4508640"/>
            <a:ext cx="4465800" cy="149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YÖNLENDİRİCİ (ROUTER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770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Routerin bir işlemcisi, epromu ve üzerinde bir işletim sistemi IOS (Internal Operating System) vardı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68" name="Picture 4" descr="7100 Series VPN Router"/>
          <p:cNvPicPr/>
          <p:nvPr/>
        </p:nvPicPr>
        <p:blipFill>
          <a:blip r:embed="rId1"/>
          <a:stretch/>
        </p:blipFill>
        <p:spPr>
          <a:xfrm>
            <a:off x="1258920" y="3284640"/>
            <a:ext cx="61927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Notlar: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Brouter (Bridge Router)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4337"/>
                </a:solidFill>
                <a:latin typeface="Arial"/>
              </a:rPr>
              <a:t>Hem yönlendirici hem de köprüyü tek cihazda toplar.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Katman 3 Switch ve Router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Paketi gönderirken geleneksel router gibi uygun yolun bulunması, paketin kontrolü, hatalıysa tekrar gönderme ve gerekliyse güvenlik kontrollerini yapa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Yüksek perfortmanslı LAN’lar için kullanıldığından genellikle router’dan daha hızlı çalışabilir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WAN için genellikle kullanılmaz.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Yıldız ağ topolojisinde kullanılır. 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Gelen bilgileri hepsini tüm bilgisayarlara gönder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 birbirine bağlanarak ağ büyütüle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88" name="Picture 4" descr="HP 10Base-T HUB-16M"/>
          <p:cNvPicPr/>
          <p:nvPr/>
        </p:nvPicPr>
        <p:blipFill>
          <a:blip r:embed="rId1"/>
          <a:stretch/>
        </p:blipFill>
        <p:spPr>
          <a:xfrm>
            <a:off x="1763640" y="4076640"/>
            <a:ext cx="5616720" cy="24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tar"/>
          <p:cNvPicPr/>
          <p:nvPr/>
        </p:nvPicPr>
        <p:blipFill>
          <a:blip r:embed="rId2"/>
          <a:stretch/>
        </p:blipFill>
        <p:spPr>
          <a:xfrm>
            <a:off x="395280" y="1557360"/>
            <a:ext cx="835344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Paket yönlendirme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2" name="Picture 6" descr="routeforwding"/>
          <p:cNvPicPr/>
          <p:nvPr/>
        </p:nvPicPr>
        <p:blipFill>
          <a:blip r:embed="rId1"/>
          <a:stretch/>
        </p:blipFill>
        <p:spPr>
          <a:xfrm>
            <a:off x="2411280" y="1557360"/>
            <a:ext cx="4583160" cy="498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ğ Geçidi (GATEWAY)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çit, iki farklı protokol arasındaki dönüşümleri sağla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Bu cihaz bir Köprü, Switch veya Yönlendirici olabil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nellikle Yönlendirici (Router) bu görevi üstlendiğinden varsayılan ağ geçidi (default gateway) olarak o tanım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rcRect l="0" t="0" r="0" b="8581"/>
          <a:stretch/>
        </p:blipFill>
        <p:spPr>
          <a:xfrm>
            <a:off x="2712960" y="0"/>
            <a:ext cx="643104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208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LAN Örnek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1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258920" y="4076640"/>
            <a:ext cx="6145200" cy="244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A terminali D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a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ın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Mantıksal ve fiziksel topolojisi, kullanılan donanım elemanları neler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da 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u ağın hızı nedir?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116000" y="4135320"/>
            <a:ext cx="6985080" cy="254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Alıştırma 2_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Aşağıdaki resimde görülen ağda;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 terminali C terminaline veri göndermek istediğinde veri iletimi nasıl gerçekleşir? Açıklayınız. 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7777080" cy="28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d4944"/>
                </a:solidFill>
                <a:latin typeface="Arial"/>
              </a:rPr>
              <a:t>Alıştırma 3 </a:t>
            </a:r>
            <a:endParaRPr b="1" lang="en-US" sz="28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1d4337"/>
                </a:solidFill>
                <a:latin typeface="Arial"/>
              </a:rPr>
              <a:t>1. Terminal 9.terminale bilgi yollamak istediğinde, bu bilgi sağlıklı bir biçimde bu terminale ulaşabilir mi/ulaşamaz mı?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biliyorsa hangi yoldan gidecekt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d4337"/>
                </a:solidFill>
                <a:latin typeface="Arial"/>
              </a:rPr>
              <a:t>Eğer ulaşamıyorsa ne yapmak gereklidir?</a:t>
            </a:r>
            <a:endParaRPr b="0" lang="en-US" sz="18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88" name="Picture 6" descr="repeater_einfuehrung1"/>
          <p:cNvPicPr/>
          <p:nvPr/>
        </p:nvPicPr>
        <p:blipFill>
          <a:blip r:embed="rId1"/>
          <a:stretch/>
        </p:blipFill>
        <p:spPr>
          <a:xfrm>
            <a:off x="1979640" y="2963880"/>
            <a:ext cx="5113440" cy="37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Hub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1d4337"/>
                </a:solidFill>
                <a:latin typeface="Arial"/>
              </a:rPr>
              <a:t>Hublar; Koaksiyel, çift burgulu veya fiber optik kablo ile birbirine bağlanabilir.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Uplink portu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1d4337"/>
                </a:solidFill>
                <a:latin typeface="Arial"/>
              </a:rPr>
              <a:t>Backbone (Omurga) portu 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5512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Hub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lar ve ağ bölümleri (</a:t>
            </a:r>
            <a:r>
              <a:rPr b="1" lang="en-US" sz="3600" spc="-1" strike="noStrike">
                <a:solidFill>
                  <a:srgbClr val="1d4944"/>
                </a:solidFill>
                <a:latin typeface="Arial"/>
              </a:rPr>
              <a:t>segments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30426" t="35185" r="30426" b="35712"/>
          <a:stretch/>
        </p:blipFill>
        <p:spPr>
          <a:xfrm>
            <a:off x="755640" y="1844640"/>
            <a:ext cx="7620120" cy="460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97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Star-wired bus LAN ve iki hub bağlantısı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1d4337"/>
                </a:solidFill>
                <a:latin typeface="Arial"/>
              </a:rPr>
              <a:t>MAU </a:t>
            </a:r>
            <a:r>
              <a:rPr b="1" lang="tr-TR" sz="3600" spc="-1" strike="noStrike">
                <a:solidFill>
                  <a:srgbClr val="1d4944"/>
                </a:solidFill>
                <a:latin typeface="Arial"/>
              </a:rPr>
              <a:t>(Multistation Access Unit)</a:t>
            </a:r>
            <a:endParaRPr b="1" lang="en-US" sz="36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0" name="Picture 3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1d4944"/>
                </a:solidFill>
                <a:latin typeface="Arial"/>
              </a:rPr>
              <a:t>İki MAU bağlanması için MAU’daki RI (Ring In) ve RO (Ring Out portları kullanılır.</a:t>
            </a:r>
            <a:endParaRPr b="1" lang="en-US" sz="2300" spc="-1" strike="noStrike">
              <a:solidFill>
                <a:srgbClr val="1d4944"/>
              </a:solidFill>
              <a:latin typeface="Arial"/>
            </a:endParaRPr>
          </a:p>
        </p:txBody>
      </p:sp>
      <p:pic>
        <p:nvPicPr>
          <p:cNvPr id="103" name="Picture 3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1d4944"/>
                </a:solidFill>
                <a:latin typeface="Arial"/>
              </a:rPr>
              <a:t>SWITCH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kıllı HUB’da denir. Fakat HUB’dan daha pahalıdı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Gelen bilgileri sadece belli bir bilgisayarlara gönderir.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1d4337"/>
                </a:solidFill>
                <a:latin typeface="Arial"/>
              </a:rPr>
              <a:t>Ağ durumunu izler, veriyi gönderip, iletim işleminin yapılıp yapılmadığını test eder. </a:t>
            </a:r>
            <a:endParaRPr b="0" lang="en-US" sz="3000" spc="-1" strike="noStrike">
              <a:solidFill>
                <a:srgbClr val="1d4337"/>
              </a:solidFill>
              <a:latin typeface="Arial"/>
            </a:endParaRPr>
          </a:p>
        </p:txBody>
      </p:sp>
      <p:pic>
        <p:nvPicPr>
          <p:cNvPr id="107" name="Picture 4" descr="Catalyst 1900 Switch"/>
          <p:cNvPicPr/>
          <p:nvPr/>
        </p:nvPicPr>
        <p:blipFill>
          <a:blip r:embed="rId1"/>
          <a:stretch/>
        </p:blipFill>
        <p:spPr>
          <a:xfrm>
            <a:off x="2411280" y="4581360"/>
            <a:ext cx="3959280" cy="207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9:20Z</dcterms:created>
  <dc:creator>Şirin Karadeniz</dc:creator>
  <dc:description/>
  <dc:language>en-US</dc:language>
  <cp:lastModifiedBy>Adil YILDIZ</cp:lastModifiedBy>
  <dcterms:modified xsi:type="dcterms:W3CDTF">2011-10-04T08:25:15Z</dcterms:modified>
  <cp:revision>52</cp:revision>
  <dc:subject/>
  <dc:title>Ağ Donanımları Cihazlar</dc:title>
</cp:coreProperties>
</file>