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09F-BC63-4DC8-A6A8-4B2A68F3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0FE-9268-4798-9FF7-D8C00840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91-04D5-46E4-8C31-F31A2B72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0CB-E9AB-4971-9689-95DDEE80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346B-8347-461B-9E7F-CC9AEACEA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5A7E-4044-4B76-B55A-AF73567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0E6C-B869-4E8A-92B2-89D86CE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2B74-BBA3-412B-A88B-F92BF06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D986-F764-465D-992C-234A158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FAD9-04CC-4DAF-B3C4-F48269F1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21B7-FF6B-4458-B5C3-AE56BB7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A8F-AECC-4E84-AA3E-F5366424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104-666C-4875-99F5-56C72C3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1D2C-7972-4233-8A69-70E4F49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425E-687A-4DDB-9C04-CB373008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7422-2082-4B50-A342-4C516E66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3747-1FB9-4A89-AB78-24EA26F7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B03-9D5C-40EB-BFAA-D9B3099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5F4-AC60-4FCF-92BA-80C5B32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300-CD3B-4AAA-AF44-2F951063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7C8-11A2-4ACA-A0D6-B3DECF14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EF78-DF14-4055-971D-6E8B9E52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E47-882C-423A-82DD-978D0A4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591-8894-42EF-B750-329BC58A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F9EA-A117-46A3-8F39-6B86A07FA0D7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D75D-006F-4713-AECA-A8DBE407FA22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UTP Kablo Bağlantıları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(Düz/Çapr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1’den Fazla Hub Bağlantısında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40cascade"/>
          <p:cNvPicPr/>
          <p:nvPr/>
        </p:nvPicPr>
        <p:blipFill>
          <a:blip r:embed="rId1"/>
          <a:stretch/>
        </p:blipFill>
        <p:spPr>
          <a:xfrm>
            <a:off x="1547640" y="1700280"/>
            <a:ext cx="6334200" cy="44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n-8816"/>
          <p:cNvPicPr/>
          <p:nvPr/>
        </p:nvPicPr>
        <p:blipFill>
          <a:blip r:embed="rId2"/>
          <a:stretch/>
        </p:blipFill>
        <p:spPr>
          <a:xfrm>
            <a:off x="1116000" y="1341360"/>
            <a:ext cx="6912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İki Bilgisayar Arası Çapraz (Cross) Bağlant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030804figure3"/>
          <p:cNvPicPr/>
          <p:nvPr/>
        </p:nvPicPr>
        <p:blipFill>
          <a:blip r:embed="rId1"/>
          <a:stretch/>
        </p:blipFill>
        <p:spPr>
          <a:xfrm>
            <a:off x="826920" y="1989000"/>
            <a:ext cx="727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Çapraz/Düz Kablo Bağlantıs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ross_duz_kullanimi"/>
          <p:cNvPicPr/>
          <p:nvPr/>
        </p:nvPicPr>
        <p:blipFill>
          <a:blip r:embed="rId1"/>
          <a:stretch/>
        </p:blipFill>
        <p:spPr>
          <a:xfrm>
            <a:off x="3384720" y="1052640"/>
            <a:ext cx="5759280" cy="4779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74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Çapraz Bağlantı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İki hub arası veya 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ilgisayar arası U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blo ile  bağlant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yapmak için kullanıl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ü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Straight-Through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A veya 568B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ethcable568a"/>
          <p:cNvPicPr/>
          <p:nvPr/>
        </p:nvPicPr>
        <p:blipFill>
          <a:blip r:embed="rId1"/>
          <a:stretch/>
        </p:blipFill>
        <p:spPr>
          <a:xfrm>
            <a:off x="4500720" y="1197000"/>
            <a:ext cx="420516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thcable568b"/>
          <p:cNvPicPr/>
          <p:nvPr/>
        </p:nvPicPr>
        <p:blipFill>
          <a:blip r:embed="rId2"/>
          <a:stretch/>
        </p:blipFill>
        <p:spPr>
          <a:xfrm>
            <a:off x="4572000" y="4005360"/>
            <a:ext cx="4211640" cy="263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Kablo-Sema-100"/>
          <p:cNvPicPr/>
          <p:nvPr/>
        </p:nvPicPr>
        <p:blipFill>
          <a:blip r:embed="rId3"/>
          <a:stretch/>
        </p:blipFill>
        <p:spPr>
          <a:xfrm>
            <a:off x="324000" y="1197000"/>
            <a:ext cx="3284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apraz Kablo (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Crossover Ethernet Cable) 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568A&lt;-&gt;568B olmalıdı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cat5_cross_100_both"/>
          <p:cNvPicPr/>
          <p:nvPr/>
        </p:nvPicPr>
        <p:blipFill>
          <a:blip r:embed="rId1"/>
          <a:stretch/>
        </p:blipFill>
        <p:spPr>
          <a:xfrm>
            <a:off x="4511520" y="1125360"/>
            <a:ext cx="4395960" cy="5732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Kablo-Sema-cross"/>
          <p:cNvPicPr/>
          <p:nvPr/>
        </p:nvPicPr>
        <p:blipFill>
          <a:blip r:embed="rId2"/>
          <a:stretch/>
        </p:blipFill>
        <p:spPr>
          <a:xfrm>
            <a:off x="468360" y="1413000"/>
            <a:ext cx="25956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ize verilecek olan UTP Kablo ve RJ-45 konektörlerini kullanarak düz kablo bağlantısı yapını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30:26Z</dcterms:created>
  <dc:creator>Şirin Karadeniz</dc:creator>
  <dc:description/>
  <dc:language>en-US</dc:language>
  <cp:lastModifiedBy>Adil YILDIZ</cp:lastModifiedBy>
  <dcterms:modified xsi:type="dcterms:W3CDTF">2011-10-04T08:25:37Z</dcterms:modified>
  <cp:revision>12</cp:revision>
  <dc:subject/>
  <dc:title>UTP Kablo Bağlantıları</dc:title>
</cp:coreProperties>
</file>