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6.jpeg" ContentType="image/jpeg"/>
  <Override PartName="/ppt/media/image23.png" ContentType="image/png"/>
  <Override PartName="/ppt/media/image8.jpeg" ContentType="image/jpeg"/>
  <Override PartName="/ppt/media/image5.png" ContentType="image/png"/>
  <Override PartName="/ppt/media/image30.png" ContentType="image/png"/>
  <Override PartName="/ppt/media/image10.png" ContentType="image/png"/>
  <Override PartName="/ppt/media/image27.jpeg" ContentType="image/jpeg"/>
  <Override PartName="/ppt/media/image29.png" ContentType="image/png"/>
  <Override PartName="/ppt/media/image6.png" ContentType="image/png"/>
  <Override PartName="/ppt/media/image4.png" ContentType="image/png"/>
  <Override PartName="/ppt/media/image12.jpeg" ContentType="image/jpeg"/>
  <Override PartName="/ppt/media/image13.png" ContentType="image/png"/>
  <Override PartName="/ppt/media/image7.png" ContentType="image/png"/>
  <Override PartName="/ppt/media/image9.png" ContentType="image/png"/>
  <Override PartName="/ppt/media/image11.jpeg" ContentType="image/jpeg"/>
  <Override PartName="/ppt/media/image3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14.png" ContentType="image/png"/>
  <Override PartName="/ppt/media/image16.png" ContentType="image/png"/>
  <Override PartName="/ppt/media/image32.jpeg" ContentType="image/jpeg"/>
  <Override PartName="/ppt/media/image17.png" ContentType="image/png"/>
  <Override PartName="/ppt/media/image22.png" ContentType="image/png"/>
  <Override PartName="/ppt/media/image24.jpeg" ContentType="image/jpeg"/>
  <Override PartName="/ppt/media/image15.png" ContentType="image/png"/>
  <Override PartName="/ppt/media/image18.jpeg" ContentType="image/jpeg"/>
  <Override PartName="/ppt/media/image19.png" ContentType="image/png"/>
  <Override PartName="/ppt/media/image21.png" ContentType="image/png"/>
  <Override PartName="/ppt/media/image20.png" ContentType="image/png"/>
  <Override PartName="/ppt/media/image2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54028C-B6ED-4DF3-B2A3-220942962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F5BF77-08BA-468F-A747-401E2A13E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F6BDBA-0E31-4DD1-8277-316A35334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CC2E8D-9A81-4964-927E-29388188D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2241E-50EB-4782-9C16-E7CC5BC6E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DAB61-B7DA-4025-A2F5-D7A38BC9D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DEC5B-7D67-41E5-8A04-2E21A9D31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6BE4E-8047-4CE6-8374-1507CF87F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AB751-C413-4FA1-B621-A160D7BC0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3AE18-AFC3-419F-B69B-17CFBBA8F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E4E36-FE4A-40AC-8039-D66CF40F8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2C8927-0267-45B7-9B78-FF86F4EB1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74710-A8D0-4EB7-9849-B4FBECA6D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520CF-AF59-4B00-A097-900A374BE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34114-730D-40CB-9E4A-D13C50C42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71AB7-ACBE-444F-B657-EA25AD068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F9E10-EC4D-4BE3-B198-BFCA39AA2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046A6B-B44C-4A59-BD8F-35DB4A393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718D0A-62FF-4AFE-B990-AFF79C760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8F9E76-C74C-439B-A5A9-F98207A21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55BE9C-B910-47B6-812B-7A3AA8532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A2A91B-E6B5-4676-881E-DBB7B10F6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789962-2654-4D71-8D4E-5975ED3A2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A15534-E503-4CD1-AA92-BAC644B06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98DA9-D118-4744-AC26-9D58955D19FC}" type="slidenum">
              <a:rPr b="0" lang="tr-T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6FC2D-E768-408E-855B-8CCAD7D98223}" type="slidenum">
              <a:rPr b="0" lang="tr-T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images.google.com.tr/imgres?imgurl=http://refillshoppen.dk/Graphics/Products/3602_m.jpg&amp;imgrefurl=http://refillshoppen.dk/static/000309/000001/003602.asp&amp;h=150&amp;w=200&amp;sz=5&amp;tbnid=xWrsNbIwXYzF4M:&amp;tbnh=74&amp;tbnw=99&amp;hl=tr&amp;start=43&amp;prev=/images%3Fq%3Dutp%2Bstp%2Brj-45%2B%26start%3D40%26svnum%3D10%26hl%3Dtr%26lr%3D%26sa%3DN" TargetMode="External"/><Relationship Id="rId3" Type="http://schemas.openxmlformats.org/officeDocument/2006/relationships/image" Target="../media/image12.jpe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hyperlink" Target="http://images.google.com.tr/imgres?imgurl=http://fiberlogix.com.pk/pdf/images/Multifiber%2520Assembled%2520Indoor%2520Cables_img_0.jpg&amp;imgrefurl=http://fiberlogix.com.pk/pdf/Multifiber%2520Assembled%2520Indoor%2520Cables.htm&amp;h=380&amp;w=717&amp;sz=23&amp;tbnid=u9RzJcAAcmZ5lM:&amp;tbnh=73&amp;tbnw=138&amp;hl=tr&amp;start=4&amp;prev=/images%3Fq%3Dmultifiber%26svnum%3D10%26hl%3Dtr%26lr%3D%26sa%3DN" TargetMode="External"/><Relationship Id="rId5" Type="http://schemas.openxmlformats.org/officeDocument/2006/relationships/image" Target="../media/image28.jpeg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ffffff"/>
                </a:solidFill>
                <a:latin typeface="Arial"/>
              </a:rPr>
              <a:t>Ağ Donanımları</a:t>
            </a:r>
            <a:br>
              <a:rPr sz="5000"/>
            </a:br>
            <a:r>
              <a:rPr b="0" lang="tr-TR" sz="5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4000" spc="-1" strike="noStrike">
                <a:solidFill>
                  <a:srgbClr val="ffffff"/>
                </a:solidFill>
                <a:latin typeface="Arial"/>
              </a:rPr>
              <a:t>Kablo ve Konnektörle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-360" y="620640"/>
            <a:ext cx="637236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ıldız Topoloj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-360" y="1412640"/>
            <a:ext cx="79930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UTP, STP kablo, RJ-45 konnektö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3_2" descr=""/>
          <p:cNvPicPr/>
          <p:nvPr/>
        </p:nvPicPr>
        <p:blipFill>
          <a:blip r:embed="rId1"/>
          <a:stretch/>
        </p:blipFill>
        <p:spPr>
          <a:xfrm>
            <a:off x="7451640" y="2133720"/>
            <a:ext cx="1368360" cy="102708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667640" y="907920"/>
            <a:ext cx="942840" cy="70488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826920" y="1989000"/>
            <a:ext cx="6409080" cy="32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50560" y="764640"/>
            <a:ext cx="8713800" cy="1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Çift Burgulu Kablolar (Twisted-Pair)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114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Tek (örneğin dahili hatlarda), dört (oldukça yaygındır) veya sekiz çift kablodan oluşabili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UTP (Unshielded Twisted Pai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STP (Shielded Twisted Pai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4932360" y="1754280"/>
            <a:ext cx="4100400" cy="35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68000" y="681120"/>
            <a:ext cx="8077320" cy="10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TP ~ ST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268280"/>
            <a:ext cx="821844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STP kablolar UTP’ye göre daha pahalıdır ve </a:t>
            </a:r>
            <a:r>
              <a:rPr b="0" lang="tr-TR" sz="2800" spc="-1" strike="noStrike" u="sng">
                <a:solidFill>
                  <a:srgbClr val="666699"/>
                </a:solidFill>
                <a:uFillTx/>
                <a:latin typeface="Arial"/>
              </a:rPr>
              <a:t>gürültü 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sinyallerinde daha az etkileni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UTP kabloların yaygın olarak kullanılmaktadı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395280" y="115920"/>
            <a:ext cx="8208720" cy="6479640"/>
            <a:chOff x="395280" y="115920"/>
            <a:chExt cx="8208720" cy="6479640"/>
          </a:xfrm>
        </p:grpSpPr>
        <p:pic>
          <p:nvPicPr>
            <p:cNvPr id="142" name="" descr=""/>
            <p:cNvPicPr/>
            <p:nvPr/>
          </p:nvPicPr>
          <p:blipFill>
            <a:blip r:embed="rId1"/>
            <a:stretch/>
          </p:blipFill>
          <p:spPr>
            <a:xfrm>
              <a:off x="542160" y="115920"/>
              <a:ext cx="8061840" cy="349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395280" y="3709800"/>
              <a:ext cx="8136360" cy="2885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"/>
          <p:cNvGrpSpPr/>
          <p:nvPr/>
        </p:nvGrpSpPr>
        <p:grpSpPr>
          <a:xfrm>
            <a:off x="4284720" y="1549440"/>
            <a:ext cx="3744720" cy="1617480"/>
            <a:chOff x="4284720" y="1549440"/>
            <a:chExt cx="3744720" cy="1617480"/>
          </a:xfrm>
        </p:grpSpPr>
        <p:pic>
          <p:nvPicPr>
            <p:cNvPr id="145" name="" descr=""/>
            <p:cNvPicPr/>
            <p:nvPr/>
          </p:nvPicPr>
          <p:blipFill>
            <a:blip r:embed="rId1"/>
            <a:stretch/>
          </p:blipFill>
          <p:spPr>
            <a:xfrm>
              <a:off x="4284720" y="1700280"/>
              <a:ext cx="1809720" cy="146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724360" y="1549440"/>
              <a:ext cx="2305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GÜRÜLTÜ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ürült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9280" y="2773440"/>
            <a:ext cx="3311640" cy="1089000"/>
            <a:chOff x="179280" y="2773440"/>
            <a:chExt cx="3311640" cy="1089000"/>
          </a:xfrm>
        </p:grpSpPr>
        <p:sp>
          <p:nvSpPr>
            <p:cNvPr id="149" name="desk1"/>
            <p:cNvSpPr/>
            <p:nvPr/>
          </p:nvSpPr>
          <p:spPr>
            <a:xfrm>
              <a:off x="179280" y="2773440"/>
              <a:ext cx="1440000" cy="576000"/>
            </a:xfrm>
            <a:prstGeom prst="pi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Kayna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desk1"/>
            <p:cNvSpPr/>
            <p:nvPr/>
          </p:nvSpPr>
          <p:spPr>
            <a:xfrm>
              <a:off x="2195640" y="2773440"/>
              <a:ext cx="1008000" cy="576000"/>
            </a:xfrm>
            <a:prstGeom prst="pie">
              <a:avLst/>
            </a:prstGeom>
            <a:solidFill>
              <a:srgbClr val="cccce6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N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619280" y="3062160"/>
              <a:ext cx="576360" cy="0"/>
            </a:xfrm>
            <a:prstGeom prst="line">
              <a:avLst/>
            </a:prstGeom>
            <a:ln w="316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79280" y="3494160"/>
              <a:ext cx="180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Kodlanan Ver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050920" y="3494160"/>
              <a:ext cx="144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Gönder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5651640" y="2773440"/>
            <a:ext cx="3528720" cy="1089000"/>
            <a:chOff x="5651640" y="2773440"/>
            <a:chExt cx="3528720" cy="1089000"/>
          </a:xfrm>
        </p:grpSpPr>
        <p:sp>
          <p:nvSpPr>
            <p:cNvPr id="155" name="desk1"/>
            <p:cNvSpPr/>
            <p:nvPr/>
          </p:nvSpPr>
          <p:spPr>
            <a:xfrm>
              <a:off x="7164360" y="2773440"/>
              <a:ext cx="1944720" cy="649080"/>
            </a:xfrm>
            <a:prstGeom prst="pi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Hedef/Alıcı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desk1"/>
            <p:cNvSpPr/>
            <p:nvPr/>
          </p:nvSpPr>
          <p:spPr>
            <a:xfrm>
              <a:off x="5651640" y="2773440"/>
              <a:ext cx="1008000" cy="576000"/>
            </a:xfrm>
            <a:prstGeom prst="pie">
              <a:avLst/>
            </a:prstGeom>
            <a:solidFill>
              <a:srgbClr val="cccce6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N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724360" y="3494160"/>
              <a:ext cx="79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lıc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985080" y="3494160"/>
              <a:ext cx="219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Kodu çözülen ver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659640" y="3062160"/>
              <a:ext cx="504720" cy="0"/>
            </a:xfrm>
            <a:prstGeom prst="line">
              <a:avLst/>
            </a:prstGeom>
            <a:ln w="316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3419640" y="2630520"/>
            <a:ext cx="2087280" cy="1015920"/>
            <a:chOff x="3419640" y="2630520"/>
            <a:chExt cx="2087280" cy="1015920"/>
          </a:xfrm>
        </p:grpSpPr>
        <p:sp>
          <p:nvSpPr>
            <p:cNvPr id="161" name=""/>
            <p:cNvSpPr/>
            <p:nvPr/>
          </p:nvSpPr>
          <p:spPr>
            <a:xfrm>
              <a:off x="3419640" y="2630520"/>
              <a:ext cx="151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iny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19640" y="3278160"/>
              <a:ext cx="20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İletişim Kanal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564000" y="3133800"/>
              <a:ext cx="1873080" cy="0"/>
            </a:xfrm>
            <a:prstGeom prst="line">
              <a:avLst/>
            </a:prstGeom>
            <a:ln w="316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IEEE standartlarına göre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10Base-T (10 Mbps) v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100Base-T (100 Mbps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ağlarda bir kablo en fazla 100 m olabili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9280" y="476280"/>
            <a:ext cx="8713800" cy="67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Çift Burgulu Kablolar (Twisted-Pair)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2268360" y="3284640"/>
            <a:ext cx="3810240" cy="143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TP Kablo Kategoriler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611280" y="1015920"/>
          <a:ext cx="8137440" cy="5581800"/>
        </p:xfrm>
        <a:graphic>
          <a:graphicData uri="http://schemas.openxmlformats.org/drawingml/2006/table">
            <a:tbl>
              <a:tblPr/>
              <a:tblGrid>
                <a:gridCol w="1657080"/>
                <a:gridCol w="6480360"/>
              </a:tblGrid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tegor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ygulama Alan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(CAT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anlızca ses veri iletimi yapılmaz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6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s ve 1 Mbps’ ye kadar veri iletimi.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8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s ve 10 Mbps’ ye kadar veri iletimi.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s ve 20 Mbps’ ye kadar veri iletimi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s ve 100 Mbps’ ye kadar veri iletimi.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s ve 622 Mbps’ ye kadar veri iletimi.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s ve 1 Gps’ ye kadar veri iletimi.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s ve 10 Gps’ ye kadar veri iletimi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9280" y="615600"/>
            <a:ext cx="807588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000000"/>
                </a:solidFill>
                <a:latin typeface="Arial"/>
              </a:rPr>
              <a:t>Çift Burgulu Kablo Konnektörü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1280" y="141264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Bu tür kablolar RJ-45 konnektörü ile bilgisayar bağlanır. RJ-45’in en çok kullanılan standardı 10BASE-T’di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10/100 Mbps hızındadırl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Halka ve yıldız tipi topolojilerde kullanılı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5076720" y="2006640"/>
            <a:ext cx="3524400" cy="26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68000" y="681120"/>
            <a:ext cx="8077320" cy="10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iber Optik Kablola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196640"/>
            <a:ext cx="785988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2 Km’ye kadar uzayabilen geniş alanlarda, elektriksel sinyallerden etkilenmeden yüksek kapasiteli iletişim ortamı sağlamada kullanılı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124000" y="2924280"/>
            <a:ext cx="5040360" cy="326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iber Optik Kablol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95280" y="1844280"/>
            <a:ext cx="4038480" cy="395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Gelen elektriksel sinyalleri ışık sinyallerine çeviri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Işık fiber optik kabloda dengeli bir şekilde yol alır ve buna mod deni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4572000" y="2376360"/>
            <a:ext cx="4038480" cy="24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8077320" cy="9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iber Optik Kablo Çeşitler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39280" y="1125360"/>
            <a:ext cx="79930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Arial"/>
              </a:rPr>
              <a:t>Tek, Çok modlu ve çok modlu kademeli olmak üzere 3 çeşidi vardı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Tek Mod Fiberler (Single Mode Fiber- SMF) :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Arial"/>
              </a:rPr>
              <a:t>Işığın tek bir modda ya da tek bir yolda ilerlemesine olanak tanırlar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Arial"/>
              </a:rPr>
              <a:t>Düşük  sinyal kayıplarının olduğu ve yüksek veri iletişim hızının gerektirdiği durumlarda kullanılırla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Çoklu Mod Fiberler (Multi Mode Fiber- MMF) :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Arial"/>
              </a:rPr>
              <a:t>Işığın birden fazla modunu ileten fiberlerdir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Arial"/>
              </a:rPr>
              <a:t>Işın çarpışmaları meydana gelebileceğinden kısa mesafeler için kullanılı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755640" y="1235160"/>
            <a:ext cx="7416720" cy="45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8077320" cy="9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iber Optik Kablo Çeşitler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1332000" y="1197000"/>
            <a:ext cx="6192720" cy="440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8077320" cy="9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iber Optik Kablo Çeşitler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2700000" y="1125360"/>
            <a:ext cx="583236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24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Tek Mod Fiberle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8.3/125 micron SM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Çoklu Mod Fiberle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2.5/125 micron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 MM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50/125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cron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 MM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100/140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cron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 MM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single-mode, multi-mode fiber optics, pictures of fiber optic cable, fiber optic pictures, free fiber optic training, how it works, Singlemode fiber, Multimode fiber, Types of Fiber Cables"/>
          <p:cNvPicPr/>
          <p:nvPr/>
        </p:nvPicPr>
        <p:blipFill>
          <a:blip r:embed="rId1"/>
          <a:stretch/>
        </p:blipFill>
        <p:spPr>
          <a:xfrm>
            <a:off x="4356000" y="4149720"/>
            <a:ext cx="2381400" cy="200016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single-mode, multi-mode fiber optics, pictures of fiber optic cable, fiber optic pictures, free fiber optic training, how it works, Singlemode fiber, Multimode fiber, Types of Fiber Cables"/>
          <p:cNvPicPr/>
          <p:nvPr/>
        </p:nvPicPr>
        <p:blipFill>
          <a:blip r:embed="rId2"/>
          <a:stretch/>
        </p:blipFill>
        <p:spPr>
          <a:xfrm>
            <a:off x="179280" y="1125360"/>
            <a:ext cx="2048040" cy="40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71280" y="260280"/>
            <a:ext cx="7574040" cy="7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iber Optik Kablola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124000" y="836640"/>
            <a:ext cx="69120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r bir fiberden tek yönlü haberleşme sağlanır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İki yönlü bir haberleşme için en az iki fiber gereklidir.  Veya bir fiberde hem veri gönderimi hem de verinin alımını sağlayan iki ayrı yol olmalıdı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692280"/>
            <a:ext cx="2057400" cy="1733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9" name=""/>
          <p:cNvGraphicFramePr/>
          <p:nvPr/>
        </p:nvGraphicFramePr>
        <p:xfrm>
          <a:off x="324000" y="2637000"/>
          <a:ext cx="8218440" cy="3598560"/>
        </p:xfrm>
        <a:graphic>
          <a:graphicData uri="http://schemas.openxmlformats.org/drawingml/2006/table">
            <a:tbl>
              <a:tblPr/>
              <a:tblGrid>
                <a:gridCol w="2232000"/>
                <a:gridCol w="5986440"/>
              </a:tblGrid>
              <a:tr h="101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344520" indent="11268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mplex: İçerisinde sadece bir optik kablo v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344520" indent="11268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uplex: İçerisinde 2 optik kablo var. LAN omurga kablosu olarak çok tercih edilmektedir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2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344520" indent="11268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ltifiber: İçerisinde 2’den fazla optik kablo var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754200" y="2781360"/>
            <a:ext cx="1666800" cy="95256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3"/>
          <a:stretch/>
        </p:blipFill>
        <p:spPr>
          <a:xfrm>
            <a:off x="754200" y="3932280"/>
            <a:ext cx="1666800" cy="95256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900000" y="5300640"/>
            <a:ext cx="1314720" cy="6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0000"/>
                </a:solidFill>
                <a:latin typeface="Arial"/>
              </a:rPr>
              <a:t>Fiber Optik Kablo Konnektörler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457200" y="1413000"/>
          <a:ext cx="8229600" cy="4717800"/>
        </p:xfrm>
        <a:graphic>
          <a:graphicData uri="http://schemas.openxmlformats.org/drawingml/2006/table">
            <a:tbl>
              <a:tblPr/>
              <a:tblGrid>
                <a:gridCol w="4691160"/>
                <a:gridCol w="3538440"/>
              </a:tblGrid>
              <a:tr h="169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 (Straight tip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1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 (Subscriber tip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T-RJ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611280" y="1549440"/>
            <a:ext cx="1904760" cy="14479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468360" y="3141720"/>
            <a:ext cx="1905120" cy="141912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3"/>
          <a:stretch/>
        </p:blipFill>
        <p:spPr>
          <a:xfrm>
            <a:off x="2843280" y="3141720"/>
            <a:ext cx="1904760" cy="144792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4"/>
          <a:stretch/>
        </p:blipFill>
        <p:spPr>
          <a:xfrm>
            <a:off x="539640" y="4724280"/>
            <a:ext cx="2160720" cy="13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4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Kablolar - Öz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395280" y="620640"/>
          <a:ext cx="8353440" cy="5962680"/>
        </p:xfrm>
        <a:graphic>
          <a:graphicData uri="http://schemas.openxmlformats.org/drawingml/2006/table">
            <a:tbl>
              <a:tblPr/>
              <a:tblGrid>
                <a:gridCol w="1670040"/>
                <a:gridCol w="1513080"/>
                <a:gridCol w="1201680"/>
                <a:gridCol w="1182600"/>
                <a:gridCol w="2786040"/>
              </a:tblGrid>
              <a:tr h="778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thernet Adı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ablo Tip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x. Veri Transfer Hızı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x. Veri Transfer Uzaklığı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çıklam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Base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alın Koaksiye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 Mbp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0 metr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NC, 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Base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İnce Koaksiye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 Mbp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5 metr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NC, 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Base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TP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 Mbp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 metr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J-4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Base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TP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 Mbp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 metr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J-4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0Base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TP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0 Mbp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 metr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J-45, CAT5 ve üstü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0BaseTX (Gigabit Ethernet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TP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0 Mbp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 metr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J-45, CAT5 ve üstü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BaseF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ber (multimode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 Mbp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0 metr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ğlar arası, Fiber optik hub ve NIC arası bağlantı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BaseFX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ber (multimode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 Mbp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0 metr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 Mbps Ethernet ağlard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0BaseSX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ber (multimode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0 Mbp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0 metr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C, PC ve hub arası bağlantı için tasarlanmıştır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0BaseLX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ber (singlemode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0 Mbp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50 metr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0BaseSX’in daha uzun mesafeler arası kullanması için, genellikle omurga olarak kullanılır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8000" y="115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ğrusal Topoloj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-360" y="1267920"/>
            <a:ext cx="799308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Koaksiyel kab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BNC konnektö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BNC T konnektö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042920" y="2335320"/>
            <a:ext cx="6961320" cy="21016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1403280" y="4508640"/>
            <a:ext cx="686592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6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0000"/>
                </a:solidFill>
                <a:latin typeface="Arial"/>
              </a:rPr>
              <a:t>Eş eksenli (Koaksiyel) Kab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levizyon kablosunun daha esnek ve ince olanıdır. Bakır tellerden ve üzerinde manyetik korumadan ibaretti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692360" y="3240000"/>
            <a:ext cx="5616360" cy="247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0000"/>
                </a:solidFill>
                <a:latin typeface="Arial"/>
              </a:rPr>
              <a:t>Eş eksenli (Koaksiyel) Kab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749952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Arial"/>
              </a:rPr>
              <a:t>İki çeşittir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İnce (Thin Coax), taşıma mesafesi 185m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Kalın (Thick Coax), 500 metredi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Arial"/>
              </a:rPr>
              <a:t>(10Base-2 ağlarda IEEE standardına göre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619280" y="3611520"/>
            <a:ext cx="6119640" cy="206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77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Eş eksenli (Koaksiyel) Kablo </a:t>
            </a:r>
            <a:br>
              <a:rPr sz="3200"/>
            </a:b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Tipler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468360" y="1557360"/>
          <a:ext cx="7128000" cy="3581280"/>
        </p:xfrm>
        <a:graphic>
          <a:graphicData uri="http://schemas.openxmlformats.org/drawingml/2006/table">
            <a:tbl>
              <a:tblPr/>
              <a:tblGrid>
                <a:gridCol w="1492200"/>
                <a:gridCol w="2036880"/>
                <a:gridCol w="3598920"/>
              </a:tblGrid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İ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MPED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ULLANI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G-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 Oh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BASE-5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Kalın-Thicknet) - 500 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G-5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 Oh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BASE-2</a:t>
                      </a:r>
                      <a:r>
                        <a:rPr b="0" lang="tr-TR" sz="2000" spc="-1" strike="noStrike">
                          <a:solidFill>
                            <a:srgbClr val="9999cc"/>
                          </a:solidFill>
                          <a:latin typeface="Arial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İnce-Thinnet) - 185 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G-5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 Oh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blo T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G-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 Oh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ten kablos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1" name=""/>
          <p:cNvSpPr/>
          <p:nvPr/>
        </p:nvSpPr>
        <p:spPr>
          <a:xfrm>
            <a:off x="468360" y="537372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* Yerel ağlarda en çok kullanılan standart. Bunlarda kablo mesafesi IEEE standartlarına göre 185 m’di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7715160" y="0"/>
            <a:ext cx="1428840" cy="17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35290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Koaksiyel Kablo </a:t>
            </a:r>
            <a:br>
              <a:rPr sz="3200"/>
            </a:b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Konnektörler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4000" y="1197000"/>
            <a:ext cx="749916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BNC (British Naval Connector) konnektö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Eşeksenli kablolarda kullanılı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BNC T konnektö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10Base2 sistemlerde kullanılı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İki kablo ucunu ve ethernet kartını bağlamak için kullanılı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2771640" y="3789360"/>
            <a:ext cx="5616720" cy="30243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4284720" y="0"/>
            <a:ext cx="4859280" cy="102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000000"/>
                </a:solidFill>
                <a:latin typeface="Arial"/>
              </a:rPr>
              <a:t>Koaksiyel Kablo Konnektörler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10920" y="3933720"/>
            <a:ext cx="749916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Eşeksenli kablolar BNC konnektörleri ile sonlandırılır ve bilgisayar arkasındaki aktarım aygıta takılacak T-şeklindeki bağlayıcılara takılırla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Kablo sonunda 10Base5 ise 75, 10Base2 ise 50 Ohm’luk sonlandırıcı (Terminator)  takılı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771640" y="1628640"/>
            <a:ext cx="285768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Bağlantılar"/>
          <p:cNvPicPr/>
          <p:nvPr/>
        </p:nvPicPr>
        <p:blipFill>
          <a:blip r:embed="rId1"/>
          <a:stretch/>
        </p:blipFill>
        <p:spPr>
          <a:xfrm>
            <a:off x="206280" y="1484280"/>
            <a:ext cx="832644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7T09:22:48Z</dcterms:created>
  <dc:creator>Şirin Karadeniz</dc:creator>
  <dc:description/>
  <dc:language>en-US</dc:language>
  <cp:lastModifiedBy>abgulbagci</cp:lastModifiedBy>
  <dcterms:modified xsi:type="dcterms:W3CDTF">2006-10-30T09:01:27Z</dcterms:modified>
  <cp:revision>76</cp:revision>
  <dc:subject/>
  <dc:title>Ağ Donanımları</dc:title>
</cp:coreProperties>
</file>