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F203-FBB5-480F-87D1-F4E84572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F526-28D1-4CEA-AFB9-9446197F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9B1B-13FA-4746-86E6-E7BA60DA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8DCE-8C34-4751-9383-BF7864CF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294F-8D95-4DEF-BFB6-57FE058A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55B1-73B4-4AB4-B30D-391186C1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6F4E-202A-4E02-9708-5C60533B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D5D8-E6CC-4A38-A688-CDFC7DEC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D921-D244-40D3-B027-4601D16D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F4E3-BCB3-4BCD-806A-AB22E3EB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BB4D-C600-44A0-8068-53285587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9C92-175F-41BC-81A0-67796A10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1F99-C7DC-4CAC-8756-20228688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3FF5-0EB6-4051-95FE-ED5733FC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2FA5-86B4-45B7-BA2F-F30BBC93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721C-A87F-477E-958A-67EAFC36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6AD9-10FD-4543-80E5-B4843961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1DF4-C263-4D1E-9402-90BE6AF1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A251-65B4-44B4-99FE-CAD8BDC5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319B-A1CA-4DA9-952B-EFEC7C48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B5B5-92B3-4BCA-A195-5552330A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9B2-DA52-435F-82C0-50576745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A741-9BB6-4A26-AF0C-1DD97B0A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B1E-E06B-4CB9-8863-410D1070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E909-55D3-4B6A-9B75-2C8313272300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1311-1D9C-435C-B687-063E0A5A1635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UTP Kablo Bağlantıları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(Düz/Çapra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1’den Fazla Hub Bağlantısında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040cascade"/>
          <p:cNvPicPr/>
          <p:nvPr/>
        </p:nvPicPr>
        <p:blipFill>
          <a:blip r:embed="rId1"/>
          <a:stretch/>
        </p:blipFill>
        <p:spPr>
          <a:xfrm>
            <a:off x="1547640" y="1700280"/>
            <a:ext cx="6334200" cy="442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n-8816"/>
          <p:cNvPicPr/>
          <p:nvPr/>
        </p:nvPicPr>
        <p:blipFill>
          <a:blip r:embed="rId2"/>
          <a:stretch/>
        </p:blipFill>
        <p:spPr>
          <a:xfrm>
            <a:off x="1116000" y="1341360"/>
            <a:ext cx="6912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İki Bilgisayar Arası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030804figure3"/>
          <p:cNvPicPr/>
          <p:nvPr/>
        </p:nvPicPr>
        <p:blipFill>
          <a:blip r:embed="rId1"/>
          <a:stretch/>
        </p:blipFill>
        <p:spPr>
          <a:xfrm>
            <a:off x="826920" y="1989000"/>
            <a:ext cx="7272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Çapraz/Düz Kablo Bağlantıs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cross_duz_kullanimi"/>
          <p:cNvPicPr/>
          <p:nvPr/>
        </p:nvPicPr>
        <p:blipFill>
          <a:blip r:embed="rId1"/>
          <a:stretch/>
        </p:blipFill>
        <p:spPr>
          <a:xfrm>
            <a:off x="3384720" y="1052640"/>
            <a:ext cx="5759280" cy="4779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374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apraz Bağlantı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ki hub arası veya 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lgisayar arası U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blo ile  bağlant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apmak için kullanıl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ü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traight-Through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A veya 568B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ethcable568a"/>
          <p:cNvPicPr/>
          <p:nvPr/>
        </p:nvPicPr>
        <p:blipFill>
          <a:blip r:embed="rId1"/>
          <a:stretch/>
        </p:blipFill>
        <p:spPr>
          <a:xfrm>
            <a:off x="4500720" y="1197000"/>
            <a:ext cx="4205160" cy="26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ethcable568b"/>
          <p:cNvPicPr/>
          <p:nvPr/>
        </p:nvPicPr>
        <p:blipFill>
          <a:blip r:embed="rId2"/>
          <a:stretch/>
        </p:blipFill>
        <p:spPr>
          <a:xfrm>
            <a:off x="4572000" y="4005360"/>
            <a:ext cx="4211640" cy="263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Kablo-Sema-100"/>
          <p:cNvPicPr/>
          <p:nvPr/>
        </p:nvPicPr>
        <p:blipFill>
          <a:blip r:embed="rId3"/>
          <a:stretch/>
        </p:blipFill>
        <p:spPr>
          <a:xfrm>
            <a:off x="324000" y="1197000"/>
            <a:ext cx="3284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apra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Crossover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cat5_cross_100_both"/>
          <p:cNvPicPr/>
          <p:nvPr/>
        </p:nvPicPr>
        <p:blipFill>
          <a:blip r:embed="rId1"/>
          <a:stretch/>
        </p:blipFill>
        <p:spPr>
          <a:xfrm>
            <a:off x="4511520" y="1125360"/>
            <a:ext cx="4395960" cy="5732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Kablo-Sema-cross"/>
          <p:cNvPicPr/>
          <p:nvPr/>
        </p:nvPicPr>
        <p:blipFill>
          <a:blip r:embed="rId2"/>
          <a:stretch/>
        </p:blipFill>
        <p:spPr>
          <a:xfrm>
            <a:off x="468360" y="1413000"/>
            <a:ext cx="25956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Size verilecek olan UTP Kablo ve RJ-45 konektörlerini kullanarak düz kablo bağlantısı yapınız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13:30:26Z</dcterms:created>
  <dc:creator>Şirin Karadeniz</dc:creator>
  <dc:description/>
  <dc:language>en-US</dc:language>
  <cp:lastModifiedBy>Adil YILDIZ</cp:lastModifiedBy>
  <dcterms:modified xsi:type="dcterms:W3CDTF">2011-10-04T08:25:37Z</dcterms:modified>
  <cp:revision>12</cp:revision>
  <dc:subject/>
  <dc:title>UTP Kablo Bağlantıları</dc:title>
</cp:coreProperties>
</file>