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A17-996A-4504-9589-3EEAC45D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E32-1F2A-400B-87B3-76FAF526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B5B-A019-42A2-9BE7-F992A5E5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97E-8416-4D2B-B88C-B70701ED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867F-82FA-4EE3-95E1-D0049C13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0343-2057-4C37-B740-CE92F3F4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3AF3-DF8C-4D7E-86C3-0CA5E807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18A5-4990-4A8D-B76E-200F6137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1927-63D0-4E3B-8E70-FF88817E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697B-6F08-46FD-831B-B1EBFDAE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9351-DD18-4CF1-9406-4736124C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114-55AB-4186-B3A6-037F7F3C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2207-E676-4EA2-B179-E66EAAF8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706D-0F62-415E-AD73-5A9AC9E4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945F-91EB-4561-97D9-545B0451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310C-BB7A-4040-8D45-E8EB23AC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ABA7-335F-4847-8DDF-753D52DA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5D55-7D1F-4EEB-B6D3-8429FAE9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780-403D-48DA-A1F7-1CAD7466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E5D-64B7-43F7-A603-C650CB20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152-5607-4DF7-AF4F-1AE49E7E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9C7-9278-4DFF-97D7-A1AFCE79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767-7BC2-447D-AA5A-AA41531F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18F-E6D1-4700-8729-9E97EBEA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F710-0E76-441D-BEE2-A7196AF9BA14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F004-0E45-40E9-8E58-1AA729B129A1}" type="slidenum">
              <a:rPr b="0" lang="tr-TR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Donanımları</a:t>
            </a:r>
            <a:br>
              <a:rPr sz="4000"/>
            </a:b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Hub </a:t>
            </a: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ve </a:t>
            </a: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25905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33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Picture 5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685800" y="1436760"/>
            <a:ext cx="7848720" cy="508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Adanmış (Dedicated) ve Paylaşılmış (Shared) Bölüm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9" name="Picture 5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495440"/>
            <a:ext cx="7594560" cy="517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ile ağda bölümle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685800" y="1523880"/>
            <a:ext cx="7974000" cy="448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veri akışı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 2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2" name="Picture 6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2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2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2. katmanında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ynı anda birden fazla çağrıya cevap ver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MAC adresler ile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e göre daha ucuzdu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atman 2 Switch Türler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tore-and-forward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iriş portundan aldıktan sonra buffer’a at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rdından paketi ilgili çıkış portuna gönder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ki hataları kontrol etmez, bu nedenle daha hızlıdı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ncak bozuk paketler ağda ilerle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Cut-through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3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Katman 2 Switch’ler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ir hedefe giden tek bir yol ve MAC adres kullanılır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Katman 3 Switch’ler ile performans arttırıl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OSI’nin 3. katmanı olan ‘Ağ’ katmanında çalış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Switch ve Router’ın özelliklerinin birleşimidi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leri bir Router gibi ağda yönlendire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OSI Veri İletim katmanında çalış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C adreslerini kullanarak paketler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Birbiri ile aynı topolojide veya farklı topolojide olabil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Veri yönlendirme işlemi yap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10 Mbps ve 100 Mbps ağları birbirine bağlayabilir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OSI ve 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79640" y="1557360"/>
          <a:ext cx="6337440" cy="5095800"/>
        </p:xfrm>
        <a:graphic>
          <a:graphicData uri="http://schemas.openxmlformats.org/drawingml/2006/table">
            <a:tbl>
              <a:tblPr/>
              <a:tblGrid>
                <a:gridCol w="2419200"/>
                <a:gridCol w="391824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SI Katmanı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Cihaz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Uygula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Sun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tur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Taşı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Yönlendirici (Rou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3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Veri İleti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öprü (Bridge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2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Fiziksel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NIC, Yineleyici (Repea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Hub, MAU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blo, Alıcı ve verici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Bridge Operation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56720" cy="50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Picture 5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539640" y="1557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İki farklı ağ ve köpr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63640" y="1681200"/>
            <a:ext cx="5191200" cy="4653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alka topolojide köprü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5" name="Picture 4" descr="10/100 Series Repeater"/>
          <p:cNvPicPr/>
          <p:nvPr/>
        </p:nvPicPr>
        <p:blipFill>
          <a:blip r:embed="rId1"/>
          <a:stretch/>
        </p:blipFill>
        <p:spPr>
          <a:xfrm>
            <a:off x="611280" y="4005360"/>
            <a:ext cx="3024000" cy="232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repeater1"/>
          <p:cNvPicPr/>
          <p:nvPr/>
        </p:nvPicPr>
        <p:blipFill>
          <a:blip r:embed="rId2"/>
          <a:stretch/>
        </p:blipFill>
        <p:spPr>
          <a:xfrm>
            <a:off x="406728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1. katmanında çalıştığı için verinin içeriğine bakmaz, sadece sinyalleri güçlendirir. Ağ trafiğini yönetmez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9" name="Picture 6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neleyic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 kablosunun erişebileceği maksimum mesafeyi uzatırlar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daki maksimum düğüm sayısını arttır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blo arızalarının etkisini azalta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Farklı kablo tipleri kullanan ağları birleştire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http://www.turkcenet.org/yerel_htm/repeater_ve_bridge.htm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3168720" cy="18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356000" y="4508640"/>
            <a:ext cx="4465800" cy="149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8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28464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Notlar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Brouter (Bridge Router)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Hem yönlendirici hem de köprüyü tek cihazda topla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 ve Router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Yüksek perfortmanslı LAN’lar için kullanıldığından genellikle router’dan daha hızlı çalış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WAN için genellikle kullanılma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Yıldız ağ topolojisinde kullanıl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Gelen bilgileri hepsini tüm bilgisayarlara gönder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 birbirine bağlanarak ağ büyütül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8" name="Picture 4" descr="HP 10Base-T HUB-16M"/>
          <p:cNvPicPr/>
          <p:nvPr/>
        </p:nvPicPr>
        <p:blipFill>
          <a:blip r:embed="rId1"/>
          <a:stretch/>
        </p:blipFill>
        <p:spPr>
          <a:xfrm>
            <a:off x="1763640" y="407664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tar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Paket yönlendir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2" name="Picture 6" descr="routeforwding"/>
          <p:cNvPicPr/>
          <p:nvPr/>
        </p:nvPicPr>
        <p:blipFill>
          <a:blip r:embed="rId1"/>
          <a:stretch/>
        </p:blipFill>
        <p:spPr>
          <a:xfrm>
            <a:off x="2411280" y="1557360"/>
            <a:ext cx="458316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Geçidi (GATEWAY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Bu cihaz bir Köprü, Switch veya Yönlendirici olabil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08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LAN 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1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A terminali D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a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16000" y="41353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da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d4944"/>
                </a:solidFill>
                <a:latin typeface="Arial"/>
              </a:rPr>
              <a:t>Alıştırma 3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biliyorsa hangi yoldan gidecekt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mıyorsa ne yapmak gereklid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8" name="Picture 6" descr="repeater_einfuehrung1"/>
          <p:cNvPicPr/>
          <p:nvPr/>
        </p:nvPicPr>
        <p:blipFill>
          <a:blip r:embed="rId1"/>
          <a:stretch/>
        </p:blipFill>
        <p:spPr>
          <a:xfrm>
            <a:off x="1979640" y="296388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; Koaksiyel, çift burgulu veya fiber optik kablo ile birbirine bağlana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Uplink portu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ackbone (Omurga) portu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5512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Hub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lar ve ağ bölümleri (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segments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Star-wired bus LAN ve iki hub bağlantısı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1d4337"/>
                </a:solidFill>
                <a:latin typeface="Arial"/>
              </a:rPr>
              <a:t>MAU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(Multistation Access Unit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0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1d4944"/>
                </a:solidFill>
                <a:latin typeface="Arial"/>
              </a:rPr>
              <a:t>İki MAU bağlanması için MAU’daki RI (Ring In) ve RO (Ring Out portları kullanılır.</a:t>
            </a:r>
            <a:endParaRPr b="1" lang="en-US" sz="23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3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kıllı HUB’da denir. Fakat HUB’dan daha paha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len bilgileri sadece belli bir bilgisayarlara gönder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ğ durumunu izler, veriyi gönderip, iletim işleminin yapılıp yapılmadığını test ede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Picture 4" descr="Catalyst 1900 Switch"/>
          <p:cNvPicPr/>
          <p:nvPr/>
        </p:nvPicPr>
        <p:blipFill>
          <a:blip r:embed="rId1"/>
          <a:stretch/>
        </p:blipFill>
        <p:spPr>
          <a:xfrm>
            <a:off x="2411280" y="4581360"/>
            <a:ext cx="3959280" cy="20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9:20Z</dcterms:created>
  <dc:creator>Şirin Karadeniz</dc:creator>
  <dc:description/>
  <dc:language>en-US</dc:language>
  <cp:lastModifiedBy>Adil YILDIZ</cp:lastModifiedBy>
  <dcterms:modified xsi:type="dcterms:W3CDTF">2011-10-04T08:25:15Z</dcterms:modified>
  <cp:revision>52</cp:revision>
  <dc:subject/>
  <dc:title>Ağ Donanımları Cihazlar</dc:title>
</cp:coreProperties>
</file>