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1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9493-2924-42A3-9D5E-6173AB3FA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6067-491F-40FF-A57F-A19BBDCB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4C8F-81ED-4D6F-B472-484A594F3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01B0-A987-4B78-975F-D3047C287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0A6B-7388-4EEE-BC7A-0347BB222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7215-A78B-409C-A173-D862B845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FA84-F2D6-40BB-8BBF-04457372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6BD2-87F8-4328-8513-DA247CBD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5CE3-DFA3-43C9-83AD-095FA462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C254-7326-499E-933E-08F134A7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71E1-E8FC-4AC6-883F-6C2D8890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9AC6-B54A-4191-8CAA-3B934AAB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6B42-8D2F-4F3F-B5A6-B03DCCE2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29E4-C397-45B8-8E3C-F1160C47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3B6B-8C83-4357-8AB7-00FF8A20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CD5F-CDED-4D77-9D25-9727A9DE2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8C43-E6F1-4DA1-87BB-0AD1DCCCB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0817-FC50-4B42-8087-A0F92FB7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31A3-9AFF-4EB4-8741-B9E56F5E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62CE-D4C3-430A-A0E6-97B74626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96E5-BD0C-49D0-90E1-8C370B0F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26AE-4324-4045-A5A0-414359A0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A910-A476-49A3-A180-57D1A019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D5DC-5F6E-4E32-BF00-E0FDB285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468B-60D1-4C31-8444-83F534BBA91D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7DB3-02EF-48D8-AEB6-1CE16B6BE466}" type="slidenum">
              <a:rPr b="0" lang="tr-TR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000000"/>
                </a:solidFill>
                <a:latin typeface="Arial"/>
              </a:rPr>
              <a:t>Ağ Topolojiler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42920" y="2130120"/>
            <a:ext cx="5832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FDDI </a:t>
            </a:r>
            <a:br>
              <a:rPr sz="3600"/>
            </a:b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(Fiber Distrubuted Data Interface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ir MAN protokolüdü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ir ağda genel olarak 100 Mbps'da ve 500 terminali destekle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>
            <a:hlinkClick r:id="rId1" action="ppaction://hlinksldjump"/>
          </p:cNvPr>
          <p:cNvSpPr/>
          <p:nvPr/>
        </p:nvSpPr>
        <p:spPr>
          <a:xfrm>
            <a:off x="7812000" y="616572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8456" y="10800"/>
                </a:moveTo>
                <a:lnTo>
                  <a:pt x="22469" y="3794"/>
                </a:lnTo>
                <a:lnTo>
                  <a:pt x="22469" y="17806"/>
                </a:ln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7240" y="18864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Çarpışma (Collision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92316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Halka(Token Ring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7240" y="1052640"/>
            <a:ext cx="77695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IBM tarafından geliştirilmiştir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Mantıksal olarak bir daire şeklinde tüm düğümlerin birbirine bağlanması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RING"/>
          <p:cNvPicPr/>
          <p:nvPr/>
        </p:nvPicPr>
        <p:blipFill>
          <a:blip r:embed="rId1"/>
          <a:stretch/>
        </p:blipFill>
        <p:spPr>
          <a:xfrm>
            <a:off x="1836720" y="2832120"/>
            <a:ext cx="4680000" cy="3416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Halka(Token Ring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7240" y="1052640"/>
            <a:ext cx="77695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Token (Jeton) (3 byte’lık) bu düğümler arasında dolaşan bilgidir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tr"/>
          <p:cNvPicPr/>
          <p:nvPr/>
        </p:nvPicPr>
        <p:blipFill>
          <a:blip r:embed="rId1"/>
          <a:stretch/>
        </p:blipFill>
        <p:spPr>
          <a:xfrm>
            <a:off x="1908000" y="2205000"/>
            <a:ext cx="5472360" cy="3379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908000" y="0"/>
            <a:ext cx="5670720" cy="6637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Halka Topoloji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0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alka içersindeki bir bilgisayar bozulursa tüm ağ bağlantısı kesili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Çarpışma olasılığı düşüktü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Şu anda halka topolojilerde UTP, STP kablo kullanılmakta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İlk halka topolojiler; 4 Mbps (CAT3 UTP), daha sonra 16 Mbps(CAT4 ve üstü veya STP Tip 4) çalışmakta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alka topolojiye uygun ethernet kartları; 4 veya 16 Mbps’da çalış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ring"/>
          <p:cNvPicPr/>
          <p:nvPr/>
        </p:nvPicPr>
        <p:blipFill>
          <a:blip r:embed="rId1"/>
          <a:stretch/>
        </p:blipFill>
        <p:spPr>
          <a:xfrm>
            <a:off x="0" y="0"/>
            <a:ext cx="2124000" cy="1557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803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Star-wired ring’de denilebil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erleşim fiziksel olarak yıldız olarak görünür ancak mantıksal olarak jetonlar dairesel olarak ağda iler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ıldız topolojisindeki Hub yerine burada MAU (Multistation Access Unit) veya MSAU (Multistation Access Unit) kullanıl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MAU’da veriler dairesel olarak gid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ub kendisine gelen bütün sinyalleri tüm düğümlere iletirken MAU gelen sinyali bir halka şeklinde sadece bir yönde ilet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öylece ağdaki tüm düğümler jetonu a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[star-wired ring topology image]"/>
          <p:cNvPicPr/>
          <p:nvPr/>
        </p:nvPicPr>
        <p:blipFill>
          <a:blip r:embed="rId1"/>
          <a:stretch/>
        </p:blipFill>
        <p:spPr>
          <a:xfrm>
            <a:off x="2124000" y="1052640"/>
            <a:ext cx="4969080" cy="4968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FIG7-10"/>
          <p:cNvPicPr/>
          <p:nvPr/>
        </p:nvPicPr>
        <p:blipFill>
          <a:blip r:embed="rId1"/>
          <a:srcRect l="21565" t="21127" r="0" b="22539"/>
          <a:stretch/>
        </p:blipFill>
        <p:spPr>
          <a:xfrm>
            <a:off x="609480" y="1862280"/>
            <a:ext cx="7899480" cy="37764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7"/>
          <p:cNvSpPr/>
          <p:nvPr/>
        </p:nvSpPr>
        <p:spPr>
          <a:xfrm>
            <a:off x="2340000" y="105264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6666"/>
                </a:solidFill>
                <a:latin typeface="Arial"/>
              </a:rPr>
              <a:t>Klasik Halka topolojisi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340000" y="105264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6666"/>
                </a:solidFill>
                <a:latin typeface="Arial"/>
              </a:rPr>
              <a:t>Star-Wired Ring topoloji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1" name="Picture 5" descr="FIG7-11"/>
          <p:cNvPicPr/>
          <p:nvPr/>
        </p:nvPicPr>
        <p:blipFill>
          <a:blip r:embed="rId1"/>
          <a:srcRect l="25312" t="30990" r="6251" b="30990"/>
          <a:stretch/>
        </p:blipFill>
        <p:spPr>
          <a:xfrm>
            <a:off x="304920" y="2133720"/>
            <a:ext cx="8610480" cy="3186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8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Topoloji nedir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7240" y="1557000"/>
            <a:ext cx="77695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ir ağdaki bilgisayarların nasıl yerleşeceğini, nasıl bağlanacağını, veri iletiminin nasıl olacağını belirleyen genel yapıdı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Fiziksel topoloji: Ağın fiziksel olarak nasıl görüneceğini belirler (Fiziksel katma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Mantıksal topoloji: Bir ağdaki veri akışının nasıl olacağını belirler (Veri iletim katman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3371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800" spc="-1" strike="noStrike">
                <a:solidFill>
                  <a:srgbClr val="336666"/>
                </a:solidFill>
                <a:latin typeface="Arial"/>
              </a:rPr>
              <a:t>MAU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FIG7-12"/>
          <p:cNvPicPr/>
          <p:nvPr/>
        </p:nvPicPr>
        <p:blipFill>
          <a:blip r:embed="rId1"/>
          <a:srcRect l="27186" t="27145" r="5311" b="27145"/>
          <a:stretch/>
        </p:blipFill>
        <p:spPr>
          <a:xfrm>
            <a:off x="457200" y="1752480"/>
            <a:ext cx="7924680" cy="3522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MAU with Station Bypassed"/>
          <p:cNvPicPr/>
          <p:nvPr/>
        </p:nvPicPr>
        <p:blipFill>
          <a:blip r:embed="rId2"/>
          <a:stretch/>
        </p:blipFill>
        <p:spPr>
          <a:xfrm>
            <a:off x="755640" y="1628640"/>
            <a:ext cx="7561440" cy="4384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24000" y="115560"/>
            <a:ext cx="309564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ki MAU bağlanması için MAU’daki RI (Ring In) ve RO (Ring Out portları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Token Ring Expanded Using Two MAUs"/>
          <p:cNvPicPr/>
          <p:nvPr/>
        </p:nvPicPr>
        <p:blipFill>
          <a:blip r:embed="rId1"/>
          <a:stretch/>
        </p:blipFill>
        <p:spPr>
          <a:xfrm>
            <a:off x="611280" y="2492280"/>
            <a:ext cx="8137440" cy="3605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Main Ring Path"/>
          <p:cNvPicPr/>
          <p:nvPr/>
        </p:nvPicPr>
        <p:blipFill>
          <a:blip r:embed="rId2"/>
          <a:stretch/>
        </p:blipFill>
        <p:spPr>
          <a:xfrm>
            <a:off x="395280" y="189000"/>
            <a:ext cx="4897440" cy="1652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Yıldız (Star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7240" y="1267920"/>
            <a:ext cx="776952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Tüm düğümlerin ortak bir merkeze (örneğin, hub, switch) bağlanmasıdı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2" name="Picture 9" descr="star"/>
          <p:cNvPicPr/>
          <p:nvPr/>
        </p:nvPicPr>
        <p:blipFill>
          <a:blip r:embed="rId1"/>
          <a:stretch/>
        </p:blipFill>
        <p:spPr>
          <a:xfrm>
            <a:off x="2556000" y="2592360"/>
            <a:ext cx="4103640" cy="3597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Yıldız (Star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6" name="Picture 6" descr="star"/>
          <p:cNvPicPr/>
          <p:nvPr/>
        </p:nvPicPr>
        <p:blipFill>
          <a:blip r:embed="rId1"/>
          <a:stretch/>
        </p:blipFill>
        <p:spPr>
          <a:xfrm>
            <a:off x="2556000" y="2592360"/>
            <a:ext cx="4103640" cy="3597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FIG7-07"/>
          <p:cNvPicPr/>
          <p:nvPr/>
        </p:nvPicPr>
        <p:blipFill>
          <a:blip r:embed="rId2"/>
          <a:srcRect l="28347" t="30990" r="7216" b="30990"/>
          <a:stretch/>
        </p:blipFill>
        <p:spPr>
          <a:xfrm>
            <a:off x="228600" y="1905120"/>
            <a:ext cx="8686800" cy="3413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230760" y="479520"/>
            <a:ext cx="508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r-wired bus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</a:rPr>
              <a:t> ~ Yıldız Topoloji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1" name="Picture 5" descr="FIG7-08"/>
          <p:cNvPicPr/>
          <p:nvPr/>
        </p:nvPicPr>
        <p:blipFill>
          <a:blip r:embed="rId1"/>
          <a:srcRect l="21565" t="16904" r="0" b="16904"/>
          <a:stretch/>
        </p:blipFill>
        <p:spPr>
          <a:xfrm>
            <a:off x="457200" y="1378080"/>
            <a:ext cx="8458200" cy="4751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7240" y="115920"/>
            <a:ext cx="77695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Yıldız Topoloji </a:t>
            </a:r>
            <a:br>
              <a:rPr sz="3000"/>
            </a:b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(Avantaj ve Dezavantajlar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2920" y="1125360"/>
            <a:ext cx="4249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vantajları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Ağı kurmak kolaydı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Bir bilgisayara bağlı kablo bozulduğunda ağın çalışması etkilenmez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Ağdaki sorunları tespit etmek kolaydı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Dezavantajları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Hub kullanıldığında ağ trafiği arta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Doğrusala göre daha fazla uzunlukta kablo gerektiri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Hub veya Switch bozulduğunda tüm ağ çalışmaz hale geli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Hub ve Switch gibi cihazlar nedeniyle doğrusala göre kurulumu daha pahalıdı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4464000" cy="4464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Doğrusal -Halka -Yıldız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net"/>
          <p:cNvPicPr/>
          <p:nvPr/>
        </p:nvPicPr>
        <p:blipFill>
          <a:blip r:embed="rId1"/>
          <a:stretch/>
        </p:blipFill>
        <p:spPr>
          <a:xfrm>
            <a:off x="2340000" y="1341360"/>
            <a:ext cx="5040360" cy="4851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Ağaç (Tree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7240" y="1052640"/>
            <a:ext cx="7769520" cy="45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Genellikle yıldız topolojisindeki ağları birbirine bağlamak için kullanılır. Böylece ağlar büyütülebili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Bir ağacın dalları farklı topolojilerdeki ağları temsil eder, ağacın gövdesi ile de bunlar birbirine bağlanabili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1" name="Picture 8" descr="tree-net"/>
          <p:cNvPicPr/>
          <p:nvPr/>
        </p:nvPicPr>
        <p:blipFill>
          <a:blip r:embed="rId1"/>
          <a:stretch/>
        </p:blipFill>
        <p:spPr>
          <a:xfrm>
            <a:off x="2340000" y="3716280"/>
            <a:ext cx="4608360" cy="29210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82624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Ağaç (Tree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419640" y="1341000"/>
            <a:ext cx="43891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Hiyerarşik yapıdaki ağlar için kullanılır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5" name="Picture 9" descr=""/>
          <p:cNvPicPr/>
          <p:nvPr/>
        </p:nvPicPr>
        <p:blipFill>
          <a:blip r:embed="rId1"/>
          <a:stretch/>
        </p:blipFill>
        <p:spPr>
          <a:xfrm>
            <a:off x="250920" y="136440"/>
            <a:ext cx="2085840" cy="1924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prim15"/>
          <p:cNvPicPr/>
          <p:nvPr/>
        </p:nvPicPr>
        <p:blipFill>
          <a:blip r:embed="rId2"/>
          <a:stretch/>
        </p:blipFill>
        <p:spPr>
          <a:xfrm>
            <a:off x="2987640" y="3068640"/>
            <a:ext cx="4181400" cy="2324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117000"/>
            <a:ext cx="8640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ğaç Topoloji - (Avantaj ve Dezavantajlar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859280" y="1052280"/>
            <a:ext cx="410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Arial"/>
              </a:rPr>
              <a:t>Avantajları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er bir bölüme (segment) ulaşmak kolaydı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ir çok çalışma grubu bir araya getirilebil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Arial"/>
              </a:rPr>
              <a:t>Dezavantajları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er bir bölümün uzunluğu kullanılan kablo ile sınırlıd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Omurga kablosu bozulduğunda bölümlerdeki ağ trafiği etkilen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Kurulumu ve düzenlenmesi daha zord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66600" y="981000"/>
            <a:ext cx="4649760" cy="5327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Ağ topoloji türler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Doğrusal (Bus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(Ring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ar-wired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Yıldız (Star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ar-wired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ğaç (Tree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Karmaşık (Mesh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543"/>
          <p:cNvPicPr/>
          <p:nvPr/>
        </p:nvPicPr>
        <p:blipFill>
          <a:blip r:embed="rId1"/>
          <a:stretch/>
        </p:blipFill>
        <p:spPr>
          <a:xfrm>
            <a:off x="0" y="132408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Karmaşık (Mesh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8208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Gerçek Mesh topolojide tüm düğümler ağ içerisinde birbirine bağlıdır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Daha çok WAN’da kullanılır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LAN’da kullanıldığında tüm düğümlerin birbirine mutlaka bağlı olması gerekmez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75" name="Picture 7" descr="mesh"/>
          <p:cNvPicPr/>
          <p:nvPr/>
        </p:nvPicPr>
        <p:blipFill>
          <a:blip r:embed="rId1"/>
          <a:stretch/>
        </p:blipFill>
        <p:spPr>
          <a:xfrm>
            <a:off x="2413080" y="3284640"/>
            <a:ext cx="4967280" cy="34113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9"/>
          <p:cNvSpPr/>
          <p:nvPr/>
        </p:nvSpPr>
        <p:spPr>
          <a:xfrm>
            <a:off x="3240" y="450864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Gerçek Mesh topoloji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Karmaşık (Mesh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80" name="Picture 7" descr="A hierarchical network."/>
          <p:cNvPicPr/>
          <p:nvPr/>
        </p:nvPicPr>
        <p:blipFill>
          <a:blip r:embed="rId1"/>
          <a:stretch/>
        </p:blipFill>
        <p:spPr>
          <a:xfrm>
            <a:off x="2266920" y="1197000"/>
            <a:ext cx="4176720" cy="34797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23880" y="4938480"/>
            <a:ext cx="70106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Hybrid mesh topoloji, karmaşık ağlarda (veritabanı sunucularının uzak mesafeler arası bağlantıları vb.) kullanılı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61" descr="bus"/>
          <p:cNvPicPr/>
          <p:nvPr/>
        </p:nvPicPr>
        <p:blipFill>
          <a:blip r:embed="rId1"/>
          <a:stretch/>
        </p:blipFill>
        <p:spPr>
          <a:xfrm>
            <a:off x="324000" y="1341360"/>
            <a:ext cx="2619360" cy="743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62" descr="star"/>
          <p:cNvPicPr/>
          <p:nvPr/>
        </p:nvPicPr>
        <p:blipFill>
          <a:blip r:embed="rId2"/>
          <a:stretch/>
        </p:blipFill>
        <p:spPr>
          <a:xfrm>
            <a:off x="3851280" y="1125360"/>
            <a:ext cx="1324080" cy="1171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63" descr="ring"/>
          <p:cNvPicPr/>
          <p:nvPr/>
        </p:nvPicPr>
        <p:blipFill>
          <a:blip r:embed="rId3"/>
          <a:stretch/>
        </p:blipFill>
        <p:spPr>
          <a:xfrm>
            <a:off x="324000" y="342900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68" descr="tree"/>
          <p:cNvPicPr/>
          <p:nvPr/>
        </p:nvPicPr>
        <p:blipFill>
          <a:blip r:embed="rId4"/>
          <a:stretch/>
        </p:blipFill>
        <p:spPr>
          <a:xfrm>
            <a:off x="3564000" y="3429000"/>
            <a:ext cx="3209760" cy="2457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69" descr="mesh"/>
          <p:cNvPicPr/>
          <p:nvPr/>
        </p:nvPicPr>
        <p:blipFill>
          <a:blip r:embed="rId5"/>
          <a:stretch/>
        </p:blipFill>
        <p:spPr>
          <a:xfrm>
            <a:off x="6588000" y="1341360"/>
            <a:ext cx="1324080" cy="11718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71"/>
          <p:cNvSpPr/>
          <p:nvPr/>
        </p:nvSpPr>
        <p:spPr>
          <a:xfrm>
            <a:off x="395280" y="40464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Doğrusal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Bus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Rectangle 173"/>
          <p:cNvSpPr/>
          <p:nvPr/>
        </p:nvSpPr>
        <p:spPr>
          <a:xfrm>
            <a:off x="539640" y="263700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Halka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Ring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Rectangle 175"/>
          <p:cNvSpPr/>
          <p:nvPr/>
        </p:nvSpPr>
        <p:spPr>
          <a:xfrm>
            <a:off x="4140360" y="333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Yıldız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Star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Rectangle 177"/>
          <p:cNvSpPr/>
          <p:nvPr/>
        </p:nvSpPr>
        <p:spPr>
          <a:xfrm>
            <a:off x="4140360" y="2708280"/>
            <a:ext cx="15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Ağaç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Tree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Rectangle 179"/>
          <p:cNvSpPr/>
          <p:nvPr/>
        </p:nvSpPr>
        <p:spPr>
          <a:xfrm>
            <a:off x="6443640" y="404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Karmaşık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Mesh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68360" y="476280"/>
          <a:ext cx="8496360" cy="5773680"/>
        </p:xfrm>
        <a:graphic>
          <a:graphicData uri="http://schemas.openxmlformats.org/drawingml/2006/table">
            <a:tbl>
              <a:tblPr/>
              <a:tblGrid>
                <a:gridCol w="1295280"/>
                <a:gridCol w="1152720"/>
                <a:gridCol w="1511280"/>
                <a:gridCol w="936360"/>
                <a:gridCol w="3600720"/>
              </a:tblGrid>
              <a:tr h="90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oloji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rulum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üzenleme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run çözme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 aktarımında problem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ğrusal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Çok 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ısmen 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k bir kablo, kabloda problem veri aktarımını etkile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ısmen 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ısmen 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daki bozukluk veri aktarımını etkile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ıldız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, ancak zaman alıcı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k bir kablodaki bozukluk bir pc’yi etkile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ğaç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ukça az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maşık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ukça az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000000"/>
                </a:solidFill>
                <a:latin typeface="Arial"/>
              </a:rPr>
              <a:t>Ağ Topolojiler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7240" y="18864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Doğrusal (Bus) Topoloj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7240" y="1125360"/>
            <a:ext cx="7769520" cy="41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ir kablo yol olarak düşünülürse, bu yol üzerindeki her bir durak ağda bir düğümü (node-terminali/cihazı) temsil etmekted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u tek kabloya; bölüm (segment), omurga (backbone), trunk denilebil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tretch/>
        </p:blipFill>
        <p:spPr>
          <a:xfrm>
            <a:off x="1042920" y="3603600"/>
            <a:ext cx="6942240" cy="3210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1509840" y="-27000"/>
            <a:ext cx="6126120" cy="6751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Doğrusal Topoloji  - (Avantaj ve Dezavantajları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2997360"/>
            <a:ext cx="820872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vantajları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ğa bir bilgisayarı bağlamak oldukça kolaydı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Daha az uzunlukta kablo gerektiri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Dezavantajları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Omurga kabloda bir bozulma veya kesilme olursa tüm ağ bağlantısı kesili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Kablonun sonunda sonlandırıcı (Terminator) olmalıdı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ğda sorun olduğunda sorunun nerden kaynaklandığını bulmak zaman alıcı olabili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Tek başına tüm bir binanın ağ çözümü için genellikle kullanılmamaktadı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Çarpışm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6769080" cy="2315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90440"/>
            <a:ext cx="806616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CSMA/CD (Carrier Sense Multiple Access/Collision Detect)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Ethernet ve </a:t>
            </a:r>
            <a:r>
              <a:rPr b="0" lang="tr-TR" sz="2600" spc="-1" strike="noStrike" u="sng">
                <a:solidFill>
                  <a:srgbClr val="006666"/>
                </a:solidFill>
                <a:uFillTx/>
                <a:latin typeface="Arial"/>
                <a:hlinkClick r:id="rId1" action="ppaction://hlinksldjump"/>
              </a:rPr>
              <a:t>IEEE 802.3 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standartlarında kullanılan bir protoko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Çarpışmayı bulma (Collision Detec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r ethernet kartı bilgi göndereceği zaman ağ trafiğini iz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ğ kablosunda veri yoksa verisini kabloya bırak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ğer kabloda veri varsa diğer veri hedefine gidinceye kadar beklenir. Ardından veriyi gönder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ğer bu işlemler başarısız olursa çarpışma meydana gel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2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imes New Roman"/>
              </a:rPr>
              <a:t>IEEE (Institute of Electrical and Electronics Engineers - Elektrik ve Elektronik Mühendisleri Enstitüsü) standartlar kurulu elektrik mühendisliği, elektronik, radyo, ilgili mühendislik, bilim, sanat dallarındaki standartlardan sorumludu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imes New Roman"/>
              </a:rPr>
              <a:t>Enformasyon ve İletişim Teknolojileri alanında yerel alan ağları konusundaki standartları belirl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190080"/>
            <a:ext cx="77788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En çok kullanılan 802 standartları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9400" y="1341360"/>
          <a:ext cx="8815320" cy="4950000"/>
        </p:xfrm>
        <a:graphic>
          <a:graphicData uri="http://schemas.openxmlformats.org/drawingml/2006/table">
            <a:tbl>
              <a:tblPr/>
              <a:tblGrid>
                <a:gridCol w="1811160"/>
                <a:gridCol w="1440000"/>
                <a:gridCol w="2016000"/>
                <a:gridCol w="2046240"/>
                <a:gridCol w="1501920"/>
              </a:tblGrid>
              <a:tr h="8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t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ız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şim Metodu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olojiler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erne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3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 100 veya 1000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MA/CD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ğrusal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aksiyel veya UTP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en R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5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veya 6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en pass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Jeton dolaşımı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 ve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-wired r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eya UTP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FDDI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8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veya 200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en pass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Jeton dolaşımı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 ve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-wired r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er optik veya UTP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suz (Wireless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11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22 veya 54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MA/CD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ücresel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suz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2:46:15Z</dcterms:created>
  <dc:creator>Şirin Karadeniz</dc:creator>
  <dc:description/>
  <dc:language>en-US</dc:language>
  <cp:lastModifiedBy>Adil YILDIZ</cp:lastModifiedBy>
  <dcterms:modified xsi:type="dcterms:W3CDTF">2011-10-04T08:23:59Z</dcterms:modified>
  <cp:revision>75</cp:revision>
  <dc:subject/>
  <dc:title>Ağ Topolojileri</dc:title>
</cp:coreProperties>
</file>