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495B-84D3-4425-920A-5C806C6AC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E13C-9643-4210-A219-74E40AD9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40FB-8A18-4BF1-8B11-C4161447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9BA3-1EAD-445C-A80E-73FD12A0B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C42A-B1E1-474F-84C4-0DD189B49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97D1-A522-485E-BF7C-CA107EE1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EF42-F014-4BBE-B0C0-F2CFEA56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40E8-EBD2-40C9-BD69-65FE78BE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12C2-AC1D-4879-8E92-0E329331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C20F-D146-4A8E-8DC3-01840850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C738-4804-43A9-AD86-DC8C1018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6204-7945-4F9B-8D5B-48546F13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F5A2-5558-4BFC-9EF4-24EE6186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4D13-6D39-4E47-89B3-1E3B3EA4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EF49-CE4A-4EC2-A2B3-3493A5D7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1BE4-D36A-4CE5-98A8-503D25F7A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7767-DB49-4497-934E-412B19141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106A-F45D-4E07-9E3F-4D8CA2A9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60F9-7744-4C7F-A783-69CDBB56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8820-1566-4421-9F92-C5E329F8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8344-50FE-4C21-AED1-6D5E836B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E75B-57FB-4031-8E83-D638D1A4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7C8C-018C-48BD-B693-ED92B1A6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08E2-34A1-42BD-A073-69C18412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E21A-79E1-4251-96DF-FB0A7343D1E0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3F3E-0AB5-4BCD-8501-B18EF3821ADB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UTP Kablo Bağlantıları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(Düz/Çapra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1’den Fazla Hub Bağlantısında Çapraz (Cross) Bağlant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040cascade"/>
          <p:cNvPicPr/>
          <p:nvPr/>
        </p:nvPicPr>
        <p:blipFill>
          <a:blip r:embed="rId1"/>
          <a:stretch/>
        </p:blipFill>
        <p:spPr>
          <a:xfrm>
            <a:off x="1547640" y="1700280"/>
            <a:ext cx="6334200" cy="4425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n-8816"/>
          <p:cNvPicPr/>
          <p:nvPr/>
        </p:nvPicPr>
        <p:blipFill>
          <a:blip r:embed="rId2"/>
          <a:stretch/>
        </p:blipFill>
        <p:spPr>
          <a:xfrm>
            <a:off x="1116000" y="1341360"/>
            <a:ext cx="69120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İki Bilgisayar Arası Çapraz (Cross) Bağlant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030804figure3"/>
          <p:cNvPicPr/>
          <p:nvPr/>
        </p:nvPicPr>
        <p:blipFill>
          <a:blip r:embed="rId1"/>
          <a:stretch/>
        </p:blipFill>
        <p:spPr>
          <a:xfrm>
            <a:off x="826920" y="1989000"/>
            <a:ext cx="72723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Çapraz/Düz Kablo Bağlantıs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5" descr="cross_duz_kullanimi"/>
          <p:cNvPicPr/>
          <p:nvPr/>
        </p:nvPicPr>
        <p:blipFill>
          <a:blip r:embed="rId1"/>
          <a:stretch/>
        </p:blipFill>
        <p:spPr>
          <a:xfrm>
            <a:off x="3384720" y="1052640"/>
            <a:ext cx="5759280" cy="4779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374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Çapraz Bağlantı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ki hub arası veya 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lgisayar arası U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blo ile  bağlant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yapmak için kullanıl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915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Düz kablo (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Straight-Through Ethernet Cable)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568A&lt;-&gt;568A veya 568B&lt;-&gt;568B olmalıdı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ethcable568a"/>
          <p:cNvPicPr/>
          <p:nvPr/>
        </p:nvPicPr>
        <p:blipFill>
          <a:blip r:embed="rId1"/>
          <a:stretch/>
        </p:blipFill>
        <p:spPr>
          <a:xfrm>
            <a:off x="4500720" y="1197000"/>
            <a:ext cx="4205160" cy="2628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ethcable568b"/>
          <p:cNvPicPr/>
          <p:nvPr/>
        </p:nvPicPr>
        <p:blipFill>
          <a:blip r:embed="rId2"/>
          <a:stretch/>
        </p:blipFill>
        <p:spPr>
          <a:xfrm>
            <a:off x="4572000" y="4005360"/>
            <a:ext cx="4211640" cy="2633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Kablo-Sema-100"/>
          <p:cNvPicPr/>
          <p:nvPr/>
        </p:nvPicPr>
        <p:blipFill>
          <a:blip r:embed="rId3"/>
          <a:stretch/>
        </p:blipFill>
        <p:spPr>
          <a:xfrm>
            <a:off x="324000" y="1197000"/>
            <a:ext cx="32842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915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apraz Kablo (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Crossover Ethernet Cable)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568A&lt;-&gt;568B olmalıdı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cat5_cross_100_both"/>
          <p:cNvPicPr/>
          <p:nvPr/>
        </p:nvPicPr>
        <p:blipFill>
          <a:blip r:embed="rId1"/>
          <a:stretch/>
        </p:blipFill>
        <p:spPr>
          <a:xfrm>
            <a:off x="4511520" y="1125360"/>
            <a:ext cx="4395960" cy="5732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Kablo-Sema-cross"/>
          <p:cNvPicPr/>
          <p:nvPr/>
        </p:nvPicPr>
        <p:blipFill>
          <a:blip r:embed="rId2"/>
          <a:stretch/>
        </p:blipFill>
        <p:spPr>
          <a:xfrm>
            <a:off x="468360" y="1413000"/>
            <a:ext cx="25956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Size verilecek olan UTP Kablo ve RJ-45 konektörlerini kullanarak düz kablo bağlantısı yapınız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13:30:26Z</dcterms:created>
  <dc:creator>Şirin Karadeniz</dc:creator>
  <dc:description/>
  <dc:language>en-US</dc:language>
  <cp:lastModifiedBy>Adil YILDIZ</cp:lastModifiedBy>
  <dcterms:modified xsi:type="dcterms:W3CDTF">2011-10-04T08:25:37Z</dcterms:modified>
  <cp:revision>12</cp:revision>
  <dc:subject/>
  <dc:title>UTP Kablo Bağlantıları</dc:title>
</cp:coreProperties>
</file>