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7.png" ContentType="image/png"/>
  <Override PartName="/ppt/media/image9.png" ContentType="image/png"/>
  <Override PartName="/ppt/media/image11.jpeg" ContentType="image/jpeg"/>
  <Override PartName="/ppt/media/image3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2.png" ContentType="image/png"/>
  <Override PartName="/ppt/media/image24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52661-A9AA-45F9-844B-FA4A296CB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7739B-C823-4F8B-A7C2-72FFA0C3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4C1B2-C129-41E6-8521-4AB3FE215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EA8C2-B0A7-4EEE-8DD7-CB21EEE7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F571-0E14-4544-8400-78D65C857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752A-19E5-4267-84B8-B5667577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F0B9-DFE9-4CC7-852E-9D83B4A5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B1A1-4A18-4A4D-B640-8DBB9D2D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9FF2-A181-4647-B801-9EE64330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4E78-59E6-4D14-979F-68A99ED4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DD3C-DD36-4C74-915B-37B846DD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9332C-7667-4E53-8112-04B12E9C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E9C5-01FA-4BE8-95D1-C1160FBD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10B7-41A1-410A-8C00-89C8D1FF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2294-085D-44F2-8BA6-FCDA4892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1C77-F835-4775-BB21-22CEBA78C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9C7F-85AB-4B33-947A-CB9B8C442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801F9-78DF-445B-857C-98F5519C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FA9FF-8CE9-4325-AC46-694B7E14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E9230-8C5B-4D86-A20A-66359432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F37B8-0975-433C-AA84-C7218D6A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E8CB6-F663-468B-869C-A4FD27E3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F2F8B-098F-438C-823D-46E62C26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6613E-6626-4AEB-B9F1-BC9324EB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8C87-56BE-44C5-8CEE-4287C4C22015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0985-3BFD-4AC4-BBC1-EBF8659689BA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images.google.com.tr/imgres?imgurl=http://refillshoppen.dk/Graphics/Products/3602_m.jpg&amp;imgrefurl=http://refillshoppen.dk/static/000309/000001/003602.asp&amp;h=150&amp;w=200&amp;sz=5&amp;tbnid=xWrsNbIwXYzF4M:&amp;tbnh=74&amp;tbnw=99&amp;hl=tr&amp;start=43&amp;prev=/images%3Fq%3Dutp%2Bstp%2Brj-45%2B%26start%3D40%26svnum%3D10%26hl%3Dtr%26lr%3D%26sa%3DN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hyperlink" Target="http://images.google.com.tr/imgres?imgurl=http://fiberlogix.com.pk/pdf/images/Multifiber%2520Assembled%2520Indoor%2520Cables_img_0.jpg&amp;imgrefurl=http://fiberlogix.com.pk/pdf/Multifiber%2520Assembled%2520Indoor%2520Cables.htm&amp;h=380&amp;w=717&amp;sz=23&amp;tbnid=u9RzJcAAcmZ5lM:&amp;tbnh=73&amp;tbnw=138&amp;hl=tr&amp;start=4&amp;prev=/images%3Fq%3Dmultifiber%26svnum%3D10%26hl%3Dtr%26lr%3D%26sa%3DN" TargetMode="External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ffffff"/>
                </a:solidFill>
                <a:latin typeface="Arial"/>
              </a:rPr>
              <a:t>Ağ Donanımları</a:t>
            </a:r>
            <a:br>
              <a:rPr sz="5000"/>
            </a:br>
            <a:r>
              <a:rPr b="0" lang="tr-TR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Kablo ve Konnektör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6372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ıldız Topoloj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79930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UTP, STP kablo, RJ-45 konnektö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3_2" descr=""/>
          <p:cNvPicPr/>
          <p:nvPr/>
        </p:nvPicPr>
        <p:blipFill>
          <a:blip r:embed="rId1"/>
          <a:stretch/>
        </p:blipFill>
        <p:spPr>
          <a:xfrm>
            <a:off x="7451640" y="213372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67640" y="907920"/>
            <a:ext cx="942840" cy="704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826920" y="1989000"/>
            <a:ext cx="6409080" cy="32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71380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Çift Burgulu Kablolar (Twisted-Pair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Tek (örneğin dahili hatlarda), dört (oldukça yaygındır) veya sekiz çift kablodan oluşabil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UTP (Unshielded Twisted P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STP (Shielded Twisted P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932360" y="1754280"/>
            <a:ext cx="41004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681120"/>
            <a:ext cx="80773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TP ~ ST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218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P kablolar UTP’ye göre daha pahalıdır ve </a:t>
            </a:r>
            <a:r>
              <a:rPr b="0" lang="tr-TR" sz="2800" spc="-1" strike="noStrike" u="sng">
                <a:solidFill>
                  <a:srgbClr val="666699"/>
                </a:solidFill>
                <a:uFillTx/>
                <a:latin typeface="Arial"/>
              </a:rPr>
              <a:t>gürültü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inyallerinde daha az etkilen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UTP kabloların yaygın olarak kullanılmaktad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95280" y="115920"/>
            <a:ext cx="8208720" cy="6479640"/>
            <a:chOff x="395280" y="115920"/>
            <a:chExt cx="8208720" cy="647964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542160" y="115920"/>
              <a:ext cx="8061840" cy="34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395280" y="3709800"/>
              <a:ext cx="8136360" cy="2885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4284720" y="1549440"/>
            <a:ext cx="3744720" cy="1617480"/>
            <a:chOff x="4284720" y="1549440"/>
            <a:chExt cx="3744720" cy="161748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4284720" y="1700280"/>
              <a:ext cx="1809720" cy="14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724360" y="1549440"/>
              <a:ext cx="23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ÜRÜLT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ürült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9280" y="2773440"/>
            <a:ext cx="3311640" cy="1089000"/>
            <a:chOff x="179280" y="2773440"/>
            <a:chExt cx="3311640" cy="1089000"/>
          </a:xfrm>
        </p:grpSpPr>
        <p:sp>
          <p:nvSpPr>
            <p:cNvPr id="149" name="desk1"/>
            <p:cNvSpPr/>
            <p:nvPr/>
          </p:nvSpPr>
          <p:spPr>
            <a:xfrm>
              <a:off x="179280" y="2773440"/>
              <a:ext cx="1440000" cy="57600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Kayna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desk1"/>
            <p:cNvSpPr/>
            <p:nvPr/>
          </p:nvSpPr>
          <p:spPr>
            <a:xfrm>
              <a:off x="2195640" y="2773440"/>
              <a:ext cx="1008000" cy="576000"/>
            </a:xfrm>
            <a:prstGeom prst="pie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19280" y="3062160"/>
              <a:ext cx="57636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9280" y="349416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odlanan 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50920" y="349416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önder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651640" y="2773440"/>
            <a:ext cx="3528720" cy="1089000"/>
            <a:chOff x="5651640" y="2773440"/>
            <a:chExt cx="3528720" cy="1089000"/>
          </a:xfrm>
        </p:grpSpPr>
        <p:sp>
          <p:nvSpPr>
            <p:cNvPr id="155" name="desk1"/>
            <p:cNvSpPr/>
            <p:nvPr/>
          </p:nvSpPr>
          <p:spPr>
            <a:xfrm>
              <a:off x="7164360" y="2773440"/>
              <a:ext cx="1944720" cy="64908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edef/Alıc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desk1"/>
            <p:cNvSpPr/>
            <p:nvPr/>
          </p:nvSpPr>
          <p:spPr>
            <a:xfrm>
              <a:off x="5651640" y="2773440"/>
              <a:ext cx="1008000" cy="576000"/>
            </a:xfrm>
            <a:prstGeom prst="pie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24360" y="34941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ıc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85080" y="3494160"/>
              <a:ext cx="21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odu çözülen 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59640" y="3062160"/>
              <a:ext cx="50472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419640" y="2630520"/>
            <a:ext cx="2087280" cy="1015920"/>
            <a:chOff x="3419640" y="2630520"/>
            <a:chExt cx="2087280" cy="1015920"/>
          </a:xfrm>
        </p:grpSpPr>
        <p:sp>
          <p:nvSpPr>
            <p:cNvPr id="161" name=""/>
            <p:cNvSpPr/>
            <p:nvPr/>
          </p:nvSpPr>
          <p:spPr>
            <a:xfrm>
              <a:off x="3419640" y="263052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ny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19640" y="3278160"/>
              <a:ext cx="20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İletişim Kanal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3133800"/>
              <a:ext cx="187308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IEEE standartlarına gör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10Base-T (10 Mbps) 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100Base-T (100 Mbp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ağlarda bir kablo en fazla 100 m olabil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476280"/>
            <a:ext cx="87138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Çift Burgulu Kablolar (Twisted-Pair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68360" y="3284640"/>
            <a:ext cx="381024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TP Kablo Kategori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11280" y="1015920"/>
          <a:ext cx="8137440" cy="5581800"/>
        </p:xfrm>
        <a:graphic>
          <a:graphicData uri="http://schemas.openxmlformats.org/drawingml/2006/table">
            <a:tbl>
              <a:tblPr/>
              <a:tblGrid>
                <a:gridCol w="1657080"/>
                <a:gridCol w="64803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ego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ygulama Alan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CAT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anlızca ses veri iletimi yapılmaz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0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20 Mbps’ ye kadar veri iletimi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00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622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 G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0 Gps’ ye kadar veri iletim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615600"/>
            <a:ext cx="8075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Çift Burgulu Kablo Konnektörü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tür kablolar RJ-45 konnektörü ile bilgisayar bağlanır. RJ-45’in en çok kullanılan standardı 10BASE-T’d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0/100 Mbps hızındadır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alka ve yıldız tipi topolojilerde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076720" y="2006640"/>
            <a:ext cx="35244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681120"/>
            <a:ext cx="80773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la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78598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2 Km’ye kadar uzayabilen geniş alanlarda, elektriksel sinyallerden etkilenmeden yüksek kapasiteli iletişim ortamı sağlamada kullanıl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124000" y="2924280"/>
            <a:ext cx="504036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ber Optik Kabl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4038480" cy="39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Gelen elektriksel sinyalleri ışık sinyallerine çevir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şık fiber optik kabloda dengeli bir şekilde yol alır ve buna mod den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2376360"/>
            <a:ext cx="403848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 Çeşi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7993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Tek, Çok modlu ve çok modlu kademeli olmak üzere 3 çeşidi vardı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ek Mod Fiberler (Single Mode Fiber- SMF) 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şığın tek bir modda ya da tek bir yolda ilerlemesine olanak tanırl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Düşük  sinyal kayıplarının olduğu ve yüksek veri iletişim hızının gerektirdiği durumlarda kullanılırl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oklu Mod Fiberler (Multi Mode Fiber- MMF) 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şığın birden fazla modunu ileten fiberlerdi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şın çarpışmaları meydana gelebileceğinden kısa mesafeler için kullanılı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640" y="1235160"/>
            <a:ext cx="741672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 Çeşi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19272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 Çeşi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700000" y="1125360"/>
            <a:ext cx="5832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ek Mod Fiberle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8.3/125 micron S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oklu Mod Fiberle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2.5/125 mic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MM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50/12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M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00/14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M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single-mode, multi-mode fiber optics, pictures of fiber optic cable, fiber optic pictures, free fiber optic training, how it works, Singlemode fiber, Multimode fiber, Types of Fiber Cables"/>
          <p:cNvPicPr/>
          <p:nvPr/>
        </p:nvPicPr>
        <p:blipFill>
          <a:blip r:embed="rId1"/>
          <a:stretch/>
        </p:blipFill>
        <p:spPr>
          <a:xfrm>
            <a:off x="4356000" y="4149720"/>
            <a:ext cx="2381400" cy="2000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single-mode, multi-mode fiber optics, pictures of fiber optic cable, fiber optic pictures, free fiber optic training, how it works, Singlemode fiber, Multimode fiber, Types of Fiber Cables"/>
          <p:cNvPicPr/>
          <p:nvPr/>
        </p:nvPicPr>
        <p:blipFill>
          <a:blip r:embed="rId2"/>
          <a:stretch/>
        </p:blipFill>
        <p:spPr>
          <a:xfrm>
            <a:off x="179280" y="1125360"/>
            <a:ext cx="20480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5740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la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124000" y="836640"/>
            <a:ext cx="691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 bir fiberden tek yönlü haberleşme sağlanır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İki yönlü bir haberleşme için en az iki fiber gereklidir.  Veya bir fiberde hem veri gönderimi hem de verinin alımını sağlayan iki ayrı yol olmalı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2057400" cy="173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324000" y="2637000"/>
          <a:ext cx="8218440" cy="3598560"/>
        </p:xfrm>
        <a:graphic>
          <a:graphicData uri="http://schemas.openxmlformats.org/drawingml/2006/table">
            <a:tbl>
              <a:tblPr/>
              <a:tblGrid>
                <a:gridCol w="2232000"/>
                <a:gridCol w="5986440"/>
              </a:tblGrid>
              <a:tr h="101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 indent="112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x: İçerisinde sadece bir optik kablo v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 indent="112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plex: İçerisinde 2 optik kablo var. LAN omurga kablosu olarak çok tercih edilmektedi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 indent="112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fiber: İçerisinde 2’den fazla optik kablo va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754200" y="2781360"/>
            <a:ext cx="1666800" cy="952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754200" y="3932280"/>
            <a:ext cx="1666800" cy="952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00000" y="5300640"/>
            <a:ext cx="131472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Fiber Optik Kablo Konnektörle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1413000"/>
          <a:ext cx="8229600" cy="4717800"/>
        </p:xfrm>
        <a:graphic>
          <a:graphicData uri="http://schemas.openxmlformats.org/drawingml/2006/table">
            <a:tbl>
              <a:tblPr/>
              <a:tblGrid>
                <a:gridCol w="4691160"/>
                <a:gridCol w="35384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 (Straight ti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(Subscriber ti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-R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11280" y="1549440"/>
            <a:ext cx="1904760" cy="14479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68360" y="3141720"/>
            <a:ext cx="1905120" cy="1419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2843280" y="3141720"/>
            <a:ext cx="1904760" cy="14479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539640" y="4724280"/>
            <a:ext cx="216072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blolar - Öz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95280" y="620640"/>
          <a:ext cx="8353440" cy="5962680"/>
        </p:xfrm>
        <a:graphic>
          <a:graphicData uri="http://schemas.openxmlformats.org/drawingml/2006/table">
            <a:tbl>
              <a:tblPr/>
              <a:tblGrid>
                <a:gridCol w="1670040"/>
                <a:gridCol w="1513080"/>
                <a:gridCol w="1201680"/>
                <a:gridCol w="1182600"/>
                <a:gridCol w="2786040"/>
              </a:tblGrid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hernet Ad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blo Tip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. Veri Transfer Hız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. Veri Transfer Uzaklığ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çıklam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lın Koaksiy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NC, 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İnce Koaksiy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5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NC, 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Ba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, CAT5 ve üst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TX (Gigabit Ethernet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, CAT5 ve üst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F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multi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ğlar arası, Fiber optik hub ve NIC arası bağlant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BaseF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multi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ps Ethernet ağlar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S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multi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, PC ve hub arası bağlantı için tasarlanmıştı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L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single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SX’in daha uzun mesafeler arası kullanması için, genellikle omurga olarak kullanılı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ğrusal Topolo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Koaksiyel kab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NC konnektö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NC T konnektö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2335320"/>
            <a:ext cx="6961320" cy="2101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03280" y="4508640"/>
            <a:ext cx="6865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Eş eksenli (Koaksiyel) Kab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vizyon kablosunun daha esnek ve ince olanıdır. Bakır tellerden ve üzerinde manyetik korumadan ibarett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92360" y="3240000"/>
            <a:ext cx="561636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Eş eksenli (Koaksiyel) Kab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7499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İki çeşitti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ce (Thin Coax), taşıma mesafesi 185m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Kalın (Thick Coax), 500 metredi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(10Base-2 ağlarda IEEE standardına göre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19280" y="3611520"/>
            <a:ext cx="611964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Eş eksenli (Koaksiyel) Kablo 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Tipl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8360" y="1557360"/>
          <a:ext cx="7128000" cy="3581280"/>
        </p:xfrm>
        <a:graphic>
          <a:graphicData uri="http://schemas.openxmlformats.org/drawingml/2006/table">
            <a:tbl>
              <a:tblPr/>
              <a:tblGrid>
                <a:gridCol w="1492200"/>
                <a:gridCol w="2036880"/>
                <a:gridCol w="35989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İ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ED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LLAN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-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alın-Thicknet) - 500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-2</a:t>
                      </a:r>
                      <a:r>
                        <a:rPr b="0" lang="tr-TR" sz="20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İnce-Thinnet) - 185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 T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en kablos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468360" y="537372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* Yerel ağlarda en çok kullanılan standart. Bunlarda kablo mesafesi IEEE standartlarına göre 185 m’d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3529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Koaksiyel Kablo 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Konnektörl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7499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NC (British Naval Connector) konnektö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şeksenli kablolarda kullanıl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NC T konnektö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0Base2 sistemlerde kullanıl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ki kablo ucunu ve ethernet kartını bağlamak için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771640" y="3789360"/>
            <a:ext cx="5616720" cy="3024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Koaksiyel Kablo Konnektör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0920" y="3933720"/>
            <a:ext cx="74991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şeksenli kablolar BNC konnektörleri ile sonlandırılır ve bilgisayar arkasındaki aktarım aygıta takılacak T-şeklindeki bağlayıcılara takılır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blo sonunda 10Base5 ise 75, 10Base2 ise 50 Ohm’luk sonlandırıcı (Terminator)  tak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771640" y="1628640"/>
            <a:ext cx="28576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Bağlantılar"/>
          <p:cNvPicPr/>
          <p:nvPr/>
        </p:nvPicPr>
        <p:blipFill>
          <a:blip r:embed="rId1"/>
          <a:stretch/>
        </p:blipFill>
        <p:spPr>
          <a:xfrm>
            <a:off x="206280" y="1484280"/>
            <a:ext cx="832644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09:22:48Z</dcterms:created>
  <dc:creator>Şirin Karadeniz</dc:creator>
  <dc:description/>
  <dc:language>en-US</dc:language>
  <cp:lastModifiedBy>abgulbagci</cp:lastModifiedBy>
  <dcterms:modified xsi:type="dcterms:W3CDTF">2006-10-30T09:01:27Z</dcterms:modified>
  <cp:revision>76</cp:revision>
  <dc:subject/>
  <dc:title>Ağ Donanımları</dc:title>
</cp:coreProperties>
</file>