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09A2-FA59-4D95-AAA8-B513973AC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0B74-DC0D-4B81-9ACF-A0798C3A8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1A99-1D1B-430A-8B50-4A62F6753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B3AE-CD81-413A-AA8F-279E67CB3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D0549-4030-4792-B4C6-1A2B66D97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D7277-339A-4659-9F1A-860B62A3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A9BB3-990B-445A-A55F-C54DE3287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ED64B-B311-40C1-94B3-D69D590DF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994BA-00FB-4CFD-968C-E3218DA65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29B5A-A845-401E-A779-C6970C80E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11330-72AE-47F6-BA44-4CD43BB0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26BD-92FC-4DF9-AC5C-3A5A9B549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FEA1A-B9EC-4BF3-850D-8556D80C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2B369-DABF-49E7-A6EA-9A25C060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89008-688B-4A61-B22C-8A5BBF8B3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FC01B-BB36-4068-BC3E-E683A305A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0FB37-4932-4192-804B-15A9F5854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89A8-2741-40B1-B2E1-D5C370AEE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691E-A496-43DE-BD7B-918AA63D7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9B8B-6E0E-4675-8A92-B428BE2E5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1FEA-516E-494A-8DFC-3B1AAF19D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7716-96E8-4232-B5F9-AC13C354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B291-5CDB-408A-A4E3-642366E4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0B93-1847-4A08-8A67-C861FBAD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49350-9C4E-4186-A79E-A1FB0770267B}" type="slidenum">
              <a:rPr b="0" lang="tr-T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3FFE7-2724-41FC-8C7A-8A5180B8945D}" type="slidenum">
              <a:rPr b="0" lang="tr-T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UTP Kablo Bağlantıları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(Düz/Çapra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Arial"/>
              </a:rPr>
              <a:t>1’den Fazla Hub Bağlantısında Çapraz (Cross) Bağlantı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040cascade"/>
          <p:cNvPicPr/>
          <p:nvPr/>
        </p:nvPicPr>
        <p:blipFill>
          <a:blip r:embed="rId1"/>
          <a:stretch/>
        </p:blipFill>
        <p:spPr>
          <a:xfrm>
            <a:off x="1547640" y="1700280"/>
            <a:ext cx="6334200" cy="4425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cn-8816"/>
          <p:cNvPicPr/>
          <p:nvPr/>
        </p:nvPicPr>
        <p:blipFill>
          <a:blip r:embed="rId2"/>
          <a:stretch/>
        </p:blipFill>
        <p:spPr>
          <a:xfrm>
            <a:off x="1116000" y="1341360"/>
            <a:ext cx="69120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Arial"/>
              </a:rPr>
              <a:t>İki Bilgisayar Arası Çapraz (Cross) Bağlantı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030804figure3"/>
          <p:cNvPicPr/>
          <p:nvPr/>
        </p:nvPicPr>
        <p:blipFill>
          <a:blip r:embed="rId1"/>
          <a:stretch/>
        </p:blipFill>
        <p:spPr>
          <a:xfrm>
            <a:off x="826920" y="1989000"/>
            <a:ext cx="727236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Arial"/>
              </a:rPr>
              <a:t>Çapraz/Düz Kablo Bağlantısı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5" descr="cross_duz_kullanimi"/>
          <p:cNvPicPr/>
          <p:nvPr/>
        </p:nvPicPr>
        <p:blipFill>
          <a:blip r:embed="rId1"/>
          <a:stretch/>
        </p:blipFill>
        <p:spPr>
          <a:xfrm>
            <a:off x="3384720" y="1052640"/>
            <a:ext cx="5759280" cy="47797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37447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Çapraz Bağlantı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İki hub arası veya i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ilgisayar arası U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ablo ile  bağlant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yapmak için kullanılı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9152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Düz kablo (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Straight-Through Ethernet Cable) 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568A&lt;-&gt;568A veya 568B&lt;-&gt;568B olmalıdı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ethcable568a"/>
          <p:cNvPicPr/>
          <p:nvPr/>
        </p:nvPicPr>
        <p:blipFill>
          <a:blip r:embed="rId1"/>
          <a:stretch/>
        </p:blipFill>
        <p:spPr>
          <a:xfrm>
            <a:off x="4500720" y="1197000"/>
            <a:ext cx="4205160" cy="2628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ethcable568b"/>
          <p:cNvPicPr/>
          <p:nvPr/>
        </p:nvPicPr>
        <p:blipFill>
          <a:blip r:embed="rId2"/>
          <a:stretch/>
        </p:blipFill>
        <p:spPr>
          <a:xfrm>
            <a:off x="4572000" y="4005360"/>
            <a:ext cx="4211640" cy="2633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Kablo-Sema-100"/>
          <p:cNvPicPr/>
          <p:nvPr/>
        </p:nvPicPr>
        <p:blipFill>
          <a:blip r:embed="rId3"/>
          <a:stretch/>
        </p:blipFill>
        <p:spPr>
          <a:xfrm>
            <a:off x="324000" y="1197000"/>
            <a:ext cx="328428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9152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Çapraz Kablo (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Crossover Ethernet Cable) 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568A&lt;-&gt;568B olmalıdı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cat5_cross_100_both"/>
          <p:cNvPicPr/>
          <p:nvPr/>
        </p:nvPicPr>
        <p:blipFill>
          <a:blip r:embed="rId1"/>
          <a:stretch/>
        </p:blipFill>
        <p:spPr>
          <a:xfrm>
            <a:off x="4511520" y="1125360"/>
            <a:ext cx="4395960" cy="5732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Kablo-Sema-cross"/>
          <p:cNvPicPr/>
          <p:nvPr/>
        </p:nvPicPr>
        <p:blipFill>
          <a:blip r:embed="rId2"/>
          <a:stretch/>
        </p:blipFill>
        <p:spPr>
          <a:xfrm>
            <a:off x="468360" y="1413000"/>
            <a:ext cx="25956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Size verilecek olan UTP Kablo ve RJ-45 konektörlerini kullanarak düz kablo bağlantısı yapınız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13:30:26Z</dcterms:created>
  <dc:creator>Şirin Karadeniz</dc:creator>
  <dc:description/>
  <dc:language>en-US</dc:language>
  <cp:lastModifiedBy>Adil YILDIZ</cp:lastModifiedBy>
  <dcterms:modified xsi:type="dcterms:W3CDTF">2011-10-04T08:25:37Z</dcterms:modified>
  <cp:revision>12</cp:revision>
  <dc:subject/>
  <dc:title>UTP Kablo Bağlantıları</dc:title>
</cp:coreProperties>
</file>