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1BB-2E71-444A-886E-2F174A8D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39FE-043F-4CB8-B799-A777FC46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73D2-0E79-452E-96C1-2FAA4F87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05A-FF87-4FCE-AC0E-C48B7DC7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84AD-1FA5-4C63-8973-632D449A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3D6B-28E9-4155-A8E4-0F854C5B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F4E2-63C8-4F67-A4D0-F0D15C78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D777-1A9C-40DE-ABBD-820DD40C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AA79-EBB4-4D58-AC9E-F445C928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A49C-CE07-409B-9D3B-1EA4994A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A532-C02E-488A-8C07-6FCDB797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108C-E5DE-4011-B850-030776FC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9394-B5BB-4E4C-8C92-53593285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56A7-DD65-40DD-8835-307CB583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373E-6050-4368-B3B2-4E270884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1E02-E9C2-4C0B-AC87-B2AD3FBA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870B-83B2-4E0E-89A2-95951916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2260-AD31-422C-98E1-D8A5A145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575-E46C-44E8-BD10-4BB304FD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A168-EB4F-4372-A8B1-7C11180A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6E44-9C0E-4BBB-A3DA-CB871D3B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169-B4A2-45C5-87E8-970130C9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BEC8-76AE-4E79-ABAF-A57A4CF1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32D-1E02-4443-84C0-6F71ABC1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0554-D880-4C9F-856B-ADEC21A95CAC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959D-3A4B-42A1-B79D-F5C5C342A92E}" type="slidenum">
              <a:rPr b="0" lang="tr-T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42920" y="213012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FDDI </a:t>
            </a:r>
            <a:br>
              <a:rPr sz="3600"/>
            </a:b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(Fiber Distrubuted Data Interface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MAN protokolüdü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da genel olarak 100 Mbps'da ve 500 terminali destekl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7812000" y="6165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Çarpışma (Collision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2316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IBM tarafından geliştirilmişt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Mantıksal olarak bir daire şeklinde tüm düğümlerin birbirine bağlanması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RING"/>
          <p:cNvPicPr/>
          <p:nvPr/>
        </p:nvPicPr>
        <p:blipFill>
          <a:blip r:embed="rId1"/>
          <a:stretch/>
        </p:blipFill>
        <p:spPr>
          <a:xfrm>
            <a:off x="1836720" y="2832120"/>
            <a:ext cx="4680000" cy="341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Token (Jeton) (3 byte’lık) bu düğümler arasında dolaşan bilgid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tr"/>
          <p:cNvPicPr/>
          <p:nvPr/>
        </p:nvPicPr>
        <p:blipFill>
          <a:blip r:embed="rId1"/>
          <a:stretch/>
        </p:blipFill>
        <p:spPr>
          <a:xfrm>
            <a:off x="1908000" y="2205000"/>
            <a:ext cx="5472360" cy="3379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908000" y="0"/>
            <a:ext cx="5670720" cy="663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Halka Topoloj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içersindeki bir bilgisayar bozulursa tüm ağ bağlantısı kesil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arpışma olasılığı düşüktü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u anda halka topolojilerde UTP, STP kablo kullanıl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lk halka topolojiler; 4 Mbps (CAT3 UTP), daha sonra 16 Mbps(CAT4 ve üstü veya STP Tip 4) çalış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topolojiye uygun ethernet kartları; 4 veya 16 Mbps’da çalış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ring"/>
          <p:cNvPicPr/>
          <p:nvPr/>
        </p:nvPicPr>
        <p:blipFill>
          <a:blip r:embed="rId1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tar-wired ring’de denile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erleşim fiziksel olarak yıldız olarak görünür ancak mantıksal olarak jetonlar dairesel olarak ağda ile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ldız topolojisindeki Hub yerine burada MAU (Multistation Access Unit) veya MSAU (Multistation Access Unit) kullanıl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MAU’da veriler dairesel olarak gi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ub kendisine gelen bütün sinyalleri tüm düğümlere iletirken MAU gelen sinyali bir halka şeklinde sadece bir yönde ile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öylece ağdaki tüm düğümler jetonu a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[star-wired ring topology image]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IG7-10"/>
          <p:cNvPicPr/>
          <p:nvPr/>
        </p:nvPicPr>
        <p:blipFill>
          <a:blip r:embed="rId1"/>
          <a:srcRect l="21565" t="21127" r="0" b="22539"/>
          <a:stretch/>
        </p:blipFill>
        <p:spPr>
          <a:xfrm>
            <a:off x="609480" y="1862280"/>
            <a:ext cx="7899480" cy="3776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Klasik Halka topolojis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Star-Wired Ring topoloj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Picture 5" descr="FIG7-11"/>
          <p:cNvPicPr/>
          <p:nvPr/>
        </p:nvPicPr>
        <p:blipFill>
          <a:blip r:embed="rId1"/>
          <a:srcRect l="25312" t="30990" r="6251" b="30990"/>
          <a:stretch/>
        </p:blipFill>
        <p:spPr>
          <a:xfrm>
            <a:off x="304920" y="2133720"/>
            <a:ext cx="8610480" cy="318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Topoloji nedi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557000"/>
            <a:ext cx="7769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ğdaki bilgisayarların nasıl yerleşeceğini, nasıl bağlanacağını, veri iletiminin nasıl olacağını belirleyen genel yap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Fiziksel topoloji: Ağın fiziksel olarak nasıl görüneceğini belirler (Fiziksel katma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Mantıksal topoloji: Bir ağdaki veri akışının nasıl olacağını belirler (Veri iletim katman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336666"/>
                </a:solidFill>
                <a:latin typeface="Arial"/>
              </a:rPr>
              <a:t>MAU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MAU bağlanması için MAU’daki RI (Ring In) ve RO (Ring Out portları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7240" y="1267920"/>
            <a:ext cx="776952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Tüm düğümlerin ortak bir merkeze (örneğin, hub, switch) bağlanma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2" name="Picture 9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6" name="Picture 6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IG7-07"/>
          <p:cNvPicPr/>
          <p:nvPr/>
        </p:nvPicPr>
        <p:blipFill>
          <a:blip r:embed="rId2"/>
          <a:srcRect l="28347" t="30990" r="7216" b="30990"/>
          <a:stretch/>
        </p:blipFill>
        <p:spPr>
          <a:xfrm>
            <a:off x="228600" y="1905120"/>
            <a:ext cx="8686800" cy="3413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30760" y="47952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-wired bus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 ~ Yıldız Topoloji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1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7240" y="115920"/>
            <a:ext cx="7769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Topoloji </a:t>
            </a:r>
            <a:br>
              <a:rPr sz="3000"/>
            </a:b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2920" y="1125360"/>
            <a:ext cx="4249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ı kurmak kolaydı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Bir bilgisayara bağlı kablo bozulduğunda ağın çalışması etkilenmez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daki sorunları tespit etmek kolay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kullanıldığında ağ trafiği art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Doğrusala göre daha fazla uzunlukta kablo gerektir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ya Switch bozulduğunda tüm ağ çalışmaz hale gel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 Switch gibi cihazlar nedeniyle doğrusala göre kurulumu daha pahalı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-Halka -Yıldız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net"/>
          <p:cNvPicPr/>
          <p:nvPr/>
        </p:nvPicPr>
        <p:blipFill>
          <a:blip r:embed="rId1"/>
          <a:stretch/>
        </p:blipFill>
        <p:spPr>
          <a:xfrm>
            <a:off x="2340000" y="1341360"/>
            <a:ext cx="5040360" cy="485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nellikle yıldız topolojisindeki ağları birbirine bağlamak için kullanılır. Böylece ağlar büyütüle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Bir ağacın dalları farklı topolojilerdeki ağları temsil eder, ağacın gövdesi ile de bunlar birbirine bağlana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8" descr="tree-net"/>
          <p:cNvPicPr/>
          <p:nvPr/>
        </p:nvPicPr>
        <p:blipFill>
          <a:blip r:embed="rId1"/>
          <a:stretch/>
        </p:blipFill>
        <p:spPr>
          <a:xfrm>
            <a:off x="2340000" y="3716280"/>
            <a:ext cx="4608360" cy="29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82624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19640" y="1341000"/>
            <a:ext cx="43891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Hiyerarşik yapıdaki ağlar için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1"/>
          <a:stretch/>
        </p:blipFill>
        <p:spPr>
          <a:xfrm>
            <a:off x="250920" y="136440"/>
            <a:ext cx="2085840" cy="1924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prim15"/>
          <p:cNvPicPr/>
          <p:nvPr/>
        </p:nvPicPr>
        <p:blipFill>
          <a:blip r:embed="rId2"/>
          <a:stretch/>
        </p:blipFill>
        <p:spPr>
          <a:xfrm>
            <a:off x="2987640" y="3068640"/>
            <a:ext cx="4181400" cy="2324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17000"/>
            <a:ext cx="864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Topoloji - 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59280" y="1052280"/>
            <a:ext cx="410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e (segment) ulaşmak kolay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çok çalışma grubu bir araya getirilebil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ün uzunluğu kullanılan kablo ile sınır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Omurga kablosu bozulduğunda bölümlerdeki ağ trafiği etkilen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urulumu ve düzenlenmesi daha zord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6600" y="981000"/>
            <a:ext cx="4649760" cy="532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Ağ topoloji türler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Doğrusal (Bus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(Ring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(Star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(Tree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armaşık (Mesh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543"/>
          <p:cNvPicPr/>
          <p:nvPr/>
        </p:nvPicPr>
        <p:blipFill>
          <a:blip r:embed="rId1"/>
          <a:stretch/>
        </p:blipFill>
        <p:spPr>
          <a:xfrm>
            <a:off x="0" y="13240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rçek Mesh topolojide tüm düğümler ağ içerisinde birbirine bağlıd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Daha çok WAN’da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LAN’da kullanıldığında tüm düğümlerin birbirine mutlaka bağlı olması gerekmez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5" name="Picture 7" descr="mesh"/>
          <p:cNvPicPr/>
          <p:nvPr/>
        </p:nvPicPr>
        <p:blipFill>
          <a:blip r:embed="rId1"/>
          <a:stretch/>
        </p:blipFill>
        <p:spPr>
          <a:xfrm>
            <a:off x="2413080" y="3284640"/>
            <a:ext cx="4967280" cy="3411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3240" y="45086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Gerçek Mesh topoloj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0" name="Picture 7" descr="A hierarchical network."/>
          <p:cNvPicPr/>
          <p:nvPr/>
        </p:nvPicPr>
        <p:blipFill>
          <a:blip r:embed="rId1"/>
          <a:stretch/>
        </p:blipFill>
        <p:spPr>
          <a:xfrm>
            <a:off x="2266920" y="1197000"/>
            <a:ext cx="4176720" cy="3479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4938480"/>
            <a:ext cx="7010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ybrid mesh topoloji, karmaşık ağlarda (veritabanı sunucularının uzak mesafeler arası bağlantıları vb.) kullanılı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1" descr="bus"/>
          <p:cNvPicPr/>
          <p:nvPr/>
        </p:nvPicPr>
        <p:blipFill>
          <a:blip r:embed="rId1"/>
          <a:stretch/>
        </p:blipFill>
        <p:spPr>
          <a:xfrm>
            <a:off x="324000" y="1341360"/>
            <a:ext cx="2619360" cy="743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2" descr="star"/>
          <p:cNvPicPr/>
          <p:nvPr/>
        </p:nvPicPr>
        <p:blipFill>
          <a:blip r:embed="rId2"/>
          <a:stretch/>
        </p:blipFill>
        <p:spPr>
          <a:xfrm>
            <a:off x="3851280" y="1125360"/>
            <a:ext cx="1324080" cy="117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3" descr="ring"/>
          <p:cNvPicPr/>
          <p:nvPr/>
        </p:nvPicPr>
        <p:blipFill>
          <a:blip r:embed="rId3"/>
          <a:stretch/>
        </p:blipFill>
        <p:spPr>
          <a:xfrm>
            <a:off x="324000" y="342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8" descr="tree"/>
          <p:cNvPicPr/>
          <p:nvPr/>
        </p:nvPicPr>
        <p:blipFill>
          <a:blip r:embed="rId4"/>
          <a:stretch/>
        </p:blipFill>
        <p:spPr>
          <a:xfrm>
            <a:off x="3564000" y="3429000"/>
            <a:ext cx="3209760" cy="2457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9" descr="mesh"/>
          <p:cNvPicPr/>
          <p:nvPr/>
        </p:nvPicPr>
        <p:blipFill>
          <a:blip r:embed="rId5"/>
          <a:stretch/>
        </p:blipFill>
        <p:spPr>
          <a:xfrm>
            <a:off x="6588000" y="1341360"/>
            <a:ext cx="1324080" cy="1171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71"/>
          <p:cNvSpPr/>
          <p:nvPr/>
        </p:nvSpPr>
        <p:spPr>
          <a:xfrm>
            <a:off x="395280" y="40464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Doğrusal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Bus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Rectangle 173"/>
          <p:cNvSpPr/>
          <p:nvPr/>
        </p:nvSpPr>
        <p:spPr>
          <a:xfrm>
            <a:off x="539640" y="26370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Halka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Ring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Rectangle 175"/>
          <p:cNvSpPr/>
          <p:nvPr/>
        </p:nvSpPr>
        <p:spPr>
          <a:xfrm>
            <a:off x="4140360" y="33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Yıldız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Star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177"/>
          <p:cNvSpPr/>
          <p:nvPr/>
        </p:nvSpPr>
        <p:spPr>
          <a:xfrm>
            <a:off x="4140360" y="270828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Ağaç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Tree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Rectangle 179"/>
          <p:cNvSpPr/>
          <p:nvPr/>
        </p:nvSpPr>
        <p:spPr>
          <a:xfrm>
            <a:off x="6443640" y="404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Karmaşık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Mesh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476280"/>
          <a:ext cx="8496360" cy="5773680"/>
        </p:xfrm>
        <a:graphic>
          <a:graphicData uri="http://schemas.openxmlformats.org/drawingml/2006/table">
            <a:tbl>
              <a:tblPr/>
              <a:tblGrid>
                <a:gridCol w="1295280"/>
                <a:gridCol w="1152720"/>
                <a:gridCol w="1511280"/>
                <a:gridCol w="936360"/>
                <a:gridCol w="3600720"/>
              </a:tblGrid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ulu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üzenle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un çöz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aktarımında proble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ok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, kabloda problem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daki bozukluk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ıldı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, ancak zaman alıcı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daki bozukluk bir pc’yi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aç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maşık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(Bus) Topoloj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125360"/>
            <a:ext cx="776952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kablo yol olarak düşünülürse, bu yol üzerindeki her bir durak ağda bir düğümü (node-terminali/cihazı) temsil etmekted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u tek kabloya; bölüm (segment), omurga (backbone), trunk denilebil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1042920" y="3603600"/>
            <a:ext cx="6942240" cy="3210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509840" y="-27000"/>
            <a:ext cx="6126120" cy="6751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oğrusal Topoloji  - (Avantaj ve Dezavantajları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208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a bir bilgisayarı bağlamak oldukça kolaydı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aha az uzunlukta kablo gerektir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Omurga kabloda bir bozulma veya kesilme olursa tüm ağ bağlantısı kes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Kablonun sonunda sonlandırıcı (Terminator) olmalı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da sorun olduğunda sorunun nerden kaynaklandığını bulmak zaman alıcı olab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Tek başına tüm bir binanın ağ çözümü için genellikle kullanılmamakta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Çarpış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769080" cy="2315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0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CSMA/CD (Carrier Sense Multiple Access/Collision Detect)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Ethernet ve </a:t>
            </a:r>
            <a:r>
              <a:rPr b="0" lang="tr-TR" sz="26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IEEE 802.3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standartlarında kullanılan bir protok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arpışmayı bulma (Collision Detec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ethernet kartı bilgi göndereceği zaman ağ trafiğini iz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kablosunda veri yoksa verisini kabloya bırak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kabloda veri varsa diğer veri hedefine gidinceye kadar beklenir. Ardından veriyi gönde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bu işlemler başarısız olursa çarpışma meydana ge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IEEE (Institute of Electrical and Electronics Engineers - Elektrik ve Elektronik Mühendisleri Enstitüsü) standartlar kurulu elektrik mühendisliği, elektronik, radyo, ilgili mühendislik, bilim, sanat dallarındaki standartlardan sorumludu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Enformasyon ve İletişim Teknolojileri alanında yerel alan ağları konusundaki standartları belir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0080"/>
            <a:ext cx="7778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En çok kullanılan 802 standartlar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9400" y="1341360"/>
          <a:ext cx="8815320" cy="4950000"/>
        </p:xfrm>
        <a:graphic>
          <a:graphicData uri="http://schemas.openxmlformats.org/drawingml/2006/table">
            <a:tbl>
              <a:tblPr/>
              <a:tblGrid>
                <a:gridCol w="1811160"/>
                <a:gridCol w="1440000"/>
                <a:gridCol w="2016000"/>
                <a:gridCol w="2046240"/>
                <a:gridCol w="150192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t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ız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şim Metodu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ler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3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 100 veya 10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aksiyel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5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veya 6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FDD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8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veya 2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er optik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 (Wireles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11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2 veya 54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ücrese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2:46:15Z</dcterms:created>
  <dc:creator>Şirin Karadeniz</dc:creator>
  <dc:description/>
  <dc:language>en-US</dc:language>
  <cp:lastModifiedBy>Adil YILDIZ</cp:lastModifiedBy>
  <dcterms:modified xsi:type="dcterms:W3CDTF">2011-10-04T08:23:59Z</dcterms:modified>
  <cp:revision>75</cp:revision>
  <dc:subject/>
  <dc:title>Ağ Topolojileri</dc:title>
</cp:coreProperties>
</file>