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79640" y="326520"/>
            <a:ext cx="691344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98640" y="1538280"/>
            <a:ext cx="616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798640" y="3647520"/>
            <a:ext cx="616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79640" y="326520"/>
            <a:ext cx="691344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798640" y="1538280"/>
            <a:ext cx="3008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58360" y="1538280"/>
            <a:ext cx="3008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798640" y="3647520"/>
            <a:ext cx="3008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958360" y="3647520"/>
            <a:ext cx="3008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79640" y="326520"/>
            <a:ext cx="691344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798640" y="1538280"/>
            <a:ext cx="1985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83760" y="1538280"/>
            <a:ext cx="1985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968880" y="1538280"/>
            <a:ext cx="1985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798640" y="3647520"/>
            <a:ext cx="1985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883760" y="3647520"/>
            <a:ext cx="1985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968880" y="3647520"/>
            <a:ext cx="1985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79640" y="326520"/>
            <a:ext cx="691344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798640" y="1538280"/>
            <a:ext cx="616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79640" y="326520"/>
            <a:ext cx="691344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798640" y="1538280"/>
            <a:ext cx="616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79640" y="326520"/>
            <a:ext cx="691344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98640" y="1538280"/>
            <a:ext cx="3008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958360" y="1538280"/>
            <a:ext cx="3008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79640" y="326520"/>
            <a:ext cx="691344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979640" y="326520"/>
            <a:ext cx="6913440" cy="47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79640" y="326520"/>
            <a:ext cx="691344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798640" y="1538280"/>
            <a:ext cx="3008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58360" y="1538280"/>
            <a:ext cx="3008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2798640" y="3647520"/>
            <a:ext cx="3008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79640" y="326520"/>
            <a:ext cx="691344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798640" y="1538280"/>
            <a:ext cx="616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79640" y="326520"/>
            <a:ext cx="691344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98640" y="1538280"/>
            <a:ext cx="3008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958360" y="1538280"/>
            <a:ext cx="3008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8360" y="3647520"/>
            <a:ext cx="3008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79640" y="326520"/>
            <a:ext cx="691344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798640" y="1538280"/>
            <a:ext cx="3008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58360" y="1538280"/>
            <a:ext cx="3008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798640" y="3647520"/>
            <a:ext cx="616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79640" y="326520"/>
            <a:ext cx="691344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798640" y="1538280"/>
            <a:ext cx="616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798640" y="3647520"/>
            <a:ext cx="616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79640" y="326520"/>
            <a:ext cx="691344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798640" y="1538280"/>
            <a:ext cx="3008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8360" y="1538280"/>
            <a:ext cx="3008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798640" y="3647520"/>
            <a:ext cx="3008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958360" y="3647520"/>
            <a:ext cx="3008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79640" y="326520"/>
            <a:ext cx="691344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798640" y="1538280"/>
            <a:ext cx="1985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83760" y="1538280"/>
            <a:ext cx="1985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968880" y="1538280"/>
            <a:ext cx="1985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2798640" y="3647520"/>
            <a:ext cx="1985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883760" y="3647520"/>
            <a:ext cx="1985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968880" y="3647520"/>
            <a:ext cx="1985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979640" y="326520"/>
            <a:ext cx="691344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798640" y="1538280"/>
            <a:ext cx="616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79640" y="326520"/>
            <a:ext cx="691344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798640" y="1538280"/>
            <a:ext cx="3008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958360" y="1538280"/>
            <a:ext cx="3008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79640" y="326520"/>
            <a:ext cx="691344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979640" y="326520"/>
            <a:ext cx="6913440" cy="47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79640" y="326520"/>
            <a:ext cx="691344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798640" y="1538280"/>
            <a:ext cx="3008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958360" y="1538280"/>
            <a:ext cx="3008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798640" y="3647520"/>
            <a:ext cx="3008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79640" y="326520"/>
            <a:ext cx="691344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98640" y="1538280"/>
            <a:ext cx="3008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958360" y="1538280"/>
            <a:ext cx="3008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958360" y="3647520"/>
            <a:ext cx="3008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79640" y="326520"/>
            <a:ext cx="691344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98640" y="1538280"/>
            <a:ext cx="3008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958360" y="1538280"/>
            <a:ext cx="3008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798640" y="3647520"/>
            <a:ext cx="616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ircle2"/>
          <p:cNvPicPr/>
          <p:nvPr/>
        </p:nvPicPr>
        <p:blipFill>
          <a:blip r:embed="rId2"/>
          <a:stretch/>
        </p:blipFill>
        <p:spPr>
          <a:xfrm>
            <a:off x="0" y="3890880"/>
            <a:ext cx="3809880" cy="29815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798640" y="1538280"/>
            <a:ext cx="616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00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cc00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99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99cc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979640" y="326520"/>
            <a:ext cx="6913440" cy="10177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Oval 6"/>
          <p:cNvSpPr/>
          <p:nvPr/>
        </p:nvSpPr>
        <p:spPr>
          <a:xfrm>
            <a:off x="250920" y="189000"/>
            <a:ext cx="1295280" cy="1295280"/>
          </a:xfrm>
          <a:prstGeom prst="ellips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circle"/>
          <p:cNvPicPr/>
          <p:nvPr/>
        </p:nvPicPr>
        <p:blipFill>
          <a:blip r:embed="rId2"/>
          <a:stretch/>
        </p:blipFill>
        <p:spPr>
          <a:xfrm>
            <a:off x="5413320" y="3938760"/>
            <a:ext cx="3730680" cy="2919240"/>
          </a:xfrm>
          <a:prstGeom prst="rect">
            <a:avLst/>
          </a:prstGeom>
          <a:ln w="0">
            <a:noFill/>
          </a:ln>
        </p:spPr>
      </p:pic>
      <p:sp>
        <p:nvSpPr>
          <p:cNvPr id="41" name="Oval 4"/>
          <p:cNvSpPr/>
          <p:nvPr/>
        </p:nvSpPr>
        <p:spPr>
          <a:xfrm>
            <a:off x="250920" y="189000"/>
            <a:ext cx="1295280" cy="1295280"/>
          </a:xfrm>
          <a:prstGeom prst="ellips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2798640" y="1538280"/>
            <a:ext cx="616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00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cc00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99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99cc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1979640" y="326520"/>
            <a:ext cx="6913440" cy="10177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72720" y="2420640"/>
            <a:ext cx="7311960" cy="107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3399"/>
                </a:solidFill>
                <a:latin typeface="Times New Roman"/>
              </a:rPr>
              <a:t>Bilgisayar Ağlarına Giriş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79640" y="326520"/>
            <a:ext cx="6913440" cy="10177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Times New Roman"/>
              </a:rPr>
              <a:t>Ağ Türleri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564000" y="2133360"/>
            <a:ext cx="540072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3399"/>
                </a:solidFill>
                <a:latin typeface="Times New Roman"/>
              </a:rPr>
              <a:t>LAN (Local Area Network)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99cc00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3399"/>
                </a:solidFill>
                <a:latin typeface="Times New Roman"/>
              </a:rPr>
              <a:t>Oda, bina veya binalar arası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3399"/>
                </a:solidFill>
                <a:latin typeface="Times New Roman"/>
              </a:rPr>
              <a:t>MAN (Metropolitan Area Network)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99cc00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3399"/>
                </a:solidFill>
                <a:latin typeface="Times New Roman"/>
              </a:rPr>
              <a:t>3-30 mil, bir şehird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3399"/>
                </a:solidFill>
                <a:latin typeface="Times New Roman"/>
              </a:rPr>
              <a:t>WAN (Wide Area Network)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99cc00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3399"/>
                </a:solidFill>
                <a:latin typeface="Times New Roman"/>
              </a:rPr>
              <a:t>Tüm dünyada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115" name="Picture 5" descr="Tutorial-1"/>
          <p:cNvPicPr/>
          <p:nvPr/>
        </p:nvPicPr>
        <p:blipFill>
          <a:blip r:embed="rId1"/>
          <a:stretch/>
        </p:blipFill>
        <p:spPr>
          <a:xfrm>
            <a:off x="3059280" y="1700280"/>
            <a:ext cx="593388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79640" y="326520"/>
            <a:ext cx="6913440" cy="10177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Times New Roman"/>
              </a:rPr>
              <a:t>Diğer Ağ Kavramları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3640" y="1537920"/>
            <a:ext cx="8351640" cy="145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3399"/>
                </a:solidFill>
                <a:latin typeface="Times New Roman"/>
              </a:rPr>
              <a:t>Intranet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99cc00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3399"/>
                </a:solidFill>
                <a:latin typeface="Times New Roman"/>
              </a:rPr>
              <a:t>TCP/IP’ye dayalı ağ. İnternetten farklı olarak bu ağ sadece bir kuruma aittir, sadece o kurumun çalışanları bu ağa bağlanabilir. İnternete çıkmak için firewall kullanılarak saldırılara karşı korunur.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118" name="Picture 5" descr="intranet"/>
          <p:cNvPicPr/>
          <p:nvPr/>
        </p:nvPicPr>
        <p:blipFill>
          <a:blip r:embed="rId1"/>
          <a:stretch/>
        </p:blipFill>
        <p:spPr>
          <a:xfrm>
            <a:off x="4067280" y="2997360"/>
            <a:ext cx="45813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72720" y="2420640"/>
            <a:ext cx="7311960" cy="107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3399"/>
                </a:solidFill>
                <a:latin typeface="Times New Roman"/>
              </a:rPr>
              <a:t>Bilgisayar Ağlarına Giriş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292720" y="0"/>
            <a:ext cx="3851280" cy="858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Times New Roman"/>
              </a:rPr>
              <a:t>Tarihsel Gelişim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Line 3"/>
          <p:cNvSpPr/>
          <p:nvPr/>
        </p:nvSpPr>
        <p:spPr>
          <a:xfrm>
            <a:off x="179280" y="5877000"/>
            <a:ext cx="8640720" cy="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395280" y="6093000"/>
            <a:ext cx="84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80"/>
                </a:solidFill>
                <a:latin typeface="Arial"/>
              </a:rPr>
              <a:t>1950</a:t>
            </a:r>
            <a:r>
              <a:rPr b="0" lang="tr-TR" sz="18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80"/>
                </a:solidFill>
                <a:latin typeface="Arial"/>
              </a:rPr>
              <a:t>1960</a:t>
            </a:r>
            <a:r>
              <a:rPr b="0" lang="tr-TR" sz="18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80"/>
                </a:solidFill>
                <a:latin typeface="Arial"/>
              </a:rPr>
              <a:t>1970</a:t>
            </a:r>
            <a:r>
              <a:rPr b="0" lang="tr-TR" sz="18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80"/>
                </a:solidFill>
                <a:latin typeface="Arial"/>
              </a:rPr>
              <a:t>1980</a:t>
            </a:r>
            <a:r>
              <a:rPr b="0" lang="tr-TR" sz="18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80"/>
                </a:solidFill>
                <a:latin typeface="Arial"/>
              </a:rPr>
              <a:t>            1990</a:t>
            </a:r>
            <a:endParaRPr b="0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0" y="4076640"/>
            <a:ext cx="10429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80"/>
                </a:solidFill>
                <a:latin typeface="Arial"/>
              </a:rPr>
              <a:t>Main-frame</a:t>
            </a:r>
            <a:endParaRPr b="0" lang="en-US" sz="1600" spc="-1" strike="noStrike">
              <a:solidFill>
                <a:srgbClr val="00008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80"/>
                </a:solidFill>
                <a:latin typeface="Arial"/>
              </a:rPr>
              <a:t>OS yoktu</a:t>
            </a:r>
            <a:endParaRPr b="0" lang="en-US" sz="1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900000" y="2565360"/>
            <a:ext cx="1656000" cy="22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80"/>
                </a:solidFill>
                <a:latin typeface="Arial"/>
              </a:rPr>
              <a:t>Batch Systems  (Toplu İşlem)</a:t>
            </a:r>
            <a:endParaRPr b="0" lang="en-US" sz="1600" spc="-1" strike="noStrike">
              <a:solidFill>
                <a:srgbClr val="00008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80"/>
                </a:solidFill>
                <a:latin typeface="Arial"/>
              </a:rPr>
              <a:t>Birden fazla işin arka arkaya çalıştırılması ve yürütülmesi</a:t>
            </a:r>
            <a:endParaRPr b="0" lang="en-US" sz="1600" spc="-1" strike="noStrike">
              <a:solidFill>
                <a:srgbClr val="00008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80"/>
                </a:solidFill>
                <a:latin typeface="Arial"/>
              </a:rPr>
              <a:t>OS: IBM’in IBSYS</a:t>
            </a:r>
            <a:endParaRPr b="0" lang="en-US" sz="1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2484360" y="2349360"/>
            <a:ext cx="151308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80"/>
                </a:solidFill>
                <a:latin typeface="Arial"/>
              </a:rPr>
              <a:t>Timesharing Systems  (Zaman Paylaşımlı Sistemler)</a:t>
            </a:r>
            <a:endParaRPr b="0" lang="en-US" sz="1600" spc="-1" strike="noStrike">
              <a:solidFill>
                <a:srgbClr val="00008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80"/>
                </a:solidFill>
                <a:latin typeface="Arial"/>
              </a:rPr>
              <a:t>Birden fazla işin bir donanımı kısa sürelerle paylaşması</a:t>
            </a:r>
            <a:endParaRPr b="0" lang="en-US" sz="1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2124000" y="404640"/>
            <a:ext cx="165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000080"/>
                </a:solidFill>
                <a:uFillTx/>
                <a:latin typeface="Arial"/>
              </a:rPr>
              <a:t>Multitasking (Çok görevli) Multiprogramming (Çoklu programlama)</a:t>
            </a:r>
            <a:endParaRPr b="0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3995640" y="2349360"/>
            <a:ext cx="136692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80"/>
                </a:solidFill>
                <a:latin typeface="Arial"/>
              </a:rPr>
              <a:t>Personal Computer Systems</a:t>
            </a:r>
            <a:r>
              <a:rPr b="0" lang="tr-TR" sz="16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8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80"/>
                </a:solidFill>
                <a:latin typeface="Arial"/>
              </a:rPr>
              <a:t>(</a:t>
            </a:r>
            <a:r>
              <a:rPr b="1" lang="tr-TR" sz="1600" spc="-1" strike="noStrike">
                <a:solidFill>
                  <a:srgbClr val="000080"/>
                </a:solidFill>
                <a:latin typeface="Arial"/>
              </a:rPr>
              <a:t>Kişisel </a:t>
            </a:r>
            <a:endParaRPr b="0" lang="en-US" sz="1600" spc="-1" strike="noStrike">
              <a:solidFill>
                <a:srgbClr val="00008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80"/>
                </a:solidFill>
                <a:latin typeface="Arial"/>
              </a:rPr>
              <a:t>bilgisayar sistemleri) </a:t>
            </a:r>
            <a:endParaRPr b="0" lang="en-US" sz="1600" spc="-1" strike="noStrike">
              <a:solidFill>
                <a:srgbClr val="00008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80"/>
                </a:solidFill>
                <a:latin typeface="Arial"/>
              </a:rPr>
              <a:t>OS: UNIX,  MAC OS, MS-DOS </a:t>
            </a:r>
            <a:endParaRPr b="0" lang="en-US" sz="1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3924360" y="404640"/>
            <a:ext cx="122400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80"/>
                </a:solidFill>
                <a:latin typeface="Arial"/>
              </a:rPr>
              <a:t>Paralell Systems</a:t>
            </a:r>
            <a:r>
              <a:rPr b="0" lang="tr-TR" sz="16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tr-TR" sz="1600" spc="-1" strike="noStrike">
                <a:solidFill>
                  <a:srgbClr val="000080"/>
                </a:solidFill>
                <a:latin typeface="Arial"/>
              </a:rPr>
              <a:t>(Paralel Sistemler) </a:t>
            </a:r>
            <a:endParaRPr b="0" lang="en-US" sz="1600" spc="-1" strike="noStrike">
              <a:solidFill>
                <a:srgbClr val="00008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80"/>
                </a:solidFill>
                <a:latin typeface="Arial"/>
              </a:rPr>
              <a:t>OS: UNIX,  MAC OS,   MS-DOS </a:t>
            </a:r>
            <a:endParaRPr b="0" lang="en-US" sz="1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6659640" y="981000"/>
            <a:ext cx="208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1" name="Rectangle 12"/>
          <p:cNvSpPr/>
          <p:nvPr/>
        </p:nvSpPr>
        <p:spPr>
          <a:xfrm>
            <a:off x="5148360" y="1268280"/>
            <a:ext cx="16920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80"/>
                </a:solidFill>
                <a:latin typeface="Arial"/>
              </a:rPr>
              <a:t>Distributed Systems (Dağıtık Sistemler)</a:t>
            </a:r>
            <a:endParaRPr b="0" lang="en-US" sz="1600" spc="-1" strike="noStrike">
              <a:solidFill>
                <a:srgbClr val="000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80"/>
                </a:solidFill>
                <a:latin typeface="Arial"/>
              </a:rPr>
              <a:t>Bir çok MIB, ağdaki diğer kaynakları, verileri ve işlemleri yürütürler.</a:t>
            </a:r>
            <a:endParaRPr b="0" lang="en-US" sz="1600" spc="-1" strike="noStrike">
              <a:solidFill>
                <a:srgbClr val="000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80"/>
                </a:solidFill>
                <a:latin typeface="Arial"/>
              </a:rPr>
              <a:t>Örn: Ağ,  Internet</a:t>
            </a:r>
            <a:br>
              <a:rPr sz="1600"/>
            </a:br>
            <a:r>
              <a:rPr b="0" lang="tr-TR" sz="1600" spc="-1" strike="noStrike">
                <a:solidFill>
                  <a:srgbClr val="000080"/>
                </a:solidFill>
                <a:latin typeface="Arial"/>
              </a:rPr>
              <a:t>OS: Ağ işl.    Sis.      (Windows NT)</a:t>
            </a:r>
            <a:endParaRPr b="0" lang="en-US" sz="1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6516720" y="765000"/>
            <a:ext cx="1295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80"/>
                </a:solidFill>
                <a:latin typeface="Arial"/>
              </a:rPr>
              <a:t>Real-Time Systems (Gerçek-Zamanlı Sistemler) </a:t>
            </a:r>
            <a:r>
              <a:rPr b="0" lang="tr-TR" sz="1600" spc="-1" strike="noStrike">
                <a:solidFill>
                  <a:srgbClr val="000080"/>
                </a:solidFill>
                <a:latin typeface="Arial"/>
              </a:rPr>
              <a:t>Ms’lerde  çalışan sistemlerdir. Belli bir    sistemi     kontrol   amacıyla kullanılır </a:t>
            </a:r>
            <a:br>
              <a:rPr sz="1600"/>
            </a:br>
            <a:r>
              <a:rPr b="0" lang="tr-TR" sz="1600" spc="-1" strike="noStrike">
                <a:solidFill>
                  <a:srgbClr val="000080"/>
                </a:solidFill>
                <a:latin typeface="Arial"/>
              </a:rPr>
              <a:t>Örn:  Endüstriyel kontrol sistemleri, gösteri sistemleri</a:t>
            </a:r>
            <a:endParaRPr b="0" lang="en-US" sz="1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7667640" y="1989000"/>
            <a:ext cx="129528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80"/>
                </a:solidFill>
                <a:latin typeface="Arial"/>
              </a:rPr>
              <a:t>Embedded Systems</a:t>
            </a:r>
            <a:r>
              <a:rPr b="0" lang="tr-TR" sz="18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tr-TR" sz="1600" spc="-1" strike="noStrike">
                <a:solidFill>
                  <a:srgbClr val="000080"/>
                </a:solidFill>
                <a:latin typeface="Arial"/>
              </a:rPr>
              <a:t>(Gömülü Sistemler) </a:t>
            </a:r>
            <a:r>
              <a:rPr b="0" lang="tr-TR" sz="1600" spc="-1" strike="noStrike">
                <a:solidFill>
                  <a:srgbClr val="000080"/>
                </a:solidFill>
                <a:latin typeface="Arial"/>
              </a:rPr>
              <a:t>Belirli bir donanımı yöneten sistemler.</a:t>
            </a:r>
            <a:r>
              <a:rPr b="1" lang="tr-TR" sz="16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tr-TR" sz="1600" spc="-1" strike="noStrike">
                <a:solidFill>
                  <a:srgbClr val="000080"/>
                </a:solidFill>
                <a:latin typeface="Arial"/>
              </a:rPr>
              <a:t>Örn:  Firewall, otomobil motorları</a:t>
            </a:r>
            <a:endParaRPr b="0" lang="en-US" sz="1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4" name="Line 15"/>
          <p:cNvSpPr/>
          <p:nvPr/>
        </p:nvSpPr>
        <p:spPr>
          <a:xfrm flipV="1">
            <a:off x="3059280" y="1915920"/>
            <a:ext cx="0" cy="43164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00000" y="1915920"/>
            <a:ext cx="7344000" cy="21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3399"/>
                </a:solidFill>
                <a:latin typeface="Times New Roman"/>
              </a:rPr>
              <a:t>Sizce bilgisayar ağları </a:t>
            </a:r>
            <a:br>
              <a:rPr sz="4000"/>
            </a:br>
            <a:br>
              <a:rPr sz="4000"/>
            </a:br>
            <a:r>
              <a:rPr b="1" lang="tr-TR" sz="4000" spc="-1" strike="noStrike">
                <a:solidFill>
                  <a:srgbClr val="003399"/>
                </a:solidFill>
                <a:latin typeface="Times New Roman"/>
              </a:rPr>
              <a:t>neden var?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79640" y="326520"/>
            <a:ext cx="6913440" cy="10177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imes New Roman"/>
              </a:rPr>
              <a:t>Ağ Kurulumuna Neden Gerek Duyulmuştur?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427280" y="1538280"/>
            <a:ext cx="4537080" cy="18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2" marL="1085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SzPct val="150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3399"/>
                </a:solidFill>
                <a:latin typeface="Times New Roman"/>
              </a:rPr>
              <a:t>* Kaynakların Paylaşmak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SzPct val="150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3399"/>
                </a:solidFill>
                <a:latin typeface="Times New Roman"/>
              </a:rPr>
              <a:t>* Bilgiyi Paylaşmak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SzPct val="150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3399"/>
                </a:solidFill>
                <a:latin typeface="Times New Roman"/>
              </a:rPr>
              <a:t>* Yazılımda Standartlaşma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2" marL="108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98" name="Picture 5" descr="fig1_2"/>
          <p:cNvPicPr/>
          <p:nvPr/>
        </p:nvPicPr>
        <p:blipFill>
          <a:blip r:embed="rId1"/>
          <a:stretch/>
        </p:blipFill>
        <p:spPr>
          <a:xfrm>
            <a:off x="611280" y="1700280"/>
            <a:ext cx="3219480" cy="10666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fig1_3"/>
          <p:cNvPicPr/>
          <p:nvPr/>
        </p:nvPicPr>
        <p:blipFill>
          <a:blip r:embed="rId2"/>
          <a:stretch/>
        </p:blipFill>
        <p:spPr>
          <a:xfrm>
            <a:off x="158760" y="2924280"/>
            <a:ext cx="3981600" cy="12571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fig1_5"/>
          <p:cNvPicPr/>
          <p:nvPr/>
        </p:nvPicPr>
        <p:blipFill>
          <a:blip r:embed="rId3"/>
          <a:stretch/>
        </p:blipFill>
        <p:spPr>
          <a:xfrm>
            <a:off x="4716360" y="4005360"/>
            <a:ext cx="378144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79640" y="326520"/>
            <a:ext cx="6913440" cy="10177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Times New Roman"/>
              </a:rPr>
              <a:t>Bilgisayar Ağları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798640" y="1538280"/>
            <a:ext cx="616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cc00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3399"/>
                </a:solidFill>
                <a:latin typeface="Times New Roman"/>
              </a:rPr>
              <a:t>Ağ Nedir?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80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3399"/>
                </a:solidFill>
                <a:latin typeface="Times New Roman"/>
              </a:rPr>
              <a:t>Birden çok bilgisayarın birbirine bağlanarak kaynakları paylaşmaktır.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99cc00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3399"/>
                </a:solidFill>
                <a:latin typeface="Times New Roman"/>
              </a:rPr>
              <a:t>Kaynaklar Nelerdir?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99cc00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80"/>
                </a:solidFill>
                <a:latin typeface="Times New Roman"/>
              </a:rPr>
              <a:t>Hard disk</a:t>
            </a:r>
            <a:r>
              <a:rPr b="0" lang="tr-TR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tr-TR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99cc00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80"/>
                </a:solidFill>
                <a:latin typeface="Times New Roman"/>
              </a:rPr>
              <a:t>Faks\modem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99cc00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80"/>
                </a:solidFill>
                <a:latin typeface="Times New Roman"/>
              </a:rPr>
              <a:t>Yazıcı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99cc00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80"/>
                </a:solidFill>
                <a:latin typeface="Times New Roman"/>
              </a:rPr>
              <a:t>Yedekleme Ünitesi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99cc00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80"/>
                </a:solidFill>
                <a:latin typeface="Times New Roman"/>
              </a:rPr>
              <a:t>Vb…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79640" y="326520"/>
            <a:ext cx="6913440" cy="10177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Times New Roman"/>
              </a:rPr>
              <a:t>Bilgisayar Ağları Elemanları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798640" y="1537920"/>
            <a:ext cx="6166080" cy="73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3399"/>
                </a:solidFill>
                <a:latin typeface="Times New Roman"/>
              </a:rPr>
              <a:t>Ethernet kartı (Network Interface Card-NIC)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105" name="Picture 6" descr="NIC"/>
          <p:cNvPicPr/>
          <p:nvPr/>
        </p:nvPicPr>
        <p:blipFill>
          <a:blip r:embed="rId1"/>
          <a:stretch/>
        </p:blipFill>
        <p:spPr>
          <a:xfrm>
            <a:off x="3564000" y="2781360"/>
            <a:ext cx="476244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79640" y="326520"/>
            <a:ext cx="6913440" cy="10177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Times New Roman"/>
              </a:rPr>
              <a:t>Bilgisayar Ağları Elemanları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11280" y="1538280"/>
            <a:ext cx="6337440" cy="462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3399"/>
                </a:solidFill>
                <a:latin typeface="Times New Roman"/>
              </a:rPr>
              <a:t>Sunucu (Server-Host)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80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99"/>
                </a:solidFill>
                <a:latin typeface="Times New Roman"/>
              </a:rPr>
              <a:t>Sunucu Çeşitleri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80"/>
              </a:buClr>
              <a:buSzPct val="15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3399"/>
                </a:solidFill>
                <a:latin typeface="Times New Roman"/>
              </a:rPr>
              <a:t>Dosya Sunucusu(File Server)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80"/>
              </a:buClr>
              <a:buSzPct val="15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3399"/>
                </a:solidFill>
                <a:latin typeface="Times New Roman"/>
              </a:rPr>
              <a:t>Veri Tabanı Sunucusu(Database Server)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80"/>
              </a:buClr>
              <a:buSzPct val="15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3399"/>
                </a:solidFill>
                <a:latin typeface="Times New Roman"/>
              </a:rPr>
              <a:t>Web Sunucusu(Web Server)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80"/>
              </a:buClr>
              <a:buSzPct val="15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3399"/>
                </a:solidFill>
                <a:latin typeface="Times New Roman"/>
              </a:rPr>
              <a:t>Yazıcı Sunucusu (Printer Server)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80"/>
              </a:buClr>
              <a:buSzPct val="15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3399"/>
                </a:solidFill>
                <a:latin typeface="Times New Roman"/>
              </a:rPr>
              <a:t>Proxy Serve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80"/>
                </a:solidFill>
                <a:latin typeface="Times New Roman"/>
              </a:rPr>
              <a:t>Terminal - İstemci (Client-Node)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80"/>
              </a:buClr>
              <a:buSzPct val="15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3399"/>
                </a:solidFill>
                <a:latin typeface="Times New Roman"/>
              </a:rPr>
              <a:t>Ağ sistemindeki bilgisayarla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79640" y="326520"/>
            <a:ext cx="6913440" cy="10177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Times New Roman"/>
              </a:rPr>
              <a:t>Bilgisayar Ağ Mimarisi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195280" y="1538280"/>
            <a:ext cx="6769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3399"/>
                </a:solidFill>
                <a:latin typeface="Times New Roman"/>
              </a:rPr>
              <a:t>İstemci-Sunucu / Sunucu Temelli (Client-Server, Server based)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3399"/>
                </a:solidFill>
                <a:latin typeface="Times New Roman"/>
              </a:rPr>
              <a:t>Türdeş (Peer-to-Peer) Mimari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110" name="Picture 5" descr="fig2_2"/>
          <p:cNvPicPr/>
          <p:nvPr/>
        </p:nvPicPr>
        <p:blipFill>
          <a:blip r:embed="rId1"/>
          <a:stretch/>
        </p:blipFill>
        <p:spPr>
          <a:xfrm>
            <a:off x="3995640" y="3573360"/>
            <a:ext cx="4824360" cy="28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79640" y="326520"/>
            <a:ext cx="6913440" cy="10177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Times New Roman"/>
              </a:rPr>
              <a:t>Ağ İşletim Sistemleri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798640" y="1538280"/>
            <a:ext cx="616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3399"/>
                </a:solidFill>
                <a:latin typeface="Times New Roman"/>
              </a:rPr>
              <a:t>Türdeş Mimariler İçin;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99cc00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3399"/>
                </a:solidFill>
                <a:latin typeface="Times New Roman"/>
              </a:rPr>
              <a:t>Microsoft Windows for Workgroups vb…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3399"/>
                </a:solidFill>
                <a:latin typeface="Times New Roman"/>
              </a:rPr>
              <a:t>İstemci-sunucu / Sunucu Temelli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99cc00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3399"/>
                </a:solidFill>
                <a:latin typeface="Times New Roman"/>
              </a:rPr>
              <a:t>Linu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99cc00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3399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99cc00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3399"/>
                </a:solidFill>
                <a:latin typeface="Times New Roman"/>
              </a:rPr>
              <a:t>Windows NT 4.0, Windows Server 2000/2003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99cc00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3399"/>
                </a:solidFill>
                <a:latin typeface="Times New Roman"/>
              </a:rPr>
              <a:t>Novell Netwar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4T13:20:36Z</dcterms:created>
  <dc:creator>Şirin Karadeniz</dc:creator>
  <dc:description/>
  <dc:language>en-US</dc:language>
  <cp:lastModifiedBy>Adil YILDIZ</cp:lastModifiedBy>
  <dcterms:modified xsi:type="dcterms:W3CDTF">2011-10-04T08:22:30Z</dcterms:modified>
  <cp:revision>12</cp:revision>
  <dc:subject/>
  <dc:title>Bilgisayar Ağlarına Giriş</dc:title>
</cp:coreProperties>
</file>