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3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8.jpeg" ContentType="image/jpeg"/>
  <Override PartName="/ppt/media/image5.png" ContentType="image/png"/>
  <Override PartName="/ppt/media/image30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1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6F19-CC5C-4006-8EEA-8516432FA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C1BA-9DCA-4C02-B715-345AA2237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B590-FA69-431D-8002-4723E2207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95CE-4B85-4BE1-B3C2-D7768CEA2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6FD9B-E7E6-4FD4-B5B7-FB3AC3A96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84492-B25A-4A97-BD84-4C70F1164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6B28E-6BE4-470A-BD94-3A23ABF0C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44988-657A-4D1F-87E2-1AE5E9D0B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E1267-E719-4371-88AA-C9BFB0859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7E172-6E1B-4B62-963A-AA8E9E2A8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3547A-16F1-4741-974F-CB149DA9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8C40-A75E-4C8F-A38F-3DCE9CFDE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3525C-2FDB-4ECE-923C-F93C1D6B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3D1D7-9A53-46F2-BA31-98119123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341B5-261C-42A8-8C2C-367591CDB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4F18D-C8EB-4CDC-975D-A8D34E9E5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63E5C-7CD2-4B17-9D76-650BD30BC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490C-951D-4302-AB0D-21EAD5E90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803E-51E5-40E9-BBA1-2C7E9C663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6903-A2D4-4DF7-9D32-0577B14D7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96FB-9950-4C6C-90E5-75E468C48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5F2E-4CAE-4F3A-BFA7-8E18EC6F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0950-6FFF-45C7-BD16-65E4B89F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A0C1-433D-4FA9-9801-0CEAB1F4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98FAD-BABB-4605-98DF-9D29B21EAA67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2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3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4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5DCF-C774-4342-9DAC-FD243F6D340A}" type="slidenum">
              <a:rPr b="0" lang="tr-TR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000000"/>
                </a:solidFill>
                <a:latin typeface="Arial"/>
              </a:rPr>
              <a:t>Ağ Topolojiler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42920" y="2130120"/>
            <a:ext cx="5832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FDDI </a:t>
            </a:r>
            <a:br>
              <a:rPr sz="3600"/>
            </a:b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(Fiber Distrubuted Data Interface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Bir MAN protokolüdür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Bir ağda genel olarak 100 Mbps'da ve 500 terminali destekler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">
            <a:hlinkClick r:id="rId1" action="ppaction://hlinksldjump"/>
          </p:cNvPr>
          <p:cNvSpPr/>
          <p:nvPr/>
        </p:nvSpPr>
        <p:spPr>
          <a:xfrm>
            <a:off x="7812000" y="6165720"/>
            <a:ext cx="720720" cy="50328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926" h="21600">
                <a:moveTo>
                  <a:pt x="0" y="0"/>
                </a:moveTo>
                <a:lnTo>
                  <a:pt x="30926" y="0"/>
                </a:lnTo>
                <a:lnTo>
                  <a:pt x="30926" y="21600"/>
                </a:lnTo>
                <a:lnTo>
                  <a:pt x="0" y="21600"/>
                </a:lnTo>
                <a:close/>
              </a:path>
              <a:path fill="lightenLess" w="30926" h="21600">
                <a:moveTo>
                  <a:pt x="0" y="0"/>
                </a:moveTo>
                <a:lnTo>
                  <a:pt x="30926" y="0"/>
                </a:lnTo>
                <a:lnTo>
                  <a:pt x="29526" y="1400"/>
                </a:lnTo>
                <a:lnTo>
                  <a:pt x="1400" y="1400"/>
                </a:lnTo>
                <a:close/>
              </a:path>
              <a:path fill="darken" w="30926" h="21600">
                <a:moveTo>
                  <a:pt x="30926" y="0"/>
                </a:moveTo>
                <a:lnTo>
                  <a:pt x="30926" y="21600"/>
                </a:lnTo>
                <a:lnTo>
                  <a:pt x="29526" y="20200"/>
                </a:lnTo>
                <a:lnTo>
                  <a:pt x="29526" y="1400"/>
                </a:lnTo>
                <a:close/>
              </a:path>
              <a:path fill="darkenLess" w="30926" h="21600">
                <a:moveTo>
                  <a:pt x="30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26" y="20200"/>
                </a:lnTo>
                <a:close/>
              </a:path>
              <a:path fill="lighten" w="30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26" h="21600">
                <a:moveTo>
                  <a:pt x="8456" y="10800"/>
                </a:moveTo>
                <a:lnTo>
                  <a:pt x="22469" y="3794"/>
                </a:lnTo>
                <a:lnTo>
                  <a:pt x="22469" y="17806"/>
                </a:ln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68580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7240" y="18864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0000"/>
                </a:solidFill>
                <a:latin typeface="Arial"/>
              </a:rPr>
              <a:t>Çarpışma (Collision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6923160" cy="4572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Halka(Token Ring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7240" y="1052640"/>
            <a:ext cx="776952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Arial"/>
              </a:rPr>
              <a:t>IBM tarafından geliştirilmiştir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Arial"/>
              </a:rPr>
              <a:t>Mantıksal olarak bir daire şeklinde tüm düğümlerin birbirine bağlanması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RING"/>
          <p:cNvPicPr/>
          <p:nvPr/>
        </p:nvPicPr>
        <p:blipFill>
          <a:blip r:embed="rId1"/>
          <a:stretch/>
        </p:blipFill>
        <p:spPr>
          <a:xfrm>
            <a:off x="1836720" y="2832120"/>
            <a:ext cx="4680000" cy="3416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Halka(Token Ring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7240" y="1052640"/>
            <a:ext cx="776952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Arial"/>
              </a:rPr>
              <a:t>Token (Jeton) (3 byte’lık) bu düğümler arasında dolaşan bilgidir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tr"/>
          <p:cNvPicPr/>
          <p:nvPr/>
        </p:nvPicPr>
        <p:blipFill>
          <a:blip r:embed="rId1"/>
          <a:stretch/>
        </p:blipFill>
        <p:spPr>
          <a:xfrm>
            <a:off x="1908000" y="2205000"/>
            <a:ext cx="5472360" cy="33796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1908000" y="0"/>
            <a:ext cx="5670720" cy="66373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280" y="71280"/>
            <a:ext cx="7769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Arial"/>
              </a:rPr>
              <a:t>Halka Topoloji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208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Halka içersindeki bir bilgisayar bozulursa tüm ağ bağlantısı kesili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Çarpışma olasılığı düşüktü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Şu anda halka topolojilerde UTP, STP kablo kullanılmaktadı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İlk halka topolojiler; 4 Mbps (CAT3 UTP), daha sonra 16 Mbps(CAT4 ve üstü veya STP Tip 4) çalışmaktadı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Halka topolojiye uygun ethernet kartları; 4 veya 16 Mbps’da çalışı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ring"/>
          <p:cNvPicPr/>
          <p:nvPr/>
        </p:nvPicPr>
        <p:blipFill>
          <a:blip r:embed="rId1"/>
          <a:stretch/>
        </p:blipFill>
        <p:spPr>
          <a:xfrm>
            <a:off x="0" y="0"/>
            <a:ext cx="2124000" cy="1557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280" y="71280"/>
            <a:ext cx="7769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Halka Topoloji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 Star-Wired 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2803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Star-wired ring’de denilebil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Yerleşim fiziksel olarak yıldız olarak görünür ancak mantıksal olarak jetonlar dairesel olarak ağda iler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Yıldız topolojisindeki Hub yerine burada MAU (Multistation Access Unit) veya MSAU (Multistation Access Unit) kullanılı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 MAU’da veriler dairesel olarak gid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Hub kendisine gelen bütün sinyalleri tüm düğümlere iletirken MAU gelen sinyali bir halka şeklinde sadece bir yönde ilet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öylece ağdaki tüm düğümler jetonu al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280" y="71280"/>
            <a:ext cx="7769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Halka Topoloji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 Star-Wired 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[star-wired ring topology image]"/>
          <p:cNvPicPr/>
          <p:nvPr/>
        </p:nvPicPr>
        <p:blipFill>
          <a:blip r:embed="rId1"/>
          <a:stretch/>
        </p:blipFill>
        <p:spPr>
          <a:xfrm>
            <a:off x="2124000" y="1052640"/>
            <a:ext cx="4969080" cy="4968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9280" y="71280"/>
            <a:ext cx="7769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Halka Topoloji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 Star-Wired 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FIG7-10"/>
          <p:cNvPicPr/>
          <p:nvPr/>
        </p:nvPicPr>
        <p:blipFill>
          <a:blip r:embed="rId1"/>
          <a:srcRect l="21565" t="21127" r="0" b="22539"/>
          <a:stretch/>
        </p:blipFill>
        <p:spPr>
          <a:xfrm>
            <a:off x="609480" y="1862280"/>
            <a:ext cx="7899480" cy="37764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7"/>
          <p:cNvSpPr/>
          <p:nvPr/>
        </p:nvSpPr>
        <p:spPr>
          <a:xfrm>
            <a:off x="2340000" y="105264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6666"/>
                </a:solidFill>
                <a:latin typeface="Arial"/>
              </a:rPr>
              <a:t>Klasik Halka topolojisi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280" y="71280"/>
            <a:ext cx="7769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Halka Topoloji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 Star-Wired 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340000" y="105264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6666"/>
                </a:solidFill>
                <a:latin typeface="Arial"/>
              </a:rPr>
              <a:t>Star-Wired Ring topoloji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1" name="Picture 5" descr="FIG7-11"/>
          <p:cNvPicPr/>
          <p:nvPr/>
        </p:nvPicPr>
        <p:blipFill>
          <a:blip r:embed="rId1"/>
          <a:srcRect l="25312" t="30990" r="6251" b="30990"/>
          <a:stretch/>
        </p:blipFill>
        <p:spPr>
          <a:xfrm>
            <a:off x="304920" y="2133720"/>
            <a:ext cx="8610480" cy="3186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8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Topoloji nedir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7240" y="1557000"/>
            <a:ext cx="776952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Bir ağdaki bilgisayarların nasıl yerleşeceğini, nasıl bağlanacağını, veri iletiminin nasıl olacağını belirleyen genel yapıdı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Fiziksel topoloji: Ağın fiziksel olarak nasıl görüneceğini belirler (Fiziksel katma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Mantıksal topoloji: Bir ağdaki veri akışının nasıl olacağını belirler (Veri iletim katmanı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33716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800" spc="-1" strike="noStrike">
                <a:solidFill>
                  <a:srgbClr val="336666"/>
                </a:solidFill>
                <a:latin typeface="Arial"/>
              </a:rPr>
              <a:t>MAU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FIG7-12"/>
          <p:cNvPicPr/>
          <p:nvPr/>
        </p:nvPicPr>
        <p:blipFill>
          <a:blip r:embed="rId1"/>
          <a:srcRect l="27186" t="27145" r="5311" b="27145"/>
          <a:stretch/>
        </p:blipFill>
        <p:spPr>
          <a:xfrm>
            <a:off x="457200" y="1752480"/>
            <a:ext cx="7924680" cy="3522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MAU with Station Bypassed"/>
          <p:cNvPicPr/>
          <p:nvPr/>
        </p:nvPicPr>
        <p:blipFill>
          <a:blip r:embed="rId2"/>
          <a:stretch/>
        </p:blipFill>
        <p:spPr>
          <a:xfrm>
            <a:off x="755640" y="1628640"/>
            <a:ext cx="7561440" cy="4384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24000" y="115560"/>
            <a:ext cx="309564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İki MAU bağlanması için MAU’daki RI (Ring In) ve RO (Ring Out portları kullanıl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9" descr="Token Ring Expanded Using Two MAUs"/>
          <p:cNvPicPr/>
          <p:nvPr/>
        </p:nvPicPr>
        <p:blipFill>
          <a:blip r:embed="rId1"/>
          <a:stretch/>
        </p:blipFill>
        <p:spPr>
          <a:xfrm>
            <a:off x="611280" y="2492280"/>
            <a:ext cx="8137440" cy="36054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Main Ring Path"/>
          <p:cNvPicPr/>
          <p:nvPr/>
        </p:nvPicPr>
        <p:blipFill>
          <a:blip r:embed="rId2"/>
          <a:stretch/>
        </p:blipFill>
        <p:spPr>
          <a:xfrm>
            <a:off x="395280" y="189000"/>
            <a:ext cx="4897440" cy="1652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Yıldız (Star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7240" y="1267920"/>
            <a:ext cx="7769520" cy="45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Tüm düğümlerin ortak bir merkeze (örneğin, hub, switch) bağlanmasıdı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1" name="AutoShape 8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42" name="Picture 9" descr="star"/>
          <p:cNvPicPr/>
          <p:nvPr/>
        </p:nvPicPr>
        <p:blipFill>
          <a:blip r:embed="rId1"/>
          <a:stretch/>
        </p:blipFill>
        <p:spPr>
          <a:xfrm>
            <a:off x="2556000" y="2592360"/>
            <a:ext cx="4103640" cy="35974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Yıldız (Star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5" name="AutoShape 5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46" name="Picture 6" descr="star"/>
          <p:cNvPicPr/>
          <p:nvPr/>
        </p:nvPicPr>
        <p:blipFill>
          <a:blip r:embed="rId1"/>
          <a:stretch/>
        </p:blipFill>
        <p:spPr>
          <a:xfrm>
            <a:off x="2556000" y="2592360"/>
            <a:ext cx="4103640" cy="3597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FIG7-07"/>
          <p:cNvPicPr/>
          <p:nvPr/>
        </p:nvPicPr>
        <p:blipFill>
          <a:blip r:embed="rId2"/>
          <a:srcRect l="28347" t="30990" r="7216" b="30990"/>
          <a:stretch/>
        </p:blipFill>
        <p:spPr>
          <a:xfrm>
            <a:off x="228600" y="1905120"/>
            <a:ext cx="8686800" cy="34131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230760" y="479520"/>
            <a:ext cx="508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r-wired bus</a:t>
            </a:r>
            <a:r>
              <a:rPr b="1" lang="tr-TR" sz="2800" spc="-1" strike="noStrike">
                <a:solidFill>
                  <a:srgbClr val="000000"/>
                </a:solidFill>
                <a:latin typeface="Times New Roman"/>
              </a:rPr>
              <a:t> ~ Yıldız Topoloji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68580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51" name="Picture 5" descr="FIG7-08"/>
          <p:cNvPicPr/>
          <p:nvPr/>
        </p:nvPicPr>
        <p:blipFill>
          <a:blip r:embed="rId1"/>
          <a:srcRect l="21565" t="16904" r="0" b="16904"/>
          <a:stretch/>
        </p:blipFill>
        <p:spPr>
          <a:xfrm>
            <a:off x="457200" y="1378080"/>
            <a:ext cx="8458200" cy="47512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7240" y="115920"/>
            <a:ext cx="776952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Yıldız Topoloji </a:t>
            </a:r>
            <a:br>
              <a:rPr sz="3000"/>
            </a:b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(Avantaj ve Dezavantajları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42920" y="1125360"/>
            <a:ext cx="4249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Avantajları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Ağı kurmak kolaydı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Bir bilgisayara bağlı kablo bozulduğunda ağın çalışması etkilenmez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Ağdaki sorunları tespit etmek kolaydı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Dezavantajları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Hub kullanıldığında ağ trafiği arta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Doğrusala göre daha fazla uzunlukta kablo gerektiri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Hub veya Switch bozulduğunda tüm ağ çalışmaz hale geli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Hub ve Switch gibi cihazlar nedeniyle doğrusala göre kurulumu daha pahalıdı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4464000" cy="4464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0000"/>
                </a:solidFill>
                <a:latin typeface="Arial"/>
              </a:rPr>
              <a:t>Doğrusal -Halka -Yıldız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net"/>
          <p:cNvPicPr/>
          <p:nvPr/>
        </p:nvPicPr>
        <p:blipFill>
          <a:blip r:embed="rId1"/>
          <a:stretch/>
        </p:blipFill>
        <p:spPr>
          <a:xfrm>
            <a:off x="2340000" y="1341360"/>
            <a:ext cx="5040360" cy="4851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Ağaç (Tree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7240" y="1052640"/>
            <a:ext cx="7769520" cy="45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</a:rPr>
              <a:t>Genellikle yıldız topolojisindeki ağları birbirine bağlamak için kullanılır. Böylece ağlar büyütülebili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</a:rPr>
              <a:t>Bir ağacın dalları farklı topolojilerdeki ağları temsil eder, ağacın gövdesi ile de bunlar birbirine bağlanabili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61" name="Picture 8" descr="tree-net"/>
          <p:cNvPicPr/>
          <p:nvPr/>
        </p:nvPicPr>
        <p:blipFill>
          <a:blip r:embed="rId1"/>
          <a:stretch/>
        </p:blipFill>
        <p:spPr>
          <a:xfrm>
            <a:off x="2340000" y="3716280"/>
            <a:ext cx="4608360" cy="29210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82624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Ağaç (Tree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419640" y="1341000"/>
            <a:ext cx="43891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</a:rPr>
              <a:t>Hiyerarşik yapıdaki ağlar için kullanılır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4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65" name="Picture 9" descr=""/>
          <p:cNvPicPr/>
          <p:nvPr/>
        </p:nvPicPr>
        <p:blipFill>
          <a:blip r:embed="rId1"/>
          <a:stretch/>
        </p:blipFill>
        <p:spPr>
          <a:xfrm>
            <a:off x="250920" y="136440"/>
            <a:ext cx="2085840" cy="1924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3" descr="prim15"/>
          <p:cNvPicPr/>
          <p:nvPr/>
        </p:nvPicPr>
        <p:blipFill>
          <a:blip r:embed="rId2"/>
          <a:stretch/>
        </p:blipFill>
        <p:spPr>
          <a:xfrm>
            <a:off x="2987640" y="3068640"/>
            <a:ext cx="4181400" cy="23241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117000"/>
            <a:ext cx="8640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Ağaç Topoloji - (Avantaj ve Dezavantajları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859280" y="1052280"/>
            <a:ext cx="410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100" spc="-1" strike="noStrike">
                <a:solidFill>
                  <a:srgbClr val="000000"/>
                </a:solidFill>
                <a:latin typeface="Arial"/>
              </a:rPr>
              <a:t>Avantajları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Her bir bölüme (segment) ulaşmak kolaydı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Bir çok çalışma grubu bir araya getirilebili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100" spc="-1" strike="noStrike">
                <a:solidFill>
                  <a:srgbClr val="000000"/>
                </a:solidFill>
                <a:latin typeface="Arial"/>
              </a:rPr>
              <a:t>Dezavantajları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Her bir bölümün uzunluğu kullanılan kablo ile sınırlıdı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Omurga kablosu bozulduğunda bölümlerdeki ağ trafiği etkilen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Kurulumu ve düzenlenmesi daha zord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66600" y="981000"/>
            <a:ext cx="4649760" cy="5327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0000"/>
                </a:solidFill>
                <a:latin typeface="Arial"/>
              </a:rPr>
              <a:t>Ağ topoloji türler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Doğrusal (Bus Topolog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Halka (Ring Topolog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tar-wired 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Yıldız (Star Topolog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tar-wired b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Ağaç (Tree Topolog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Karmaşık (Mesh Topolog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543"/>
          <p:cNvPicPr/>
          <p:nvPr/>
        </p:nvPicPr>
        <p:blipFill>
          <a:blip r:embed="rId1"/>
          <a:stretch/>
        </p:blipFill>
        <p:spPr>
          <a:xfrm>
            <a:off x="0" y="132408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Karmaşık (Mesh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4360" y="981000"/>
            <a:ext cx="82087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</a:rPr>
              <a:t>Gerçek Mesh topolojide tüm düğümler ağ içerisinde birbirine bağlıdır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</a:rPr>
              <a:t>Daha çok WAN’da kullanılır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</a:rPr>
              <a:t>LAN’da kullanıldığında tüm düğümlerin birbirine mutlaka bağlı olması gerekmez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4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4" name="AutoShape 5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75" name="Picture 7" descr="mesh"/>
          <p:cNvPicPr/>
          <p:nvPr/>
        </p:nvPicPr>
        <p:blipFill>
          <a:blip r:embed="rId1"/>
          <a:stretch/>
        </p:blipFill>
        <p:spPr>
          <a:xfrm>
            <a:off x="2413080" y="3284640"/>
            <a:ext cx="4967280" cy="341136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9"/>
          <p:cNvSpPr/>
          <p:nvPr/>
        </p:nvSpPr>
        <p:spPr>
          <a:xfrm>
            <a:off x="3240" y="450864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Gerçek Mesh topoloji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Karmaşık (Mesh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4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9" name="AutoShape 5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80" name="Picture 7" descr="A hierarchical network."/>
          <p:cNvPicPr/>
          <p:nvPr/>
        </p:nvPicPr>
        <p:blipFill>
          <a:blip r:embed="rId1"/>
          <a:stretch/>
        </p:blipFill>
        <p:spPr>
          <a:xfrm>
            <a:off x="2266920" y="1197000"/>
            <a:ext cx="4176720" cy="347976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23880" y="4938480"/>
            <a:ext cx="70106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Hybrid mesh topoloji, karmaşık ağlarda (veritabanı sunucularının uzak mesafeler arası bağlantıları vb.) kullanılı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61" descr="bus"/>
          <p:cNvPicPr/>
          <p:nvPr/>
        </p:nvPicPr>
        <p:blipFill>
          <a:blip r:embed="rId1"/>
          <a:stretch/>
        </p:blipFill>
        <p:spPr>
          <a:xfrm>
            <a:off x="324000" y="1341360"/>
            <a:ext cx="2619360" cy="7430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62" descr="star"/>
          <p:cNvPicPr/>
          <p:nvPr/>
        </p:nvPicPr>
        <p:blipFill>
          <a:blip r:embed="rId2"/>
          <a:stretch/>
        </p:blipFill>
        <p:spPr>
          <a:xfrm>
            <a:off x="3851280" y="1125360"/>
            <a:ext cx="1324080" cy="11718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63" descr="ring"/>
          <p:cNvPicPr/>
          <p:nvPr/>
        </p:nvPicPr>
        <p:blipFill>
          <a:blip r:embed="rId3"/>
          <a:stretch/>
        </p:blipFill>
        <p:spPr>
          <a:xfrm>
            <a:off x="324000" y="342900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68" descr="tree"/>
          <p:cNvPicPr/>
          <p:nvPr/>
        </p:nvPicPr>
        <p:blipFill>
          <a:blip r:embed="rId4"/>
          <a:stretch/>
        </p:blipFill>
        <p:spPr>
          <a:xfrm>
            <a:off x="3564000" y="3429000"/>
            <a:ext cx="3209760" cy="24573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69" descr="mesh"/>
          <p:cNvPicPr/>
          <p:nvPr/>
        </p:nvPicPr>
        <p:blipFill>
          <a:blip r:embed="rId5"/>
          <a:stretch/>
        </p:blipFill>
        <p:spPr>
          <a:xfrm>
            <a:off x="6588000" y="1341360"/>
            <a:ext cx="1324080" cy="11718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171"/>
          <p:cNvSpPr/>
          <p:nvPr/>
        </p:nvSpPr>
        <p:spPr>
          <a:xfrm>
            <a:off x="395280" y="404640"/>
            <a:ext cx="456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Doğrusal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(Bus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8" name="Rectangle 173"/>
          <p:cNvSpPr/>
          <p:nvPr/>
        </p:nvSpPr>
        <p:spPr>
          <a:xfrm>
            <a:off x="539640" y="2637000"/>
            <a:ext cx="456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Halka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(Ring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9" name="Rectangle 175"/>
          <p:cNvSpPr/>
          <p:nvPr/>
        </p:nvSpPr>
        <p:spPr>
          <a:xfrm>
            <a:off x="4140360" y="33336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Yıldız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(Star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0" name="Rectangle 177"/>
          <p:cNvSpPr/>
          <p:nvPr/>
        </p:nvSpPr>
        <p:spPr>
          <a:xfrm>
            <a:off x="4140360" y="2708280"/>
            <a:ext cx="158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Ağaç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(Tree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1" name="Rectangle 179"/>
          <p:cNvSpPr/>
          <p:nvPr/>
        </p:nvSpPr>
        <p:spPr>
          <a:xfrm>
            <a:off x="6443640" y="4046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Karmaşık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(Mesh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468360" y="476280"/>
          <a:ext cx="8496360" cy="5773680"/>
        </p:xfrm>
        <a:graphic>
          <a:graphicData uri="http://schemas.openxmlformats.org/drawingml/2006/table">
            <a:tbl>
              <a:tblPr/>
              <a:tblGrid>
                <a:gridCol w="1295280"/>
                <a:gridCol w="1152720"/>
                <a:gridCol w="1511280"/>
                <a:gridCol w="936360"/>
                <a:gridCol w="3600720"/>
              </a:tblGrid>
              <a:tr h="90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oloji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rulum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üzenleme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run çözme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 aktarımında problem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ğrusal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Çok 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ısmen 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k bir kablo, kabloda problem veri aktarımını etkile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ka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ısmen 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ısmen 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kadaki bozukluk veri aktarımını etkile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125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ıldız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ay, ancak zaman alıcı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k bir kablodaki bozukluk bir pc’yi etkile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ğaç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dukça az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90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maşık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dukça az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000000"/>
                </a:solidFill>
                <a:latin typeface="Arial"/>
              </a:rPr>
              <a:t>Ağ Topolojiler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7240" y="18864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0000"/>
                </a:solidFill>
                <a:latin typeface="Arial"/>
              </a:rPr>
              <a:t>Doğrusal (Bus) Topoloj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7240" y="1125360"/>
            <a:ext cx="7769520" cy="41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Bir kablo yol olarak düşünülürse, bu yol üzerindeki her bir durak ağda bir düğümü (node-terminali/cihazı) temsil etmektedi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Bu tek kabloya; bölüm (segment), omurga (backbone), trunk denilebili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1"/>
          <a:stretch/>
        </p:blipFill>
        <p:spPr>
          <a:xfrm>
            <a:off x="1042920" y="3603600"/>
            <a:ext cx="6942240" cy="32101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"/>
          <p:cNvPicPr/>
          <p:nvPr/>
        </p:nvPicPr>
        <p:blipFill>
          <a:blip r:embed="rId1"/>
          <a:stretch/>
        </p:blipFill>
        <p:spPr>
          <a:xfrm>
            <a:off x="1509840" y="-27000"/>
            <a:ext cx="6126120" cy="6751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280" y="71280"/>
            <a:ext cx="7769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Doğrusal Topoloji  - (Avantaj ve Dezavantajları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4000" y="2997360"/>
            <a:ext cx="820872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Avantajları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Ağa bir bilgisayarı bağlamak oldukça kolaydı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Daha az uzunlukta kablo gerektiri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Dezavantajları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Omurga kabloda bir bozulma veya kesilme olursa tüm ağ bağlantısı kesili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Kablonun sonunda sonlandırıcı (Terminator) olmalıdı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Ağda sorun olduğunda sorunun nerden kaynaklandığını bulmak zaman alıcı olabili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Tek başına tüm bir binanın ağ çözümü için genellikle kullanılmamaktadı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Çarpışm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"/>
          <p:cNvPicPr/>
          <p:nvPr/>
        </p:nvPicPr>
        <p:blipFill>
          <a:blip r:embed="rId1"/>
          <a:stretch/>
        </p:blipFill>
        <p:spPr>
          <a:xfrm>
            <a:off x="1332000" y="692280"/>
            <a:ext cx="6769080" cy="23158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90440"/>
            <a:ext cx="806616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0000"/>
                </a:solidFill>
                <a:latin typeface="Arial"/>
              </a:rPr>
              <a:t>CSMA/CD (Carrier Sense Multiple Access/Collision Detect)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Ethernet ve </a:t>
            </a:r>
            <a:r>
              <a:rPr b="0" lang="tr-TR" sz="2600" spc="-1" strike="noStrike" u="sng">
                <a:solidFill>
                  <a:srgbClr val="006666"/>
                </a:solidFill>
                <a:uFillTx/>
                <a:latin typeface="Arial"/>
                <a:hlinkClick r:id="rId1" action="ppaction://hlinksldjump"/>
              </a:rPr>
              <a:t>IEEE 802.3 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standartlarında kullanılan bir protoko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Çarpışmayı bulma (Collision Detec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ir ethernet kartı bilgi göndereceği zaman ağ trafiğini iz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ğ kablosunda veri yoksa verisini kabloya bırak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Eğer kabloda veri varsa diğer veri hedefine gidinceye kadar beklenir. Ardından veriyi gönder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Eğer bu işlemler başarısız olursa çarpışma meydana gel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200" spc="-1" strike="noStrike">
                <a:solidFill>
                  <a:srgbClr val="000000"/>
                </a:solidFill>
                <a:latin typeface="Arial"/>
              </a:rPr>
              <a:t>IEE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Times New Roman"/>
              </a:rPr>
              <a:t>IEEE (Institute of Electrical and Electronics Engineers - Elektrik ve Elektronik Mühendisleri Enstitüsü) standartlar kurulu elektrik mühendisliği, elektronik, radyo, ilgili mühendislik, bilim, sanat dallarındaki standartlardan sorumludu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Times New Roman"/>
              </a:rPr>
              <a:t>Enformasyon ve İletişim Teknolojileri alanında yerel alan ağları konusundaki standartları belirl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640" y="190080"/>
            <a:ext cx="7778880" cy="86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En çok kullanılan 802 standartları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49400" y="1341360"/>
          <a:ext cx="8815320" cy="4950000"/>
        </p:xfrm>
        <a:graphic>
          <a:graphicData uri="http://schemas.openxmlformats.org/drawingml/2006/table">
            <a:tbl>
              <a:tblPr/>
              <a:tblGrid>
                <a:gridCol w="1811160"/>
                <a:gridCol w="1440000"/>
                <a:gridCol w="2016000"/>
                <a:gridCol w="2046240"/>
                <a:gridCol w="1501920"/>
              </a:tblGrid>
              <a:tr h="8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t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ız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işim Metodu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olojiler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lo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ernet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EEE 802.3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 100 veya 1000 Mbps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MA/CD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ğrusal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aksiyel veya UTP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ken R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EEE 802.5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veya 6 Mbps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ken pass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Jeton dolaşımı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ka ve 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-wired r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veya UTP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FDDI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EEE 802.8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veya 200 Mbps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ken pass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Jeton dolaşımı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ka ve 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-wired r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ber optik veya UTP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losuz (Wireless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EEE 802.11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 22 veya 54 Mbps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MA/CD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ücresel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losuz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2:46:15Z</dcterms:created>
  <dc:creator>Şirin Karadeniz</dc:creator>
  <dc:description/>
  <dc:language>en-US</dc:language>
  <cp:lastModifiedBy>Adil YILDIZ</cp:lastModifiedBy>
  <dcterms:modified xsi:type="dcterms:W3CDTF">2011-10-04T08:23:59Z</dcterms:modified>
  <cp:revision>75</cp:revision>
  <dc:subject/>
  <dc:title>Ağ Topolojileri</dc:title>
</cp:coreProperties>
</file>