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1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2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929EE-C357-4345-B2D6-2695F0D8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131D5-3A0F-453D-921B-FE453373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3E4C4-FCEA-46AA-968D-71BCC4AF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45F86-9A0A-4BE8-9B77-30902D14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222A-9768-4AD5-A01B-5C6614C5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01C2-097C-4043-BDBA-96DBFFF5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6BE9-9AB6-41E7-9A55-518E001E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7778-73F4-4F1C-A128-67F94CD5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2E9B-BBF8-4EDA-9ECD-9C156480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7982-CE46-4B48-9068-CEA5FCFC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7490-0C82-447E-B57F-ED2E0680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EEF8-8F8E-4A90-AC7D-8E73B926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B0B3-0416-4F53-9649-155D15C5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7889-F0DB-4C86-8E57-B11797B7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E99B-45E0-48C8-BB9E-5AA852BB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9266-4574-4647-94DD-08067E00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717A-5CBB-4F34-B9AF-1AB48E55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635AE-3731-467A-A893-7423F8A0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4AE7B-6565-4344-A141-4D0CF35C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1D0B-594C-45DA-8C04-CDA10EAC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6D996-7246-4AAC-989D-7162A903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31A74-9399-4E40-829C-8A19CB9D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570E7-2B96-4211-9F8F-64AFDC7D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4FDBB-B737-4CC6-85C2-2D8D150D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41A7-4201-4721-A2FF-36FFF0E876F7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2B4A-92EC-488C-955F-0CBA2B6C034F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om.tr/imgres?imgurl=http://refillshoppen.dk/Graphics/Products/3602_m.jpg&amp;imgrefurl=http://refillshoppen.dk/static/000309/000001/003602.asp&amp;h=150&amp;w=200&amp;sz=5&amp;tbnid=xWrsNbIwXYzF4M:&amp;tbnh=74&amp;tbnw=99&amp;hl=tr&amp;start=43&amp;prev=/images%3Fq%3Dutp%2Bstp%2Brj-45%2B%26start%3D40%26svnum%3D10%26hl%3Dtr%26lr%3D%26sa%3DN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hyperlink" Target="http://images.google.com.tr/imgres?imgurl=http://fiberlogix.com.pk/pdf/images/Multifiber%2520Assembled%2520Indoor%2520Cables_img_0.jpg&amp;imgrefurl=http://fiberlogix.com.pk/pdf/Multifiber%2520Assembled%2520Indoor%2520Cables.htm&amp;h=380&amp;w=717&amp;sz=23&amp;tbnid=u9RzJcAAcmZ5lM:&amp;tbnh=73&amp;tbnw=138&amp;hl=tr&amp;start=4&amp;prev=/images%3Fq%3Dmultifiber%26svnum%3D10%26hl%3Dtr%26lr%3D%26sa%3DN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Ağ Donanımları</a:t>
            </a:r>
            <a:br>
              <a:rPr sz="5000"/>
            </a:b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blo ve Konnektö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637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ıldız Topolo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7993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UTP, STP kablo, RJ-45 konnekt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3_2" descr=""/>
          <p:cNvPicPr/>
          <p:nvPr/>
        </p:nvPicPr>
        <p:blipFill>
          <a:blip r:embed="rId1"/>
          <a:stretch/>
        </p:blipFill>
        <p:spPr>
          <a:xfrm>
            <a:off x="7451640" y="213372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67640" y="907920"/>
            <a:ext cx="942840" cy="70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640908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71380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ek (örneğin dahili hatlarda), dört (oldukça yaygındır) veya sekiz çift kablodan oluşabil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UTP (Un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TP (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32360" y="1754280"/>
            <a:ext cx="41004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P ~ S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P kablolar UTP’ye göre daha pahalıdır ve </a:t>
            </a:r>
            <a:r>
              <a:rPr b="0" lang="tr-TR" sz="2800" spc="-1" strike="noStrike" u="sng">
                <a:solidFill>
                  <a:srgbClr val="666699"/>
                </a:solidFill>
                <a:uFillTx/>
                <a:latin typeface="Arial"/>
              </a:rPr>
              <a:t>gürültü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nyallerinde daha az etkilen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TP kabloların yaygın olarak kullanılmakta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95280" y="115920"/>
            <a:ext cx="8208720" cy="6479640"/>
            <a:chOff x="395280" y="115920"/>
            <a:chExt cx="8208720" cy="647964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42160" y="115920"/>
              <a:ext cx="8061840" cy="34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95280" y="3709800"/>
              <a:ext cx="8136360" cy="288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284720" y="1549440"/>
            <a:ext cx="3744720" cy="1617480"/>
            <a:chOff x="4284720" y="1549440"/>
            <a:chExt cx="3744720" cy="16174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4284720" y="1700280"/>
              <a:ext cx="180972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724360" y="154944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ÜRÜLT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ürült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9280" y="2773440"/>
            <a:ext cx="3311640" cy="1089000"/>
            <a:chOff x="179280" y="2773440"/>
            <a:chExt cx="3311640" cy="1089000"/>
          </a:xfrm>
        </p:grpSpPr>
        <p:sp>
          <p:nvSpPr>
            <p:cNvPr id="149" name="desk1"/>
            <p:cNvSpPr/>
            <p:nvPr/>
          </p:nvSpPr>
          <p:spPr>
            <a:xfrm>
              <a:off x="179280" y="2773440"/>
              <a:ext cx="1440000" cy="57600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ayna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desk1"/>
            <p:cNvSpPr/>
            <p:nvPr/>
          </p:nvSpPr>
          <p:spPr>
            <a:xfrm>
              <a:off x="2195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19280" y="3062160"/>
              <a:ext cx="57636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9280" y="34941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lana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0920" y="34941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önde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651640" y="2773440"/>
            <a:ext cx="3528720" cy="1089000"/>
            <a:chOff x="5651640" y="2773440"/>
            <a:chExt cx="3528720" cy="1089000"/>
          </a:xfrm>
        </p:grpSpPr>
        <p:sp>
          <p:nvSpPr>
            <p:cNvPr id="155" name="desk1"/>
            <p:cNvSpPr/>
            <p:nvPr/>
          </p:nvSpPr>
          <p:spPr>
            <a:xfrm>
              <a:off x="7164360" y="2773440"/>
              <a:ext cx="1944720" cy="64908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def/Alıc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desk1"/>
            <p:cNvSpPr/>
            <p:nvPr/>
          </p:nvSpPr>
          <p:spPr>
            <a:xfrm>
              <a:off x="5651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4360" y="34941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ıc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85080" y="3494160"/>
              <a:ext cx="21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u çözüle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59640" y="3062160"/>
              <a:ext cx="5047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419640" y="2630520"/>
            <a:ext cx="2087280" cy="1015920"/>
            <a:chOff x="3419640" y="2630520"/>
            <a:chExt cx="2087280" cy="1015920"/>
          </a:xfrm>
        </p:grpSpPr>
        <p:sp>
          <p:nvSpPr>
            <p:cNvPr id="161" name=""/>
            <p:cNvSpPr/>
            <p:nvPr/>
          </p:nvSpPr>
          <p:spPr>
            <a:xfrm>
              <a:off x="3419640" y="26305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y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9640" y="3278160"/>
              <a:ext cx="20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İletişim Kanal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3133800"/>
              <a:ext cx="187308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EEE standartlarına gör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Base-T (10 Mbps) 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0Base-T (100 Mb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ğlarda bir kablo en fazla 100 m ola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476280"/>
            <a:ext cx="87138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8102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TP Kablo Kategori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11280" y="1015920"/>
          <a:ext cx="8137440" cy="5581800"/>
        </p:xfrm>
        <a:graphic>
          <a:graphicData uri="http://schemas.openxmlformats.org/drawingml/2006/table">
            <a:tbl>
              <a:tblPr/>
              <a:tblGrid>
                <a:gridCol w="1657080"/>
                <a:gridCol w="6480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 Alan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CAT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nlızca ses veri iletimi yapılmaz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20 Mbps’ ye kadar veri iletimi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622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G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Gps’ ye kadar veri iletim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615600"/>
            <a:ext cx="8075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Çift Burgulu Kablo Konnektör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tür kablolar RJ-45 konnektörü ile bilgisayar bağlanır. RJ-45’in en çok kullanılan standardı 10BASE-T’d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/100 Mbps hızınd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lka ve yıldız tipi topolojilerde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76720" y="2006640"/>
            <a:ext cx="35244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 Km’ye kadar uzayabilen geniş alanlarda, elektriksel sinyallerden etkilenmeden yüksek kapasiteli iletişim ortamı sağlamada kullanıl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5040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elen elektriksel sinyalleri ışık sinyallerine çevir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şık fiber optik kabloda dengeli bir şekilde yol alır ve buna mod d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376360"/>
            <a:ext cx="40384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ek, Çok modlu ve çok modlu kademeli olmak üzere 3 çeşidi vard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(Single Mode Fiber- S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tek bir modda ya da tek bir yolda ilerlemesine olanak tanır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Düşük  sinyal kayıplarının olduğu ve yüksek veri iletişim hızının gerektirdiği durumlarda kullanılır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(Multi Mode Fiber- M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birden fazla modunu ileten fiberlerdi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n çarpışmaları meydana gelebileceğinden kısa mesafeler için kullanılı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1235160"/>
            <a:ext cx="74167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1927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1125360"/>
            <a:ext cx="5832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8.3/125 micron S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.5/125 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50/1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0/14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1"/>
          <a:stretch/>
        </p:blipFill>
        <p:spPr>
          <a:xfrm>
            <a:off x="4356000" y="4149720"/>
            <a:ext cx="2381400" cy="2000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2"/>
          <a:stretch/>
        </p:blipFill>
        <p:spPr>
          <a:xfrm>
            <a:off x="179280" y="1125360"/>
            <a:ext cx="2048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740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24000" y="836640"/>
            <a:ext cx="691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bir fiberden tek yönlü haberleşme sağlanı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İki yönlü bir haberleşme için en az iki fiber gereklidir.  Veya bir fiberde hem veri gönderimi hem de verinin alımını sağlayan iki ayrı yol olma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2057400" cy="17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324000" y="2637000"/>
          <a:ext cx="8218440" cy="3598560"/>
        </p:xfrm>
        <a:graphic>
          <a:graphicData uri="http://schemas.openxmlformats.org/drawingml/2006/table">
            <a:tbl>
              <a:tblPr/>
              <a:tblGrid>
                <a:gridCol w="2232000"/>
                <a:gridCol w="5986440"/>
              </a:tblGrid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x: İçerisinde sadece bir optik kablo v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ex: İçerisinde 2 optik kablo var. LAN omurga kablosu olarak çok tercih edilmekted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fiber: İçerisinde 2’den fazla optik kablo v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54200" y="278136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54200" y="393228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5300640"/>
            <a:ext cx="131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iber Optik Kablo Konnektörl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413000"/>
          <a:ext cx="8229600" cy="4717800"/>
        </p:xfrm>
        <a:graphic>
          <a:graphicData uri="http://schemas.openxmlformats.org/drawingml/2006/table">
            <a:tbl>
              <a:tblPr/>
              <a:tblGrid>
                <a:gridCol w="4691160"/>
                <a:gridCol w="35384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(Straight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(Subscriber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-R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1280" y="154944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1905120" cy="1419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843280" y="314172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21607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blolar - Öz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620640"/>
          <a:ext cx="8353440" cy="5962680"/>
        </p:xfrm>
        <a:graphic>
          <a:graphicData uri="http://schemas.openxmlformats.org/drawingml/2006/table">
            <a:tbl>
              <a:tblPr/>
              <a:tblGrid>
                <a:gridCol w="1670040"/>
                <a:gridCol w="1513080"/>
                <a:gridCol w="1201680"/>
                <a:gridCol w="1182600"/>
                <a:gridCol w="27860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ernet Ad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blo Tip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Hız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Uzaklığ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çıkla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lın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İnce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X (Gigabit Etherne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F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ğlar arası, Fiber optik hub ve NIC arası bağlant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F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 Ethernet ağlar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, PC ve hub arası bağlantı için tasarlanmışt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L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single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’in daha uzun mesafeler arası kullanması için, genellikle omurga olarak kullanıl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ğrusal Topolo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oaksiyel kab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2335320"/>
            <a:ext cx="6961320" cy="210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865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vizyon kablosunun daha esnek ve ince olanıdır. Bakır tellerden ve üzerinde manyetik korumadan ibaret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3240000"/>
            <a:ext cx="561636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7499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İki çeşitti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ce (Thin Coax), taşıma mesafesi 185m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Kalın (Thick Coax), 500 metred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(10Base-2 ağlarda IEEE standardına gör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3611520"/>
            <a:ext cx="61196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ş eksenli (Koaksiyel)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ip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557360"/>
          <a:ext cx="7128000" cy="3581280"/>
        </p:xfrm>
        <a:graphic>
          <a:graphicData uri="http://schemas.openxmlformats.org/drawingml/2006/table">
            <a:tbl>
              <a:tblPr/>
              <a:tblGrid>
                <a:gridCol w="1492200"/>
                <a:gridCol w="2036880"/>
                <a:gridCol w="3598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İ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ED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alın-Thicknet) - 50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2</a:t>
                      </a:r>
                      <a:r>
                        <a:rPr b="0" lang="tr-TR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İnce-Thinnet) - 18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 T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n kablo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68360" y="53737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* Yerel ağlarda en çok kullanılan standart. Bunlarda kablo mesafesi IEEE standartlarına göre 185 m’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352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aksiyel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nnektör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499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(British Naval Connector)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da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Base2 sistemlerde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kablo ucunu ve ethernet kartını bağlamak için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561672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oaksiyel Kablo Konnektör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3933720"/>
            <a:ext cx="74991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 BNC konnektörleri ile sonlandırılır ve bilgisayar arkasındaki aktarım aygıta takılacak T-şeklindeki bağlayıcılara takıl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blo sonunda 10Base5 ise 75, 10Base2 ise 50 Ohm’luk sonlandırıcı (Terminator)  tak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2857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Bağlantılar"/>
          <p:cNvPicPr/>
          <p:nvPr/>
        </p:nvPicPr>
        <p:blipFill>
          <a:blip r:embed="rId1"/>
          <a:stretch/>
        </p:blipFill>
        <p:spPr>
          <a:xfrm>
            <a:off x="206280" y="1484280"/>
            <a:ext cx="8326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9:22:48Z</dcterms:created>
  <dc:creator>Şirin Karadeniz</dc:creator>
  <dc:description/>
  <dc:language>en-US</dc:language>
  <cp:lastModifiedBy>abgulbagci</cp:lastModifiedBy>
  <dcterms:modified xsi:type="dcterms:W3CDTF">2006-10-30T09:01:27Z</dcterms:modified>
  <cp:revision>76</cp:revision>
  <dc:subject/>
  <dc:title>Ağ Donanımları</dc:title>
</cp:coreProperties>
</file>