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8.png" ContentType="image/png"/>
  <Override PartName="/ppt/media/image33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8188-AF6C-4F74-85DD-FE72E126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3700-5989-4C97-A5CD-B7CF5DDD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4851-657D-403B-B654-69BCB4A0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54F-66DA-4EA5-B177-430A38A9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762B-E973-4CC4-8AF2-4656861A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774D-23D1-4950-9B96-652230F5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738A-80D1-4F60-9945-490F1F8E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C32B-6471-4242-98B7-5E29592C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DB26-C8EE-4B75-B6F0-03088B94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821D-D959-4EBF-A3D6-460ED76A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77CD-6E28-46EE-947E-2A40C4D4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EAD-731E-4E3E-BCC6-E4D6C0F9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337D-F523-4C54-9EAE-9104CD3D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C542-064F-43A7-A841-7587B4DD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37A5-B9D7-493E-A580-C637902B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54BF-2395-4CD1-9127-B3D53C4D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5FA8-AA31-4467-B690-6AE8D5B8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E5A-F555-45B2-A651-7E3DDF7A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9EF-8EA5-4CB9-AA83-978ED2A5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2590-DC9B-4314-9838-DDD3B265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D03-489F-4BED-AB37-7716FEDC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028-6A5F-4159-8EB4-1F4705AC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5FF2-3524-4388-9AE5-1CDE52B7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2E4-0A52-4C55-A1C5-620648ED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DB08-6754-499F-B40F-676C3765D03B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9A24-FEBC-4C7A-BCEC-596CAE40F60B}" type="slidenum">
              <a:rPr b="0" lang="tr-TR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Donanımları</a:t>
            </a:r>
            <a:br>
              <a:rPr sz="4000"/>
            </a:b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3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Hub </a:t>
            </a: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ve </a:t>
            </a: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259056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witch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337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5" name="Picture 5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685800" y="1436760"/>
            <a:ext cx="7848720" cy="5087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8036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Adanmış (Dedicated) ve Paylaşılmış (Shared) Bölüm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9" name="Picture 5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495440"/>
            <a:ext cx="7594560" cy="5173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ile ağda bölümle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23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685800" y="1523880"/>
            <a:ext cx="7974000" cy="4480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veri akışı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 2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32" name="Picture 6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2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2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2. katmanında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ynı anda birden fazla çağrıya cevap ver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MAC adresler ile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e göre daha ucuzdu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atman 2 Switch Türler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tore-and-forward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iriş portundan aldıktan sonra buffer’a at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rdından paketi ilgili çıkış portuna gönder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ki hataları kontrol etmez, bu nedenle daha hızlıdı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ncak bozuk paketler ağda ilerler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Cut-through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3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3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Katman 2 Switch’ler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ir hedefe giden tek bir yol ve MAC adres kullanılır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Katman 3 Switch’ler ile performans arttırıl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OSI’nin 3. katmanı olan ‘Ağ’ katmanında çalış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Switch ve Router’ın özelliklerinin birleşimidi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leri bir Router gibi ağda yönlendire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OSI Veri İletim katmanında çalış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C adreslerini kullanarak paketler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Birbiri ile aynı topolojide veya farklı topolojide olabil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Veri yönlendirme işlemi yap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10 Mbps ve 100 Mbps ağları birbirine bağlayabilir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OSI ve 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79640" y="1557360"/>
          <a:ext cx="6337440" cy="5095800"/>
        </p:xfrm>
        <a:graphic>
          <a:graphicData uri="http://schemas.openxmlformats.org/drawingml/2006/table">
            <a:tbl>
              <a:tblPr/>
              <a:tblGrid>
                <a:gridCol w="2419200"/>
                <a:gridCol w="3918240"/>
              </a:tblGrid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SI Katmanı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Cihaz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Uygula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Sun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tur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Taşı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Yönlendirici (Rou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3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Veri İleti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öprü (Bridge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2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Fiziksel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NIC, Yineleyici (Repea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Hub, MAU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blo, Alıcı ve verici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8036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Bridge Operation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056720" cy="502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7" name="Picture 5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539640" y="1557360"/>
            <a:ext cx="8128080" cy="4662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İki farklı ağ ve köprü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763640" y="1681200"/>
            <a:ext cx="5191200" cy="4653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alka topolojide köprü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06472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5" name="Picture 4" descr="10/100 Series Repeater"/>
          <p:cNvPicPr/>
          <p:nvPr/>
        </p:nvPicPr>
        <p:blipFill>
          <a:blip r:embed="rId1"/>
          <a:stretch/>
        </p:blipFill>
        <p:spPr>
          <a:xfrm>
            <a:off x="611280" y="4005360"/>
            <a:ext cx="3024000" cy="232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repeater1"/>
          <p:cNvPicPr/>
          <p:nvPr/>
        </p:nvPicPr>
        <p:blipFill>
          <a:blip r:embed="rId2"/>
          <a:stretch/>
        </p:blipFill>
        <p:spPr>
          <a:xfrm>
            <a:off x="406728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1. katmanında çalıştığı için verinin içeriğine bakmaz, sadece sinyalleri güçlendirir. Ağ trafiğini yönetmez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9" name="Picture 6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neleyic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 kablosunun erişebileceği maksimum mesafeyi uzatırlar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daki maksimum düğüm sayısını arttır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blo arızalarının etkisini azalta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Farklı kablo tipleri kullanan ağları birleştire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http://www.turkcenet.org/yerel_htm/repeater_ve_bridge.htm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3168720" cy="18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4356000" y="4508640"/>
            <a:ext cx="4465800" cy="149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8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284640"/>
            <a:ext cx="61927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Notlar: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Brouter (Bridge Router)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Hem yönlendirici hem de köprüyü tek cihazda topla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 ve Router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Yüksek perfortmanslı LAN’lar için kullanıldığından genellikle router’dan daha hızlı çalış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WAN için genellikle kullanılma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Yıldız ağ topolojisinde kullanıl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Gelen bilgileri hepsini tüm bilgisayarlara gönder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 birbirine bağlanarak ağ büyütül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88" name="Picture 4" descr="HP 10Base-T HUB-16M"/>
          <p:cNvPicPr/>
          <p:nvPr/>
        </p:nvPicPr>
        <p:blipFill>
          <a:blip r:embed="rId1"/>
          <a:stretch/>
        </p:blipFill>
        <p:spPr>
          <a:xfrm>
            <a:off x="1763640" y="407664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tar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Paket yönlendir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2" name="Picture 6" descr="routeforwding"/>
          <p:cNvPicPr/>
          <p:nvPr/>
        </p:nvPicPr>
        <p:blipFill>
          <a:blip r:embed="rId1"/>
          <a:stretch/>
        </p:blipFill>
        <p:spPr>
          <a:xfrm>
            <a:off x="2411280" y="1557360"/>
            <a:ext cx="4583160" cy="498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Geçidi (GATEWAY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Bu cihaz bir Köprü, Switch veya Yönlendirici olabil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08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LAN 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1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A terminali D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a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116000" y="41353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da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1d4944"/>
                </a:solidFill>
                <a:latin typeface="Arial"/>
              </a:rPr>
              <a:t>Alıştırma 3 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biliyorsa hangi yoldan gidecekt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mıyorsa ne yapmak gereklid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8" name="Picture 6" descr="repeater_einfuehrung1"/>
          <p:cNvPicPr/>
          <p:nvPr/>
        </p:nvPicPr>
        <p:blipFill>
          <a:blip r:embed="rId1"/>
          <a:stretch/>
        </p:blipFill>
        <p:spPr>
          <a:xfrm>
            <a:off x="1979640" y="2963880"/>
            <a:ext cx="5113440" cy="37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; Koaksiyel, çift burgulu veya fiber optik kablo ile birbirine bağlana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Uplink portu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ackbone (Omurga) portu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655120" cy="348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Hub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lar ve ağ bölümleri (</a:t>
            </a: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segments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97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Star-wired bus LAN ve iki hub bağlantısı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1d4337"/>
                </a:solidFill>
                <a:latin typeface="Arial"/>
              </a:rPr>
              <a:t>MAU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(Multistation Access Unit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0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1d4944"/>
                </a:solidFill>
                <a:latin typeface="Arial"/>
              </a:rPr>
              <a:t>İki MAU bağlanması için MAU’daki RI (Ring In) ve RO (Ring Out portları kullanılır.</a:t>
            </a:r>
            <a:endParaRPr b="1" lang="en-US" sz="23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3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kıllı HUB’da denir. Fakat HUB’dan daha paha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len bilgileri sadece belli bir bilgisayarlara gönder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ğ durumunu izler, veriyi gönderip, iletim işleminin yapılıp yapılmadığını test ede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7" name="Picture 4" descr="Catalyst 1900 Switch"/>
          <p:cNvPicPr/>
          <p:nvPr/>
        </p:nvPicPr>
        <p:blipFill>
          <a:blip r:embed="rId1"/>
          <a:stretch/>
        </p:blipFill>
        <p:spPr>
          <a:xfrm>
            <a:off x="2411280" y="4581360"/>
            <a:ext cx="3959280" cy="207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9:20Z</dcterms:created>
  <dc:creator>Şirin Karadeniz</dc:creator>
  <dc:description/>
  <dc:language>en-US</dc:language>
  <cp:lastModifiedBy>Adil YILDIZ</cp:lastModifiedBy>
  <dcterms:modified xsi:type="dcterms:W3CDTF">2011-10-04T08:25:15Z</dcterms:modified>
  <cp:revision>52</cp:revision>
  <dc:subject/>
  <dc:title>Ağ Donanımları Cihazlar</dc:title>
</cp:coreProperties>
</file>