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png" ContentType="image/png"/>
  <Override PartName="/ppt/media/image6.gif" ContentType="image/gif"/>
  <Override PartName="/ppt/media/image23.png" ContentType="image/png"/>
  <Override PartName="/ppt/media/image3.png" ContentType="image/png"/>
  <Override PartName="/ppt/media/image26.png" ContentType="image/png"/>
  <Override PartName="/ppt/media/image27.png" ContentType="image/png"/>
  <Override PartName="/ppt/media/image4.png" ContentType="image/png"/>
  <Override PartName="/ppt/media/image28.png" ContentType="image/png"/>
  <Override PartName="/ppt/media/image8.jpeg" ContentType="image/jpeg"/>
  <Override PartName="/ppt/media/image5.png" ContentType="image/png"/>
  <Override PartName="/ppt/media/image30.png" ContentType="image/png"/>
  <Override PartName="/ppt/media/image10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1.png" ContentType="image/png"/>
  <Override PartName="/ppt/media/image13.png" ContentType="image/png"/>
  <Override PartName="/ppt/media/image32.png" ContentType="image/png"/>
  <Override PartName="/ppt/media/image2.png" ContentType="image/png"/>
  <Override PartName="/ppt/media/image25.jpeg" ContentType="image/jpe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jpeg" ContentType="image/jpe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DE632-4E61-4553-8C8D-B065CE959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E6AFE-FA29-4450-806D-3718B37CC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B6400-688E-4690-97C5-60A9032C5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A89D0-94C1-48E9-B53C-A2F4C2FAA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AB333-28CB-4CD0-BB97-03AD30123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74813-407D-4FFE-ADDD-CD89E0FA8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ACCEB-8B83-46E8-8CC5-7293081A1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1CDE7-7FD3-46E9-96E2-C1EE489E1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A3B15-DE71-4DC7-8E72-A52514A09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792C6-0B82-4F45-AF4E-09E621703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2469C-9105-4032-9759-9E1E0FF40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E9BA8-F0E0-467D-B28F-5E9789534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36D78-2A68-438D-B2E5-4E4309073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CA168-2626-4048-A4AC-1CA0FD5A8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F01BE-D06C-4E41-ADF4-98D065034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D3450-C279-4C64-952D-5CBA8C21B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B1F0B-B337-43D8-A029-B367B8F6B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79A59-FA26-4F18-8C2A-A26CEB3F4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9E185-01BC-48A8-8546-407B1BA68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A5794-2FB5-4CAA-B913-C520EE859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29E24-8069-42C9-9613-9756D9399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5D667-F672-4866-949E-AF5E6ED9E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58E75-25EE-413C-BD86-1C7D6D558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0D031-F2DB-422D-B840-273913920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C3A0C-811E-4B54-8133-B6460C07120B}" type="slidenum">
              <a:rPr b="0" lang="tr-T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7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2" name="Oval 8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3" name="Oval 9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4" name="Oval 10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036FC-7E70-4D9A-A519-8F43344E1B40}" type="slidenum">
              <a:rPr b="0" lang="tr-TR" sz="14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32.png"/><Relationship Id="rId6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400" spc="-1" strike="noStrike">
                <a:solidFill>
                  <a:srgbClr val="000000"/>
                </a:solidFill>
                <a:latin typeface="Arial"/>
              </a:rPr>
              <a:t>Ağ Topolojileri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133360" y="3733560"/>
            <a:ext cx="647676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842920" y="2130120"/>
            <a:ext cx="58323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000000"/>
                </a:solidFill>
                <a:latin typeface="Arial"/>
              </a:rPr>
              <a:t>FDDI </a:t>
            </a:r>
            <a:br>
              <a:rPr sz="3600"/>
            </a:br>
            <a:r>
              <a:rPr b="0" lang="tr-TR" sz="3600" spc="-1" strike="noStrike">
                <a:solidFill>
                  <a:srgbClr val="000000"/>
                </a:solidFill>
                <a:latin typeface="Arial"/>
              </a:rPr>
              <a:t>(Fiber Distrubuted Data Interface 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2133360" y="3733560"/>
            <a:ext cx="647676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Arial"/>
              </a:rPr>
              <a:t>Bir MAN protokolüdür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Arial"/>
              </a:rPr>
              <a:t>Bir ağda genel olarak 100 Mbps'da ve 500 terminali destekler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4">
            <a:hlinkClick r:id="rId1" action="ppaction://hlinksldjump"/>
          </p:cNvPr>
          <p:cNvSpPr/>
          <p:nvPr/>
        </p:nvSpPr>
        <p:spPr>
          <a:xfrm>
            <a:off x="7812000" y="6165720"/>
            <a:ext cx="720720" cy="503280"/>
          </a:xfrm>
          <a:custGeom>
            <a:avLst/>
            <a:gdLst>
              <a:gd name="textAreaLeft" fmla="*/ 32400 w 720720"/>
              <a:gd name="textAreaRight" fmla="*/ 688320 w 7207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0926" h="21600">
                <a:moveTo>
                  <a:pt x="0" y="0"/>
                </a:moveTo>
                <a:lnTo>
                  <a:pt x="30926" y="0"/>
                </a:lnTo>
                <a:lnTo>
                  <a:pt x="30926" y="21600"/>
                </a:lnTo>
                <a:lnTo>
                  <a:pt x="0" y="21600"/>
                </a:lnTo>
                <a:close/>
              </a:path>
              <a:path fill="lightenLess" w="30926" h="21600">
                <a:moveTo>
                  <a:pt x="0" y="0"/>
                </a:moveTo>
                <a:lnTo>
                  <a:pt x="30926" y="0"/>
                </a:lnTo>
                <a:lnTo>
                  <a:pt x="29526" y="1400"/>
                </a:lnTo>
                <a:lnTo>
                  <a:pt x="1400" y="1400"/>
                </a:lnTo>
                <a:close/>
              </a:path>
              <a:path fill="darken" w="30926" h="21600">
                <a:moveTo>
                  <a:pt x="30926" y="0"/>
                </a:moveTo>
                <a:lnTo>
                  <a:pt x="30926" y="21600"/>
                </a:lnTo>
                <a:lnTo>
                  <a:pt x="29526" y="20200"/>
                </a:lnTo>
                <a:lnTo>
                  <a:pt x="29526" y="1400"/>
                </a:lnTo>
                <a:close/>
              </a:path>
              <a:path fill="darkenLess" w="30926" h="21600">
                <a:moveTo>
                  <a:pt x="309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526" y="20200"/>
                </a:lnTo>
                <a:close/>
              </a:path>
              <a:path fill="lighten" w="309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926" h="21600">
                <a:moveTo>
                  <a:pt x="8456" y="10800"/>
                </a:moveTo>
                <a:lnTo>
                  <a:pt x="22469" y="3794"/>
                </a:lnTo>
                <a:lnTo>
                  <a:pt x="22469" y="17806"/>
                </a:lnTo>
                <a:close/>
              </a:path>
            </a:pathLst>
          </a:cu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2"/>
          <p:cNvSpPr/>
          <p:nvPr/>
        </p:nvSpPr>
        <p:spPr>
          <a:xfrm>
            <a:off x="457200" y="1523880"/>
            <a:ext cx="830592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66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66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66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685800" y="175248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7240" y="188640"/>
            <a:ext cx="776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200" spc="-1" strike="noStrike">
                <a:solidFill>
                  <a:srgbClr val="000000"/>
                </a:solidFill>
                <a:latin typeface="Arial"/>
              </a:rPr>
              <a:t>Çarpışma (Collision)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8" descr=""/>
          <p:cNvPicPr/>
          <p:nvPr/>
        </p:nvPicPr>
        <p:blipFill>
          <a:blip r:embed="rId1"/>
          <a:stretch/>
        </p:blipFill>
        <p:spPr>
          <a:xfrm>
            <a:off x="1258920" y="1484280"/>
            <a:ext cx="6923160" cy="45720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7769160" cy="73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800" spc="-1" strike="noStrike">
                <a:solidFill>
                  <a:srgbClr val="000000"/>
                </a:solidFill>
                <a:latin typeface="Arial"/>
              </a:rPr>
              <a:t>Halka(Token Ring) Topoloji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7240" y="1052640"/>
            <a:ext cx="7769520" cy="28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900" spc="-1" strike="noStrike">
                <a:solidFill>
                  <a:srgbClr val="000000"/>
                </a:solidFill>
                <a:latin typeface="Arial"/>
              </a:rPr>
              <a:t>IBM tarafından geliştirilmiştir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900" spc="-1" strike="noStrike">
                <a:solidFill>
                  <a:srgbClr val="000000"/>
                </a:solidFill>
                <a:latin typeface="Arial"/>
              </a:rPr>
              <a:t>Mantıksal olarak bir daire şeklinde tüm düğümlerin birbirine bağlanması.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6" descr="RING"/>
          <p:cNvPicPr/>
          <p:nvPr/>
        </p:nvPicPr>
        <p:blipFill>
          <a:blip r:embed="rId1"/>
          <a:stretch/>
        </p:blipFill>
        <p:spPr>
          <a:xfrm>
            <a:off x="1836720" y="2832120"/>
            <a:ext cx="4680000" cy="34164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7769160" cy="73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800" spc="-1" strike="noStrike">
                <a:solidFill>
                  <a:srgbClr val="000000"/>
                </a:solidFill>
                <a:latin typeface="Arial"/>
              </a:rPr>
              <a:t>Halka(Token Ring) Topoloji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7240" y="1052640"/>
            <a:ext cx="7769520" cy="28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900" spc="-1" strike="noStrike">
                <a:solidFill>
                  <a:srgbClr val="000000"/>
                </a:solidFill>
                <a:latin typeface="Arial"/>
              </a:rPr>
              <a:t>Token (Jeton) (3 byte’lık) bu düğümler arasında dolaşan bilgidir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5" descr="tr"/>
          <p:cNvPicPr/>
          <p:nvPr/>
        </p:nvPicPr>
        <p:blipFill>
          <a:blip r:embed="rId1"/>
          <a:stretch/>
        </p:blipFill>
        <p:spPr>
          <a:xfrm>
            <a:off x="1908000" y="2205000"/>
            <a:ext cx="5472360" cy="337968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5" descr=""/>
          <p:cNvPicPr/>
          <p:nvPr/>
        </p:nvPicPr>
        <p:blipFill>
          <a:blip r:embed="rId1"/>
          <a:stretch/>
        </p:blipFill>
        <p:spPr>
          <a:xfrm>
            <a:off x="1908000" y="0"/>
            <a:ext cx="5670720" cy="663732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9280" y="71280"/>
            <a:ext cx="7769160" cy="76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400" spc="-1" strike="noStrike">
                <a:solidFill>
                  <a:srgbClr val="000000"/>
                </a:solidFill>
                <a:latin typeface="Arial"/>
              </a:rPr>
              <a:t>Halka Topoloji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4000" y="1483920"/>
            <a:ext cx="820872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Halka içersindeki bir bilgisayar bozulursa tüm ağ bağlantısı kesili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Çarpışma olasılığı düşüktü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Şu anda halka topolojilerde UTP, STP kablo kullanılmaktadı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İlk halka topolojiler; 4 Mbps (CAT3 UTP), daha sonra 16 Mbps(CAT4 ve üstü veya STP Tip 4) çalışmaktadı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Halka topolojiye uygun ethernet kartları; 4 veya 16 Mbps’da çalışı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7" descr="ring"/>
          <p:cNvPicPr/>
          <p:nvPr/>
        </p:nvPicPr>
        <p:blipFill>
          <a:blip r:embed="rId1"/>
          <a:stretch/>
        </p:blipFill>
        <p:spPr>
          <a:xfrm>
            <a:off x="0" y="0"/>
            <a:ext cx="2124000" cy="15573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9280" y="71280"/>
            <a:ext cx="7769160" cy="76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Halka Topoloji</a:t>
            </a: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r-TR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 Star-Wired R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8000" y="1052640"/>
            <a:ext cx="828036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Star-wired ring’de denilebili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Yerleşim fiziksel olarak yıldız olarak görünür ancak mantıksal olarak jetonlar dairesel olarak ağda ilerl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Yıldız topolojisindeki Hub yerine burada MAU (Multistation Access Unit) veya MSAU (Multistation Access Unit) kullanılı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Bu MAU’da veriler dairesel olarak gid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Hub kendisine gelen bütün sinyalleri tüm düğümlere iletirken MAU gelen sinyali bir halka şeklinde sadece bir yönde ileti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Böylece ağdaki tüm düğümler jetonu alı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9280" y="71280"/>
            <a:ext cx="7769160" cy="76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Halka Topoloji</a:t>
            </a: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r-TR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 Star-Wired R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3" descr="[star-wired ring topology image]"/>
          <p:cNvPicPr/>
          <p:nvPr/>
        </p:nvPicPr>
        <p:blipFill>
          <a:blip r:embed="rId1"/>
          <a:stretch/>
        </p:blipFill>
        <p:spPr>
          <a:xfrm>
            <a:off x="2124000" y="1052640"/>
            <a:ext cx="4969080" cy="496872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39280" y="71280"/>
            <a:ext cx="7769160" cy="76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Halka Topoloji</a:t>
            </a: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r-TR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 Star-Wired R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6" descr="FIG7-10"/>
          <p:cNvPicPr/>
          <p:nvPr/>
        </p:nvPicPr>
        <p:blipFill>
          <a:blip r:embed="rId1"/>
          <a:srcRect l="21565" t="21127" r="0" b="22539"/>
          <a:stretch/>
        </p:blipFill>
        <p:spPr>
          <a:xfrm>
            <a:off x="609480" y="1862280"/>
            <a:ext cx="7899480" cy="377640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7"/>
          <p:cNvSpPr/>
          <p:nvPr/>
        </p:nvSpPr>
        <p:spPr>
          <a:xfrm>
            <a:off x="2340000" y="1052640"/>
            <a:ext cx="51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336666"/>
                </a:solidFill>
                <a:latin typeface="Arial"/>
              </a:rPr>
              <a:t>Klasik Halka topolojisi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9280" y="71280"/>
            <a:ext cx="7769160" cy="76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Halka Topoloji</a:t>
            </a: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r-TR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 Star-Wired R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4"/>
          <p:cNvSpPr/>
          <p:nvPr/>
        </p:nvSpPr>
        <p:spPr>
          <a:xfrm>
            <a:off x="2340000" y="1052640"/>
            <a:ext cx="51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336666"/>
                </a:solidFill>
                <a:latin typeface="Arial"/>
              </a:rPr>
              <a:t>Star-Wired Ring topoloji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31" name="Picture 5" descr="FIG7-11"/>
          <p:cNvPicPr/>
          <p:nvPr/>
        </p:nvPicPr>
        <p:blipFill>
          <a:blip r:embed="rId1"/>
          <a:srcRect l="25312" t="30990" r="6251" b="30990"/>
          <a:stretch/>
        </p:blipFill>
        <p:spPr>
          <a:xfrm>
            <a:off x="304920" y="2133720"/>
            <a:ext cx="8610480" cy="31860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88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800" spc="-1" strike="noStrike">
                <a:solidFill>
                  <a:srgbClr val="000000"/>
                </a:solidFill>
                <a:latin typeface="Arial"/>
              </a:rPr>
              <a:t>Topoloji nedir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7240" y="1557000"/>
            <a:ext cx="7769520" cy="45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Bir ağdaki bilgisayarların nasıl yerleşeceğini, nasıl bağlanacağını, veri iletiminin nasıl olacağını belirleyen genel yapıdı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Fiziksel topoloji: Ağın fiziksel olarak nasıl görüneceğini belirler (Fiziksel katma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Mantıksal topoloji: Bir ağdaki veri akışının nasıl olacağını belirler (Veri iletim katmanı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71280" y="549000"/>
            <a:ext cx="733716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800" spc="-1" strike="noStrike">
                <a:solidFill>
                  <a:srgbClr val="336666"/>
                </a:solidFill>
                <a:latin typeface="Arial"/>
              </a:rPr>
              <a:t>MAU</a:t>
            </a:r>
            <a:br>
              <a:rPr sz="3800"/>
            </a:b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5" descr="FIG7-12"/>
          <p:cNvPicPr/>
          <p:nvPr/>
        </p:nvPicPr>
        <p:blipFill>
          <a:blip r:embed="rId1"/>
          <a:srcRect l="27186" t="27145" r="5311" b="27145"/>
          <a:stretch/>
        </p:blipFill>
        <p:spPr>
          <a:xfrm>
            <a:off x="457200" y="1752480"/>
            <a:ext cx="7924680" cy="35229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7" descr="MAU with Station Bypassed"/>
          <p:cNvPicPr/>
          <p:nvPr/>
        </p:nvPicPr>
        <p:blipFill>
          <a:blip r:embed="rId2"/>
          <a:stretch/>
        </p:blipFill>
        <p:spPr>
          <a:xfrm>
            <a:off x="755640" y="1628640"/>
            <a:ext cx="7561440" cy="43848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24000" y="115560"/>
            <a:ext cx="3095640" cy="23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İki MAU bağlanması için MAU’daki RI (Ring In) ve RO (Ring Out portları kullanılı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9" descr="Token Ring Expanded Using Two MAUs"/>
          <p:cNvPicPr/>
          <p:nvPr/>
        </p:nvPicPr>
        <p:blipFill>
          <a:blip r:embed="rId1"/>
          <a:stretch/>
        </p:blipFill>
        <p:spPr>
          <a:xfrm>
            <a:off x="611280" y="2492280"/>
            <a:ext cx="8137440" cy="36054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1" descr="Main Ring Path"/>
          <p:cNvPicPr/>
          <p:nvPr/>
        </p:nvPicPr>
        <p:blipFill>
          <a:blip r:embed="rId2"/>
          <a:stretch/>
        </p:blipFill>
        <p:spPr>
          <a:xfrm>
            <a:off x="395280" y="189000"/>
            <a:ext cx="4897440" cy="16524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7769160" cy="73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800" spc="-1" strike="noStrike">
                <a:solidFill>
                  <a:srgbClr val="000000"/>
                </a:solidFill>
                <a:latin typeface="Arial"/>
              </a:rPr>
              <a:t>Yıldız (Star) Topoloji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7240" y="1267920"/>
            <a:ext cx="7769520" cy="455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Tüm düğümlerin ortak bir merkeze (örneğin, hub, switch) bağlanmasıdı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6"/>
          <p:cNvSpPr/>
          <p:nvPr/>
        </p:nvSpPr>
        <p:spPr>
          <a:xfrm>
            <a:off x="3143160" y="2176560"/>
            <a:ext cx="2857680" cy="25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1" name="AutoShape 8"/>
          <p:cNvSpPr/>
          <p:nvPr/>
        </p:nvSpPr>
        <p:spPr>
          <a:xfrm>
            <a:off x="3143160" y="2176560"/>
            <a:ext cx="2857680" cy="25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42" name="Picture 9" descr="star"/>
          <p:cNvPicPr/>
          <p:nvPr/>
        </p:nvPicPr>
        <p:blipFill>
          <a:blip r:embed="rId1"/>
          <a:stretch/>
        </p:blipFill>
        <p:spPr>
          <a:xfrm>
            <a:off x="2556000" y="2592360"/>
            <a:ext cx="4103640" cy="359748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7769160" cy="73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800" spc="-1" strike="noStrike">
                <a:solidFill>
                  <a:srgbClr val="000000"/>
                </a:solidFill>
                <a:latin typeface="Arial"/>
              </a:rPr>
              <a:t>Yıldız (Star) Topoloji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4"/>
          <p:cNvSpPr/>
          <p:nvPr/>
        </p:nvSpPr>
        <p:spPr>
          <a:xfrm>
            <a:off x="3143160" y="2176560"/>
            <a:ext cx="2857680" cy="25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5" name="AutoShape 5"/>
          <p:cNvSpPr/>
          <p:nvPr/>
        </p:nvSpPr>
        <p:spPr>
          <a:xfrm>
            <a:off x="3143160" y="2176560"/>
            <a:ext cx="2857680" cy="25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46" name="Picture 6" descr="star"/>
          <p:cNvPicPr/>
          <p:nvPr/>
        </p:nvPicPr>
        <p:blipFill>
          <a:blip r:embed="rId1"/>
          <a:stretch/>
        </p:blipFill>
        <p:spPr>
          <a:xfrm>
            <a:off x="2556000" y="2592360"/>
            <a:ext cx="4103640" cy="35974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7" descr="FIG7-07"/>
          <p:cNvPicPr/>
          <p:nvPr/>
        </p:nvPicPr>
        <p:blipFill>
          <a:blip r:embed="rId2"/>
          <a:srcRect l="28347" t="30990" r="7216" b="30990"/>
          <a:stretch/>
        </p:blipFill>
        <p:spPr>
          <a:xfrm>
            <a:off x="228600" y="1905120"/>
            <a:ext cx="8686800" cy="34131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2"/>
          <p:cNvSpPr/>
          <p:nvPr/>
        </p:nvSpPr>
        <p:spPr>
          <a:xfrm>
            <a:off x="230760" y="479520"/>
            <a:ext cx="508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ar-wired bus</a:t>
            </a:r>
            <a:r>
              <a:rPr b="1" lang="tr-TR" sz="2800" spc="-1" strike="noStrike">
                <a:solidFill>
                  <a:srgbClr val="000000"/>
                </a:solidFill>
                <a:latin typeface="Times New Roman"/>
              </a:rPr>
              <a:t> ~ Yıldız Topoloji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9" name="Rectangle 3"/>
          <p:cNvSpPr/>
          <p:nvPr/>
        </p:nvSpPr>
        <p:spPr>
          <a:xfrm>
            <a:off x="457200" y="1523880"/>
            <a:ext cx="830592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66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66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66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0" name="Text Box 4"/>
          <p:cNvSpPr/>
          <p:nvPr/>
        </p:nvSpPr>
        <p:spPr>
          <a:xfrm>
            <a:off x="685800" y="175248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51" name="Picture 5" descr="FIG7-08"/>
          <p:cNvPicPr/>
          <p:nvPr/>
        </p:nvPicPr>
        <p:blipFill>
          <a:blip r:embed="rId1"/>
          <a:srcRect l="21565" t="16904" r="0" b="16904"/>
          <a:stretch/>
        </p:blipFill>
        <p:spPr>
          <a:xfrm>
            <a:off x="457200" y="1378080"/>
            <a:ext cx="8458200" cy="475128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7240" y="115920"/>
            <a:ext cx="776952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Yıldız Topoloji </a:t>
            </a:r>
            <a:br>
              <a:rPr sz="3000"/>
            </a:b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(Avantaj ve Dezavantajları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642920" y="1125360"/>
            <a:ext cx="42498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76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900" spc="-1" strike="noStrike">
                <a:solidFill>
                  <a:srgbClr val="000000"/>
                </a:solidFill>
                <a:latin typeface="Arial"/>
              </a:rPr>
              <a:t>Avantajları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25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700" spc="-1" strike="noStrike">
                <a:solidFill>
                  <a:srgbClr val="000000"/>
                </a:solidFill>
                <a:latin typeface="Arial"/>
              </a:rPr>
              <a:t>Ağı kurmak kolaydı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25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700" spc="-1" strike="noStrike">
                <a:solidFill>
                  <a:srgbClr val="000000"/>
                </a:solidFill>
                <a:latin typeface="Arial"/>
              </a:rPr>
              <a:t>Bir bilgisayara bağlı kablo bozulduğunda ağın çalışması etkilenmez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25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700" spc="-1" strike="noStrike">
                <a:solidFill>
                  <a:srgbClr val="000000"/>
                </a:solidFill>
                <a:latin typeface="Arial"/>
              </a:rPr>
              <a:t>Ağdaki sorunları tespit etmek kolaydır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900" spc="-1" strike="noStrike">
                <a:solidFill>
                  <a:srgbClr val="000000"/>
                </a:solidFill>
                <a:latin typeface="Arial"/>
              </a:rPr>
              <a:t>Dezavantajları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25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700" spc="-1" strike="noStrike">
                <a:solidFill>
                  <a:srgbClr val="000000"/>
                </a:solidFill>
                <a:latin typeface="Arial"/>
              </a:rPr>
              <a:t>Hub kullanıldığında ağ trafiği artar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25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700" spc="-1" strike="noStrike">
                <a:solidFill>
                  <a:srgbClr val="000000"/>
                </a:solidFill>
                <a:latin typeface="Arial"/>
              </a:rPr>
              <a:t>Doğrusala göre daha fazla uzunlukta kablo gerektirir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25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700" spc="-1" strike="noStrike">
                <a:solidFill>
                  <a:srgbClr val="000000"/>
                </a:solidFill>
                <a:latin typeface="Arial"/>
              </a:rPr>
              <a:t>Hub veya Switch bozulduğunda tüm ağ çalışmaz hale gelir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25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700" spc="-1" strike="noStrike">
                <a:solidFill>
                  <a:srgbClr val="000000"/>
                </a:solidFill>
                <a:latin typeface="Arial"/>
              </a:rPr>
              <a:t>Hub ve Switch gibi cihazlar nedeniyle doğrusala göre kurulumu daha pahalıdır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4" descr=""/>
          <p:cNvPicPr/>
          <p:nvPr/>
        </p:nvPicPr>
        <p:blipFill>
          <a:blip r:embed="rId1"/>
          <a:stretch/>
        </p:blipFill>
        <p:spPr>
          <a:xfrm>
            <a:off x="179280" y="1125360"/>
            <a:ext cx="4464000" cy="44643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23640" y="33300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200" spc="-1" strike="noStrike">
                <a:solidFill>
                  <a:srgbClr val="000000"/>
                </a:solidFill>
                <a:latin typeface="Arial"/>
              </a:rPr>
              <a:t>Doğrusal -Halka -Yıldız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4" descr="net"/>
          <p:cNvPicPr/>
          <p:nvPr/>
        </p:nvPicPr>
        <p:blipFill>
          <a:blip r:embed="rId1"/>
          <a:stretch/>
        </p:blipFill>
        <p:spPr>
          <a:xfrm>
            <a:off x="2340000" y="1341360"/>
            <a:ext cx="5040360" cy="48513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7769160" cy="73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800" spc="-1" strike="noStrike">
                <a:solidFill>
                  <a:srgbClr val="000000"/>
                </a:solidFill>
                <a:latin typeface="Arial"/>
              </a:rPr>
              <a:t>Ağaç (Tree) Topoloji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7240" y="1052640"/>
            <a:ext cx="7769520" cy="455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700" spc="-1" strike="noStrike">
                <a:solidFill>
                  <a:srgbClr val="000000"/>
                </a:solidFill>
                <a:latin typeface="Arial"/>
              </a:rPr>
              <a:t>Genellikle yıldız topolojisindeki ağları birbirine bağlamak için kullanılır. Böylece ağlar büyütülebilir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700" spc="-1" strike="noStrike">
                <a:solidFill>
                  <a:srgbClr val="000000"/>
                </a:solidFill>
                <a:latin typeface="Arial"/>
              </a:rPr>
              <a:t>Bir ağacın dalları farklı topolojilerdeki ağları temsil eder, ağacın gövdesi ile de bunlar birbirine bağlanabilir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4"/>
          <p:cNvSpPr/>
          <p:nvPr/>
        </p:nvSpPr>
        <p:spPr>
          <a:xfrm>
            <a:off x="3143160" y="2176560"/>
            <a:ext cx="2857680" cy="25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0" name="AutoShape 5"/>
          <p:cNvSpPr/>
          <p:nvPr/>
        </p:nvSpPr>
        <p:spPr>
          <a:xfrm>
            <a:off x="3143160" y="2176560"/>
            <a:ext cx="2857680" cy="25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61" name="Picture 8" descr="tree-net"/>
          <p:cNvPicPr/>
          <p:nvPr/>
        </p:nvPicPr>
        <p:blipFill>
          <a:blip r:embed="rId1"/>
          <a:stretch/>
        </p:blipFill>
        <p:spPr>
          <a:xfrm>
            <a:off x="2340000" y="3716280"/>
            <a:ext cx="4608360" cy="292104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627280" y="259920"/>
            <a:ext cx="5826240" cy="73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800" spc="-1" strike="noStrike">
                <a:solidFill>
                  <a:srgbClr val="000000"/>
                </a:solidFill>
                <a:latin typeface="Arial"/>
              </a:rPr>
              <a:t>Ağaç (Tree) Topoloji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419640" y="1341000"/>
            <a:ext cx="438912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700" spc="-1" strike="noStrike">
                <a:solidFill>
                  <a:srgbClr val="000000"/>
                </a:solidFill>
                <a:latin typeface="Arial"/>
              </a:rPr>
              <a:t>Hiyerarşik yapıdaki ağlar için kullanılır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4"/>
          <p:cNvSpPr/>
          <p:nvPr/>
        </p:nvSpPr>
        <p:spPr>
          <a:xfrm>
            <a:off x="3143160" y="2176560"/>
            <a:ext cx="2857680" cy="25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65" name="Picture 9" descr=""/>
          <p:cNvPicPr/>
          <p:nvPr/>
        </p:nvPicPr>
        <p:blipFill>
          <a:blip r:embed="rId1"/>
          <a:stretch/>
        </p:blipFill>
        <p:spPr>
          <a:xfrm>
            <a:off x="250920" y="136440"/>
            <a:ext cx="2085840" cy="19242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3" descr="prim15"/>
          <p:cNvPicPr/>
          <p:nvPr/>
        </p:nvPicPr>
        <p:blipFill>
          <a:blip r:embed="rId2"/>
          <a:stretch/>
        </p:blipFill>
        <p:spPr>
          <a:xfrm>
            <a:off x="2987640" y="3068640"/>
            <a:ext cx="4181400" cy="23241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24000" y="117000"/>
            <a:ext cx="864072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Ağaç Topoloji - (Avantaj ve Dezavantajları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859280" y="1052280"/>
            <a:ext cx="410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100" spc="-1" strike="noStrike">
                <a:solidFill>
                  <a:srgbClr val="000000"/>
                </a:solidFill>
                <a:latin typeface="Arial"/>
              </a:rPr>
              <a:t>Avantajları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Her bir bölüme (segment) ulaşmak kolaydı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Bir çok çalışma grubu bir araya getirilebili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100" spc="-1" strike="noStrike">
                <a:solidFill>
                  <a:srgbClr val="000000"/>
                </a:solidFill>
                <a:latin typeface="Arial"/>
              </a:rPr>
              <a:t>Dezavantajları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Her bir bölümün uzunluğu kullanılan kablo ile sınırlıdı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Omurga kablosu bozulduğunda bölümlerdeki ağ trafiği etkileni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Kurulumu ve düzenlenmesi daha zordu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4" descr=""/>
          <p:cNvPicPr/>
          <p:nvPr/>
        </p:nvPicPr>
        <p:blipFill>
          <a:blip r:embed="rId1"/>
          <a:stretch/>
        </p:blipFill>
        <p:spPr>
          <a:xfrm>
            <a:off x="66600" y="981000"/>
            <a:ext cx="4649760" cy="532764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200" spc="-1" strike="noStrike">
                <a:solidFill>
                  <a:srgbClr val="000000"/>
                </a:solidFill>
                <a:latin typeface="Arial"/>
              </a:rPr>
              <a:t>Ağ topoloji türleri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Doğrusal (Bus Topology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Halka (Ring Topology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Star-wired 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Yıldız (Star Topology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Star-wired b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Ağaç (Tree Topology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Karmaşık (Mesh Topology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4" descr="543"/>
          <p:cNvPicPr/>
          <p:nvPr/>
        </p:nvPicPr>
        <p:blipFill>
          <a:blip r:embed="rId1"/>
          <a:stretch/>
        </p:blipFill>
        <p:spPr>
          <a:xfrm>
            <a:off x="0" y="1324080"/>
            <a:ext cx="9144000" cy="45720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7769160" cy="73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800" spc="-1" strike="noStrike">
                <a:solidFill>
                  <a:srgbClr val="000000"/>
                </a:solidFill>
                <a:latin typeface="Arial"/>
              </a:rPr>
              <a:t>Karmaşık (Mesh) Topoloji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4360" y="981000"/>
            <a:ext cx="820872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700" spc="-1" strike="noStrike">
                <a:solidFill>
                  <a:srgbClr val="000000"/>
                </a:solidFill>
                <a:latin typeface="Arial"/>
              </a:rPr>
              <a:t>Gerçek Mesh topolojide tüm düğümler ağ içerisinde birbirine bağlıdır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700" spc="-1" strike="noStrike">
                <a:solidFill>
                  <a:srgbClr val="000000"/>
                </a:solidFill>
                <a:latin typeface="Arial"/>
              </a:rPr>
              <a:t>Daha çok WAN’da kullanılır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700" spc="-1" strike="noStrike">
                <a:solidFill>
                  <a:srgbClr val="000000"/>
                </a:solidFill>
                <a:latin typeface="Arial"/>
              </a:rPr>
              <a:t>LAN’da kullanıldığında tüm düğümlerin birbirine mutlaka bağlı olması gerekmez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4"/>
          <p:cNvSpPr/>
          <p:nvPr/>
        </p:nvSpPr>
        <p:spPr>
          <a:xfrm>
            <a:off x="3143160" y="2176560"/>
            <a:ext cx="2857680" cy="25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4" name="AutoShape 5"/>
          <p:cNvSpPr/>
          <p:nvPr/>
        </p:nvSpPr>
        <p:spPr>
          <a:xfrm>
            <a:off x="3143160" y="2176560"/>
            <a:ext cx="2857680" cy="25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75" name="Picture 7" descr="mesh"/>
          <p:cNvPicPr/>
          <p:nvPr/>
        </p:nvPicPr>
        <p:blipFill>
          <a:blip r:embed="rId1"/>
          <a:stretch/>
        </p:blipFill>
        <p:spPr>
          <a:xfrm>
            <a:off x="2413080" y="3284640"/>
            <a:ext cx="4967280" cy="3411360"/>
          </a:xfrm>
          <a:prstGeom prst="rect">
            <a:avLst/>
          </a:prstGeom>
          <a:ln w="0">
            <a:noFill/>
          </a:ln>
        </p:spPr>
      </p:pic>
      <p:sp>
        <p:nvSpPr>
          <p:cNvPr id="176" name="Rectangle 9"/>
          <p:cNvSpPr/>
          <p:nvPr/>
        </p:nvSpPr>
        <p:spPr>
          <a:xfrm>
            <a:off x="3240" y="450864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336666"/>
                </a:solidFill>
                <a:latin typeface="Arial"/>
              </a:rPr>
              <a:t>Gerçek Mesh topoloji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4000" y="115560"/>
            <a:ext cx="7769160" cy="73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800" spc="-1" strike="noStrike">
                <a:solidFill>
                  <a:srgbClr val="000000"/>
                </a:solidFill>
                <a:latin typeface="Arial"/>
              </a:rPr>
              <a:t>Karmaşık (Mesh) Topoloji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4"/>
          <p:cNvSpPr/>
          <p:nvPr/>
        </p:nvSpPr>
        <p:spPr>
          <a:xfrm>
            <a:off x="3143160" y="2176560"/>
            <a:ext cx="2857680" cy="25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9" name="AutoShape 5"/>
          <p:cNvSpPr/>
          <p:nvPr/>
        </p:nvSpPr>
        <p:spPr>
          <a:xfrm>
            <a:off x="3143160" y="2176560"/>
            <a:ext cx="2857680" cy="25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80" name="Picture 7" descr="A hierarchical network."/>
          <p:cNvPicPr/>
          <p:nvPr/>
        </p:nvPicPr>
        <p:blipFill>
          <a:blip r:embed="rId1"/>
          <a:stretch/>
        </p:blipFill>
        <p:spPr>
          <a:xfrm>
            <a:off x="2266920" y="1197000"/>
            <a:ext cx="4176720" cy="347976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523880" y="4938480"/>
            <a:ext cx="701064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300" spc="-1" strike="noStrike">
                <a:solidFill>
                  <a:srgbClr val="000000"/>
                </a:solidFill>
                <a:latin typeface="Arial"/>
              </a:rPr>
              <a:t>Hybrid mesh topoloji, karmaşık ağlarda (veritabanı sunucularının uzak mesafeler arası bağlantıları vb.) kullanılır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161" descr="bus"/>
          <p:cNvPicPr/>
          <p:nvPr/>
        </p:nvPicPr>
        <p:blipFill>
          <a:blip r:embed="rId1"/>
          <a:stretch/>
        </p:blipFill>
        <p:spPr>
          <a:xfrm>
            <a:off x="324000" y="1341360"/>
            <a:ext cx="2619360" cy="74304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62" descr="star"/>
          <p:cNvPicPr/>
          <p:nvPr/>
        </p:nvPicPr>
        <p:blipFill>
          <a:blip r:embed="rId2"/>
          <a:stretch/>
        </p:blipFill>
        <p:spPr>
          <a:xfrm>
            <a:off x="3851280" y="1125360"/>
            <a:ext cx="1324080" cy="11718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63" descr="ring"/>
          <p:cNvPicPr/>
          <p:nvPr/>
        </p:nvPicPr>
        <p:blipFill>
          <a:blip r:embed="rId3"/>
          <a:stretch/>
        </p:blipFill>
        <p:spPr>
          <a:xfrm>
            <a:off x="324000" y="3429000"/>
            <a:ext cx="1333440" cy="133344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68" descr="tree"/>
          <p:cNvPicPr/>
          <p:nvPr/>
        </p:nvPicPr>
        <p:blipFill>
          <a:blip r:embed="rId4"/>
          <a:stretch/>
        </p:blipFill>
        <p:spPr>
          <a:xfrm>
            <a:off x="3564000" y="3429000"/>
            <a:ext cx="3209760" cy="245736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69" descr="mesh"/>
          <p:cNvPicPr/>
          <p:nvPr/>
        </p:nvPicPr>
        <p:blipFill>
          <a:blip r:embed="rId5"/>
          <a:stretch/>
        </p:blipFill>
        <p:spPr>
          <a:xfrm>
            <a:off x="6588000" y="1341360"/>
            <a:ext cx="1324080" cy="1171800"/>
          </a:xfrm>
          <a:prstGeom prst="rect">
            <a:avLst/>
          </a:prstGeom>
          <a:ln w="0">
            <a:noFill/>
          </a:ln>
        </p:spPr>
      </p:pic>
      <p:sp>
        <p:nvSpPr>
          <p:cNvPr id="187" name="Rectangle 171"/>
          <p:cNvSpPr/>
          <p:nvPr/>
        </p:nvSpPr>
        <p:spPr>
          <a:xfrm>
            <a:off x="395280" y="404640"/>
            <a:ext cx="456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336666"/>
                </a:solidFill>
                <a:latin typeface="Arial"/>
              </a:rPr>
              <a:t>Doğrusal 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336666"/>
                </a:solidFill>
                <a:latin typeface="Arial"/>
              </a:rPr>
              <a:t>(Bus)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88" name="Rectangle 173"/>
          <p:cNvSpPr/>
          <p:nvPr/>
        </p:nvSpPr>
        <p:spPr>
          <a:xfrm>
            <a:off x="539640" y="2637000"/>
            <a:ext cx="456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336666"/>
                </a:solidFill>
                <a:latin typeface="Arial"/>
              </a:rPr>
              <a:t>Halka 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336666"/>
                </a:solidFill>
                <a:latin typeface="Arial"/>
              </a:rPr>
              <a:t>(Ring)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89" name="Rectangle 175"/>
          <p:cNvSpPr/>
          <p:nvPr/>
        </p:nvSpPr>
        <p:spPr>
          <a:xfrm>
            <a:off x="4140360" y="333360"/>
            <a:ext cx="180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336666"/>
                </a:solidFill>
                <a:latin typeface="Arial"/>
              </a:rPr>
              <a:t>Yıldız 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336666"/>
                </a:solidFill>
                <a:latin typeface="Arial"/>
              </a:rPr>
              <a:t>(Star)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90" name="Rectangle 177"/>
          <p:cNvSpPr/>
          <p:nvPr/>
        </p:nvSpPr>
        <p:spPr>
          <a:xfrm>
            <a:off x="4140360" y="2708280"/>
            <a:ext cx="158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336666"/>
                </a:solidFill>
                <a:latin typeface="Arial"/>
              </a:rPr>
              <a:t>Ağaç 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336666"/>
                </a:solidFill>
                <a:latin typeface="Arial"/>
              </a:rPr>
              <a:t>(Tree)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91" name="Rectangle 179"/>
          <p:cNvSpPr/>
          <p:nvPr/>
        </p:nvSpPr>
        <p:spPr>
          <a:xfrm>
            <a:off x="6443640" y="404640"/>
            <a:ext cx="23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336666"/>
                </a:solidFill>
                <a:latin typeface="Arial"/>
              </a:rPr>
              <a:t>Karmaşık 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336666"/>
                </a:solidFill>
                <a:latin typeface="Arial"/>
              </a:rPr>
              <a:t>(Mesh)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2" name=""/>
          <p:cNvGraphicFramePr/>
          <p:nvPr/>
        </p:nvGraphicFramePr>
        <p:xfrm>
          <a:off x="468360" y="476280"/>
          <a:ext cx="8496360" cy="5773680"/>
        </p:xfrm>
        <a:graphic>
          <a:graphicData uri="http://schemas.openxmlformats.org/drawingml/2006/table">
            <a:tbl>
              <a:tblPr/>
              <a:tblGrid>
                <a:gridCol w="1295280"/>
                <a:gridCol w="1152720"/>
                <a:gridCol w="1511280"/>
                <a:gridCol w="936360"/>
                <a:gridCol w="3600720"/>
              </a:tblGrid>
              <a:tr h="904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poloji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1368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urulum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1368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üzenleme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1368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run çözme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1368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i aktarımında problem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1368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ğrusal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Çok kolay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ısmen zor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or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k bir kablo, kabloda problem veri aktarımını etkiler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lka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ısmen Kolay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ısmen zor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lay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lkadaki bozukluk veri aktarımını etkiler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</a:tr>
              <a:tr h="125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ıldız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lay, ancak zaman alıcı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lay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lay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k bir kablodaki bozukluk bir pc’yi etkiler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ğaç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or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or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lay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ldukça az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</a:tr>
              <a:tr h="90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rmaşık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1368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or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1368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or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1368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lay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1368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ldukça az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13680">
                      <a:solidFill>
                        <a:srgbClr val="3366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split dir="in" orient="ver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400" spc="-1" strike="noStrike">
                <a:solidFill>
                  <a:srgbClr val="000000"/>
                </a:solidFill>
                <a:latin typeface="Arial"/>
              </a:rPr>
              <a:t>Ağ Topolojileri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2133360" y="3733560"/>
            <a:ext cx="647676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7240" y="188640"/>
            <a:ext cx="776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200" spc="-1" strike="noStrike">
                <a:solidFill>
                  <a:srgbClr val="000000"/>
                </a:solidFill>
                <a:latin typeface="Arial"/>
              </a:rPr>
              <a:t>Doğrusal (Bus) Topoloji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7240" y="1125360"/>
            <a:ext cx="7769520" cy="411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Bir kablo yol olarak düşünülürse, bu yol üzerindeki her bir durak ağda bir düğümü (node-terminali/cihazı) temsil etmektedi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Bu tek kabloya; bölüm (segment), omurga (backbone), trunk denilebili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7" descr=""/>
          <p:cNvPicPr/>
          <p:nvPr/>
        </p:nvPicPr>
        <p:blipFill>
          <a:blip r:embed="rId1"/>
          <a:stretch/>
        </p:blipFill>
        <p:spPr>
          <a:xfrm>
            <a:off x="1042920" y="3603600"/>
            <a:ext cx="6942240" cy="321012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6" descr=""/>
          <p:cNvPicPr/>
          <p:nvPr/>
        </p:nvPicPr>
        <p:blipFill>
          <a:blip r:embed="rId1"/>
          <a:stretch/>
        </p:blipFill>
        <p:spPr>
          <a:xfrm>
            <a:off x="1509840" y="-27000"/>
            <a:ext cx="6126120" cy="67518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9280" y="71280"/>
            <a:ext cx="7769160" cy="76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Doğrusal Topoloji  - (Avantaj ve Dezavantajları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24000" y="2997360"/>
            <a:ext cx="8208720" cy="35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76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900" spc="-1" strike="noStrike">
                <a:solidFill>
                  <a:srgbClr val="000000"/>
                </a:solidFill>
                <a:latin typeface="Arial"/>
              </a:rPr>
              <a:t>Avantajları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76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900" spc="-1" strike="noStrike">
                <a:solidFill>
                  <a:srgbClr val="000000"/>
                </a:solidFill>
                <a:latin typeface="Arial"/>
              </a:rPr>
              <a:t>Ağa bir bilgisayarı bağlamak oldukça kolaydır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76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900" spc="-1" strike="noStrike">
                <a:solidFill>
                  <a:srgbClr val="000000"/>
                </a:solidFill>
                <a:latin typeface="Arial"/>
              </a:rPr>
              <a:t>Daha az uzunlukta kablo gerektirir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76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900" spc="-1" strike="noStrike">
                <a:solidFill>
                  <a:srgbClr val="000000"/>
                </a:solidFill>
                <a:latin typeface="Arial"/>
              </a:rPr>
              <a:t>Dezavantajları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76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900" spc="-1" strike="noStrike">
                <a:solidFill>
                  <a:srgbClr val="000000"/>
                </a:solidFill>
                <a:latin typeface="Arial"/>
              </a:rPr>
              <a:t>Omurga kabloda bir bozulma veya kesilme olursa tüm ağ bağlantısı kesilir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76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900" spc="-1" strike="noStrike">
                <a:solidFill>
                  <a:srgbClr val="000000"/>
                </a:solidFill>
                <a:latin typeface="Arial"/>
              </a:rPr>
              <a:t>Kablonun sonunda sonlandırıcı (Terminator) olmalıdır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76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900" spc="-1" strike="noStrike">
                <a:solidFill>
                  <a:srgbClr val="000000"/>
                </a:solidFill>
                <a:latin typeface="Arial"/>
              </a:rPr>
              <a:t>Ağda sorun olduğunda sorunun nerden kaynaklandığını bulmak zaman alıcı olabilir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76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900" spc="-1" strike="noStrike">
                <a:solidFill>
                  <a:srgbClr val="000000"/>
                </a:solidFill>
                <a:latin typeface="Arial"/>
              </a:rPr>
              <a:t>Tek başına tüm bir binanın ağ çözümü için genellikle kullanılmamaktadır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76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900" spc="-1" strike="noStrike">
                <a:solidFill>
                  <a:srgbClr val="000000"/>
                </a:solidFill>
                <a:latin typeface="Arial"/>
              </a:rPr>
              <a:t>Çarpışma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7" descr=""/>
          <p:cNvPicPr/>
          <p:nvPr/>
        </p:nvPicPr>
        <p:blipFill>
          <a:blip r:embed="rId1"/>
          <a:stretch/>
        </p:blipFill>
        <p:spPr>
          <a:xfrm>
            <a:off x="1332000" y="692280"/>
            <a:ext cx="6769080" cy="231588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190440"/>
            <a:ext cx="806616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200" spc="-1" strike="noStrike">
                <a:solidFill>
                  <a:srgbClr val="000000"/>
                </a:solidFill>
                <a:latin typeface="Arial"/>
              </a:rPr>
              <a:t>CSMA/CD (Carrier Sense Multiple Access/Collision Detect)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Arial"/>
              </a:rPr>
              <a:t>Ethernet ve </a:t>
            </a:r>
            <a:r>
              <a:rPr b="0" lang="tr-TR" sz="2600" spc="-1" strike="noStrike" u="sng">
                <a:solidFill>
                  <a:srgbClr val="006666"/>
                </a:solidFill>
                <a:uFillTx/>
                <a:latin typeface="Arial"/>
                <a:hlinkClick r:id="rId1" action="ppaction://hlinksldjump"/>
              </a:rPr>
              <a:t>IEEE 802.3 </a:t>
            </a:r>
            <a:r>
              <a:rPr b="0" lang="tr-TR" sz="2600" spc="-1" strike="noStrike">
                <a:solidFill>
                  <a:srgbClr val="000000"/>
                </a:solidFill>
                <a:latin typeface="Arial"/>
              </a:rPr>
              <a:t>standartlarında kullanılan bir protokol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Arial"/>
              </a:rPr>
              <a:t>Çarpışmayı bulma (Collision Detect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Bir ethernet kartı bilgi göndereceği zaman ağ trafiğini izl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Ağ kablosunda veri yoksa verisini kabloya bırakı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Eğer kabloda veri varsa diğer veri hedefine gidinceye kadar beklenir. Ardından veriyi gönderi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Eğer bu işlemler başarısız olursa çarpışma meydana geli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200" spc="-1" strike="noStrike">
                <a:solidFill>
                  <a:srgbClr val="000000"/>
                </a:solidFill>
                <a:latin typeface="Arial"/>
              </a:rPr>
              <a:t>IEE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Times New Roman"/>
              </a:rPr>
              <a:t>IEEE (Institute of Electrical and Electronics Engineers - Elektrik ve Elektronik Mühendisleri Enstitüsü) standartlar kurulu elektrik mühendisliği, elektronik, radyo, ilgili mühendislik, bilim, sanat dallarındaki standartlardan sorumludu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Times New Roman"/>
              </a:rPr>
              <a:t>Enformasyon ve İletişim Teknolojileri alanında yerel alan ağları konusundaki standartları belirle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55640" y="190080"/>
            <a:ext cx="7778880" cy="86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800" spc="-1" strike="noStrike">
                <a:solidFill>
                  <a:srgbClr val="000000"/>
                </a:solidFill>
                <a:latin typeface="Arial"/>
              </a:rPr>
              <a:t>En çok kullanılan 802 standartları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149400" y="1341360"/>
          <a:ext cx="8815320" cy="4950000"/>
        </p:xfrm>
        <a:graphic>
          <a:graphicData uri="http://schemas.openxmlformats.org/drawingml/2006/table">
            <a:tbl>
              <a:tblPr/>
              <a:tblGrid>
                <a:gridCol w="1811160"/>
                <a:gridCol w="1440000"/>
                <a:gridCol w="2016000"/>
                <a:gridCol w="2046240"/>
                <a:gridCol w="1501920"/>
              </a:tblGrid>
              <a:tr h="89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ndart</a:t>
                      </a:r>
                      <a:endParaRPr b="0" lang="en-US" sz="22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1368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ız</a:t>
                      </a:r>
                      <a:endParaRPr b="0" lang="en-US" sz="22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1368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işim Metodu</a:t>
                      </a:r>
                      <a:endParaRPr b="0" lang="en-US" sz="22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1368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polojiler</a:t>
                      </a:r>
                      <a:endParaRPr b="0" lang="en-US" sz="22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1368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blo</a:t>
                      </a:r>
                      <a:endParaRPr b="0" lang="en-US" sz="22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1368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thernet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IEEE 802.3)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 100 veya 1000 Mbps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SMA/CD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ğrusal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aksiyel veya UTP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</a:tr>
              <a:tr h="107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ken Ring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IEEE 802.5)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veya 6 Mbps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ken passing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Jeton dolaşımı)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lka ve 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r-wired ring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P veya UTP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</a:tr>
              <a:tr h="89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 u="sng">
                          <a:solidFill>
                            <a:srgbClr val="006666"/>
                          </a:solidFill>
                          <a:uFillTx/>
                          <a:latin typeface="Arial"/>
                          <a:hlinkClick r:id="rId1" action="ppaction://hlinksldjump"/>
                        </a:rPr>
                        <a:t>FDDI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IEEE 802.8)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 veya 200 Mbps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ken passing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Jeton dolaşımı)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lka ve 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r-wired ring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ber optik veya UTP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</a:tr>
              <a:tr h="107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blosuz (Wireless)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IEEE 802.11)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1368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 22 veya 54 Mbps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1368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SMA/CD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1368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ücresel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1368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blosuz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13680">
                      <a:solidFill>
                        <a:srgbClr val="3366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split dir="in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4T12:46:15Z</dcterms:created>
  <dc:creator>Şirin Karadeniz</dc:creator>
  <dc:description/>
  <dc:language>en-US</dc:language>
  <cp:lastModifiedBy>Adil YILDIZ</cp:lastModifiedBy>
  <dcterms:modified xsi:type="dcterms:W3CDTF">2011-10-04T08:23:59Z</dcterms:modified>
  <cp:revision>75</cp:revision>
  <dc:subject/>
  <dc:title>Ağ Topolojileri</dc:title>
</cp:coreProperties>
</file>