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FDE7-026D-448C-B1F5-0FA7AC69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68B-B921-4724-9CAE-A9B78146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96FD-D66C-4CF7-868B-5712707F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92F6-EC69-4668-A660-9B79C1E7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031D-3183-4C55-BE78-F62C5E7A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8FFA-82BE-4BBF-949C-A624A36E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BF49-1EC1-4738-A07B-132184AC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020C-DA19-4682-9024-56289334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2B42-8DFF-4214-A25C-C3FEDB7F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A310-A079-44A5-B788-E53A6D70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8469-A7BE-4DB2-88AD-A3DDC989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182-B7BA-406E-8A21-EB8D40E3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3F7D-8DD3-4143-8F1A-6D350BC9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F6C6-C9FB-4C38-84FA-D969DA1D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E333-E56F-4A4B-93F5-712FE21C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E834-AB55-41BA-AFEC-26C8D8F7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3719-5CD7-4BD6-9055-CF85F414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80B8-28C5-4E94-BDA0-378CD5D4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F45D-B204-4615-AF01-FC3D1C87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3D2E-FC5B-4389-B2C7-D397CAA7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AFA-6277-4207-A082-DFF93967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F9A0-C625-47AE-9576-869354E4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2A39-4199-4E2D-99A6-BBB76EA3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CBA8-5A3B-4EE8-A11F-9D50FE81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E9FF-AEA2-4707-ABE2-8971D6281C0F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B836-9DAC-44A3-A4CB-670954A91CB2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UTP Kablo Bağlantıları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(Düz/Çapra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1’den Fazla Hub Bağlantısında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040cascade"/>
          <p:cNvPicPr/>
          <p:nvPr/>
        </p:nvPicPr>
        <p:blipFill>
          <a:blip r:embed="rId1"/>
          <a:stretch/>
        </p:blipFill>
        <p:spPr>
          <a:xfrm>
            <a:off x="1547640" y="1700280"/>
            <a:ext cx="6334200" cy="442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n-8816"/>
          <p:cNvPicPr/>
          <p:nvPr/>
        </p:nvPicPr>
        <p:blipFill>
          <a:blip r:embed="rId2"/>
          <a:stretch/>
        </p:blipFill>
        <p:spPr>
          <a:xfrm>
            <a:off x="1116000" y="1341360"/>
            <a:ext cx="6912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İki Bilgisayar Arası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030804figure3"/>
          <p:cNvPicPr/>
          <p:nvPr/>
        </p:nvPicPr>
        <p:blipFill>
          <a:blip r:embed="rId1"/>
          <a:stretch/>
        </p:blipFill>
        <p:spPr>
          <a:xfrm>
            <a:off x="826920" y="1989000"/>
            <a:ext cx="72723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Çapraz/Düz Kablo Bağlantıs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cross_duz_kullanimi"/>
          <p:cNvPicPr/>
          <p:nvPr/>
        </p:nvPicPr>
        <p:blipFill>
          <a:blip r:embed="rId1"/>
          <a:stretch/>
        </p:blipFill>
        <p:spPr>
          <a:xfrm>
            <a:off x="3384720" y="1052640"/>
            <a:ext cx="5759280" cy="4779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374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apraz Bağlantı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ki hub arası veya 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lgisayar arası U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blo ile  bağlant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apmak için kullanıl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ü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traight-Through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A veya 568B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ethcable568a"/>
          <p:cNvPicPr/>
          <p:nvPr/>
        </p:nvPicPr>
        <p:blipFill>
          <a:blip r:embed="rId1"/>
          <a:stretch/>
        </p:blipFill>
        <p:spPr>
          <a:xfrm>
            <a:off x="4500720" y="1197000"/>
            <a:ext cx="4205160" cy="262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ethcable568b"/>
          <p:cNvPicPr/>
          <p:nvPr/>
        </p:nvPicPr>
        <p:blipFill>
          <a:blip r:embed="rId2"/>
          <a:stretch/>
        </p:blipFill>
        <p:spPr>
          <a:xfrm>
            <a:off x="4572000" y="4005360"/>
            <a:ext cx="4211640" cy="2633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Kablo-Sema-100"/>
          <p:cNvPicPr/>
          <p:nvPr/>
        </p:nvPicPr>
        <p:blipFill>
          <a:blip r:embed="rId3"/>
          <a:stretch/>
        </p:blipFill>
        <p:spPr>
          <a:xfrm>
            <a:off x="324000" y="1197000"/>
            <a:ext cx="3284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apra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Crossover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cat5_cross_100_both"/>
          <p:cNvPicPr/>
          <p:nvPr/>
        </p:nvPicPr>
        <p:blipFill>
          <a:blip r:embed="rId1"/>
          <a:stretch/>
        </p:blipFill>
        <p:spPr>
          <a:xfrm>
            <a:off x="4511520" y="1125360"/>
            <a:ext cx="4395960" cy="5732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Kablo-Sema-cross"/>
          <p:cNvPicPr/>
          <p:nvPr/>
        </p:nvPicPr>
        <p:blipFill>
          <a:blip r:embed="rId2"/>
          <a:stretch/>
        </p:blipFill>
        <p:spPr>
          <a:xfrm>
            <a:off x="468360" y="1413000"/>
            <a:ext cx="25956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Size verilecek olan UTP Kablo ve RJ-45 konektörlerini kullanarak düz kablo bağlantısı yapınız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13:30:26Z</dcterms:created>
  <dc:creator>Şirin Karadeniz</dc:creator>
  <dc:description/>
  <dc:language>en-US</dc:language>
  <cp:lastModifiedBy>Adil YILDIZ</cp:lastModifiedBy>
  <dcterms:modified xsi:type="dcterms:W3CDTF">2011-10-04T08:25:37Z</dcterms:modified>
  <cp:revision>12</cp:revision>
  <dc:subject/>
  <dc:title>UTP Kablo Bağlantıları</dc:title>
</cp:coreProperties>
</file>