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7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8.png" ContentType="image/png"/>
  <Override PartName="/ppt/media/image33.png" ContentType="image/png"/>
  <Override PartName="/ppt/media/image28.png" ContentType="image/png"/>
  <Override PartName="/ppt/media/image29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FBC6-D17C-4CD9-B1E8-5C090CEC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BB04-7508-4E9C-BEB5-593E43D1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9572-6844-4503-8312-4249CFD3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EA36-E7B1-421A-8E44-C6323E4C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91C8-5400-4DF3-94BF-84A542C7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8AC1-C0C0-4927-8530-4C1639AD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AF2D-A8AF-4C1D-A6D2-7BE8C4A8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7F55-CC5B-45F4-98AE-FBB9F389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D122-6BB4-45E5-8B70-D42A5054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D97B-A6C9-45A4-8D72-5D386E0A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64ED-7161-48CC-959B-4B200E1E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10B9-D481-49C1-8C70-B222B99B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F030-D476-4B8F-95FD-03810A49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D2DC-AC64-4B80-B43F-9CDD245D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2BCD-173B-4672-885C-B3C2A9D1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C875-1EA3-4AEF-8417-34A3D6C6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8953-99EB-4D8C-A29C-EB67153B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2B58-944D-4E13-9F07-E72D6598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BA89-7DBA-47EA-8C69-16C38D5D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E75B-8C0B-4F63-B0B6-3F63BD38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7C70-6166-45E6-90C1-3C2D9836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4178-429C-44F4-9464-D084A11C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F8E3-C4AF-437F-9ED0-E0C7D3E8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A2B3-71CF-4DF7-B567-C24B24B8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914A-7251-4790-AC2A-DC796C198E7A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B039-A777-4042-88AD-AB046DA2C12F}" type="slidenum">
              <a:rPr b="0" lang="tr-TR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Donanımları</a:t>
            </a:r>
            <a:br>
              <a:rPr sz="4000"/>
            </a:b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8000" y="5495400"/>
            <a:ext cx="80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3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Hub </a:t>
            </a: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ve </a:t>
            </a: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259056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</a:t>
            </a: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witch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5457600" cy="204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5313240" cy="19749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5497200" y="4361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337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5" name="Picture 5" descr="Fig08-11"/>
          <p:cNvPicPr/>
          <p:nvPr/>
        </p:nvPicPr>
        <p:blipFill>
          <a:blip r:embed="rId1"/>
          <a:srcRect l="21879" t="16254" r="0" b="16254"/>
          <a:stretch/>
        </p:blipFill>
        <p:spPr>
          <a:xfrm>
            <a:off x="685800" y="1436760"/>
            <a:ext cx="7848720" cy="5087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28036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Adanmış (Dedicated) ve Paylaşılmış (Shared) Bölüm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9" name="Picture 5" descr="FIG8-10"/>
          <p:cNvPicPr/>
          <p:nvPr/>
        </p:nvPicPr>
        <p:blipFill>
          <a:blip r:embed="rId1"/>
          <a:srcRect l="21565" t="9858" r="0" b="9858"/>
          <a:stretch/>
        </p:blipFill>
        <p:spPr>
          <a:xfrm>
            <a:off x="990720" y="1495440"/>
            <a:ext cx="7594560" cy="5173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ile ağda bölümle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23" name="Picture 4" descr="Fig08-12"/>
          <p:cNvPicPr/>
          <p:nvPr/>
        </p:nvPicPr>
        <p:blipFill>
          <a:blip r:embed="rId1"/>
          <a:srcRect l="21569" t="21251" r="0" b="19999"/>
          <a:stretch/>
        </p:blipFill>
        <p:spPr>
          <a:xfrm>
            <a:off x="685800" y="1523880"/>
            <a:ext cx="7974000" cy="4480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veri akışı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973920" cy="453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 2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32" name="Picture 6" descr="Fig08-15"/>
          <p:cNvPicPr/>
          <p:nvPr/>
        </p:nvPicPr>
        <p:blipFill>
          <a:blip r:embed="rId1"/>
          <a:srcRect l="21569" t="31250" r="0" b="31250"/>
          <a:stretch/>
        </p:blipFill>
        <p:spPr>
          <a:xfrm>
            <a:off x="228600" y="2209680"/>
            <a:ext cx="8686800" cy="31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2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2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2. katmanında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Topolojinin merkezinde yer alarak gelen bilgiyi ilgili terminale yolla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ynı anda birden fazla çağrıya cevap ver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MAC adresler ile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e göre daha ucuzdu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atman 2 Switch Türler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Store-and-forward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iriş portundan aldıktan sonra buffer’a at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rdından paketi ilgili çıkış portuna gönder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ki hataları kontrol etmez, bu nedenle daha hızlıdı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ncak bozuk paketler ağda ilerler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Cut-through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iletmeden önce hedef adresi belirler. Ardından adresin çıkış portuna bu paket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 hata olup olmadığını kontrol eder. Hatalıysa iletme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3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3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Katman 2 Switch’ler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ir hedefe giden tek bir yol ve MAC adres kullanılır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Bir ağ genişletilmek istendiğinde ve alt ağların sayısı arttırıldığında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Katman 3 Switch’ler ile performans arttırıl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OSI’nin 3. katmanı olan ‘Ağ’ katmanında çalış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Switch ve Router’ın özelliklerinin birleşimidi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leri bir Router gibi ağda yönlendire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075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OSI Veri İletim katmanında çalış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C adreslerini kullanarak paketler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öprüler bağımsız çalışma gruplarını birbirine bağlamak için kullanıl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Birbiri ile aynı topolojide veya farklı topolojide olabil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Örneğin bir yıldız ve bir halka topolojisinde ağları birbirine bağlayarak tek bir ağ gibi göster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Veri yönlendirme işlemi yap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10 Mbps ve 100 Mbps ağları birbirine bağlayabilir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OSI ve 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79640" y="1557360"/>
          <a:ext cx="6337440" cy="5095800"/>
        </p:xfrm>
        <a:graphic>
          <a:graphicData uri="http://schemas.openxmlformats.org/drawingml/2006/table">
            <a:tbl>
              <a:tblPr/>
              <a:tblGrid>
                <a:gridCol w="2419200"/>
                <a:gridCol w="3918240"/>
              </a:tblGrid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SI Katmanı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Cihaz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Uygula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Sun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tur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Taşı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Yönlendirici (Rou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3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Veri İleti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öprü (Bridge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2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Fiziksel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NIC, Yineleyici (Repea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Hub, MAU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blo, Alıcı ve verici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280360" cy="524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Bridge Operation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7056720" cy="502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47" name="Picture 5" descr="FIG8-01"/>
          <p:cNvPicPr/>
          <p:nvPr/>
        </p:nvPicPr>
        <p:blipFill>
          <a:blip r:embed="rId1"/>
          <a:srcRect l="21565" t="15492" r="0" b="16904"/>
          <a:stretch/>
        </p:blipFill>
        <p:spPr>
          <a:xfrm>
            <a:off x="539640" y="1557360"/>
            <a:ext cx="8128080" cy="4662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İki farklı ağ ve köprü 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1763640" y="1681200"/>
            <a:ext cx="5191200" cy="4653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alka topolojide köprü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064720" cy="40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ablonun kapasitesinden daha fazla mesafelere bağlantı kurulması gerektiğinde araya bir yükseltici konularak sinyalin güçlendirilmesini sağlayan cihazd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5" name="Picture 4" descr="10/100 Series Repeater"/>
          <p:cNvPicPr/>
          <p:nvPr/>
        </p:nvPicPr>
        <p:blipFill>
          <a:blip r:embed="rId1"/>
          <a:stretch/>
        </p:blipFill>
        <p:spPr>
          <a:xfrm>
            <a:off x="611280" y="4005360"/>
            <a:ext cx="3024000" cy="2320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repeater1"/>
          <p:cNvPicPr/>
          <p:nvPr/>
        </p:nvPicPr>
        <p:blipFill>
          <a:blip r:embed="rId2"/>
          <a:stretch/>
        </p:blipFill>
        <p:spPr>
          <a:xfrm>
            <a:off x="4067280" y="4437000"/>
            <a:ext cx="4286160" cy="140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1. katmanında çalıştığı için verinin içeriğine bakmaz, sadece sinyalleri güçlendirir. Ağ trafiğini yönetmez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9" name="Picture 6" descr="lesson_repeater"/>
          <p:cNvPicPr/>
          <p:nvPr/>
        </p:nvPicPr>
        <p:blipFill>
          <a:blip r:embed="rId1"/>
          <a:stretch/>
        </p:blipFill>
        <p:spPr>
          <a:xfrm>
            <a:off x="2050920" y="3141720"/>
            <a:ext cx="4249800" cy="321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neleyic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 kablosunun erişebileceği maksimum mesafeyi uzatırlar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daki maksimum düğüm sayısını arttır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blo arızalarının etkisini azalta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Farklı kablo tipleri kullanan ağları birleştire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http://www.turkcenet.org/yerel_htm/repeater_ve_bridge.htm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Ağlar arası (LAN-LAN, LAN-WAN, WAN-WAN) haberleşmenin yapılabilmesi için ara bağlantıyı sağlar.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Gelen paketin başlığından ve yönlendirme tablosu bilgilerinden yararlanarak yönlendirme kararlarını verme yeteneğine sahip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826920" y="4365720"/>
            <a:ext cx="3168720" cy="1842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2"/>
          <a:stretch/>
        </p:blipFill>
        <p:spPr>
          <a:xfrm>
            <a:off x="4356000" y="4508640"/>
            <a:ext cx="4465800" cy="149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Routerin bir işlemcisi, epromu ve üzerinde bir işletim sistemi IOS (Internal Operating System) vard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8" name="Picture 4" descr="7100 Series VPN Router"/>
          <p:cNvPicPr/>
          <p:nvPr/>
        </p:nvPicPr>
        <p:blipFill>
          <a:blip r:embed="rId1"/>
          <a:stretch/>
        </p:blipFill>
        <p:spPr>
          <a:xfrm>
            <a:off x="1258920" y="3284640"/>
            <a:ext cx="61927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Notlar: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Brouter (Bridge Router)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Hem yönlendirici hem de köprüyü tek cihazda topla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 ve Router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önderirken geleneksel router gibi uygun yolun bulunması, paketin kontrolü, hatalıysa tekrar gönderme ve gerekliyse güvenlik kontrollerini yap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Yüksek perfortmanslı LAN’lar için kullanıldığından genellikle router’dan daha hızlı çalış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WAN için genellikle kullanılma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Yıldız ağ topolojisinde kullanıl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Gelen bilgileri hepsini tüm bilgisayarlara gönder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 birbirine bağlanarak ağ büyütül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88" name="Picture 4" descr="HP 10Base-T HUB-16M"/>
          <p:cNvPicPr/>
          <p:nvPr/>
        </p:nvPicPr>
        <p:blipFill>
          <a:blip r:embed="rId1"/>
          <a:stretch/>
        </p:blipFill>
        <p:spPr>
          <a:xfrm>
            <a:off x="1763640" y="4076640"/>
            <a:ext cx="5616720" cy="245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tar"/>
          <p:cNvPicPr/>
          <p:nvPr/>
        </p:nvPicPr>
        <p:blipFill>
          <a:blip r:embed="rId2"/>
          <a:stretch/>
        </p:blipFill>
        <p:spPr>
          <a:xfrm>
            <a:off x="395280" y="1557360"/>
            <a:ext cx="8353440" cy="508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Paket yönlendir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2" name="Picture 6" descr="routeforwding"/>
          <p:cNvPicPr/>
          <p:nvPr/>
        </p:nvPicPr>
        <p:blipFill>
          <a:blip r:embed="rId1"/>
          <a:stretch/>
        </p:blipFill>
        <p:spPr>
          <a:xfrm>
            <a:off x="2411280" y="1557360"/>
            <a:ext cx="4583160" cy="498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Geçidi (GATEWAY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7859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çit, iki farklı protokol arasındaki dönüşümleri sağl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Bu cihaz bir Köprü, Switch veya Yönlendirici olabil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nellikle Yönlendirici (Router) bu görevi üstlendiğinden varsayılan ağ geçidi (default gateway) olarak o tanım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rcRect l="0" t="0" r="0" b="8581"/>
          <a:stretch/>
        </p:blipFill>
        <p:spPr>
          <a:xfrm>
            <a:off x="2712960" y="0"/>
            <a:ext cx="643104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208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LAN 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1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1258920" y="4076640"/>
            <a:ext cx="6145200" cy="244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A terminali D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a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1116000" y="4135320"/>
            <a:ext cx="6985080" cy="254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da;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7777080" cy="28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1d4944"/>
                </a:solidFill>
                <a:latin typeface="Arial"/>
              </a:rPr>
              <a:t>Alıştırma 3 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1. Terminal 9.terminale bilgi yollamak istediğinde, bu bilgi sağlıklı bir biçimde bu terminale ulaşabilir mi/ulaşamaz mı?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biliyorsa hangi yoldan gidecekt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mıyorsa ne yapmak gereklid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8" name="Picture 6" descr="repeater_einfuehrung1"/>
          <p:cNvPicPr/>
          <p:nvPr/>
        </p:nvPicPr>
        <p:blipFill>
          <a:blip r:embed="rId1"/>
          <a:stretch/>
        </p:blipFill>
        <p:spPr>
          <a:xfrm>
            <a:off x="1979640" y="2963880"/>
            <a:ext cx="5113440" cy="37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; Koaksiyel, çift burgulu veya fiber optik kablo ile birbirine bağlana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Uplink portu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ackbone (Omurga) portu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8655120" cy="348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Hub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lar ve ağ bölümleri (</a:t>
            </a: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segments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rcRect l="30426" t="35185" r="30426" b="35712"/>
          <a:stretch/>
        </p:blipFill>
        <p:spPr>
          <a:xfrm>
            <a:off x="755640" y="1844640"/>
            <a:ext cx="7620120" cy="460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97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Star-wired bus LAN ve iki hub bağlantısı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1d4337"/>
                </a:solidFill>
                <a:latin typeface="Arial"/>
              </a:rPr>
              <a:t>MAU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(Multistation Access Unit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0" name="Picture 3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1d4944"/>
                </a:solidFill>
                <a:latin typeface="Arial"/>
              </a:rPr>
              <a:t>İki MAU bağlanması için MAU’daki RI (Ring In) ve RO (Ring Out portları kullanılır.</a:t>
            </a:r>
            <a:endParaRPr b="1" lang="en-US" sz="23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3" name="Picture 3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kıllı HUB’da denir. Fakat HUB’dan daha paha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len bilgileri sadece belli bir bilgisayarlara gönder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ğ durumunu izler, veriyi gönderip, iletim işleminin yapılıp yapılmadığını test ede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07" name="Picture 4" descr="Catalyst 1900 Switch"/>
          <p:cNvPicPr/>
          <p:nvPr/>
        </p:nvPicPr>
        <p:blipFill>
          <a:blip r:embed="rId1"/>
          <a:stretch/>
        </p:blipFill>
        <p:spPr>
          <a:xfrm>
            <a:off x="2411280" y="4581360"/>
            <a:ext cx="3959280" cy="207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9:20Z</dcterms:created>
  <dc:creator>Şirin Karadeniz</dc:creator>
  <dc:description/>
  <dc:language>en-US</dc:language>
  <cp:lastModifiedBy>Adil YILDIZ</cp:lastModifiedBy>
  <dcterms:modified xsi:type="dcterms:W3CDTF">2011-10-04T08:25:15Z</dcterms:modified>
  <cp:revision>52</cp:revision>
  <dc:subject/>
  <dc:title>Ağ Donanımları Cihazlar</dc:title>
</cp:coreProperties>
</file>