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2A94-AE68-46DB-BB25-42D345A4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7FF-75A2-4DE4-B82B-0E9A2A95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4483-AED0-473D-A99F-41A07250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501A-8DC2-4DA1-A8B0-ACAFBC15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6B17-5852-47F5-935A-50C99A65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66A9-71D8-4C97-A869-A5794E82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9C4D-02F6-49EA-9CA0-CF3DE199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F6A2-6B9A-4248-89D9-F513DE53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EEBA-100B-4418-BE03-372CD9A6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B9B5-850C-407B-A5BD-136CB72E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D144-8441-4CE4-9EF7-720AB3E2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AA1A-1502-4DC0-999A-D77897F2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C117-980D-4517-9064-DD6ACCFF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4D2C-7F42-4F6F-AABF-C1483304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DED9-466F-498F-806D-9D374FB4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0727-6D9F-4108-958A-DBF5D6EF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6AD0-DD91-4131-973C-9AC65404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EF04-AF94-41A3-988E-95E7454F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0C0D-6C4A-4DE4-8F78-F5FA19C0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9E2-EA25-49E5-A308-15CFC2EE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5D40-76AC-42F7-BE07-CBF230FE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5F1-D3DF-42D3-96A0-C9109A8C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527-1B96-4FC4-8F4B-CD55CEAA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ED0-90B0-4976-AACF-1C7CDE39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1D85-BDC8-4827-8075-00C0BCE77D2A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5014-5081-4A0B-884B-EC61A5273678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UTP Kablo Bağlantıları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(Düz/Çapr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1’den Fazla Hub Bağlantısında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40cascade"/>
          <p:cNvPicPr/>
          <p:nvPr/>
        </p:nvPicPr>
        <p:blipFill>
          <a:blip r:embed="rId1"/>
          <a:stretch/>
        </p:blipFill>
        <p:spPr>
          <a:xfrm>
            <a:off x="1547640" y="1700280"/>
            <a:ext cx="6334200" cy="442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n-8816"/>
          <p:cNvPicPr/>
          <p:nvPr/>
        </p:nvPicPr>
        <p:blipFill>
          <a:blip r:embed="rId2"/>
          <a:stretch/>
        </p:blipFill>
        <p:spPr>
          <a:xfrm>
            <a:off x="1116000" y="1341360"/>
            <a:ext cx="6912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İki Bilgisayar Arası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030804figure3"/>
          <p:cNvPicPr/>
          <p:nvPr/>
        </p:nvPicPr>
        <p:blipFill>
          <a:blip r:embed="rId1"/>
          <a:stretch/>
        </p:blipFill>
        <p:spPr>
          <a:xfrm>
            <a:off x="826920" y="1989000"/>
            <a:ext cx="7272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Çapraz/Düz Kablo Bağlantıs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cross_duz_kullanimi"/>
          <p:cNvPicPr/>
          <p:nvPr/>
        </p:nvPicPr>
        <p:blipFill>
          <a:blip r:embed="rId1"/>
          <a:stretch/>
        </p:blipFill>
        <p:spPr>
          <a:xfrm>
            <a:off x="3384720" y="1052640"/>
            <a:ext cx="5759280" cy="4779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74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apraz Bağlantı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ki hub arası veya 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lgisayar arası U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blo ile  bağlant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apmak için kullanıl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ü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traight-Through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A veya 568B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ethcable568a"/>
          <p:cNvPicPr/>
          <p:nvPr/>
        </p:nvPicPr>
        <p:blipFill>
          <a:blip r:embed="rId1"/>
          <a:stretch/>
        </p:blipFill>
        <p:spPr>
          <a:xfrm>
            <a:off x="4500720" y="1197000"/>
            <a:ext cx="4205160" cy="26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ethcable568b"/>
          <p:cNvPicPr/>
          <p:nvPr/>
        </p:nvPicPr>
        <p:blipFill>
          <a:blip r:embed="rId2"/>
          <a:stretch/>
        </p:blipFill>
        <p:spPr>
          <a:xfrm>
            <a:off x="4572000" y="4005360"/>
            <a:ext cx="4211640" cy="263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Kablo-Sema-100"/>
          <p:cNvPicPr/>
          <p:nvPr/>
        </p:nvPicPr>
        <p:blipFill>
          <a:blip r:embed="rId3"/>
          <a:stretch/>
        </p:blipFill>
        <p:spPr>
          <a:xfrm>
            <a:off x="324000" y="1197000"/>
            <a:ext cx="3284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apra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Crossover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cat5_cross_100_both"/>
          <p:cNvPicPr/>
          <p:nvPr/>
        </p:nvPicPr>
        <p:blipFill>
          <a:blip r:embed="rId1"/>
          <a:stretch/>
        </p:blipFill>
        <p:spPr>
          <a:xfrm>
            <a:off x="4511520" y="1125360"/>
            <a:ext cx="4395960" cy="5732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Kablo-Sema-cross"/>
          <p:cNvPicPr/>
          <p:nvPr/>
        </p:nvPicPr>
        <p:blipFill>
          <a:blip r:embed="rId2"/>
          <a:stretch/>
        </p:blipFill>
        <p:spPr>
          <a:xfrm>
            <a:off x="468360" y="1413000"/>
            <a:ext cx="25956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ize verilecek olan UTP Kablo ve RJ-45 konektörlerini kullanarak düz kablo bağlantısı yapını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13:30:26Z</dcterms:created>
  <dc:creator>Şirin Karadeniz</dc:creator>
  <dc:description/>
  <dc:language>en-US</dc:language>
  <cp:lastModifiedBy>Adil YILDIZ</cp:lastModifiedBy>
  <dcterms:modified xsi:type="dcterms:W3CDTF">2011-10-04T08:25:37Z</dcterms:modified>
  <cp:revision>12</cp:revision>
  <dc:subject/>
  <dc:title>UTP Kablo Bağlantıları</dc:title>
</cp:coreProperties>
</file>