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AF04-7967-440C-B053-553077B86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1415-6D25-4268-A1B0-435F55A9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CFB4-77BF-4316-9E62-BD48BBFD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E38E-8CDA-4FDC-93A3-87818B9FD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1992-0C04-4333-9B8E-86D8644D4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EC9C-F9C9-40BC-B405-AE6E8021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8A8D-7163-431B-9B5D-69DC2D4B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6919-7563-427D-BA14-BF250843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1DC8-8745-4868-8ACA-B290E9FA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CE51-B180-4D08-85DE-45E0D4C5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C2F7-4CF4-4276-8F24-D2A91B40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E845-B563-44B8-9CE6-1D828A2B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DDEC-F14A-4696-A758-1911D18B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7310-09FB-4281-93BC-ACC91710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67C8-3556-4ABB-87CA-BC0D3C95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AD21-BAB0-4F1B-A205-58A8BF5EF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CF03-59E4-4B1D-B6A5-ABA156806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8879-C996-4511-9682-661B6C4C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6012-67B0-47C3-8D6A-02A27239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F50D-D4EB-4BED-A26F-07E56EF1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F546-0C94-4A3A-A0DA-5A78598C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F3E0-488F-4102-869E-5F8ED820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89F1-2FF9-43AA-A560-3F2C8E43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B12A-8B5B-40D9-87B2-7A33D1CC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B9EA-F8D8-461B-B012-6EDCEC1B9433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4DA9-7654-4253-AEA6-6B7DBE332083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UTP Kablo Bağlantıları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(Düz/Çapra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1’den Fazla Hub Bağlantısında Çapraz (Cross) Bağlant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040cascade"/>
          <p:cNvPicPr/>
          <p:nvPr/>
        </p:nvPicPr>
        <p:blipFill>
          <a:blip r:embed="rId1"/>
          <a:stretch/>
        </p:blipFill>
        <p:spPr>
          <a:xfrm>
            <a:off x="1547640" y="1700280"/>
            <a:ext cx="6334200" cy="4425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n-8816"/>
          <p:cNvPicPr/>
          <p:nvPr/>
        </p:nvPicPr>
        <p:blipFill>
          <a:blip r:embed="rId2"/>
          <a:stretch/>
        </p:blipFill>
        <p:spPr>
          <a:xfrm>
            <a:off x="1116000" y="1341360"/>
            <a:ext cx="69120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İki Bilgisayar Arası Çapraz (Cross) Bağlant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030804figure3"/>
          <p:cNvPicPr/>
          <p:nvPr/>
        </p:nvPicPr>
        <p:blipFill>
          <a:blip r:embed="rId1"/>
          <a:stretch/>
        </p:blipFill>
        <p:spPr>
          <a:xfrm>
            <a:off x="826920" y="1989000"/>
            <a:ext cx="72723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Çapraz/Düz Kablo Bağlantıs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5" descr="cross_duz_kullanimi"/>
          <p:cNvPicPr/>
          <p:nvPr/>
        </p:nvPicPr>
        <p:blipFill>
          <a:blip r:embed="rId1"/>
          <a:stretch/>
        </p:blipFill>
        <p:spPr>
          <a:xfrm>
            <a:off x="3384720" y="1052640"/>
            <a:ext cx="5759280" cy="4779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374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Çapraz Bağlantı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ki hub arası veya 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lgisayar arası U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blo ile  bağlant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yapmak için kullanıl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915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Düz kablo (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Straight-Through Ethernet Cable)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568A&lt;-&gt;568A veya 568B&lt;-&gt;568B olmalıdı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ethcable568a"/>
          <p:cNvPicPr/>
          <p:nvPr/>
        </p:nvPicPr>
        <p:blipFill>
          <a:blip r:embed="rId1"/>
          <a:stretch/>
        </p:blipFill>
        <p:spPr>
          <a:xfrm>
            <a:off x="4500720" y="1197000"/>
            <a:ext cx="4205160" cy="2628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ethcable568b"/>
          <p:cNvPicPr/>
          <p:nvPr/>
        </p:nvPicPr>
        <p:blipFill>
          <a:blip r:embed="rId2"/>
          <a:stretch/>
        </p:blipFill>
        <p:spPr>
          <a:xfrm>
            <a:off x="4572000" y="4005360"/>
            <a:ext cx="4211640" cy="2633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Kablo-Sema-100"/>
          <p:cNvPicPr/>
          <p:nvPr/>
        </p:nvPicPr>
        <p:blipFill>
          <a:blip r:embed="rId3"/>
          <a:stretch/>
        </p:blipFill>
        <p:spPr>
          <a:xfrm>
            <a:off x="324000" y="1197000"/>
            <a:ext cx="32842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915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apraz Kablo (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Crossover Ethernet Cable)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568A&lt;-&gt;568B olmalıdı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cat5_cross_100_both"/>
          <p:cNvPicPr/>
          <p:nvPr/>
        </p:nvPicPr>
        <p:blipFill>
          <a:blip r:embed="rId1"/>
          <a:stretch/>
        </p:blipFill>
        <p:spPr>
          <a:xfrm>
            <a:off x="4511520" y="1125360"/>
            <a:ext cx="4395960" cy="5732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Kablo-Sema-cross"/>
          <p:cNvPicPr/>
          <p:nvPr/>
        </p:nvPicPr>
        <p:blipFill>
          <a:blip r:embed="rId2"/>
          <a:stretch/>
        </p:blipFill>
        <p:spPr>
          <a:xfrm>
            <a:off x="468360" y="1413000"/>
            <a:ext cx="25956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Size verilecek olan UTP Kablo ve RJ-45 konektörlerini kullanarak düz kablo bağlantısı yapınız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13:30:26Z</dcterms:created>
  <dc:creator>Şirin Karadeniz</dc:creator>
  <dc:description/>
  <dc:language>en-US</dc:language>
  <cp:lastModifiedBy>Adil YILDIZ</cp:lastModifiedBy>
  <dcterms:modified xsi:type="dcterms:W3CDTF">2011-10-04T08:25:37Z</dcterms:modified>
  <cp:revision>12</cp:revision>
  <dc:subject/>
  <dc:title>UTP Kablo Bağlantıları</dc:title>
</cp:coreProperties>
</file>