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7102475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2BD88-FD77-4A7C-8591-D7C899114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41C95-E07D-4332-A5F6-17E00D754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83BE7-C911-415B-8B2C-D7F58A7A9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B9AE7-9815-4D14-BA48-8A7B64516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30CDE-17E9-4DC3-8B48-F9C11DB1F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27C06-1E7C-4CA3-A3FE-AA060F1E8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1CE54-3DB9-436E-878A-5669626F5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8DE03-D997-49EE-9755-EFC01AD4A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505FB-4E43-4B71-B99D-A6A9D2B0E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345EF-1684-4365-B2C7-D4C3BD9CD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19622-9366-49E8-8A2B-06B4F5558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E4ED1-F55E-418B-AD27-E771394B1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F2C7F-4559-4DB1-A5E7-ED84A0736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AF970-91EC-48F2-A317-8B1897D8D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08D64-8D01-4C9F-8516-BAF56E856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1E760-85C6-4F5E-879C-6BE53F970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C690B-0A37-4F0E-A2DA-16ACBEC8F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E453D3-3D18-44B3-A529-E713D3DCD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EADB4E-115E-48E4-8DDB-FCF7C079E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6F42E4-E651-4883-9F6E-02AA6837E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93B989-0DF9-4B6B-B351-FC8A36D85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93EE2E-0552-41AF-A053-CEB88C90A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2664A-4BB1-4459-9871-3E866FE21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FDBD19-4CF0-440F-86F5-BAC6F0B5F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BDB986-B341-4F28-B8CE-84E5875D8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9A3787-D52E-4C09-93C6-8D6E074CF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70D303-3C34-4EBA-B4E4-EE3F0640B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C43918-9A8D-4564-9B5E-371542BB8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BBF8A0-0A88-440A-88DC-4DDD99195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8BBD94-1B1B-4581-914A-4D9E1E361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17ED91-968E-4A3E-B079-059AFE513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38708D-4A16-42A9-A0C6-8F36389DB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D79064-CFDB-4F91-B845-A98F4E333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0405B-67F9-4D9B-97CE-1E6D96364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655A9D-CF1E-4BC1-8820-84881666C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A26D38-A464-4A47-A89A-12C40AEFE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54FFE8-DCA4-4BB2-95B2-2C0708B23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38C35B-7B65-431D-B459-EB85FABB6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8B9CE3-0DE8-466E-B48D-D29CD93B6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BE13B2-428D-44FE-9D6E-94F7978E5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A1402F-9102-46A4-860E-BC2C8D517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76D179-C220-4789-B5E7-CB90D47B9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71A9E8-55D8-4D79-83BB-1A8F281D0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930FE-1713-470D-AD89-D1CDCA87B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22C20-A985-424B-854C-C85628745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2AFB2-8B7A-4D4D-8C4C-3F730D523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0BC0C-6E31-4ED0-860C-AC4C351A2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F98C0-89C2-4883-BB6D-8464E8A4B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Serbest Form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7 Serbest Form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D691C-4490-4F1F-BE4C-F09FA192DC6E}" type="slidenum"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1 Grup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11 Serbest Form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11 Serbest Form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1" name="12 Serbest Form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12 Serbest Form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4" name="15 Metin kutusu"/>
          <p:cNvSpPr/>
          <p:nvPr/>
        </p:nvSpPr>
        <p:spPr>
          <a:xfrm>
            <a:off x="5357880" y="6357960"/>
            <a:ext cx="292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6 Serbest Form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7 Serbest Form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3" name="1 Grup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4" name="11 Serbest Form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5" name="11 Serbest Form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7" name="12 Serbest Form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8" name="12 Serbest Form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60" name="15 Metin kutusu"/>
          <p:cNvSpPr/>
          <p:nvPr/>
        </p:nvSpPr>
        <p:spPr>
          <a:xfrm>
            <a:off x="5357880" y="6357960"/>
            <a:ext cx="292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64E0E-A277-43B4-91F7-62EB197C827E}" type="slidenum"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6 Serbest Form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7 Serbest Form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4" name="1 Grup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5" name="11 Serbest Form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6" name="11 Serbest Form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8" name="12 Serbest Form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9" name="12 Serbest Form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11" name="15 Metin kutusu"/>
          <p:cNvSpPr/>
          <p:nvPr/>
        </p:nvSpPr>
        <p:spPr>
          <a:xfrm>
            <a:off x="5357880" y="6357960"/>
            <a:ext cx="292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5A478-95B0-4041-B04F-A008D9D4D8B8}" type="slidenum"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8 Tek Köşesi Kesik ve Yuvarlatılmış Dikdörtgen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11 Dik Üçgen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9 Serbest Form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10 Serbest Form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53867-1F09-44BC-AF3A-5B62D7391CD2}" type="slidenum"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Title 3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308800" cy="190188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2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14400" y="1412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d)Tablo Oluşturma </a:t>
            </a:r>
            <a:br>
              <a:rPr sz="4900"/>
            </a:b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79280" y="1412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Tablo oluşturmak için </a:t>
            </a: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CREATE TABLE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komutu kullanılır.Bu komut kullanılmadan önce tablonun oluşturulacağı veritabanı seçilmelidi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Create Table &lt;tablo adı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alan_adı veri_türü [varsayılan][kısıtlama]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  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  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[tablo kısıtlaması]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“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tablo Adı”tabloya verilecek isim(örnek:ogrenci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“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alan Adı” tabloda yer alacak alanların adı(örnek:ogr_no,adi,soyadi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“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veri Türü”girilecek veri türü (sayı,metin,tarih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“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varsayılan”değer girilmezse başlangıçta atanacak değe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324000" y="981000"/>
            <a:ext cx="8229600" cy="43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kısıtlama”boş olmaması,sadece E veya K girilmesi kısıtlamala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tablo kısıtlaması”her kaydın belirli alanlara göre kısıtlanması(kayıtların tek olmasını sağlamak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: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ezun olan öğrenciler için mezun bilgilerinin tutulacağı bir tablo oluşturalım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Bu tablo için adi,soyadi ve ogrno alan adları kullanılacakt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REATE TABLE ;kayit ad varchar(15) not null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oyad varchar(15) not null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ogrno smallint(5)unsigned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                 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constraint ogrno_pk primary key(ogrno)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900"/>
            </a:b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e)Tablo Silme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324000" y="1628640"/>
            <a:ext cx="82296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DROP TABLE ifadesiyle istenilen tablo silinebil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DROP TABLE tablo_ad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:Müşteri tablosunu silmek için aşağıdaki ifade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DROP TABLE muster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5400" spc="-1" strike="noStrike">
                <a:solidFill>
                  <a:srgbClr val="7030a0"/>
                </a:solidFill>
                <a:latin typeface="Calibri"/>
              </a:rPr>
              <a:t>f)Tabloya Kayıt Ekleme 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 veritabanlarına yeni kayıt eklemek için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INSERT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komutu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INSERT INTO TABLO (alan1,alan2,…….,alan_n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VALUES(deger1,deger2,………..,deger_n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Aşağıdaki komutla okul veritabanında bulunan öğrenci tablosuna yeni kayıt eklenmişt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INSERT INTO ogrenci(no,ad,soyad,veli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VALUES (125,”Melda”,”Selda”,”Eda”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539640" y="764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7030a0"/>
                </a:solidFill>
                <a:latin typeface="Calibri"/>
              </a:rPr>
              <a:t>g)Tablodan Kayıt Alm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 veritabanlarında istenilen şartlara uyan bilgileri  almak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SELECT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komutu kullanılır.SELECT komutunun kullanımının birçok farklı seçeneği vardır 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;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Aşağıdaki kod belirli bir şarta bağlı olmaksızın istenilen verileri ogrenci tablosundan okumak için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*FROM ogrenci-&gt; </a:t>
            </a: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ogrenci tablosundaki tüm kayıtları göster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ad,no FROM ogrenci-&gt;</a:t>
            </a: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ogrenci  tablosundaki verilerin sadece ad ve no bilgilerini göster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250920" y="980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Belirli bir şarta uyan verilerin okunması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WHERE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paremetresi kullanılır 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Numarası 15 olan öğrencilerin  tüm bilgilerinin görüntülenmesi için aşağıdaki ifade yazılır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*F ROM ogrenci WHERE no=15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: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ınav notundan 50-70 arası not alan öğrencilerin ad ve numarasının görüntülenmesi için aşağıdaki ifade yaz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ad,no FROM ogrenci WHERE not_1 BETWEEN 50-70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Adının içinde ‘M’geçen öğrencilerin ad ve numarasının görüntülenmesi için aşağıdaki ifade yaz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ad,no FROM ogrenci WHERE ad LIKE ‘%M%’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611280" y="16282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ile gelen kayıtların sıralamasını değiştirmek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ORDER BY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ifadesi kullanılır.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ORDER BY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ifadesi ile birlikte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ASC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kullanırsa artan sıralama,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DESC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kullanılırsa azalan sıralama yapar.Herhangi bir ifade yazılmazsa artan sıralama yapa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;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Adı”M” ile Başlayan öğrencilerin bilgilerini soyadına göre artan sıralamada görüntülenmesi için aşağıdaki ifade yazılır.(a…..z sıralama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*FROM ogrenci WHERE adi=‘M%’ ORDER BY soyadi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3964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h)Kayıt Silme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179280" y="18442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Tablodan kayıt silmek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DELETE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ifadesi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DELETE FROM tablo_adi WHERE koşu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;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Aşağıdaki SQL komutu ogrenci tablosunda bolum bilgisi”bilişim”olan tüm kayıtları silecekt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DELETE *FROM ogrenci WHERE bolum=‘bilişim’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i)Kayıt Güncelleme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324000" y="16999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Veritabanında bulunan kayıtlar üzerinde değişiklik yapmak istendiğinde UPDATE ifadesi kullanılır.Çoğunlukla where ifadesi ile kullanılır.Where ifadesi kullanılmaz ise tablodaki tüm kayıtlar güncellenecekt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UPDATE tablo_adi SET alan1=değer1,alan2=değer2,……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WHERE Koşul cümlesi 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;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Öğrenci numarası 35 olan öğrencinin doğum tarihini 05/02/1991 olarak değiştirecek SQL komutu aşağıdaki gibid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UPDATE ogrenci SET dogum_tarihi=‘1991/05/02’ WHERE no=35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MySQL Fonksiyonları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179280" y="1341000"/>
            <a:ext cx="8229600" cy="43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a) Standart Fonksiyonlar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AVG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 verilen alanın aritmetik ortalamasını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SUM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 verilen alanın toplamını a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MIN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 verilen alanın en küçük değerini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MAX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 verilen alanın en büyük değerini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COUNT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 verilen alanın kayıt sayısını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ROUND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 verilen alanın değerinin virgülden sonraki kısmını yuvarla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5400" spc="-1" strike="noStrike">
                <a:solidFill>
                  <a:srgbClr val="000000"/>
                </a:solidFill>
                <a:latin typeface="Calibri"/>
              </a:rPr>
              <a:t>MYSQL Veritabanı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Calibri"/>
              </a:rPr>
              <a:t>Veritabanı,içerisinde çeşitli verileri bulunduran birbirleriyle ilişkili tablolardan oluşmaktadır. MySQL veritabanı da SQL ve Access gibi farklı tablolardan ve bu tablo içerisindeki alanlardan meydana geli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2600" spc="-1" strike="noStrike">
                <a:solidFill>
                  <a:srgbClr val="000000"/>
                </a:solidFill>
                <a:latin typeface="Calibri"/>
              </a:rPr>
              <a:t>MySQL veritabanında sayısal bilgiler INT,string bilgiler VARCHAR türünde tanımlanı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250920" y="764640"/>
            <a:ext cx="8229600" cy="575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b)Karşılaştırma Operatörleri ve Fonksiyonlar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Eşittir “=“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1 =0; SONUÇ=0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‘0’ =0; SONUÇ=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Eşit Değildir”&lt;&gt;” ,”!=“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’.O1’&lt;&gt; ‘0.01’;SONUÇ=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üçüktür veya Küçük eşittir “&lt;“ , “&lt;=“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2&lt;2; SONUÇ=1 </a:t>
            </a:r>
            <a:r>
              <a:rPr b="0" lang="tr-TR" sz="1800" spc="-1" strike="noStrike">
                <a:solidFill>
                  <a:srgbClr val="ff0000"/>
                </a:solidFill>
                <a:latin typeface="Calibri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Büyüktür  veya büyük eşittir “&gt;” , “&gt;=“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2&gt;=2;SONUÇ =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GREATEST(değer1,değer2,…..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 olarak verilen değerlerden en büyük olan değeri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GREATEST (2,0) ;         sonuç =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LEAST (değer1,değer2,…..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 olarak verilen değerlerden  en küçük olan değeri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LEAST  (2,0) ;               sonuç =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324000" y="1125000"/>
            <a:ext cx="8229600" cy="43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c)Matematiksel Fonksiyonlar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ABS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verilen değerin mutlak değerini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ABS(2);                  Sonuç =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OD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verilen iki değerin bölümünden kalanını ver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MOD(234,10);     Sonuç=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SQRT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verilen değerin karekökünü ver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SQRT (4) ;              Sonuç=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Title 3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521560" cy="1908360"/>
          </a:xfrm>
          <a:prstGeom prst="rect">
            <a:avLst/>
          </a:prstGeom>
          <a:ln w="0">
            <a:noFill/>
          </a:ln>
        </p:spPr>
      </p:pic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2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7030a0"/>
                </a:solidFill>
                <a:latin typeface="Calibri"/>
              </a:rPr>
              <a:t>MySQL Sunucusuna Bağlantı </a:t>
            </a:r>
            <a:br>
              <a:rPr sz="2000"/>
            </a:b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HP dilinde veritabanı ile işlem yapılacağı zaman ilk olarak web sunucusu aracılığıyla veritabanı dosyası ile bağlantı kurulması gerek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Bağlantı bir değişkene atanır ve MySQL sunucu kurulumunda şifre konulmamışsa şifre parametresi boş bırakılmalıd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$baglanti=mysql_connect(sunucu,kullanıcı_Adi,sifre;yeni_baglanti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unucu”bağlantı kurulacak MySQL sunucusunun ismid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;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localhost sunucusunda root kullanıcı adı ve root şifresiyle bağlantı için aşağıdaki ifade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$baglanti=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connect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(“localhost” ,”root” ,”root”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Yerel sunucuda sunucu localhost ismini a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Veritabanı Seçimi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324000" y="1557360"/>
            <a:ext cx="8229600" cy="438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unucu ile bağlantı kurulduktan sonra kullanılacak veritabanının seçilmesi gerekir.Veritabanı seçim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select_db()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Fonksiyonu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Fonksiyon başarı ile çalışırsa TRUE, çalışmazsa FALSE değeri döndürü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_select_db(“veritabanı”,”bağlantı_değişkeni”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(“veritabanı”)=Bağlantı kurulacak veritabanı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(”bağlantı_değişkeni”)= mysql_connect fonksiyonunun atandığı bağlantı değişkenid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PHP ile MySQL Veritabanı  Oluşturma </a:t>
            </a:r>
            <a:br>
              <a:rPr sz="2800"/>
            </a:b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844640"/>
            <a:ext cx="8229600" cy="44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 istemci yazılımı veya mysqladmin kullanmadan MySQL veritabanı oluşturmak için mysql_create_db() fonksiyonu kullanılır 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;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 sunucu üzerinde personel isminde bir veritabanı oluşturmak için aşağıdaki ifade kullanılabil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&lt;?PHP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$bg=@mysql_connect(“localhost”,”root”,”mysql”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or die (“MySQL e Bağlanılamıyor!”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query(“CREATE DATABASE personel”,$bg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                                     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or die (“Veritabanı oluşturulamadı”.mysql_error()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?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7030a0"/>
                </a:solidFill>
                <a:latin typeface="Calibri"/>
              </a:rPr>
              <a:t>SQL İfadelerinin Kullanımı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24000" y="16282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Bağlantı kurulan veritabanı üzerine SQL ifadelerini kullanmak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query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ifadesi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onuc=mysql_query(“sql_ifadesi”,”bağlantı_değişkeni”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ql_ifadesi=Çalıştırılmak istenen SQL ifadesid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bağlantı_değişkeni=mysql_connect fonksiyonunun atandığı bağlantı değişkenidir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MySQL Sunucu İşlemleri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395280" y="14839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unucu üzerinde çalıştırılan UPDATE,INSERT ve DELETE işlemleri geriye değer döndürmez.Sadece SELECT  ifadelerinde geriye sonuç döner.Bu sonuçlar üzerinde işlem yapmak için aşağıdaki fonksiyonlar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c00000"/>
                </a:solidFill>
                <a:latin typeface="Calibri"/>
              </a:rPr>
              <a:t>a) mysql_num_field(“sorgu_değişkeni”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Bu komut SQL ifadesinde seçilen alanların sayısını bulmak için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c00000"/>
                </a:solidFill>
                <a:latin typeface="Calibri"/>
              </a:rPr>
              <a:t>b) mysql_num_rows (“sorgu_değişkeni”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sorgusunun çalışması sonucu elde edilen kayıt sayısını bulmak için kullanılır.INSERT,UPDATE veya DELETE gibi tablo üzerinde değişiklik yapan SQL ifadeleri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affected_rows()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fonksiyonu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c00000"/>
                </a:solidFill>
                <a:latin typeface="Calibri"/>
              </a:rPr>
              <a:t>c)mysql_fetch_row(“sorgu_değişkeni”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ifadesi sonucu dönen kayıtları almak için kullanılır.Sorgudan dönen alanlar mysql_fetch_row()fonksiyonun atandığı değişkene dizi şeklinde atanacaktır.Daha fazla döndürecek kayıt kalmadığında “false” değeri dön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5280" y="1196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c00000"/>
                </a:solidFill>
                <a:latin typeface="Calibri"/>
              </a:rPr>
              <a:t>d) mysql_result(“sorgu_değişkeni”,kayit”,”alan”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orgu sonucu dönen değerlerden istenilen kaydın alan bilgisi alınabilir 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kayıt” parametresi sayısal bir değerdir.”alan” parametresi sayısal olabileceği gibi alan ismide olabilir.Örneğin,sorgudan dönen değerlerden 5.satırdaki kaydın ad bilgisi için mysql_result($sorgu,5,”ad”)veya mysql_result($sorgu,5,5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c00000"/>
                </a:solidFill>
                <a:latin typeface="Calibri"/>
              </a:rPr>
              <a:t>d) mysql_error() ve mysql_errno(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 ifadelerinin çalışması esnasında oluşan hata mesajlarını yazılı olarak almak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error();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hata kodunu almak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errno ()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fonksiyonları kullanılır.Parametre olarak bağlantı değişkeninin adını alır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Sunucu Bağlantısını Kapatma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Veritabanına bağlantı sayısı sınırlı olabileceği için veritabanıyla ilgili işlemler bittiğinde bağlantının kapatılması gerekir .Aksi Takdirde diğer kullanıcılar bağlanmak istediğinde sorun oluşabilir.Bağşantı kapatmak için mysql_close fonksiyonu kullanılır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_close(baglanti_degiskeni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 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Aşağıdaki kullanım $baglanti değişkenine atanan  MySQL bağlantısını kapatmaktad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_close($connect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04617b"/>
                </a:solidFill>
                <a:latin typeface="Calibri"/>
              </a:rPr>
              <a:t>MySQL Kurulumu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MySQL kurulumunun en son versiyonu www.mysql.com  adresinden indirelebilir.Kurulum dosyasını çalıştırdıktan sonra ilk ekranda”Next”butonuna tıklayarak devam edilir.Kurulum tipi belirlenip “Install “butonuna basılır.Next butonlarıyla ilerlenip kurulum tamamlanı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MySQL sunucunun veritabanına  erişimi için yapılandırılması gerekir. Standart ve detaylı olmak üzere iki şekilde yapılır. Yapılandırma işlemleri “Execute”butonuna basılarak aktif hale getirili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Finish”butonuna basılarak aktif hale getirilir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4617b"/>
                </a:solidFill>
                <a:latin typeface="Calibri"/>
              </a:rPr>
              <a:t>PHPMyAdmin Kurulumu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HPMyAdmin,MySQL veri tabanına kolayca erişimi sağlayarak veri tabanı işlemlerinin görsel yolla yapılabilmesi hazırlanmış arayüzdü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Kuruluma gerek yoktur.Sıkıştırılmış klasör içinde bulunan dosyaları açarak web sunucusu klasörüne(apache web sunucusu için htdocs klasörü)kaydetmek yeterlid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5400" spc="-1" strike="noStrike">
                <a:solidFill>
                  <a:srgbClr val="089ca3"/>
                </a:solidFill>
                <a:latin typeface="Calibri"/>
              </a:rPr>
              <a:t>KURULUM AŞAMALARI 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Gerekli dosyalar www.phpmyadmin.net adresinden indirilebili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İndirilen dosya açılarak htdocs klasörü altına kopyalanı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PhpMyAdmin yapılandırılması için aşağıdaki adımlar uygulanır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PhpMyAdmin klasörü içinde bulunan config.inc dosyasını açılarak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$cfg [‘PmaAbsoluteUri’]=“;satırı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$cfg [‘PmaAbsoluteUri’]=“http ://localhost/phpmyadmin/’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olarak değiştirili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$cfg [‘Servers’][$i][User’]=‘root’;satırında kullanıcı adının root olması gerek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$cfg [‘Servers’][$][‘password’]=“;root kullanıcı adı ile bağlantı yapılıyorsa şifre kısmının boş olması gerek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Config.inc dosyası kaydedil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İnternet tarayıcının adres çubuğuna http://localhost/phpmyadmin/ yazdığınızda hata ile karşılaşılmıyorsa phpMyAdmin yazılımı başarıyla kurulmuş demekt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4617b"/>
                </a:solidFill>
                <a:latin typeface="Calibri"/>
              </a:rPr>
              <a:t>MySQL Yazılım Kuralları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250920" y="1988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7030a0"/>
                </a:solidFill>
                <a:latin typeface="Calibri"/>
              </a:rPr>
              <a:t>a) Veritabanı Oluşturm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MySQL’de veritabanı oluşturmak için </a:t>
            </a: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CREATE DATABASE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komutu verili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CREATE DATABASE veritabanı_adı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Örnek: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Aşağıdaki komutla okul adında bir veritabanı oluşturulmuştu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CREATE DATABASE ogrenci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468360" y="1196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b) Veritabanı Silm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MYSQL’de veritabanı silmek için </a:t>
            </a: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DROP DATABASE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komutu kullanılır.Komut çalıştırıldığında silinen veritabanın içerisindeki tüm tablolar ve kayıtlarda silinmiş olacaktır.Silinen kayıtlar geri getirilemez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DROP DATABASE veritabanı_adı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Örnek: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Aşağıdaki komutla okul veritabanı silinecekti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DROP DATABASE okul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11280" y="69228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900"/>
            </a:b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c)MySQL Veri Türleri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468360" y="1413000"/>
          <a:ext cx="8229600" cy="5121000"/>
        </p:xfrm>
        <a:graphic>
          <a:graphicData uri="http://schemas.openxmlformats.org/drawingml/2006/table">
            <a:tbl>
              <a:tblPr/>
              <a:tblGrid>
                <a:gridCol w="1871640"/>
                <a:gridCol w="635796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Veri Türü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çıklam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NYIN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28 ile 127 arasında tamsayı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MALLI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2768 ile 32768 arasında tamsay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DIUM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8388608 ile 8388607 arasında tamsay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147483648 ile -2147483647 arasında tamsay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GI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9223372036854775808-9223372036854775807 arasınd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LOA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rgülden sonra 4 yada 8 haneli ondalık say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MESTAMP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 andaki sistem zamanını tut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M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H:MM:SS,HHMMSS,HHMM,HH formatında zam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ETIM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YYY-MM-DD HH:MM:SS  formatında zam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RCHAR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 sayısını geçmemek şartıyla değişen boyutta karak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esinlikle n sayısı kadar karak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8T16:07:00Z</dcterms:created>
  <dc:creator>pc</dc:creator>
  <dc:description/>
  <dc:language>en-US</dc:language>
  <cp:lastModifiedBy>Vento</cp:lastModifiedBy>
  <dcterms:modified xsi:type="dcterms:W3CDTF">2013-11-26T12:38:50Z</dcterms:modified>
  <cp:revision>33</cp:revision>
  <dc:subject/>
  <dc:title>PHP ve MYSQL</dc:title>
</cp:coreProperties>
</file>