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945F-ABCA-496C-937B-225F4BA4C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1F32-D0EF-47E3-856F-C6F9D765D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DEE6-13C9-40B5-9EBE-606CD35D9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B07A-1F1F-48E1-A1DF-E063B2731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0C9C0-3473-4BC1-A160-E60B76CC8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1BD88-BA73-4ACE-A326-95761A213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31C91-B7CA-425D-9F1E-668134666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F49B6-B3C7-4841-94C9-7F6CD3EF7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CDD22-F84F-4D13-8306-1B867C12F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DE796-1BEA-424F-8694-46F0BCC8E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6BDCA-64AA-4D2C-9D61-1D0B8797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3AAE-3A66-4A4D-9594-7B42A376B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5AE37-DED3-4014-B5F0-85EDDAE7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0CE87-1DB7-44F5-8195-0532DB9D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B237E-21FE-40D7-958E-E4DE0B7E8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3200B-07EA-48A7-AA46-F1F1D4015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4453E-3A09-46FE-86C6-98CF8BA1D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B0EB6-6357-4F7C-8BC7-3F38D77A3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7F9B2-B2FD-43C2-ACC8-F180FD163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88D38-B6DB-4CD7-B15C-D7F96514D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CE71E-8DF8-472B-B34E-5C11B72DD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8F07D-900D-4C76-826F-C3E4FFC48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EB3D-58AF-430C-ADDB-C30928038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D55B1-1F27-42BF-BD6C-D20CDBF93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3F1F5-F03D-4CAB-B4F1-34981B54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13CB4-CB9C-47E0-BEE0-4C316F9D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EED5B-BB69-4B7D-9597-E44C381E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8756D-8E6B-4364-8813-34D09271B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BBBB9-F394-490D-B71E-4434B9F16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0E511-0880-402D-9C8F-3EB488B05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18920-B0FF-44D7-9418-6A2B755C9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36EE4-5D45-476A-A60A-DA8F3A4FE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DFD20-37D1-4B36-A3DE-852817FB0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3A78-00AE-4F5E-ACAA-333FE51C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E7697-1FEE-4982-9BB9-9BEB413B3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9F8FE-2031-4EF7-94B3-5D56D9DE4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2C3E6-4DCF-4C1D-A215-4924B9399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AAD48-5578-44BA-8B5D-D83FF93E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7AF7F-0EE9-4365-AB71-E872303B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6AB7F-7894-4FC1-B59F-7C688202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F0050-DBC8-44F4-B8BC-50D37FA15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E73CC-7C93-4C91-9CA2-DB9CBBD0C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A65C2-EC52-4879-B190-719F3C60C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979F-8FEA-4DF2-A6E1-C8AE15DB9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0F52-3182-4A51-A9CE-117113553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6B78-5B2D-4733-856B-25D4E5D6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8634-07BE-406B-9D12-01F441C6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CB7C-4913-4DEE-A1C0-F1924203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95C5A-12DF-4B8C-893A-F2B1DFD4D63C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3FCA6-1DAB-4ABC-AB07-062FAB6A6D93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7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0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57A9B-1723-4279-9D30-67EB75795CFD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DEECC-AA82-4DBE-9124-F84BB14AF5A6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Tarih ve Saat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tematiksel 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Karakter Kümesi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il Gönderm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izinin Fonksiyona Gönderilmesi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unction liste_yaz($gelendiz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or ($i=0;$i&lt;count($gelendizi);$i++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gelendizi[$i]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ndizi=array(6,8,10,7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iste_yaz($gelendizi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arih ve Saat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t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arih/zaman bilgisi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bugun=getdate(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 $bugun[mday]."-".$bugun[mon]."-".$bugun[year]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Bugünkü tarihi yaz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 fonksiyonunda kullanılan parametre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866960" y="1909800"/>
          <a:ext cx="5410080" cy="4441680"/>
        </p:xfrm>
        <a:graphic>
          <a:graphicData uri="http://schemas.openxmlformats.org/drawingml/2006/table">
            <a:tbl>
              <a:tblPr/>
              <a:tblGrid>
                <a:gridCol w="1803240"/>
                <a:gridCol w="1803600"/>
                <a:gridCol w="1803240"/>
              </a:tblGrid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second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ler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69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inute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akikalar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hour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ler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günlerin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lerin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Pazar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Cumartesi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300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1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ear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: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ünü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eek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ünün metinse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un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tur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t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metinsel tam gösterimi, Ocak ya da Mart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Yerel tarihi/saati biçimlend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973160" y="2509920"/>
          <a:ext cx="5767560" cy="4091040"/>
        </p:xfrm>
        <a:graphic>
          <a:graphicData uri="http://schemas.openxmlformats.org/drawingml/2006/table">
            <a:tbl>
              <a:tblPr/>
              <a:tblGrid>
                <a:gridCol w="1922400"/>
                <a:gridCol w="1922760"/>
                <a:gridCol w="1922400"/>
              </a:tblGrid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içim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karakte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çıkla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 sonu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ü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lu iki haneli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üç harfli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z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suz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küçük 'L' harf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tam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ar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martesi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286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ISO-8601 standardında sayısal gösterimi (PHP 5.1.0'da eklenmişti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(Pazartesi için)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(Pazar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 için 2 karakterli İngilizce sıralama ekle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h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uyumlu çalışmaktadır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sayısa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Pazar için) </a:t>
                      </a: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(Cumartesi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4632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leri (0'dan başla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224000" y="1774800"/>
          <a:ext cx="6696000" cy="4668840"/>
        </p:xfrm>
        <a:graphic>
          <a:graphicData uri="http://schemas.openxmlformats.org/drawingml/2006/table">
            <a:tbl>
              <a:tblPr/>
              <a:tblGrid>
                <a:gridCol w="2232000"/>
                <a:gridCol w="2232000"/>
                <a:gridCol w="2232000"/>
              </a:tblGrid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572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tına göre yılın hafta numarası, hafta başlangıcı Pazartesi'di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Yılın 42'inci haftas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tam metinsel gösterimi, Ocak ya da Mart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lu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üç karakterli, metinsel kısa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suz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lirtilen ayın gün sayı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2117880"/>
          <a:ext cx="8229600" cy="3749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rtık yıl olduğu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ğer artık yıls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değilse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012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dı yıl numarası. ISO hafta numaralarının (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 ait olduğu yılın gösterilmesi dışınd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aynı değere sahiptir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, tam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iki haneli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790640" y="1935000"/>
          <a:ext cx="5562720" cy="4395960"/>
        </p:xfrm>
        <a:graphic>
          <a:graphicData uri="http://schemas.openxmlformats.org/drawingml/2006/table">
            <a:tbl>
              <a:tblPr/>
              <a:tblGrid>
                <a:gridCol w="1854360"/>
                <a:gridCol w="1854000"/>
                <a:gridCol w="1854360"/>
              </a:tblGrid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üç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üy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atch İnternet saa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0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dakika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saniye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krosaniye (PHP 5.2.2 sürümüyle eklenmişti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543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166760" y="1922400"/>
          <a:ext cx="6810480" cy="4416480"/>
        </p:xfrm>
        <a:graphic>
          <a:graphicData uri="http://schemas.openxmlformats.org/drawingml/2006/table">
            <a:tbl>
              <a:tblPr/>
              <a:tblGrid>
                <a:gridCol w="2270160"/>
                <a:gridCol w="2270160"/>
                <a:gridCol w="2270160"/>
              </a:tblGrid>
              <a:tr h="30420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belirtec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T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M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urope/Istanbu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büyük 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az saati uygulaması var mı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ar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yok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6068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ve dakika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: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kısaltma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E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716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 cinsinden saat farkı. UTC'nin batısı daima negatif, doğusu ise daima pozitif değerlidi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432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4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print date("d-m-Y"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0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20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1 gibi sistem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alibri"/>
              </a:rPr>
              <a:t>Fonksiyonlar bizi defalarca kod yazmaktan kurtaran, daha modüler iş yaparak zamandan ve emekten tasarruf sağlayan yapılardır.  PHP’de fonksiyonların yazım şekli C,C++,Java, JavaScript ile hemen hemen aynıdır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64F3E-84B1-4620-ACCB-675FB9593C2E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nucunun o anki zaman bilgisini saniye olarak döndürür. (1 Ocak 1970 den başlayarak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cekHafta = time() + (7 * 24 * 60 * 6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                  // 7 gün; 24 saat; 60 dakida; 60 saniye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Şimdi:         '. date('d-m-Y'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Gelecek Hafta: '. date('d-m-Y', $gelecekHafta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 fonksiyonu, kendisine verilen verilen tarih ile 1 Ocak 1970 arasındaki farkı hesap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Örnek olarak 1 Ocak 1970 ile 22 Kasım saat 08:00 arasındaki farkı şu şekilde bir sayı ile geri döndürü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600" spc="-1" strike="noStrike">
                <a:solidFill>
                  <a:srgbClr val="000000"/>
                </a:solidFill>
                <a:latin typeface="Constantia"/>
              </a:rPr>
              <a:t>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urda görüldüğü üzere 1 Ocak 1970den bu yana ne kadar saniye geçtiğidir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nel kullanımı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at = 08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akika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niye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y = 11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un = 22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yil = 2008; 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onuc = mktime($saat, $dakika, $saniye, $ay, $gun, $yil);  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onuc;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//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2, 32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3, 1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19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Jan-01-1998" 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tematiksel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loor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ceil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oun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qr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x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in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og10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abs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 fonksiyonu matematikdeki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mutlak değer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in işini gö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 = abs(-4.2); // $abs = 4.2; (double/floa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2 = abs(5);   // $abs2 = 5; (intege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2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loo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küç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4.3);   // 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9.999); // 9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-3.14); // -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ceil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büy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4.3);    // 5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9.999);  // 10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-3.14);  // -3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ound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Ondalık sayıların yuvarlanması için kullanılır. 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Kullanım Şekli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round(yuvarlanacak sayı,noktadan sonra kaç basamak kullanılacak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4);         // 3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5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, 0);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.95583, 2);  // 1.9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241757, -3); // 12420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45, 2);    // 5.0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55, 2);    // 5.0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ow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üstel değerlerini bulmak için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 Şekl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sayı,kuvvet değer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2, 8); // 25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2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0, 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5.5); //  NAN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(tanımsız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 Tanıml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//Parametresiz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//Parametrel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parametre1,parametre2,…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donus_degeri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br>
              <a:rPr sz="2000"/>
            </a:br>
            <a:r>
              <a:rPr b="1" lang="tr-T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E7F3E-ADA2-44FA-ACE7-DEC322E8C48C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qrt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karekökünü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9); // 3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10); // 3.16227766 ..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x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Verilen değerler içinde en büyüğünü bulu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1, 3, 5, 6, 7);  // 7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array(2, 4, 5)); // 5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0, 'hello');     // 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hello', 0);     // hello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42', 3); // '42'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//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rklı arraylarda uzun olanı bulu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2, 2), array(1, 1, 1, 1)); // array(1, 1, 1, 1)</a:t>
            </a:r>
            <a:br>
              <a:rPr sz="2000"/>
            </a:b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ynı uzunluktaki arraylarde elemanlarına bakılır. Örnek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 2 == 2,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ka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4 &lt; 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4, 8), array(2, 5, 7)); // array(2, 5, 7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i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Verilen değerler içinde en küçük olanı bul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2, 3, 1, 6, 7);  // 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array(2, 4, 5)); // 2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og10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0 tabanına göre logaritma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log10(100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onuç: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Karakter Kümesi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934640"/>
            <a:ext cx="3467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xplod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number_forma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pa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4572000" y="1989000"/>
            <a:ext cx="45720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eat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cm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len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low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upp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wordwra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explod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ir ayraca göre bölüp bir dizi haline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pizza  = "dilim1 dilim2 dilim3 dilim4 dilim5 dilim6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ilimler = explode(" ", $pizza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0]; // dilim1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1]; // dilim2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934640"/>
            <a:ext cx="4475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başındaki boşlukları (veya diğer karakterleri) budar. 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5106960" y="2708280"/>
            <a:ext cx="381636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   = "\t\tBir kaç kelam :) ...  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print "\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, " \t."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sonundaki boşlukları (veya diğer karakterleri)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Rectangle 1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Bir kaç kelam :) ...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r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934640"/>
            <a:ext cx="8002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Dizgenin başındaki ve sonundaki boşlukları (veya diğer karakterleri) budar. Aşağıdaki karakterleri budayacaktı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   Bir kaç kelam :) ...   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number_format(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yıyı binlik bölümlere ayır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number_forma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yı , ondalık_hane, ondalık_ayracı, binlik_ayracı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yi = 1234.56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trformat = number_format($sayi, 2, ',', '.'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trforma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 1.234,56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(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yaz fonksiyonu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2($ad,$soyad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$ad $soyad”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  <a:ea typeface="Courier New"/>
              </a:rPr>
              <a:t>Yukarıda ilk yaz fonksiyonu parametre almamıştır, ikincisi ise ad ve soyad parametrelerini almıştı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8 Metin kutusu"/>
          <p:cNvSpPr/>
          <p:nvPr/>
        </p:nvSpPr>
        <p:spPr>
          <a:xfrm>
            <a:off x="4929120" y="221472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isim=“Ali”; $soyisim=“Ak”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2 ($isim, $soyisim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i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e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elli bir uzunlukta diğer dizgeyle doldur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girdi , dolgulu_uzunluk [, dolgu_dizgesi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" "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[, dolgu_türü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]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: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eçimlik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olarak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ğ),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LEF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ol) veya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BOTH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abiti (her iki taraf) belirtilebilir.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belirtilmezse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değeri öntanımlıd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input = "Ayra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);                                         // "Ayran     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-=", STR_PAD_LEFT);  // "-=-=-Ayran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_", STR_PAD_BOTH);   // "__Ayran__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6 , "___");                               // "Ayran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eat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yinel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_repeat("-=", 1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Çıktıs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-=-=-=-=-=-=-=-=-=-=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lace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 fonksiyonu istediğimiz karakterleri farklı bir karaktere dönüştürmemizi sağ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bul, değiştir, değişke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611280" y="4581360"/>
          <a:ext cx="8229600" cy="10972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097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&lt;?ph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$veri = "İstanbul güzel bir şehir?"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cho str_replace("güzel","pahalı",$veri)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cm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İkili olarak dizge karşılaştırması yap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1="Ali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2="Ahmet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f(strcmp($isim1,$isim2)==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 isim aynıdır";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if(strcmp($isim1,$isim2)&gt;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Birinci isim büyük"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nci isim büyük"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le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izge uzunluğunu döndü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abcdef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6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 ab cd 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7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lower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küç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low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: mini mini bir kuş uçmuştu pencereme konmuş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upp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büy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upp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sı: MINI MINI BIR KUS UÇMUSTU PENCEREME KONMUS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siz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yaz(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fonksiyon”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l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esaj($deger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deger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8 Metin kutusu"/>
          <p:cNvSpPr/>
          <p:nvPr/>
        </p:nvSpPr>
        <p:spPr>
          <a:xfrm>
            <a:off x="5076720" y="292428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deger=“merhaba fonksiyon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esaj($deger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Dizgenin bir kısmını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substr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dizge , başlangıç [, uzunluk 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);     // bcdef döndürür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, 3);  // bcd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1);    // "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2);    // "e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3, 1); // "d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_replac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belli bir bölümünü değiş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ubstr_replace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dizge, yenisi , başlangıç [, uzunluk 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$metin = "En Faydalı Türkçe Kaynak"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substr_replace($metin, 'Yararlı', 3,7)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En Yararlı Türkçe Kaynak 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wordwra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Bir dizgeyi istenilen yerden alt satıra geçiri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wordwrap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 dizge [, genişlik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satırsonu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kes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= false/true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]]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metin = "Dağ başını duman almış, gümüş dere durmaz akar."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yenisi = wordwrap($metin, 4, "&lt;br /&gt;")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$yenisi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Line Callout 1 3"/>
          <p:cNvSpPr/>
          <p:nvPr/>
        </p:nvSpPr>
        <p:spPr>
          <a:xfrm>
            <a:off x="3635280" y="5273640"/>
            <a:ext cx="4608720" cy="892080"/>
          </a:xfrm>
          <a:prstGeom prst="borderCallout1">
            <a:avLst>
              <a:gd name="adj1" fmla="val 18750"/>
              <a:gd name="adj2" fmla="val -8333"/>
              <a:gd name="adj3" fmla="val -10351"/>
              <a:gd name="adj4" fmla="val -165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wordwrap($metin, 4, "&lt;br /&gt;",</a:t>
            </a:r>
            <a:r>
              <a:rPr b="0" lang="tr-TR" sz="1800" spc="-1" strike="noStrike">
                <a:solidFill>
                  <a:srgbClr val="ff0000"/>
                </a:solidFill>
                <a:latin typeface="Constantia"/>
              </a:rPr>
              <a:t>true </a:t>
            </a: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Yukarıdaki gibi sona true eklersek kelimelere dikkate almadan böl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Constantia"/>
              </a:rPr>
              <a:t>Mail() Fonksiyonu: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HP'de Mail göndermemize yarayan fonksiyondur. Kullanım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 ( "mailadresi" , "mailkonusu" , "mailiçeriği" ,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Mailbaşlık" )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adresi kısmı;mail yollanacak Ki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konusu;Mailin konusu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içeriği;Mailin içeri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başlık;Mail başlığı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mailin php ile yollanmas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dres = "deneme@hotmail.com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konu = "Mail konus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mesaj = "PHP Mail() Fonksiyon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("$adres","$konu","$mesaj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"mail gönderildi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0004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Calibri"/>
                <a:ea typeface="Courier New"/>
              </a:rPr>
              <a:t>//Aşağıdaki fonksiyon verilen sayı aralığını toplar.</a:t>
            </a:r>
            <a:br>
              <a:rPr sz="1900"/>
            </a:br>
            <a:r>
              <a:rPr b="0" lang="tr-TR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sayitopla($ilk,$son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$ilk; $i&lt;=$son ;$i++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$toplam + $i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toplam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=100; $num2=50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= sayitopla($num1, $num2 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um1-$num2 arası toplam =$sonuc"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İşlem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topla($a, $b) {  return ($a +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carp($a, $b) { return ($a*$b); 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od_al($a, $b) { return ($a %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 = 8; $num2 = 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toplam = topla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carpim = carp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mod =    mod_al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Toplam sonucu: $sonuctopla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Çarpim sonucu: $sonuccarpi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Mod sonucu: $sonucmod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– Harf Notu Bul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2876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hesapla($not1, $not2, $not3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($not1 + $not2 + $not3)/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onuc&gt;84 &amp;&amp; $sonuc&lt;=100)  $harf='A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70 &amp;&amp; $sonuc&lt;=84)  $harf='B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55 &amp;&amp; $sonuc&lt;=69)  $harf='C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45 &amp;&amp; $sonuc&lt;=54)  $harf='D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0 &amp;&amp; $sonuc&lt;=44)  $harf='E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($harf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1=90; $n2=80; $n3=100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not = hesapla($n1, $n2, $n3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1-$n2-$n3 Harf notu =$sonucnot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Faktöriye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aktoriyel($sayi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ayi==0) return(1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fakt=1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1; $i&lt;=$sayi ; $i++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$fakt= $fakt * $i;  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fakt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 =6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faktoriyel ($num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sonuc;  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1:39:50Z</dcterms:created>
  <dc:creator>Emre&amp;Ceyda</dc:creator>
  <dc:description/>
  <dc:language>en-US</dc:language>
  <cp:lastModifiedBy>Vento</cp:lastModifiedBy>
  <dcterms:modified xsi:type="dcterms:W3CDTF">2013-11-26T12:36:55Z</dcterms:modified>
  <cp:revision>250</cp:revision>
  <dc:subject/>
  <dc:title>sart.php</dc:title>
</cp:coreProperties>
</file>