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2C4D-56A3-4CCE-8127-26F0FBEFB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94CA-9DA8-4F75-B97B-B95D964C8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0BB5-6554-40D6-85C2-CB6CA3FB2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9DD1-15E0-4EBD-8F05-5F80E73A4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0C876-DE75-4AB0-875D-219AFBF78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C29FC-68C8-479C-804B-E9B43EB4E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5127E-CAC5-4822-99B7-EB0062D41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43A6C-180A-41B3-B525-4D0AAD42E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6B752-CDC9-4C39-A2A3-D49FF653A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C0846-4CC3-4E03-ADBD-DE8243304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A6FC0-EEE1-47EC-B7AA-640D03ECA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3AC4-B473-4B14-9DDC-2D599F8F2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AB27F-9C43-4958-AE26-E6240576B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A8D15-2C23-463D-A9FF-4D099D2ED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6BC65-7E55-41B3-BB45-7C6FEC230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A5B6D-A70B-4395-BE2F-231147E47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F9EFC-32F0-47AD-967D-BF49154A3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398354-1E04-401C-8D18-F5E1314BC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DA9046-8BC1-441B-96D6-A553D0559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758D5E-EB6C-4182-AE46-1654B2135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8161D2-C8B1-4855-8ADB-872011552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814FF4-7098-4206-8562-BA4DD54CB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854F-4BE3-4B4C-9442-7241B2685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784ADE-3B9D-46AF-B0A8-30C53D82F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E6431D-637B-49D3-9E2C-0DB6F8EEC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8DBB0C-B585-4EDA-B7CD-B6084B604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A719E9-AEE4-427E-8726-4620040D4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509F94-675D-4AAB-AB5D-F1BF956BC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64F5E0-7961-46B5-BB4C-2E6733B27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270D70-EF91-477F-A6DE-26F4CB7AD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2BDC9E-0B01-4680-B2C6-798D80C6C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8B8AEB-C8DB-4151-B70B-5D9CE27CC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7CEC5B-3AB8-45F1-B84E-F3E065B23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B786-9029-4696-9491-8BA6AE3E7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8A2CCE-325C-43F8-BD14-3DA161B6A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93E9C0-9154-47B9-84CF-5FE13F3F1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58F2C3-DE8A-4833-8419-1BCF194DD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C79C70-0BB1-4267-A509-53FF92B62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53FBE6-011A-4C5D-B2A2-AD7F9B3E6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C49723-CA68-4702-8301-2A14EC3EB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B9342C-0F85-4E16-A259-F70AF42CF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7BC8E7-0E9D-4E3E-9DF7-72C00EBAB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69A1C1-423F-4882-8D1C-0CE54B270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8FE8-F080-437C-85F0-B32B1BB53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65F6-F847-49E2-A0DA-C619695BF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45F7-1040-4C90-8CCC-6449EB35A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6B0C-AF73-427B-970D-4FCF82C3E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088F-F461-43E9-A4EC-5C920D92B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Serbest Form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7 Serbest Form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B89AA-B57B-4B14-88E8-CFFB34072438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1 Grup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Serbest Form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11 Serbest Form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" name="12 Serbest Form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12 Serbest Form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4" name="15 Metin kutusu"/>
          <p:cNvSpPr/>
          <p:nvPr/>
        </p:nvSpPr>
        <p:spPr>
          <a:xfrm>
            <a:off x="5357880" y="635796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6 Serbest Form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7 Serbest Form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" name="1 Grup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4" name="11 Serbest Form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5" name="11 Serbest Form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7" name="12 Serbest Form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8" name="12 Serbest Form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0" name="15 Metin kutusu"/>
          <p:cNvSpPr/>
          <p:nvPr/>
        </p:nvSpPr>
        <p:spPr>
          <a:xfrm>
            <a:off x="5357880" y="635796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41E3F-F8C2-4E7C-A37F-B6F40D7274C8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6 Serbest Form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7 Serbest Form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4" name="1 Grup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5" name="11 Serbest Form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6" name="11 Serbest Form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8" name="12 Serbest Form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9" name="12 Serbest Form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11" name="15 Metin kutusu"/>
          <p:cNvSpPr/>
          <p:nvPr/>
        </p:nvSpPr>
        <p:spPr>
          <a:xfrm>
            <a:off x="5357880" y="635796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B9AEC-A68A-432B-8BAC-74BDEEA469DF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8 Tek Köşesi Kesik ve Yuvarlatılmış Dikdörtgen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11 Dik Üçgen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9 Serbest Form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10 Serbest Form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E4130-BA88-4676-942C-8ED40573AFD7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Title 3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1412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d)Tablo Oluşturma </a:t>
            </a:r>
            <a:br>
              <a:rPr sz="49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79280" y="1412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Tablo oluşturmak için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REATE TABLE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komutu kullanılır.Bu komut kullanılmadan önce tablonun oluşturulacağı veritabanı seçilmelidi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Create Table &lt;tablo adı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lan_adı veri_türü [varsayılan][kısıtlama]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[tablo kısıtlaması]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tablo Adı”tabloya verilecek isim(örnek:ogrenci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lan Adı” tabloda yer alacak alanların adı(örnek:ogr_no,adi,soyadi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veri Türü”girilecek veri türü (sayı,metin,tarih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varsayılan”değer girilmezse başlangıçta atanacak değe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324000" y="981000"/>
            <a:ext cx="8229600" cy="43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ısıtlama”boş olmaması,sadece E veya K girilmesi kısıtlamala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tablo kısıtlaması”her kaydın belirli alanlara göre kısıtlanması(kayıtların tek olmasını sağlamak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ezun olan öğrenciler için mezun bilgilerinin tutulacağı bir tablo oluşturalım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Bu tablo için adi,soyadi ve ogrno alan adları kullanılacakt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REATE TABLE ;kayit ad varchar(15) not null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oyad varchar(15) not null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ogrno smallint(5)unsigned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constraint ogrno_pk primary key(ogrno)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e)Tablo Silme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24000" y="162864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ROP TABLE ifadesiyle istenilen tablo silinebil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ROP TABLE tablo_ad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:Müşteri tablosunu silmek için aşağıdaki ifade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ROP TABLE muster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5400" spc="-1" strike="noStrike">
                <a:solidFill>
                  <a:srgbClr val="7030a0"/>
                </a:solidFill>
                <a:latin typeface="Calibri"/>
              </a:rPr>
              <a:t>f)Tabloya Kayıt Ekleme 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veritabanlarına yeni kayıt eklemek için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INSERT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omutu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NSERT INTO TABLO (alan1,alan2,…….,alan_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ALUES(deger1,deger2,………..,deger_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komutla okul veritabanında bulunan öğrenci tablosuna yeni kayıt eklenmiş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NSERT INTO ogrenci(no,ad,soyad,vel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ALUES (125,”Melda”,”Selda”,”Eda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539640" y="764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g)Tablodan Kayıt Alm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veritabanlarında istenilen şartlara uyan bilgileri  al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SELECT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omutu kullanılır.SELECT komutunun kullanımının birçok farklı seçeneği vardı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kod belirli bir şarta bağlı olmaksızın istenilen verileri ogrenci tablosundan okumak için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*FROM ogrenci-&gt; 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ogrenci tablosundaki tüm kayıtları göst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d,no FROM ogrenci-&gt;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ogrenci  tablosundaki verilerin sadece ad ve no bilgilerini göst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250920" y="980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elirli bir şarta uyan verilerin okunması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WHERE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paremetresi kullanılı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Numarası 15 olan öğrencilerin  tüm bilgilerinin görüntülenmesi için aşağıdaki ifade yazılı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*F ROM ogrenci WHERE no=15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ınav notundan 50-70 arası not alan öğrencilerin ad ve numarasının görüntülenmesi için aşağıdaki ifade yaz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d,no FROM ogrenci WHERE not_1 BETWEEN 50-7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dının içinde ‘M’geçen öğrencilerin ad ve numarasının görüntülenmesi için aşağıdaki ifade yaz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d,no FROM ogrenci WHERE ad LIKE ‘%M%’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611280" y="1628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ile gelen kayıtların sıralamasını değiştirme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DER BY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fadesi kullanılır.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DER BY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fadesi ile birlikte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ASC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kullanırsa artan sıralama,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DESC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kullanılırsa azalan sıralama yapar.Herhangi bir ifade yazılmazsa artan sıralama yap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dı”M” ile Başlayan öğrencilerin bilgilerini soyadına göre artan sıralamada görüntülenmesi için aşağıdaki ifade yazılır.(a…..z sıralam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*FROM ogrenci WHERE adi=‘M%’ ORDER BY soyad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964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h)Kayıt Silme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179280" y="1844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Tablodan kayıt silme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DELETE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ifadesi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ELETE FROM tablo_adi WHERE koşu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SQL komutu ogrenci tablosunda bolum bilgisi”bilişim”olan tüm kayıtları silecek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ELETE *FROM ogrenci WHERE bolum=‘bilişim’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i)Kayıt Güncelleme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24000" y="1699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eritabanında bulunan kayıtlar üzerinde değişiklik yapmak istendiğinde UPDATE ifadesi kullanılır.Çoğunlukla where ifadesi ile kullanılır.Where ifadesi kullanılmaz ise tablodaki tüm kayıtlar güncellenecek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UPDATE tablo_adi SET alan1=değer1,alan2=değer2,……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WHERE Koşul cümlesi 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Öğrenci numarası 35 olan öğrencinin doğum tarihini 05/02/1991 olarak değiştirecek SQL komutu aşağıdaki gib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UPDATE ogrenci SET dogum_tarihi=‘1991/05/02’ WHERE no=35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MySQL Fonksiyonları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179280" y="1341000"/>
            <a:ext cx="822960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a) Standart Fonksiyonla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AVG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aritmetik ortalamasını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SUM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toplamını a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MIN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en küçük değerin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MAX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en büyük değerin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OUNT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kayıt sayısını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ROUND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değerinin virgülden sonraki kısmını yuvarla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5400" spc="-1" strike="noStrike">
                <a:solidFill>
                  <a:srgbClr val="000000"/>
                </a:solidFill>
                <a:latin typeface="Calibri"/>
              </a:rPr>
              <a:t>MYSQL Veritabanı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alibri"/>
              </a:rPr>
              <a:t>Veritabanı,içerisinde çeşitli verileri bulunduran birbirleriyle ilişkili tablolardan oluşmaktadır. MySQL veritabanı da SQL ve Access gibi farklı tablolardan ve bu tablo içerisindeki alanlardan meydana geli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2600" spc="-1" strike="noStrike">
                <a:solidFill>
                  <a:srgbClr val="000000"/>
                </a:solidFill>
                <a:latin typeface="Calibri"/>
              </a:rPr>
              <a:t>MySQL veritabanında sayısal bilgiler INT,string bilgiler VARCHAR türünde tanımlanı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250920" y="764640"/>
            <a:ext cx="8229600" cy="57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b)Karşılaştırma Operatörleri ve Fonksiyonla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Eşittir “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1 =0; SONUÇ=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‘0’ =0; SONUÇ=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Eşit Değildir”&lt;&gt;” ,”!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’.O1’&lt;&gt; ‘0.01’;SONUÇ=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üçüktür veya Küçük eşittir “&lt;“ , “&lt;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2&lt;2; SONUÇ=1 </a:t>
            </a:r>
            <a:r>
              <a:rPr b="0" lang="tr-TR" sz="1800" spc="-1" strike="noStrike">
                <a:solidFill>
                  <a:srgbClr val="ff0000"/>
                </a:solidFill>
                <a:latin typeface="Calibri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Büyüktür  veya büyük eşittir “&gt;” , “&gt;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2&gt;=2;SONUÇ =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GREATEST(değer1,değer2,….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 olarak verilen değerlerden en büyük olan değer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GREATEST (2,0) ;         sonuç =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LEAST (değer1,değer2,….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 olarak verilen değerlerden  en küçük olan değer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LEAST  (2,0) ;               sonuç =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324000" y="1125000"/>
            <a:ext cx="822960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)Matematiksel Fonksiyonla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ABS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verilen değerin mutlak değerin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BS(2);                  Sonuç =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OD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verilen iki değerin bölümünden kalanını v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MOD(234,10);     Sonuç=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SQRT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verilen değerin karekökünü v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SQRT (4) ;              Sonuç=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Title 3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521560" cy="190836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7030a0"/>
                </a:solidFill>
                <a:latin typeface="Calibri"/>
              </a:rPr>
              <a:t>MySQL Sunucusuna Bağlantı </a:t>
            </a:r>
            <a:br>
              <a:rPr sz="20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HP dilinde veritabanı ile işlem yapılacağı zaman ilk olarak web sunucusu aracılığıyla veritabanı dosyası ile bağlantı kurulması gerek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ağlantı bir değişkene atanır ve MySQL sunucu kurulumunda şifre konulmamışsa şifre parametresi boş bırakılmalıd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baglanti=mysql_connect(sunucu,kullanıcı_Adi,sifre;yeni_baglanti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unucu”bağlantı kurulacak MySQL sunucusunun ism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localhost sunucusunda root kullanıcı adı ve root şifresiyle bağlantı için aşağıdaki ifade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baglanti=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connect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(“localhost” ,”root” ,”root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Yerel sunucuda sunucu localhost ismini a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Veritabanı Seçimi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24000" y="1557360"/>
            <a:ext cx="8229600" cy="43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unucu ile bağlantı kurulduktan sonra kullanılacak veritabanının seçilmesi gerekir.Veritabanı seçim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select_db()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u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 başarı ile çalışırsa TRUE, çalışmazsa FALSE değeri döndürü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_select_db(“veritabanı”,”bağlantı_değişkeni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(“veritabanı”)=Bağlantı kurulacak veritabanı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(”bağlantı_değişkeni”)= mysql_connect fonksiyonunun atandığı bağlantı değişken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PHP ile MySQL Veritabanı  Oluşturma </a:t>
            </a:r>
            <a:br>
              <a:rPr sz="28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844640"/>
            <a:ext cx="8229600" cy="44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istemci yazılımı veya mysqladmin kullanmadan MySQL veritabanı oluşturmak için mysql_create_db() fonksiyonu kullanılı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sunucu üzerinde personel isminde bir veritabanı oluşturmak için aşağıdaki ifade kullanılabil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&lt;?PHP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$bg=@mysql_connect(“localhost”,”root”,”mysql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 die (“MySQL e Bağlanılamıyor!”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query(“CREATE DATABASE personel”,$bg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 die (“Veritabanı oluşturulamadı”.mysql_error()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?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SQL İfadelerinin Kullanımı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24000" y="1628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ağlantı kurulan veritabanı üzerine SQL ifadelerini kullan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query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fadesi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onuc=mysql_query(“sql_ifadesi”,”bağlantı_değişkeni”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ql_ifadesi=Çalıştırılmak istenen SQL ifades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ağlantı_değişkeni=mysql_connect fonksiyonunun atandığı bağlantı değişkenidi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MySQL Sunucu İşlemleri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95280" y="1483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unucu üzerinde çalıştırılan UPDATE,INSERT ve DELETE işlemleri geriye değer döndürmez.Sadece SELECT  ifadelerinde geriye sonuç döner.Bu sonuçlar üzerinde işlem yapmak için aşağıdaki fonksiyonlar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a) mysql_num_field(“sorgu_değişkeni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u komut SQL ifadesinde seçilen alanların sayısını bulmak için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b) mysql_num_rows (“sorgu_değişkeni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sorgusunun çalışması sonucu elde edilen kayıt sayısını bulmak için kullanılır.INSERT,UPDATE veya DELETE gibi tablo üzerinde değişiklik yapan SQL ifadeleri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affected_rows()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u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c)mysql_fetch_row(“sorgu_değişkeni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ifadesi sonucu dönen kayıtları almak için kullanılır.Sorgudan dönen alanlar mysql_fetch_row()fonksiyonun atandığı değişkene dizi şeklinde atanacaktır.Daha fazla döndürecek kayıt kalmadığında “false” değeri dön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5280" y="1196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d) mysql_result(“sorgu_değişkeni”,kayit”,”alan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orgu sonucu dönen değerlerden istenilen kaydın alan bilgisi alınabili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ayıt” parametresi sayısal bir değerdir.”alan” parametresi sayısal olabileceği gibi alan ismide olabilir.Örneğin,sorgudan dönen değerlerden 5.satırdaki kaydın ad bilgisi için mysql_result($sorgu,5,”ad”)veya mysql_result($sorgu,5,5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d) mysql_error() ve mysql_errno(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ifadelerinin çalışması esnasında oluşan hata mesajlarını yazılı olarak al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error();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hata kodunu al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errno ()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ları kullanılır.Parametre olarak bağlantı değişkeninin adını alı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Sunucu Bağlantısını Kapatma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eritabanına bağlantı sayısı sınırlı olabileceği için veritabanıyla ilgili işlemler bittiğinde bağlantının kapatılması gerekir .Aksi Takdirde diğer kullanıcılar bağlanmak istediğinde sorun oluşabilir.Bağşantı kapatmak için mysql_close fonksiyonu kullanılı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_close(baglanti_degiskeni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 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kullanım $baglanti değişkenine atanan  MySQL bağlantısını kapatmaktad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_close($connec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04617b"/>
                </a:solidFill>
                <a:latin typeface="Calibri"/>
              </a:rPr>
              <a:t>MySQL Kurulumu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MySQL kurulumunun en son versiyonu www.mysql.com  adresinden indirelebilir.Kurulum dosyasını çalıştırdıktan sonra ilk ekranda”Next”butonuna tıklayarak devam edilir.Kurulum tipi belirlenip “Install “butonuna basılır.Next butonlarıyla ilerlenip kurulum tamamlanı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MySQL sunucunun veritabanına  erişimi için yapılandırılması gerekir. Standart ve detaylı olmak üzere iki şekilde yapılır. Yapılandırma işlemleri “Execute”butonuna basılarak aktif hale getirili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Finish”butonuna basılarak aktif hale getirilir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4617b"/>
                </a:solidFill>
                <a:latin typeface="Calibri"/>
              </a:rPr>
              <a:t>PHPMyAdmin Kurulumu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HPMyAdmin,MySQL veri tabanına kolayca erişimi sağlayarak veri tabanı işlemlerinin görsel yolla yapılabilmesi hazırlanmış arayüzdü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uruluma gerek yoktur.Sıkıştırılmış klasör içinde bulunan dosyaları açarak web sunucusu klasörüne(apache web sunucusu için htdocs klasörü)kaydetmek yeterl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5400" spc="-1" strike="noStrike">
                <a:solidFill>
                  <a:srgbClr val="089ca3"/>
                </a:solidFill>
                <a:latin typeface="Calibri"/>
              </a:rPr>
              <a:t>KURULUM AŞAMALARI 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Gerekli dosyalar www.phpmyadmin.net adresinden indirilebili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İndirilen dosya açılarak htdocs klasörü altına kopyalanı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PhpMyAdmin yapılandırılması için aşağıdaki adımlar uygulanır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PhpMyAdmin klasörü içinde bulunan config.inc dosyasını açılarak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$cfg [‘PmaAbsoluteUri’]=“;satırı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$cfg [‘PmaAbsoluteUri’]=“http ://localhost/phpmyadmin/’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olarak değiştirili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cfg [‘Servers’][$i][User’]=‘root’;satırında kullanıcı adının root olması gerek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cfg [‘Servers’][$][‘password’]=“;root kullanıcı adı ile bağlantı yapılıyorsa şifre kısmının boş olması gerek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Config.inc dosyası kaydedil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İnternet tarayıcının adres çubuğuna http://localhost/phpmyadmin/ yazdığınızda hata ile karşılaşılmıyorsa phpMyAdmin yazılımı başarıyla kurulmuş demek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4617b"/>
                </a:solidFill>
                <a:latin typeface="Calibri"/>
              </a:rPr>
              <a:t>MySQL Yazılım Kuralları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250920" y="1988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a) Veritabanı Oluşturm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MySQL’de veritabanı oluşturmak için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REATE DATABASE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komutu verili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CREATE DATABASE veritabanı_adı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şağıdaki komutla okul adında bir veritabanı oluşturulmuştu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CREATE DATABASE ogrenc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468360" y="1196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b) Veritabanı Silm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MYSQL’de veritabanı silmek için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DROP DATABASE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komutu kullanılır.Komut çalıştırıldığında silinen veritabanın içerisindeki tüm tablolar ve kayıtlarda silinmiş olacaktır.Silinen kayıtlar geri getirilemez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DROP DATABASE veritabanı_adı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Örnek: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şağıdaki komutla okul veritabanı silinecekti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DROP DATABASE okul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11280" y="69228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c)MySQL Veri Türleri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468360" y="1413000"/>
          <a:ext cx="8229600" cy="5121000"/>
        </p:xfrm>
        <a:graphic>
          <a:graphicData uri="http://schemas.openxmlformats.org/drawingml/2006/table">
            <a:tbl>
              <a:tblPr/>
              <a:tblGrid>
                <a:gridCol w="1871640"/>
                <a:gridCol w="635796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eri Türü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çıklam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NYI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28 ile 127 arasında tamsayı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MALL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2768 ile 32768 arasında tam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DIUM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8388608 ile 8388607 arasında tam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147483648 ile -2147483647 arasında tam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G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9223372036854775808-9223372036854775807 arasınd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OA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rgülden sonra 4 yada 8 haneli ondalık 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STAMP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 andaki sistem zamanını tut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H:MM:SS,HHMMSS,HHMM,HH formatında za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ETIM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YYY-MM-DD HH:MM:SS  formatında za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CHAR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 sayısını geçmemek şartıyla değişen boyutta karak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esinlikle n sayısı kadar karak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8T16:07:00Z</dcterms:created>
  <dc:creator>pc</dc:creator>
  <dc:description/>
  <dc:language>en-US</dc:language>
  <cp:lastModifiedBy>Vento</cp:lastModifiedBy>
  <dcterms:modified xsi:type="dcterms:W3CDTF">2013-11-26T12:38:50Z</dcterms:modified>
  <cp:revision>33</cp:revision>
  <dc:subject/>
  <dc:title>PHP ve MYSQL</dc:title>
</cp:coreProperties>
</file>