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9A95-2B91-4370-92B7-E62374F97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8CB9-D9B2-42CE-91E6-4E1EEAFE9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E3ED-144D-4D3F-9AB8-C7008631E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1A8E-F0E1-46B9-9AD4-BBECEEC3D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A4448-42A0-4D19-91D0-5EA23B956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0CE97-41F6-49DD-8510-00FE9F321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5DBA7-1EE9-44CC-B466-F14C98E73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150D2-98CC-49D2-9659-78C1321FE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3C839-5361-45E4-B824-F82AD9139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A0EFD-3287-480C-8516-B374844D9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ED3F0-F3D2-49E0-9616-DD3B8103E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81C7-45AA-4772-92E0-1095355CA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6EDE4-1CD7-4AD8-8533-0DE7E13B6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BB79D-73CB-4679-902E-C30783AE8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8DAFC-E33E-4FEB-B1AF-A0D3D09E1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A8243-E13D-4523-B8CB-E4911F1B5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2EAC8-583C-4833-97CF-A859725E8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E633E-F7CA-4553-89D1-8F06CF719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CD08C-AC04-435B-A5AD-8595E29B1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691E8-4827-465A-86A2-C36E00789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7C9E7-FC8B-40A9-A12F-FC729AD66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D86B5-FC83-4786-9250-7D330FC85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214E-85B0-406F-8B3D-927F14D3E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D9865-526E-4264-BA08-721371798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4EA43-25B3-4521-8C1D-2D3B375D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1CA00-1D7E-4FE5-887A-E5862AA6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4D1AE-9E72-41E8-AEEF-8FFEE37B0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73CF9-D26E-4EED-BA84-11842EE97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02E13-1920-4CA6-AF39-7173F3083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1F057-DA19-4C40-B53B-83ECE4B98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995D0-00BF-43E6-817D-D3347D2E0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CEADE-EFB2-449E-A1C5-3C7979AA2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57D57-74D3-480A-801D-5F7A6B89D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935F-A1E8-40FD-94FB-61BF7E084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9BC08-CF72-42C2-89E6-7C5ED9D88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AE146-4DE2-47F9-879F-BF2D9E8AF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58DCD-6BDB-4A3D-AF34-B66FE8D13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67F13-EC02-499D-BFED-A9FF7208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E6211-9D20-41EC-8724-D60F82D2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50530-48AE-4AD9-B58C-154E4416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90E76-E233-4C3E-BC09-48BFD4A5C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D8C62-D8B7-44E0-8783-5D4A18C77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CC819-4A0F-486B-92CD-9226BAC00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28416C-7485-4A61-9C21-01B3B233C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74A6-F900-4406-A6D9-3AE2FC6A3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656119-D9D5-4619-BB8A-1F81A36CD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C3805-24A0-4D6B-A244-D368C28A7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F5618-BDFD-4399-8E83-59224A719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CDB1C-6703-4391-A146-77A29B975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A9F2AE-5623-4B3A-B89C-7CABE0D36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C20897-58AA-406A-9218-8D170E0D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8C2B95-0451-4A8C-93C4-7C0847F4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B806FF-AAF6-4FB9-B6E9-98F070628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B64665-7BB3-4E57-9FE9-4F92678DD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A85AD-37F0-4C2B-B782-44BC60B99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C56B-E6C8-4138-B136-08AD71575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AE6A78-83A2-45FA-9E33-492024FB3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4565D8-1828-4E9B-87F2-3CDF0F8E1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668F1C-1FC8-4B44-95E3-0C8CCD5ED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8B0E59-4C49-4096-86BC-53E52E618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C0E48-004D-4259-BEE0-77E171EED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90AF82-2801-459D-8902-E0DF57CCE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EF8B59-F782-4F9B-A174-101FBA153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2B617E-6143-4803-855D-A7008C3A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4F3491-3741-496A-A164-A60974BD0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BE4A44-3AA5-495B-8F91-C0678DEC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9AAD-1A05-44BA-86DB-59A9A5F0E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9189C3-B65A-40F5-B4AD-7EE61F1A1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979D46-A565-4ADF-98BA-BFA83689A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046D17-6CE4-46E0-95D0-D1E92F7CB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845D2A-363C-4A74-9170-115C532FB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FCAC2D-2480-4A3B-A210-30890B565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A517E3-A29E-4507-9730-28B1FE96B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1A99A5-87FB-4F30-AA50-A836C30D4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7D2681-87E0-4170-A6EA-7DA8D1314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57F97F-5856-42BC-BABF-A6D935B27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B57F23-5648-408E-B67D-9B8029FB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F7A4-C8E8-4F98-80AC-6CCD8B96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2840C6-8A25-4527-A5DA-934F5D121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CE9653-1AF1-4D08-A484-6E684A87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1A9CEF-49F1-4BDF-B252-A15AA620B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F81BF3-255E-4E08-B4C9-DD7F5EF5E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60E15C-DD03-40B1-A9AE-EF36BA40F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CE898F-0F4C-443E-9562-05995F435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53503F-949B-435B-B22F-02E858BC1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665910-9EA0-488E-81A0-19BFF9419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08411E-0127-42D5-9ABD-6296C23CE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BF2EA8-1AE7-428D-BCAD-DEEB743AE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5A5E-5A57-4784-8037-D8110674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CAB544-B26B-4CE2-8EC6-C0E5687B9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5831B4-42B8-4EF1-BA42-44D5BFBE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0BE5D2-CEB2-4BF6-90AC-6B5651E15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B67475-21DE-4D31-863D-A3F5EA44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9549E1-71D2-41B0-B75A-FC3D7C064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C30C45-684A-4B49-BC7B-3769D3D01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714AB6-B283-4CD2-A569-8D58D2FE1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CBBE1-C952-4902-9916-7232CB4346EE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A85FD-47CA-4CA3-A2B1-2EE0C27986F5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3662F-4A4A-4D97-8726-9B8BF450D87E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81C31-4379-454A-AFD2-5122C120B253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5C82B-E2FD-40F7-994F-F521EA26645C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E4259-879A-4BFA-A25F-5800EE16435D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80C5A-7AE6-41FA-B306-54C481E8484C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F8F84-1541-4DCC-9B7A-CBA9361B18AF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Php Sunum 6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464653"/>
                </a:solidFill>
                <a:latin typeface="Bookman Old Style"/>
              </a:rPr>
              <a:t>Dosya ve Klasör İşlemler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siz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uzunluğunu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Rectangle 4"/>
          <p:cNvSpPr/>
          <p:nvPr/>
        </p:nvSpPr>
        <p:spPr>
          <a:xfrm>
            <a:off x="2286000" y="292428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sı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somefile.txt: 1024 bytes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somefile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: '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 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bytes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a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a son erişim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2124000" y="2749680"/>
            <a:ext cx="561672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erişim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a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m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değişiklik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2050920" y="2708280"/>
            <a:ext cx="568980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değişiklik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m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touch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erişim ve değişiklik zamanını ayarlar. Dosya mevcut değilse oluşturul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touc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dosyaismi [,zaman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[, ezamanı ]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dosyaismi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Erişilecek dosyanın ismi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işiklik zamanı. Eğer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emişse, o anki zaman kullanıl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işse dosyanın erişim zamanı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Aksi takdirde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touch()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324000" y="1916280"/>
            <a:ext cx="374328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="dnm.txt"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şimdiye ayarlandı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değiştirilemedi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Rectangle 7"/>
          <p:cNvSpPr/>
          <p:nvPr/>
        </p:nvSpPr>
        <p:spPr>
          <a:xfrm>
            <a:off x="4572000" y="1428840"/>
            <a:ext cx="4176720" cy="50317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 Dosyanın değişiklik zamanını bir saat önceye ayarlayalım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/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) -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3600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 Dosyaya erişelim */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_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Hoop, bir şeyler yanlış oldu...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başarıyla erişild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unlin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ı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2308320" y="278136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&lt;h1&gt;Merhaba Dünya!&lt;/h1&gt;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open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URL'yi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eğişken=fopen(dosyaadı, açma türü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Eğer açma dosya adı "http://…."  gibi başlıyorsa URL açılıyor demekti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ma türleri şunlardır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Tür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179280" y="1268280"/>
          <a:ext cx="8820360" cy="4537080"/>
        </p:xfrm>
        <a:graphic>
          <a:graphicData uri="http://schemas.openxmlformats.org/drawingml/2006/table">
            <a:tbl>
              <a:tblPr/>
              <a:tblGrid>
                <a:gridCol w="936720"/>
                <a:gridCol w="7883640"/>
              </a:tblGrid>
              <a:tr h="2174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ma Tür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ıkl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oku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786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sadec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. Dosya mevcut değilse oluşturulmaya çalışılır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47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hem okumak hem d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 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8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yı binary tipte açar yada oluşturu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txt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gif", "wb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http://www.example.com/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ftp://user:password@example.com/somefile.txt", "w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apat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1219320"/>
            <a:ext cx="82296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clos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k bir dosya tanıtıcısını kapat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Dosya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" y="121932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0000"/>
                </a:solidFill>
                <a:latin typeface="Gill Sans MT"/>
              </a:rPr>
              <a:t>fgets(); 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Dosya tanıtıcısından bir satır döndürü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200" spc="-1" strike="noStrike">
                <a:solidFill>
                  <a:srgbClr val="000000"/>
                </a:solidFill>
                <a:latin typeface="Gill Sans MT"/>
              </a:rPr>
              <a:t>fgets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 ( dosya değişkeni [, uzunluk ] 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Uzunluk belirtilmez ise satır sonuna kadar olan bilgi okunu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eof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tanıtıcısı üzerinde konum dosya sonunda mı diye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read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ı satır satır değil de belirli uzunlukta oku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fread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(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değişkeni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uzunluk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Rectangle 2"/>
          <p:cNvSpPr/>
          <p:nvPr/>
        </p:nvSpPr>
        <p:spPr>
          <a:xfrm>
            <a:off x="1979640" y="2997360"/>
            <a:ext cx="540072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arak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yalım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usr/local/birmetin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i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erik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read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21932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getc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içeriğini karakter karakter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Rectangle 2"/>
          <p:cNvSpPr/>
          <p:nvPr/>
        </p:nvSpPr>
        <p:spPr>
          <a:xfrm>
            <a:off x="2281320" y="227664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c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\n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fseek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osya içeriğinin belirli bir bölümden sonrasını okumak amacıyla dosya içersinde istenilen yere konumlandırma yapa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Kullanımı: fseek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( dosya değişkeni, nereye [, nereden ] 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Dosya değişkeni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Bir dosya tanıtıcısı. Genellikle fopen() kullanılarak oluşturul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Yeni konum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onumu dosya sonunun öncesine taşımak için bu değiştirgeyle negatif bir değer,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değiştirgesiyle de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aktarın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Mevcut konumun nasıl yorumlanacağı belirtilir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başlangıcı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CUR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mevcut dosya konumuna göre bayt sayısı olarak belirtildiği varsayılır. Bu miktar pozitif veya negatif olabili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sonu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Eğer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den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belirtilmezse,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öntanımlıdı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see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dosya.txt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r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Biraz veri okuyalım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data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gets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4096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rewind($fp) çağrısı yapmış gibi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dosyanın başına dönelim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seek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0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ya Bilgi Yaz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7200" y="1197000"/>
            <a:ext cx="332280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write(); fpu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Her iki komut dosyaya bilgi yaz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write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dizge [, uzunluk 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Rectangle 2"/>
          <p:cNvSpPr/>
          <p:nvPr/>
        </p:nvSpPr>
        <p:spPr>
          <a:xfrm>
            <a:off x="4284720" y="1125360"/>
            <a:ext cx="4535280" cy="53870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unu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ekleyelim\n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nc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evcut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u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i,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bakalım.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rneğimiz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dosya'y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m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ipin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yoruz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onumlayıc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d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duğund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fwrite()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sin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yecektir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'y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l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alım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mıyor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başarıyl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eğil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2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ilit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loc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a aynı anda bir erişim yapılabilmesini sağlar. Aynı anda dosyaya birden çok kişinin erişebilmesini engel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lock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işlem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işlem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şunlardan biri olabilir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Paylaşımlı bir kilit (okuyucu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S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yrıcalıklı bir kilit (yazıcı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EX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ilidi (paylaşımlı veya ayrıcalıklı) serbest bırakma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U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loc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 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/tmp/lock.txt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w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if 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EX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) {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ayrıcalıklı bir kilit oluşturalım</a:t>
            </a:r>
            <a:br>
              <a:rPr sz="2400"/>
            </a:b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writ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Buraya bir şeyler yazalım\n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U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kilidi serbest bırakalım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 else {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echo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Kilit edinilemedi!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clos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?&gt;</a:t>
            </a:r>
            <a:r>
              <a:rPr b="0" lang="tr-T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Klasör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Aktif Dosyaya Harici Dosya Ek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nclud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elirtilen dosyayı başka bir dosyaya ekler ve içeriğini değerlendiri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4500720" y="3068640"/>
            <a:ext cx="3743280" cy="2288520"/>
          </a:xfrm>
          <a:prstGeom prst="rect">
            <a:avLst/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2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nclude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‘d1.php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 yeşil elma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611280" y="3191040"/>
            <a:ext cx="309708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1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yeşi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elm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2" name="Left Brace 7"/>
          <p:cNvGrpSpPr/>
          <p:nvPr/>
        </p:nvGrpSpPr>
        <p:grpSpPr>
          <a:xfrm>
            <a:off x="3713040" y="3029040"/>
            <a:ext cx="858960" cy="2311200"/>
            <a:chOff x="3713040" y="3029040"/>
            <a:chExt cx="858960" cy="2311200"/>
          </a:xfrm>
        </p:grpSpPr>
        <p:pic>
          <p:nvPicPr>
            <p:cNvPr id="363" name="Left Brace 7" descr=""/>
            <p:cNvPicPr/>
            <p:nvPr/>
          </p:nvPicPr>
          <p:blipFill>
            <a:blip r:embed="rId1"/>
            <a:stretch/>
          </p:blipFill>
          <p:spPr>
            <a:xfrm>
              <a:off x="3713040" y="3029040"/>
              <a:ext cx="858960" cy="23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3780000" y="3086280"/>
              <a:ext cx="255600" cy="21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İçeriğini Liste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open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lasör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ead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lmış bir klasörün içini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2484360" y="2637000"/>
            <a:ext cx="5616720" cy="30776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etc/apache2/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br>
              <a:rPr sz="1400"/>
            </a:b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open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read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adı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-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t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r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typ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r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?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zin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\n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close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7200" y="1219320"/>
            <a:ext cx="822960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mkdir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izin oluştur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ullanımı: mkdir([yol]/dizinadı,izin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İzinler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00: Sahibinden başkası okuyup yaz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44: Sahibi okuyup yazsın diğerleri sadece okusu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77: Herkes okuyup yazabilsi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5:Sahibi herşeyi yapsın, diğerleri sadece okuyup çalıştırabilsi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0: Sahibi herşeyi yapsın, grup üyeleri okuyup çalıştırabilsin, diğerleri hiçbir şey yap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Rectangle 2"/>
          <p:cNvSpPr/>
          <p:nvPr/>
        </p:nvSpPr>
        <p:spPr>
          <a:xfrm>
            <a:off x="2111400" y="4832280"/>
            <a:ext cx="4572000" cy="9169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dizinim/i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c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in/bir/yol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219320"/>
            <a:ext cx="82296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m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izin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rm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ontrolü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_exis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dizinin mevcut olup olmadığına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2411280" y="321300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bir/yol/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va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yok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fi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1" name="Rectangle 5"/>
          <p:cNvSpPr/>
          <p:nvPr/>
        </p:nvSpPr>
        <p:spPr>
          <a:xfrm>
            <a:off x="2411280" y="3429000"/>
            <a:ext cx="3816360" cy="11912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fil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dı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klasö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5" name="Rectangle 5"/>
          <p:cNvSpPr/>
          <p:nvPr/>
        </p:nvSpPr>
        <p:spPr>
          <a:xfrm>
            <a:off x="2662200" y="3284640"/>
            <a:ext cx="3151080" cy="17398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dir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dü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59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read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mevcut ve okun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read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wri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yazıl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execu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çalıştırılabilir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2286000" y="2997360"/>
            <a:ext cx="4572000" cy="31114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home/vincent/somefile.sh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execu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19:47:52Z</dcterms:created>
  <dc:creator>Emre&amp;Ceyda</dc:creator>
  <dc:description/>
  <dc:language>en-US</dc:language>
  <cp:lastModifiedBy>Vento</cp:lastModifiedBy>
  <dcterms:modified xsi:type="dcterms:W3CDTF">2013-11-26T12:38:14Z</dcterms:modified>
  <cp:revision>57</cp:revision>
  <dc:subject/>
  <dc:title>PowerPoint Presentation</dc:title>
</cp:coreProperties>
</file>