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375-F689-45AD-A7C1-52C5C5ED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37F0-D0AE-402B-BA57-8D357C3C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0B45-ABFA-41EB-A6F9-E7B6E16F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A8EE-7CD6-42BE-8726-E1D1B3F5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6FF3-CC09-4086-94AE-E7337C34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CB21-B3A2-42CD-93AF-E1CCC996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5E949-564A-4432-B103-ADB3C31F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0C15-D123-42F3-9075-543CC184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003AF-332A-4F20-ADE2-15841988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AFBC7-EB37-46E8-9EE9-0B390F106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CB95-A89C-4E92-A6AD-BA36397C9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1DBF-E649-486A-8824-19DD03DF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8A543-6D8C-4512-8621-588BAD1E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3C8E-2470-49D7-8883-1182464F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8046-F720-455E-BAA9-78977399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8E8B2-06CC-4346-8827-B820EE96A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03FDE-E600-4609-9EC7-BEA47F8A1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5BA17-B630-4B49-B9A7-CE5278A1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4B362-601E-4740-A6E0-21375097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A365A-2C51-426A-831E-6A3F0BD0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05E17-C1DB-47BE-A9F3-855D200F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CBB91-3C9D-4435-B83E-BC1E50B7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904C-5335-45CD-AE78-85AEA8A1E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A4CEC-F07B-4B84-A4F5-58BD59BB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A9F2E-431B-4557-B9EF-6B15BE90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51716-135B-4D2B-A3DF-818FCDF9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1BEC1-8271-4682-A0A6-143D4712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9CC22-0474-41A0-AD49-C8B386F6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CD349-56AF-49EF-9B72-C63FA2F9B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03882-DA59-4FE1-895F-A6955B1C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C1ECE-0B3F-46AF-B85B-2BFB695AD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5B5E3-FE8F-4D7C-9243-C0BBFA55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4768F-8DC2-4C29-88CD-0760C1EF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A9CF-68BD-412A-978F-0624C295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B026F-083E-4989-BF7E-9AEC4AD5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044B7-1AA8-486C-8F7B-F8A5BFC9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4484D-6C01-4D7B-80F5-E0E161CE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BA339-04E7-473C-9AB5-E16B9B39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051E9-C8CE-44E1-A36F-75798F09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CA496-08A0-4CD6-9C54-B3BBA8D2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393AE-2434-429E-9352-55EAA35FC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90347-4648-4CEF-AAF0-16833AF8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1BE4B-52E5-47B6-8754-78B6D5740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5A1-4B7A-4848-82E2-EE05A4744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F993-799B-48B2-91DD-A2E357B2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6B13-88B5-4C4F-984F-FC8A3139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B340-AAE6-4E7F-BCEE-D356634B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0E2A-A6AC-4A66-A6DD-99DBC6BD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hyperlink" Target="http://www.bilisimogretmeni.com/" TargetMode="External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EF0C-C365-47EF-B406-157426745CBA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3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E5B8-7509-4580-9BD2-56E2150A29CA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15 Metin kutusu"/>
          <p:cNvSpPr/>
          <p:nvPr/>
        </p:nvSpPr>
        <p:spPr>
          <a:xfrm>
            <a:off x="5572080" y="6357960"/>
            <a:ext cx="29289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 u="sng">
                <a:solidFill>
                  <a:srgbClr val="f49100"/>
                </a:solidFill>
                <a:uFillTx/>
                <a:latin typeface="Constantia"/>
                <a:hlinkClick r:id="rId3"/>
              </a:rPr>
              <a:t>www.bilisimogretmeni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6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7" name="Freeform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0" name="Freeform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4B940-2B9A-4EE0-B7D4-A3E3920BDCD8}" type="slidenum">
              <a:rPr b="0" lang="tr-TR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5D86-1C7E-48B2-9F75-DD5063021D17}" type="slidenum">
              <a:rPr b="0" lang="tr-TR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3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Tarih ve Saat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tematiksel Fonksiyonlar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Karakter Kümesi Fonksiyonları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ff"/>
                </a:solidFill>
                <a:latin typeface="Constantia"/>
              </a:rPr>
              <a:t>Mail Gönderm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izinin Fonksiyona Gönderilmesi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unction liste_yaz($gelendiz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or ($i=0;$i&lt;count($gelendizi);$i++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gelendizi[$i]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ndizi=array(6,8,10,7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iste_yaz($gelendizi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arih ve Saat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t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at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arih/zaman bilgisi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bugun=getdate(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 $bugun[mday]."-".$bugun[mon]."-".$bugun[year]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Bugünkü tarihi yaz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Getdate fonksiyonunda kullanılan parametre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1866960" y="1909800"/>
          <a:ext cx="5410080" cy="4441680"/>
        </p:xfrm>
        <a:graphic>
          <a:graphicData uri="http://schemas.openxmlformats.org/drawingml/2006/table">
            <a:tbl>
              <a:tblPr/>
              <a:tblGrid>
                <a:gridCol w="1803240"/>
                <a:gridCol w="1803600"/>
                <a:gridCol w="1803240"/>
              </a:tblGrid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second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ler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69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inute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akikalar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hours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ler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günlerini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lerinin sayıl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Pazar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Cumartesi için)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300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16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ear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: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y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ünün sayısal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2552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weekday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nın gününün metinsel tam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un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turda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09480"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"month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metinsel tam gösterimi, Ocak ya da Mart gib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0120" rIns="60120" tIns="29880" bIns="298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k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0120" marR="601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Yerel tarihi/saati biçimlend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1973160" y="2509920"/>
          <a:ext cx="5767560" cy="4091040"/>
        </p:xfrm>
        <a:graphic>
          <a:graphicData uri="http://schemas.openxmlformats.org/drawingml/2006/table">
            <a:tbl>
              <a:tblPr/>
              <a:tblGrid>
                <a:gridCol w="1922400"/>
                <a:gridCol w="1922760"/>
                <a:gridCol w="1922400"/>
              </a:tblGrid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içim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karakte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çıkla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 sonu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25360">
                <a:tc>
                  <a:txBody>
                    <a:bodyPr lIns="57600" rIns="57600" tIns="28800" bIns="28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ü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lu iki haneli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üç harfli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z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nin sıfır dolgusuz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8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küçük 'L' harf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tam metinse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azar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Cumartesi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2864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ISO-8601 standardında sayısal gösterimi (PHP 5.1.0'da eklenmişti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(Pazartesi için)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(Pazar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9536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 günleri için 2 karakterli İngilizce sıralama ekle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t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rd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h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uyumlu çalışmaktadır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9348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 günlerinin sayısal gösteri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(Pazar için) </a:t>
                      </a:r>
                      <a:r>
                        <a:rPr b="0" i="1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a (Cumartesi içi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46320"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günleri (0'dan başl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57600" rIns="57600" tIns="28800" bIns="28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5</a:t>
                      </a:r>
                      <a:r>
                        <a:rPr b="0" lang="tr-TR" sz="11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57600" marR="57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224000" y="1774800"/>
          <a:ext cx="6696000" cy="4668840"/>
        </p:xfrm>
        <a:graphic>
          <a:graphicData uri="http://schemas.openxmlformats.org/drawingml/2006/table">
            <a:tbl>
              <a:tblPr/>
              <a:tblGrid>
                <a:gridCol w="2232000"/>
                <a:gridCol w="2232000"/>
                <a:gridCol w="2232000"/>
              </a:tblGrid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af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572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tına göre yılın hafta numarası, hafta başlangıcı Pazartesi'di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Yılın 42'inci haftas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02760">
                <a:tc>
                  <a:txBody>
                    <a:bodyPr lIns="74520" rIns="74520" tIns="37080" bIns="37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tam metinsel gösterimi, Ocak ya da Mart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uary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ember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lu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5924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üç karakterli, metinsel kısa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Jan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De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yın sıfır dolgusuz sayısal göster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 kadar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1000"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elirtilen ayın gün sayı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4520" rIns="74520" tIns="37080" bIns="37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8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520" marR="745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2117880"/>
          <a:ext cx="8229600" cy="374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rtık yıl olduğun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ğer artık yıls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değilse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0120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SO-8601 standardı yıl numarası. ISO hafta numaralarının (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W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) ait olduğu yılın gösterilmesi dışında </a:t>
                      </a: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aynı değere sahiptir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4 haneli sayısal, tam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9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ılın iki haneli gösteri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3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790640" y="1935000"/>
          <a:ext cx="5562720" cy="4395960"/>
        </p:xfrm>
        <a:graphic>
          <a:graphicData uri="http://schemas.openxmlformats.org/drawingml/2006/table">
            <a:tbl>
              <a:tblPr/>
              <a:tblGrid>
                <a:gridCol w="1854360"/>
                <a:gridCol w="1854000"/>
                <a:gridCol w="1854360"/>
              </a:tblGrid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Küç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üyük harfli öğleden önce ve öğleden son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AM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ya da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2476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watch İnternet saa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9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suz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12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1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y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08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in, 24-saatlik sıfır dolgulu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an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3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dakika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ıfır dolgulu saniye gösteri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0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ile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9</a:t>
                      </a: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arasınd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33440"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ikrosaniye (PHP 5.2.2 sürümüyle eklenmişti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1920" rIns="61920" tIns="30960" bIns="309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543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1920" marR="6192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66760" y="1922400"/>
          <a:ext cx="6810480" cy="4416480"/>
        </p:xfrm>
        <a:graphic>
          <a:graphicData uri="http://schemas.openxmlformats.org/drawingml/2006/table">
            <a:tbl>
              <a:tblPr/>
              <a:tblGrid>
                <a:gridCol w="2270160"/>
                <a:gridCol w="2270160"/>
                <a:gridCol w="2270160"/>
              </a:tblGrid>
              <a:tr h="304200">
                <a:tc>
                  <a:txBody>
                    <a:bodyPr lIns="75600" rIns="75600" tIns="37800" bIns="37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--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belirtec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TC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GM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urope/Istanbu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I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(büyük ı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az saati uygulaması var mı?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Var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yoksa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.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76068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at ve dakika olarak Greenwich zamanı (GMT) fark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ğin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+02:0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53244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aman dilimi kısaltması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Örnekler: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S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,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ET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gib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1217160"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Saniye cinsinden saat farkı. UTC'nin batısı daima negatif, doğusu ise daima pozitif değerlidir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75600" rIns="75600" tIns="37800" bIns="37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-432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den </a:t>
                      </a:r>
                      <a:r>
                        <a:rPr b="0" i="1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400</a:t>
                      </a:r>
                      <a:r>
                        <a:rPr b="0" lang="tr-TR" sz="15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'e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5600" marR="756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dat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9360">
            <a:solidFill>
              <a:srgbClr val="0f6fc6"/>
            </a:solidFill>
            <a:miter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print date("d-m-Y"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   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03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-20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1 gibi sistem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000000"/>
                </a:solidFill>
                <a:latin typeface="Calibri"/>
              </a:rPr>
              <a:t>Fonksiyonlar bizi defalarca kod yazmaktan kurtaran, daha modüler iş yaparak zamandan ve emekten tasarruf sağlayan yapılardır.  PHP’de fonksiyonların yazım şekli C,C++,Java, JavaScript ile hemen hemen aynıdır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7514-E41B-45E2-8B75-BAF107D7916D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nucunun o anki zaman bilgisini saniye olarak döndürür. (1 Ocak 1970 den başlayarak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elecekHafta = time() + (7 * 24 * 60 * 6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                   // 7 gün; 24 saat; 60 dakida; 60 saniye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Şimdi:         '. date('d-m-Y'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'Gelecek Hafta: '. date('d-m-Y', $gelecekHafta) ."\n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ktime() fonksiyonu, kendisine verilen verilen tarih ile 1 Ocak 1970 arasındaki farkı hesap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Örnek olarak 1 Ocak 1970 ile 22 Kasım saat 08:00 arasındaki farkı şu şekilde bir sayı ile geri döndürür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600" spc="-1" strike="noStrike">
                <a:solidFill>
                  <a:srgbClr val="000000"/>
                </a:solidFill>
                <a:latin typeface="Constantia"/>
              </a:rPr>
              <a:t>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urda görüldüğü üzere 1 Ocak 1970den bu yana ne kadar saniye geçtiğidir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Genel kullanımı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at = 08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akika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niye = 0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y = 11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gun = 22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yil = 2008; 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onuc = mktime($saat, $dakika, $saniye, $ay, $gun, $yil);  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onuc;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//122734085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ktim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2, 32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3, 1, 1997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19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date("M-d-Y", mktime(0, 0, 0, 1, 1, 98));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Jan-01-1998"  tarihini yaz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tematiksel 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floor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ceil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oun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qr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x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in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og10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abs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abs fonksiyonu matematikdeki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mutlak değer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in işini gö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 = abs(-4.2); // $abs = 4.2; (double/float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."&lt;br&gt;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bs2 = abs(5);   // $abs2 = 5; (integer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abs2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loo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küç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4.3);   // 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9.999); // 9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floor(-3.14); // -4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ceil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Ondalık sayıların büyük sayıya yuvarlanması için kullanıl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4.3);    // 5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9.999);  // 10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 ceil(-3.14);  // -3</a:t>
            </a: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ound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Ondalık sayıların yuvarlanması için kullanılır. </a:t>
            </a: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Kullanım Şekli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round(yuvarlanacak sayı,noktadan sonra kaç basamak kullanılacak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4);         // 3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5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);   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3.6, 0);      // 4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.95583, 2);  // 1.9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1241757, -3); // 124200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45, 2);    // 5.0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round(5.055, 2);    // 5.06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ow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üstel değerlerini bulmak için kullanı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 Şekl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ow(sayı,kuvvet değeri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2, 8); // 256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2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0, 0); // 1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cho pow(-1, 5.5); //  NAN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(tanımsız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’de Fonksiyon Tanımla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alibri"/>
              </a:rPr>
              <a:t>//Parametresiz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//Parametreli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onksiyon_adi(parametre1,parametre2,…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………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donus_degeri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-23724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br>
              <a:rPr sz="2000"/>
            </a:br>
            <a:r>
              <a:rPr b="1" lang="tr-TR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72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4 Slayt Numarası Yer Tutucusu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FCAD-411C-4F5E-BE6E-3995215FCFD8}" type="slidenum">
              <a:rPr b="0" lang="tr-TR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qrt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sayının karekökünü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9); // 3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sqrt(10); // 3.16227766 ...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ax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Verilen değerler içinde en büyüğünü bulu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1, 3, 5, 6, 7);  // 7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array(2, 4, 5)); // 5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0, 'hello');     // 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hello', 0);     // hello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echo max('42', 3); // '42'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//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rklı arraylarda uzun olanı bulu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2, 2), array(1, 1, 1, 1)); // array(1, 1, 1, 1)</a:t>
            </a:r>
            <a:br>
              <a:rPr sz="2000"/>
            </a:br>
            <a:br>
              <a:rPr sz="2000"/>
            </a:b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ynı uzunluktaki arraylarde elemanlarına bakılır. Örnek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 2 == 2, 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fakat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 4 &lt; 5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$val = max(array(2, 4, 8), array(2, 5, 7)); // array(2, 5, 7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mi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Verilen değerler içinde en küçük olanı bul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2, 3, 1, 6, 7);  // 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 min(array(2, 4, 5)); // 2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og10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10 tabanına göre logaritma al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log10(100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onuç:2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Karakter Kümesi Fonksiyonları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934640"/>
            <a:ext cx="3467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xplode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l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r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trim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number_format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printf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pad(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4572000" y="1989000"/>
            <a:ext cx="45720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eat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cm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len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low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touppe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ubstr_replace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wordwrap(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explod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ir ayraca göre bölüp bir dizi haline ge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pizza  = "dilim1 dilim2 dilim3 dilim4 dilim5 dilim6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dilimler = explode(" ", $pizza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0]; // dilim1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$dilimler[1]; // dilim2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l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6840" y="1934640"/>
            <a:ext cx="447516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başındaki boşlukları (veya diğer karakterleri) budar. 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Rectangle 1"/>
          <p:cNvSpPr/>
          <p:nvPr/>
        </p:nvSpPr>
        <p:spPr>
          <a:xfrm>
            <a:off x="5106960" y="2708280"/>
            <a:ext cx="3816360" cy="256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   = "\t\tBir kaç kelam :) ...  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print "\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kirpik = ltrim($metin, " \t.")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$kirpik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r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Dizgenin sonundaki boşlukları (veya diğer karakterleri)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Aşağıdaki karakterleri bud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20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Rectangle 1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Bir kaç kelam :) ...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r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trim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6840" y="1934640"/>
            <a:ext cx="80024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Dizgenin başındaki ve sonundaki boşlukları (veya diğer karakterleri) budar. Aşağıdaki karakterleri budayacaktı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 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32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2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ıradan boşluk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t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9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ekme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n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A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sonu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r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3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D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satırbaşı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0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0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NUL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-bayt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"\x0B" (ASCII 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11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i="1" lang="tr-TR" sz="1800" spc="-1" strike="noStrike">
                <a:solidFill>
                  <a:srgbClr val="000000"/>
                </a:solidFill>
                <a:latin typeface="Constantia"/>
              </a:rPr>
              <a:t>0x0B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)), dikey sekm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3"/>
          <p:cNvSpPr/>
          <p:nvPr/>
        </p:nvSpPr>
        <p:spPr>
          <a:xfrm>
            <a:off x="611280" y="5157720"/>
            <a:ext cx="4572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metin="   Bir kaç kelam :) ...     "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 trim($meti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number_format(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ayıyı binlik bölümlere ayır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number_forma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yı , ondalık_hane, ondalık_ayracı, binlik_ayracı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ayi = 1234.56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trformat = number_format($sayi, 2, ',', '.'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trforma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 1.234,56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(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yaz fonksiyonu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 yaz2($ad,$soyad)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$ad $soyad”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  <a:ea typeface="Courier New"/>
              </a:rPr>
              <a:t>Yukarıda ilk yaz fonksiyonu parametre almamıştır, ikincisi ise ad ve soyad parametrelerini almıştı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8 Metin kutusu"/>
          <p:cNvSpPr/>
          <p:nvPr/>
        </p:nvSpPr>
        <p:spPr>
          <a:xfrm>
            <a:off x="4929120" y="221472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isim=“Ali”; $soyisim=“Ak”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2 ($isim, $soyisim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i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printf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çimli bir dizge çıkartı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num=1000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kelime="emyo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d',$num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cho sprintf('Sayı:%s',$kelime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belli bir uzunlukta diğer dizgeyle dolduru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girdi , dolgulu_uzunluk [, dolgu_dizgesi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" "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[, dolgu_türü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 = 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]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: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eçimlik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olarak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ağ),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LEF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sol) veya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BOTH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sabiti (her iki taraf) belirtilebilir. </a:t>
            </a:r>
            <a:r>
              <a:rPr b="0" i="1" lang="tr-TR" sz="2600" spc="-1" strike="noStrike">
                <a:solidFill>
                  <a:srgbClr val="000000"/>
                </a:solidFill>
                <a:latin typeface="Constantia"/>
              </a:rPr>
              <a:t>dolgu_türü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belirtilmezse </a:t>
            </a: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TR_PAD_RIGHT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değeri öntanımlıdı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pad fonksiyonu-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$input = "Ayran";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);                                         // "Ayran     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-=", STR_PAD_LEFT);  // "-=-=-Ayran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10, "_", STR_PAD_BOTH);   // "__Ayran__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echo str_pad($input, 6 , "___");                               // "Ayran_" üretilir</a:t>
            </a:r>
            <a:br>
              <a:rPr sz="1800"/>
            </a:br>
            <a:r>
              <a:rPr b="0" lang="tr-TR" sz="18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eat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yi yinele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_repeat("-=", 10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Çıktıs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-=-=-=-=-=-=-=-=-=-=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_replace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) fonksiyonu istediğimiz karakterleri farklı bir karaktere dönüştürmemizi sağl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str_replace(bul, değiştir, değişken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611280" y="4581360"/>
          <a:ext cx="8229600" cy="1097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0972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&lt;?php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$veri = "İstanbul güzel bir şehir?"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echo str_replace("güzel","pahalı",$veri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?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cm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İkili olarak dizge karşılaştırması yap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1="Ali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$isim2="Ahmet";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if(strcmp($isim1,$isim2)==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 isim aynıdır";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if(strcmp($isim1,$isim2)&gt;0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Birinci isim büyük";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print "ikinci isim büyük"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len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Dizge uzunluğunu döndürü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abcdef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6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 = ' ab cd '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 strlen($str); // 7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lower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küç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low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: mini mini bir kuş uçmuştu pencereme konmuş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trtoupp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harflerini büyük harfe çev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"Mini MİNİ bir KUŞ uçmuştu PENCEREME konmuştu."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str = strtoupper($str)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$st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 Çıktısı: MINI MINI BIR KUS UÇMUSTU PENCEREME KONMUSTU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siz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yaz(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“merhaba fonksiyon”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//Parametreli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esaj($deger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deger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8 Metin kutusu"/>
          <p:cNvSpPr/>
          <p:nvPr/>
        </p:nvSpPr>
        <p:spPr>
          <a:xfrm>
            <a:off x="5076720" y="2924280"/>
            <a:ext cx="3786120" cy="1770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b050"/>
                </a:solidFill>
                <a:latin typeface="Tahoma"/>
                <a:ea typeface="Courier New"/>
              </a:rPr>
              <a:t>Fonksiyonun Çağrılması:</a:t>
            </a:r>
            <a:br>
              <a:rPr sz="20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yaz();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deger=“merhaba fonksiyon”; </a:t>
            </a:r>
            <a:br>
              <a:rPr sz="1800"/>
            </a:br>
            <a:r>
              <a:rPr b="1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esaj($deger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Dizgenin bir kısmını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substr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dizge , başlangıç [, uzunluk 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);     // bcdef döndürür.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substr('abcdef', 1, 3);  // bcd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1);    // "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2);    // "ef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 substr("abcdef", -3, 1); // "d" döndürü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substr_replace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dizgenin belli bir bölümünü değiştiri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000000"/>
                </a:solidFill>
                <a:latin typeface="Constantia"/>
              </a:rPr>
              <a:t>substr_replace</a:t>
            </a: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(dizge, yenisi , başlangıç [, uzunluk ] 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? $metin = "En Faydalı Türkçe Kaynak"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substr_replace($metin, 'Yararlı', 3,7)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//En Yararlı Türkçe Kaynak ?&gt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wordwrap() fonksiyonu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Bir dizgeyi istenilen yerden alt satıra geçiri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Kullanımı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00000"/>
                </a:solidFill>
                <a:latin typeface="Constantia"/>
              </a:rPr>
              <a:t>wordwrap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( dizge [, genişlik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satırsonu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[, kes</a:t>
            </a:r>
            <a:r>
              <a:rPr b="0" i="1" lang="tr-TR" sz="2400" spc="-1" strike="noStrike">
                <a:solidFill>
                  <a:srgbClr val="000000"/>
                </a:solidFill>
                <a:latin typeface="Constantia"/>
              </a:rPr>
              <a:t> = false/true</a:t>
            </a: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 ]]] 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&lt;?php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metin = "Dağ başını duman almış, gümüş dere durmaz akar."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$yenisi = wordwrap($metin, 4, "&lt;br /&gt;")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echo $yenisi;</a:t>
            </a: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Constantia"/>
              </a:rPr>
              <a:t>?&gt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Line Callout 1 3"/>
          <p:cNvSpPr/>
          <p:nvPr/>
        </p:nvSpPr>
        <p:spPr>
          <a:xfrm>
            <a:off x="3635280" y="5273640"/>
            <a:ext cx="4608720" cy="892080"/>
          </a:xfrm>
          <a:prstGeom prst="borderCallout1">
            <a:avLst>
              <a:gd name="adj1" fmla="val 18750"/>
              <a:gd name="adj2" fmla="val -8333"/>
              <a:gd name="adj3" fmla="val -10351"/>
              <a:gd name="adj4" fmla="val -165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wordwrap($metin, 4, "&lt;br /&gt;",</a:t>
            </a:r>
            <a:r>
              <a:rPr b="0" lang="tr-TR" sz="1800" spc="-1" strike="noStrike">
                <a:solidFill>
                  <a:srgbClr val="ff0000"/>
                </a:solidFill>
                <a:latin typeface="Constantia"/>
              </a:rPr>
              <a:t>true </a:t>
            </a: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ffff"/>
                </a:solidFill>
                <a:latin typeface="Constantia"/>
              </a:rPr>
              <a:t>Yukarıdaki gibi sona true eklersek kelimelere dikkate almadan böl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600" spc="-1" strike="noStrike">
                <a:solidFill>
                  <a:srgbClr val="ff0000"/>
                </a:solidFill>
                <a:latin typeface="Constantia"/>
              </a:rPr>
              <a:t>Mail() Fonksiyonu: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PHP'de Mail göndermemize yarayan fonksiyondur. Kullanım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 ( "mailadresi" , "mailkonusu" , "mailiçeriği" ,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"Mailbaşlık" )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adresi kısmı;mail yollanacak Ki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konusu;Mailin konusu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içeriği;Mailin içeriği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başlık;Mail başlığı</a:t>
            </a:r>
            <a:br>
              <a:rPr sz="2600"/>
            </a:b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Php Yardımıyla mail gönder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Bir mailin php ile yollanması aşağıdaki gibidir.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&lt; ?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adres = "deneme@hotmail.com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konu = "Mail konus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$mesaj = "PHP Mail() Fonksiyonu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mail("$adres","$konu","$mesaj")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echo "mail gönderildi";</a:t>
            </a: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?&gt;</a:t>
            </a:r>
            <a:br>
              <a:rPr sz="2600"/>
            </a:br>
            <a:br>
              <a:rPr sz="2600"/>
            </a:br>
            <a:r>
              <a:rPr b="0" lang="tr-TR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Örnek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900" spc="-1" strike="noStrike">
                <a:solidFill>
                  <a:srgbClr val="000000"/>
                </a:solidFill>
                <a:latin typeface="Calibri"/>
                <a:ea typeface="Courier New"/>
              </a:rPr>
              <a:t>//Aşağıdaki fonksiyon verilen sayı aralığını toplar.</a:t>
            </a:r>
            <a:br>
              <a:rPr sz="1900"/>
            </a:br>
            <a:r>
              <a:rPr b="0" lang="tr-TR" sz="1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sayitopla($ilk,$son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$ilk; $i&lt;=$son ;$i++)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{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toplam=$toplam + $i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toplam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=100; $num2=500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= sayitopla($num1, $num2 )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um1-$num2 arası toplam =$sonuc"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7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İşlemle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topla($a, $b) {  return ($a +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carp($a, $b) { return ($a*$b); 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mod_al($a, $b) { return ($a % $b); 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1 = 8; $num2 = 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toplam = topla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carpim = carp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mod =    mod_al($num1, $num2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Toplam sonucu: $sonuctopla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Çarpim sonucu: $sonuccarpim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Mod sonucu: $sonucmod&lt;br&gt;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– Harf Notu Bulm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28760" y="15714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hesapla($not1, $not2, $not3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($not1 + $not2 + $not3)/3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onuc&gt;84 &amp;&amp; $sonuc&lt;=100)  $harf='A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70 &amp;&amp; $sonuc&lt;=84)  $harf='B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55 &amp;&amp; $sonuc&lt;=69)  $harf='C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45 &amp;&amp; $sonuc&lt;=54)  $harf='D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if ($sonuc&gt;=0 &amp;&amp; $sonuc&lt;=44)  $harf='E'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($harf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n1=90; $n2=80; $n3=100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not = hesapla($n1, $n2, $n3)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"$n1-$n2-$n3 Harf notu =$sonucnot"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5000" spc="-1" strike="noStrike">
                <a:solidFill>
                  <a:srgbClr val="04617b"/>
                </a:solidFill>
                <a:latin typeface="Calibri"/>
              </a:rPr>
              <a:t>Fonksiyonlar - Faktöriye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ion faktoriyel($sayi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$sayi==0) return(1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fakt=1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($i=1; $i&lt;=$sayi ; $i++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    $fakt= $fakt * $i;  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($fakt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num =6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$sonuc = faktoriyel ($num)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tr-T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 $sonuc;  ?&gt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1:39:50Z</dcterms:created>
  <dc:creator>Emre&amp;Ceyda</dc:creator>
  <dc:description/>
  <dc:language>en-US</dc:language>
  <cp:lastModifiedBy>Vento</cp:lastModifiedBy>
  <dcterms:modified xsi:type="dcterms:W3CDTF">2013-11-26T12:36:55Z</dcterms:modified>
  <cp:revision>250</cp:revision>
  <dc:subject/>
  <dc:title>sart.php</dc:title>
</cp:coreProperties>
</file>