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5603-3DED-448C-9999-3817BEF0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BD3F-1932-47A3-A477-4D559126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E89D-BB2F-4968-B919-E01BFDB77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EB9D-FB30-4840-A94A-98DB074F8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D330-F655-47D6-A22C-7DF5533E2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0EBF-A3B3-407A-BD81-A72B0160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00CF-A931-485C-A0BE-0667020C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BA31E-DD27-4152-B044-3A172C4B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6056-6428-4486-A43A-29E7CBCA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9063-987B-4A73-9580-12C56551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E9F27-C100-4B1A-ADD4-5865A919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1386-977E-42FE-B6F9-30B1E7BC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3335-EE3F-42F5-90C8-7016A7C7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3D09-AA01-400B-BF24-6A8458BE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941D-107F-4FAA-A961-8C6B91866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FC77-DB71-484B-B0BB-EFAB5DACC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3AFB-19AD-4D6E-A834-40F7A000C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98E2E-8095-4BA5-A0D0-03F274469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88221-C25A-4D03-BC95-A48502D8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375D2-122E-4330-B453-A708970A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64871-B54E-4F47-BF6E-B51FEF31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80C59-3780-4451-AAB0-78C210D8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4475-3DF4-4CEB-9AD0-91A386C6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A5602-4BEA-42BA-8497-A92C22F7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60202-0C4B-47A6-AE7F-6C3609DF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DD3B9-D4A3-43F0-9F4D-30B24E96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CF91C-3165-445B-9C11-6A5CE5B3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6FFDF-2F79-42AA-80F8-0568601F7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CD3D6-B7FE-4672-9D5F-7858E95EE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8FEA5-75A3-4E23-A9A0-F0D7D5715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A766C-4C19-45BC-B24C-7300F25B2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E728EA-A379-40F5-B916-FB1727CFD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79CBA-0AE1-487D-A712-D1F63C26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90B6-51D1-443C-A2D6-56E3763E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AD3D7-1C90-4291-A382-E30B3B8E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3E6F3-68BD-4146-B3FE-037A13D5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397F0-1EAD-4CFC-9B1E-4CD354B7E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3376A-80A0-40C4-B0ED-ACB78D0ED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F9B6F-2FDA-4ED5-A162-1C42E059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51D07F-78E5-4407-AEDF-1CAE0CC8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221A8-E5DF-4ECD-919A-7E48BE3AF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DA717-5321-4A6C-AA82-C373C23D5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B637B-C278-45D8-941D-A461518C5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C3EE6-20A3-4F6D-AD4A-7896DF842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9684-AA55-4F3D-AC1A-E9671DAC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23EB1-4267-49AB-8C46-BE008473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8319D-0E4B-42A7-AD19-4DCE4E2B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DCB91-5564-4523-A99B-D5C318A9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79DD1-2CEA-4381-BF70-27E153FE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8A534-D470-4A64-A4EC-01644BEA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B6ABF-C7CA-47B7-958C-D8B2DF4F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1BDDC-19D6-4E84-A690-21500592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E9959-BA7D-4C05-927B-0A105F89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4B0EE-4A6B-4BFE-B1DA-4DD9C60A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00BD20-D047-4586-AEBC-FFAFF6D0B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550F-B4D7-4B1D-AB04-6B05FC99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1801E-40C2-48BC-B9C5-BC4C5C940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33F6CE-8164-47EC-9122-078AD48C0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12892-E5C8-40F3-A9E4-6C540F820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9EFF4-032C-4027-8FA7-A5F8E55C1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5D05A-3055-410E-A097-0B434AAC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C133E-FFC5-4A02-9586-1B7EBE52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EC96C-B131-4DD4-BB40-04D1FD97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E077C-BF3D-4BCC-94F6-2270BC5C7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ADC14-5723-42B1-8DCE-0DC0CCEA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D50697-6F10-4C68-88B6-2FD78CFA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1DE4-9992-4873-BB27-E70A3414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8E4D7-CDFD-45DB-A2CC-5D611768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B0D2F-9DCA-4636-9C75-E6F0A9E76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C2A74-2603-40D9-8801-06E36A08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C26F78-EBB6-43E6-9A95-9931557B3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EE192-1F08-46B7-8828-D2FC0C4A2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9FC1B7-6223-4063-A156-24B950416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0BD1F-AF21-491E-B3D2-7CE08FC4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A11BE-18C1-4204-9553-3C0C6874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B5E21-F36A-47FA-BEC6-2B0F571F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03931-CB77-4AD5-AD7C-94B52489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756D-802A-44BC-BC42-474DEBA3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C1C51-7387-40B4-BE37-1DD523E1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4CD5A-FBD2-4174-B729-308933ED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FFD0B5-5BF0-4B54-924E-82AE34F7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40659F-5C4E-4174-9C3C-C8EEC1E83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B15879-7D61-4543-A0AA-E3701FAF2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6F9621-B0D3-4746-AA26-401A61471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6AB42-448E-4A6E-95A0-9BAF78ED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5BD1DA-7C38-4C72-B69E-7EA6B9B3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6792A-8D73-407F-9515-683B9BE1B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CAB69-40CE-432B-998F-FA396454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D110-364B-481C-ABC9-2BCF0E6D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07BDF5-9CF9-47B0-A737-5DF67978F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E8C0B-42AA-440A-884B-01713C39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F4496-3C69-4BF9-8B2B-9709DCAD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46A162-60E0-4157-BCED-B813104A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B0461-572C-4CB6-BF02-0C367F55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5B139-4F21-4F7A-BF17-CFD36E4BF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38D2D-A000-4205-9326-21A272A71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bilisimogretmeni.com/" TargetMode="External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7021-BF57-4EBC-83A3-5903764CFCF1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8D04-5B1D-4FA2-8231-A276A7126449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7874-CE77-4632-A15E-92D026220EF8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15 Metin kutusu"/>
          <p:cNvSpPr/>
          <p:nvPr/>
        </p:nvSpPr>
        <p:spPr>
          <a:xfrm>
            <a:off x="335772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b292ca"/>
                </a:solidFill>
                <a:uFillTx/>
                <a:latin typeface="Constantia"/>
                <a:hlinkClick r:id="rId2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A77F-68FA-403D-99BE-4E291757A239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CDB1-22F2-41BB-838C-EE73AAF6D167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9A62-F6F7-47F4-A28C-BD6E87EDFFA9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F882-2F9B-40BD-A9D3-206D23F79A42}" type="slidenum">
              <a:rPr b="0" lang="tr-TR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traight Connector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0218-7043-4ADE-B2CE-B73605B79644}" type="slidenum">
              <a:rPr b="0" lang="tr-TR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Php Sunum 6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464653"/>
                </a:solidFill>
                <a:latin typeface="Bookman Old Style"/>
              </a:rPr>
              <a:t>Dosya ve Klasör İşlemler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siz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uzunluğunu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2286000" y="292428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sı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somefile.txt: 1024 bytes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somefile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: '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ilena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 .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bytes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a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a son erişim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2124000" y="2749680"/>
            <a:ext cx="561672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erişim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a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mtim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değişiklik zaman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2050920" y="2708280"/>
            <a:ext cx="5689800" cy="33858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Çıktı şöyle bir şey olur: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birdosya.txt dosyasının son değişiklik zamanı: December 29 2008 22:16:23.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osyasının son değişiklik zamanı: "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dat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F d Y H:i:s.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m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touch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nın erişim ve değişiklik zamanını ayarlar. Dosya mevcut değilse oluşturul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touc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dosyaismi [,zaman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[, ezamanı ]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dosyaismi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Erişilecek dosyanın ismi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işiklik zamanı. Eğer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emişse, o anki zaman kullanıl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Belirtilmişse dosyanın erişim zamanı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ezamanı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Aksi takdirde </a:t>
            </a: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zama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değerine ayarlanı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touch()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7" name="Rectangle 4"/>
          <p:cNvSpPr/>
          <p:nvPr/>
        </p:nvSpPr>
        <p:spPr>
          <a:xfrm>
            <a:off x="324000" y="1916280"/>
            <a:ext cx="374328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="dnm.txt"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şimdiye ayarlandı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ismi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için değişiklik zamanı değiştirilemedi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4572000" y="1428840"/>
            <a:ext cx="4176720" cy="50317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 Dosyanın değişiklik zamanını bir saat önceye ayarlayalım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 */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im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) -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3600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* Dosyaya erişelim */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touc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_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zama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Hoop, bir şeyler yanlış oldu...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başarıyla erişild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unlin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ı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2308320" y="278136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&lt;h1&gt;Merhaba Dünya!&lt;/h1&gt;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fh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eneme.htm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unlink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dizini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open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URL'yi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eğişken=fopen(dosyaadı, açma türü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Eğer açma dosya adı "http://…."  gibi başlıyorsa URL açılıyor demekti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ma türleri şunlardır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Tür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79280" y="1268280"/>
          <a:ext cx="8820360" cy="4537080"/>
        </p:xfrm>
        <a:graphic>
          <a:graphicData uri="http://schemas.openxmlformats.org/drawingml/2006/table">
            <a:tbl>
              <a:tblPr/>
              <a:tblGrid>
                <a:gridCol w="936720"/>
                <a:gridCol w="7883640"/>
              </a:tblGrid>
              <a:tr h="2174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ma Tür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Açıkl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oku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966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r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7484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w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başlangıcına yerleştirilir ve dosya uzunluğu sıfır yapılı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Sadec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99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a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em okumak hem de yazmak için açılır; dosya konumlayıcı dosyanın sonuna yerleştirilir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786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sadec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. Dosya mevcut değilse oluşturulmaya çalışılır.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476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'x+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 oluşturulur ve hem okumak hem de yazmak için açılır; dosya konumlayıcı dosyanın başlangıcına yerleştirilir. Dosya zaten mevcutsa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pen()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LSE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döndürürek başarısız olur . Dosya mevcut değilse oluşturulmaya çalışılır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800"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34200" rIns="34200" tIns="17280" bIns="17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syayı binary tipte açar yada oluşturu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34200" marR="342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Açma Örnek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txt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/home/rasmus/file.gif", "wb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http://www.example.com/", "r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$dt = fopen("ftp://user:password@example.com/somefile.txt", "w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apat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7200" y="1219320"/>
            <a:ext cx="82296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clos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k bir dosya tanıtıcısını kapat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Dosya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2193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200" spc="-1" strike="noStrike">
                <a:solidFill>
                  <a:srgbClr val="ff0000"/>
                </a:solidFill>
                <a:latin typeface="Gill Sans MT"/>
              </a:rPr>
              <a:t>fgets(); 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Dosya tanıtıcısından bir satır döndürü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200" spc="-1" strike="noStrike">
                <a:solidFill>
                  <a:srgbClr val="000000"/>
                </a:solidFill>
                <a:latin typeface="Gill Sans MT"/>
              </a:rPr>
              <a:t>fgets</a:t>
            </a: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 ( dosya değişkeni [, uzunluk ] 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Gill Sans MT"/>
              </a:rPr>
              <a:t>Uzunluk belirtilmez ise satır sonuna kadar olan bilgi okunur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61720" indent="-2617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eof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tanıtıcısı üzerinde konum dosya sonunda mı diye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Rectangle 3"/>
          <p:cNvSpPr/>
          <p:nvPr/>
        </p:nvSpPr>
        <p:spPr>
          <a:xfrm>
            <a:off x="2260440" y="2852640"/>
            <a:ext cx="4572000" cy="283716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tmp/inputfile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eof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4096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tampo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read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yı satır satır değil de belirli uzunlukta oku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en-US" sz="2600" spc="-1" strike="noStrike">
                <a:solidFill>
                  <a:srgbClr val="000000"/>
                </a:solidFill>
                <a:latin typeface="Gill Sans MT"/>
              </a:rPr>
              <a:t>fread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(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değişkeni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, uzunluk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Rectangle 2"/>
          <p:cNvSpPr/>
          <p:nvPr/>
        </p:nvSpPr>
        <p:spPr>
          <a:xfrm>
            <a:off x="1979640" y="2997360"/>
            <a:ext cx="540072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i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bir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arak</a:t>
            </a:r>
            <a:r>
              <a:rPr b="0" lang="tr-TR" sz="18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yalım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usr/local/birmetin.txt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i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erik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read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siz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219320"/>
            <a:ext cx="82296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getc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osya içeriğini karakter karakter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" name="Rectangle 2"/>
          <p:cNvSpPr/>
          <p:nvPr/>
        </p:nvSpPr>
        <p:spPr>
          <a:xfrm>
            <a:off x="2281320" y="227664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birdosya.txt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getc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kar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\n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İçeriğini Oku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fseek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osya içeriğinin belirli bir bölümden sonrasını okumak amacıyla dosya içersinde istenilen yere konumlandırma yapa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Kullanımı: fseek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( dosya değişkeni, nereye [, nereden ] 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Dosya değişkeni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Bir dosya tanıtıcısı. Genellikle fopen() kullanılarak oluşturul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Yeni konum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onumu dosya sonunun öncesine taşımak için bu değiştirgeyle negatif bir değer,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değiştirgesiyle de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aktarı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Mevcut konumun nasıl yorumlanacağı belirtilir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başlangıcı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CUR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mevcut dosya konumuna göre bayt sayısı olarak belirtildiği varsayılır. Bu miktar pozitif veya negatif olabili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END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-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ye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konumunun dosya sonuna göre belirtildiği varsayılı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Eğer </a:t>
            </a:r>
            <a:r>
              <a:rPr b="0" i="1" lang="tr-TR" sz="2000" spc="-1" strike="noStrike">
                <a:solidFill>
                  <a:srgbClr val="000000"/>
                </a:solidFill>
                <a:latin typeface="Gill Sans MT"/>
              </a:rPr>
              <a:t>nereden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belirtilmezse, </a:t>
            </a:r>
            <a:r>
              <a:rPr b="1" lang="tr-TR" sz="2000" spc="-1" strike="noStrike">
                <a:solidFill>
                  <a:srgbClr val="000000"/>
                </a:solidFill>
                <a:latin typeface="Gill Sans MT"/>
              </a:rPr>
              <a:t>SEEK_SET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 öntanımlıdı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see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dosya.txt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dd0000"/>
                </a:solidFill>
                <a:latin typeface="Gill Sans MT"/>
              </a:rPr>
              <a:t>'r'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Biraz veri okuyalım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data 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gets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4096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rewind($fp) çağrısı yapmış gibi</a:t>
            </a:r>
            <a:br>
              <a:rPr sz="2600"/>
            </a:br>
            <a:r>
              <a:rPr b="0" lang="tr-TR" sz="2600" spc="-1" strike="noStrike">
                <a:solidFill>
                  <a:srgbClr val="ff8000"/>
                </a:solidFill>
                <a:latin typeface="Gill Sans MT"/>
              </a:rPr>
              <a:t>// dosyanın başına dönelim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fseek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$fp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0</a:t>
            </a:r>
            <a:r>
              <a:rPr b="0" lang="tr-TR" sz="26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600"/>
            </a:br>
            <a:r>
              <a:rPr b="0" lang="tr-TR" sz="2600" spc="-1" strike="noStrike">
                <a:solidFill>
                  <a:srgbClr val="0000bb"/>
                </a:solidFill>
                <a:latin typeface="Gill Sans MT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ya Bilgi Yaz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1197000"/>
            <a:ext cx="332280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write(); fpu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Her iki komut dosyaya bilgi yazmak için kullanılı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write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dizge [, uzunluk ]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" name="Rectangle 2"/>
          <p:cNvSpPr/>
          <p:nvPr/>
        </p:nvSpPr>
        <p:spPr>
          <a:xfrm>
            <a:off x="4284720" y="1125360"/>
            <a:ext cx="4535280" cy="53870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unu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ekleyelim\n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nc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evcut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u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mi,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bakalım.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Ö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rneğimiz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dosya'y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m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ipinde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yoruz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Konumlayıcı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d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olduğund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fwrite()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gesin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nı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sonun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ekleyecektir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open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a'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ılama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$veri'yi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ılan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dosyaya</a:t>
            </a: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ff8000"/>
                </a:solidFill>
                <a:latin typeface="Arial Unicode MS"/>
                <a:ea typeface="Consolas"/>
              </a:rPr>
              <a:t>yazalım.</a:t>
            </a:r>
            <a:br>
              <a:rPr sz="1200"/>
            </a:br>
            <a:r>
              <a:rPr b="0" lang="tr-TR" sz="1200" spc="-1" strike="noStrike">
                <a:solidFill>
                  <a:srgbClr val="ff80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writ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mıyor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xit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n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veri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'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başarıyl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dı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fclose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t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200"/>
            </a:b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lse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2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sı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yazılabilir</a:t>
            </a:r>
            <a:r>
              <a:rPr b="0" lang="tr-TR" sz="12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200" spc="-1" strike="noStrike">
                <a:solidFill>
                  <a:srgbClr val="dd0000"/>
                </a:solidFill>
                <a:latin typeface="Arial Unicode MS"/>
                <a:ea typeface="Consolas"/>
              </a:rPr>
              <a:t>değil"</a:t>
            </a: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200"/>
            </a:br>
            <a:r>
              <a:rPr b="0" lang="tr-TR" sz="12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200"/>
            </a:br>
            <a:r>
              <a:rPr b="0" lang="tr-TR" sz="12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2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ilit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lock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ya aynı anda bir erişim yapılabilmesini sağlar. Aynı anda dosyaya birden çok kişinin erişebilmesini engel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Kullanımı: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flock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( dosya değişkeni, işlem 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Gill Sans MT"/>
              </a:rPr>
              <a:t>işlem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 şunlardan biri olabilir: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Paylaşımlı bir kilit (okuyucu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SH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yrıcalıklı bir kilit (yazıcı) edinme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EX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ilidi (paylaşımlı veya ayrıcalıklı) serbest bırakmak için </a:t>
            </a:r>
            <a:r>
              <a:rPr b="1" lang="tr-TR" sz="2600" spc="-1" strike="noStrike">
                <a:solidFill>
                  <a:srgbClr val="000000"/>
                </a:solidFill>
                <a:latin typeface="Gill Sans MT"/>
              </a:rPr>
              <a:t>LOCK_UN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flock() örneğ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&lt;?php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 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=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ope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/tmp/lock.txt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w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if 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EX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) {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ayrıcalıklı bir kilit oluşturalım</a:t>
            </a:r>
            <a:br>
              <a:rPr sz="2400"/>
            </a:b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writ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Buraya bir şeyler yazalım\n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lock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, 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LOCK_UN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 </a:t>
            </a:r>
            <a:r>
              <a:rPr b="0" lang="tr-TR" sz="2400" spc="-1" strike="noStrike">
                <a:solidFill>
                  <a:srgbClr val="ff8000"/>
                </a:solidFill>
                <a:latin typeface="Gill Sans MT"/>
              </a:rPr>
              <a:t>// kilidi serbest bırakalım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 else {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    echo </a:t>
            </a:r>
            <a:r>
              <a:rPr b="0" lang="tr-TR" sz="2400" spc="-1" strike="noStrike">
                <a:solidFill>
                  <a:srgbClr val="dd0000"/>
                </a:solidFill>
                <a:latin typeface="Gill Sans MT"/>
              </a:rPr>
              <a:t>"Kilit edinilemedi!"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;</a:t>
            </a:r>
            <a:br>
              <a:rPr sz="2400"/>
            </a:b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}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fclose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(</a:t>
            </a: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$dt</a:t>
            </a:r>
            <a:r>
              <a:rPr b="0" lang="tr-TR" sz="2400" spc="-1" strike="noStrike">
                <a:solidFill>
                  <a:srgbClr val="007700"/>
                </a:solidFill>
                <a:latin typeface="Gill Sans MT"/>
              </a:rPr>
              <a:t>);</a:t>
            </a: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bb"/>
                </a:solidFill>
                <a:latin typeface="Gill Sans MT"/>
              </a:rPr>
              <a:t>?&gt;</a:t>
            </a:r>
            <a:r>
              <a:rPr b="0" lang="tr-TR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000000"/>
                </a:solidFill>
                <a:latin typeface="Bookman Old Style"/>
              </a:rPr>
              <a:t>Klasör İşlemleri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000" spc="-1" strike="noStrike">
              <a:solidFill>
                <a:srgbClr val="464653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Aktif Dosyaya Harici Dosya Ek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nclud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elirtilen dosyayı başka bir dosyaya ekler ve içeriğini değerlendirir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500720" y="3068640"/>
            <a:ext cx="3743280" cy="2288520"/>
          </a:xfrm>
          <a:prstGeom prst="rect">
            <a:avLst/>
          </a:prstGeom>
          <a:gradFill rotWithShape="0">
            <a:gsLst>
              <a:gs pos="0">
                <a:srgbClr val="c9cde2"/>
              </a:gs>
              <a:gs pos="100000">
                <a:srgbClr val="c9cde2"/>
              </a:gs>
            </a:gsLst>
            <a:lin ang="900000"/>
          </a:gradFill>
          <a:ln w="9360">
            <a:solidFill>
              <a:srgbClr val="727ca3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2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nclude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‘d1.php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Bir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 </a:t>
            </a:r>
            <a:r>
              <a:rPr b="0" lang="tr-TR" sz="18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 -&gt; Bir yeşil elma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611280" y="3191040"/>
            <a:ext cx="309708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d1.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renk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yeşil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meyve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elma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Left Brace 7"/>
          <p:cNvGrpSpPr/>
          <p:nvPr/>
        </p:nvGrpSpPr>
        <p:grpSpPr>
          <a:xfrm>
            <a:off x="3713040" y="3029040"/>
            <a:ext cx="858960" cy="2311200"/>
            <a:chOff x="3713040" y="3029040"/>
            <a:chExt cx="858960" cy="2311200"/>
          </a:xfrm>
        </p:grpSpPr>
        <p:pic>
          <p:nvPicPr>
            <p:cNvPr id="363" name="Left Brace 7" descr=""/>
            <p:cNvPicPr/>
            <p:nvPr/>
          </p:nvPicPr>
          <p:blipFill>
            <a:blip r:embed="rId1"/>
            <a:stretch/>
          </p:blipFill>
          <p:spPr>
            <a:xfrm>
              <a:off x="3713040" y="3029040"/>
              <a:ext cx="858960" cy="231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3780000" y="3086280"/>
              <a:ext cx="255600" cy="21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İçeriğini Listele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7200" y="1218960"/>
            <a:ext cx="82296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open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klasör aç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ead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Açılmış bir klasörün içini ok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Rectangle 2"/>
          <p:cNvSpPr/>
          <p:nvPr/>
        </p:nvSpPr>
        <p:spPr>
          <a:xfrm>
            <a:off x="2484360" y="2637000"/>
            <a:ext cx="5616720" cy="30776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etc/apache2/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br>
              <a:rPr sz="1400"/>
            </a:b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//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Diz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a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ve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i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ç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eriğin</a:t>
            </a:r>
            <a:r>
              <a:rPr b="0" lang="tr-TR" sz="1400" spc="-1" strike="noStrike">
                <a:solidFill>
                  <a:srgbClr val="ff8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ff8000"/>
                </a:solidFill>
                <a:latin typeface="Arial Unicode MS"/>
                <a:ea typeface="Consolas"/>
              </a:rPr>
              <a:t>oku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open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while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read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!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als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echo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adı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-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dosya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t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r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ü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type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zin</a:t>
            </a:r>
            <a:r>
              <a:rPr b="0" lang="tr-TR" sz="1400" spc="-1" strike="noStrike">
                <a:solidFill>
                  <a:srgbClr val="0000bb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==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r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?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izin"</a:t>
            </a:r>
            <a:r>
              <a:rPr b="0" lang="tr-TR" sz="1400" spc="-1" strike="noStrike">
                <a:solidFill>
                  <a:srgbClr val="dd00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: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dosya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400" spc="-1" strike="noStrike">
                <a:solidFill>
                  <a:srgbClr val="dd0000"/>
                </a:solidFill>
                <a:latin typeface="Arial Unicode MS"/>
                <a:ea typeface="Consolas"/>
              </a:rPr>
              <a:t>"\n"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    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closedir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it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400"/>
            </a:br>
            <a:r>
              <a:rPr b="0" lang="tr-TR" sz="14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Oluşturma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1219320"/>
            <a:ext cx="822960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Gill Sans MT"/>
              </a:rPr>
              <a:t>mkdir(); </a:t>
            </a: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Dizin oluşturur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Kullanımı: mkdir([yol]/dizinadı,izin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İzinler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00: Sahibinden başkası okuyup yaz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644: Sahibi okuyup yazsın diğerleri sadece okusu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77: Herkes okuyup yazabilsi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5:Sahibi herşeyi yapsın, diğerleri sadece okuyup çalıştırabils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Gill Sans MT"/>
              </a:rPr>
              <a:t>0750: Sahibi herşeyi yapsın, grup üyeleri okuyup çalıştırabilsin, diğerleri hiçbir şey yapaması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Rectangle 2"/>
          <p:cNvSpPr/>
          <p:nvPr/>
        </p:nvSpPr>
        <p:spPr>
          <a:xfrm>
            <a:off x="2111400" y="4832280"/>
            <a:ext cx="4572000" cy="9169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/dizinim/i</a:t>
            </a:r>
            <a:r>
              <a:rPr b="0" lang="tr-TR" sz="1800" spc="-1" strike="noStrike">
                <a:solidFill>
                  <a:srgbClr val="dd0000"/>
                </a:solidFill>
                <a:latin typeface="Calibri"/>
                <a:ea typeface="Consolas"/>
              </a:rPr>
              <a:t>c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in/bir/yol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,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0777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Klasör Sil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219320"/>
            <a:ext cx="82296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rm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Dizin sile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4" name="Rectangle 2"/>
          <p:cNvSpPr/>
          <p:nvPr/>
        </p:nvSpPr>
        <p:spPr>
          <a:xfrm>
            <a:off x="2286000" y="2244600"/>
            <a:ext cx="4572000" cy="201420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!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</a:t>
            </a: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Calibri"/>
                <a:ea typeface="Consolas"/>
              </a:rPr>
              <a:t>   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mk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rmdir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misalle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;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Kontrolü 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file_exists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 veya dizinin mevcut olup olmadığına baka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2411280" y="3213000"/>
            <a:ext cx="4572000" cy="25628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bir/yol/dosya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file_exists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var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"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 diye bir dosya yok"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fi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1" name="Rectangle 5"/>
          <p:cNvSpPr/>
          <p:nvPr/>
        </p:nvSpPr>
        <p:spPr>
          <a:xfrm>
            <a:off x="2411280" y="3429000"/>
            <a:ext cx="3816360" cy="119124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fil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dı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Dosya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ve Dizin Kontrolü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dir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Verilen ismin  bir klasö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2771640" y="2997360"/>
          <a:ext cx="3322800" cy="365040"/>
        </p:xfrm>
        <a:graphic>
          <a:graphicData uri="http://schemas.openxmlformats.org/drawingml/2006/table">
            <a:tbl>
              <a:tblPr/>
              <a:tblGrid>
                <a:gridCol w="3322800"/>
              </a:tblGrid>
              <a:tr h="365040">
                <a:tc>
                  <a:txBody>
                    <a:bodyPr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Rectangle 5"/>
          <p:cNvSpPr/>
          <p:nvPr/>
        </p:nvSpPr>
        <p:spPr>
          <a:xfrm>
            <a:off x="2662200" y="3284640"/>
            <a:ext cx="3151080" cy="17398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if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990000"/>
                </a:solidFill>
                <a:latin typeface="Gill Sans MT"/>
              </a:rPr>
              <a:t>is_dir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(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dosya.txt"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))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dür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lse</a:t>
            </a: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b1b100"/>
                </a:solidFill>
                <a:latin typeface="Gill Sans MT"/>
              </a:rPr>
              <a:t>echo</a:t>
            </a:r>
            <a:r>
              <a:rPr b="0" lang="tr-TR" sz="1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tr-TR" sz="1800" spc="-1" strike="noStrike">
                <a:solidFill>
                  <a:srgbClr val="0000ff"/>
                </a:solidFill>
                <a:latin typeface="Gill Sans MT"/>
              </a:rPr>
              <a:t>"Bu Bir Klasör Değildir."</a:t>
            </a:r>
            <a:r>
              <a:rPr b="0" lang="tr-TR" sz="1800" spc="-1" strike="noStrike">
                <a:solidFill>
                  <a:srgbClr val="339933"/>
                </a:solidFill>
                <a:latin typeface="Gill Sans MT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9900"/>
                </a:solidFill>
                <a:latin typeface="Gill Sans MT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599840"/>
            <a:ext cx="822960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read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mevcut ve okun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read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 okun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5998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wri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yazılabilir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Rectangle 4"/>
          <p:cNvSpPr/>
          <p:nvPr/>
        </p:nvSpPr>
        <p:spPr>
          <a:xfrm>
            <a:off x="2286000" y="3429000"/>
            <a:ext cx="4572000" cy="228852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nm.txt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wri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Dosyaya yaz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464653"/>
                </a:solidFill>
                <a:latin typeface="Bookman Old Style"/>
              </a:rPr>
              <a:t>Dosya Özelliklerini Öğrenme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160020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Gill Sans MT"/>
              </a:rPr>
              <a:t>is_executable(); </a:t>
            </a:r>
            <a:r>
              <a:rPr b="0" lang="tr-TR" sz="2600" spc="-1" strike="noStrike">
                <a:solidFill>
                  <a:srgbClr val="000000"/>
                </a:solidFill>
                <a:latin typeface="Gill Sans MT"/>
              </a:rPr>
              <a:t>Bir dosyanın çalıştırılabilir bir dosya olup olmadığını döndürü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4" name="Rectangle 4"/>
          <p:cNvSpPr/>
          <p:nvPr/>
        </p:nvSpPr>
        <p:spPr>
          <a:xfrm>
            <a:off x="2286000" y="2997360"/>
            <a:ext cx="4572000" cy="3111480"/>
          </a:xfrm>
          <a:prstGeom prst="rect">
            <a:avLst/>
          </a:prstGeom>
          <a:gradFill rotWithShape="0">
            <a:gsLst>
              <a:gs pos="0">
                <a:srgbClr val="c4c4c4"/>
              </a:gs>
              <a:gs pos="100000">
                <a:srgbClr val="c4c4c4"/>
              </a:gs>
            </a:gsLst>
            <a:lin ang="900000"/>
          </a:gradFill>
          <a:ln w="9360">
            <a:solidFill>
              <a:srgbClr val="000000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&lt;?php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 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= 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/home/vincent/somefile.sh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if 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is_executable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(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))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bilir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 else {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    echo </a:t>
            </a: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$dosya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.</a:t>
            </a:r>
            <a:r>
              <a:rPr b="0" lang="tr-TR" sz="1800" spc="-1" strike="noStrike">
                <a:solidFill>
                  <a:srgbClr val="dd0000"/>
                </a:solidFill>
                <a:latin typeface="Arial Unicode MS"/>
                <a:ea typeface="Consolas"/>
              </a:rPr>
              <a:t>' çalıştırılamaz'</a:t>
            </a: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;</a:t>
            </a:r>
            <a:br>
              <a:rPr sz="1800"/>
            </a:br>
            <a:r>
              <a:rPr b="0" lang="tr-TR" sz="1800" spc="-1" strike="noStrike">
                <a:solidFill>
                  <a:srgbClr val="007700"/>
                </a:solidFill>
                <a:latin typeface="Arial Unicode MS"/>
                <a:ea typeface="Consolas"/>
              </a:rPr>
              <a:t>}</a:t>
            </a:r>
            <a:br>
              <a:rPr sz="1800"/>
            </a:br>
            <a:br>
              <a:rPr sz="1800"/>
            </a:br>
            <a:r>
              <a:rPr b="0" lang="tr-TR" sz="1800" spc="-1" strike="noStrike">
                <a:solidFill>
                  <a:srgbClr val="0000bb"/>
                </a:solidFill>
                <a:latin typeface="Arial Unicode MS"/>
                <a:ea typeface="Consolas"/>
              </a:rPr>
              <a:t>?&gt;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  <a:ea typeface="Consola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9:47:52Z</dcterms:created>
  <dc:creator>Emre&amp;Ceyda</dc:creator>
  <dc:description/>
  <dc:language>en-US</dc:language>
  <cp:lastModifiedBy>Vento</cp:lastModifiedBy>
  <dcterms:modified xsi:type="dcterms:W3CDTF">2013-11-26T12:38:14Z</dcterms:modified>
  <cp:revision>57</cp:revision>
  <dc:subject/>
  <dc:title>PowerPoint Presentation</dc:title>
</cp:coreProperties>
</file>