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F9B-D39A-4AD0-8515-277A58A9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32BE-F801-4120-8E88-11C4930D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9B6-A9B2-4BFD-9BB5-18F5003E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A0B2-0374-4371-9B7B-8B94A07C4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EA51-2499-4CF4-9492-2296F180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831A-6273-49CB-98A4-F919A12D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2691-4318-455E-993B-8F875F04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082A-0DDF-46C6-89C2-4A926B59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ED0A-AC76-45ED-A42B-33462BAD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84373-A072-41CA-BBF6-16FD6B06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04AB-9A61-4494-8909-DBD7572F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7D14-8C7F-4EE3-9E11-F13F9463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C748-9393-47BE-A27E-220DCF61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A6221-8662-402B-8925-2A8BBC7F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DC068-C4AF-44FF-B3D7-7BAF48693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BBC8C-691B-49D8-9F8D-8728747BD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BCD-784F-48EB-8BA0-7D1EE3871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3CE34-1FDA-47DE-861C-A652EAB9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20F9C-779C-42C3-AD20-5C76EA20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74308-1A24-41CA-9B32-5D420694C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5A6AC-B280-4443-9001-B225A029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E9B6F4-FBC3-4846-9CE6-B24E2DA28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CFB0-A7A1-4F8A-9E13-C5C2E7DB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1DA5-41A6-43D5-AB19-9BCFBDDD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EE74D-A043-4B26-8AD5-631A6A9E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7F239-9AAE-48E9-9461-02CFF92CD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2F07-CFEF-4D9F-898A-2AC7CBED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473C-F6E4-4B80-B4CD-75468C5E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54258-746A-4BF6-95E9-5D8A8227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55DD-1A0D-4FB8-A9EF-CC6412D6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48C1B-AE42-47FB-8F07-8569C2939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6F441-64F7-45AC-AE41-135EF5B7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46076-B68E-4D13-BF2D-985CE78C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EB5C-EAE3-4EFE-84C9-29FC45867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E3853-C8CA-4B6B-8E0A-52B9CC75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4436-8898-4C52-99AB-6B692C58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F9D1-CA4F-4B92-BA3D-31D637879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F5211-AA72-4AD3-B722-68AD8175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A76B3-A131-4F1C-B830-351363BF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6A340-EC04-48B0-99DE-526617B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88872-22D5-46C6-8927-4C3B885CE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2B204-68CC-4524-ADAF-A95187DA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8C276-F168-458B-ACB0-20FB566B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002E-5969-4ABE-B1F1-FB34E461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AEB7-F604-48D8-8A18-7CBA02F5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AAB4-F935-48C0-982E-1F9AEB4D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5136-AACE-4C3A-AC38-F579A6B75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E15-A467-4690-843A-1C6E4749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08D73-2CA3-4021-9D4F-D5DB1E362F15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4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7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40E3-5CE9-4D0E-B61C-1E77C816D8B0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6 Serbest Form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7 Serbest Form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1 Grup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11 Serbest Form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11 Serbest Form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12 Serbest Form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12 Serbest Form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1" name="15 Metin kutusu"/>
          <p:cNvSpPr/>
          <p:nvPr/>
        </p:nvSpPr>
        <p:spPr>
          <a:xfrm>
            <a:off x="5357880" y="6357960"/>
            <a:ext cx="292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8280-C292-4062-9BC2-1255F598F9E3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8 Tek Köşesi Kesik ve Yuvarlatılmış Dikdörtgen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11 Dik Üçgen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9 Serbest Form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10 Serbest Form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F6D1-71B6-4214-BE3E-EA40E6DC9EC0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12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d)Tablo Oluşturma </a:t>
            </a:r>
            <a:br>
              <a:rPr sz="49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7928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TABL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Bu komut kullanılmadan önce tablonun oluşturulacağı veritabanı seçilmelid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Table &lt;tablo adı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_adı veri_türü [varsayılan][kısıtlama]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[tablo kısıtlaması])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tablo Adı”tabloya verilecek isim(örnek:ogrenc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lan Adı” tabloda yer alacak alanların adı(örnek:ogr_no,adi,soyadi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eri Türü”girilecek veri türü (sayı,metin,tarih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“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varsayılan”değer girilmezse başlangıçta atanacak değ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24000" y="981000"/>
            <a:ext cx="822960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ısıtlama”boş olmaması,sadece E veya K girilmesi kısıtlama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 kısıtlaması”her kaydın belirli alanlara göre kısıtlanması(kayıtların tek olmasını sağlama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ezun olan öğrenciler için mezun bilgilerinin tutulacağı bir tablo oluşturalı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Bu tablo için adi,soyadi ve ogrno alan adları kullanılacakt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REATE TABLE ;kayit 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yad varchar(15) not null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ogrno smallint(5)unsigne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straint ogrno_pk primary key(ogrno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e)Tablo Silme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40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ifadesiyle istenilen tablo siline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tablo_ad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:Müşteri tablosunu silmek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ROP TABLE muster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5400" spc="-1" strike="noStrike">
                <a:solidFill>
                  <a:srgbClr val="7030a0"/>
                </a:solidFill>
                <a:latin typeface="Calibri"/>
              </a:rPr>
              <a:t>f)Tabloya Kayıt Ekleme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a yeni kayıt eklemek için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INSERT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TABLO (alan1,alan2,…….,alan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(deger1,deger2,………..,deger_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mutla okul veritabanında bulunan öğrenci tablosuna yeni kayıt eklenmiş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NSERT INTO ogrenci(no,ad,soyad,vel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ALUES (125,”Melda”,”Selda”,”Eda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539640" y="764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g)Tablodan Kayıt Al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veritabanlarında istenilen şartlara uyan bilgileri 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ELECT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omutu kullanılır.SELECT komutunun kullanımının birçok farklı seçeneği vard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od belirli bir şarta bağlı olmaksızın istenilen verileri ogrenci tablosundan oku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-&gt;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tablosundaki tüm kayıtları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-&gt;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ogrenci  tablosundaki verilerin sadece ad ve no bilgilerini göst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250920" y="980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elirli bir şarta uyan verilerin okunması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WHER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paremetresi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Numarası 15 olan öğrencilerin  tüm bilgilerinin görüntülenmesi için aşağıdaki ifade yazı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*F ROM ogrenci WHERE no=15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ınav notundan 50-70 arası not ala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not_1 BETWEEN 50-7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nın içinde ‘M’geçen öğrencilerin ad ve numarasının görüntülenmesi için aşağıdaki ifade yaz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d,no FROM ogrenci WHERE ad LIKE ‘%M%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61128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le gelen kayıtların sıralamasını değiştir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DER B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ile birlikte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rsa artan sıralama,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SC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kullanılırsa azalan sıralama yapar.Herhangi bir ifade yazılmazsa artan sıralama yap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dı”M” ile Başlayan öğrencilerin bilgilerini soyadına göre artan sıralamada görüntülenmesi için aşağıdaki ifade yazılır.(a…..z sıralam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*FROM ogrenci WHERE adi=‘M%’ ORDER BY soyad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h)Kayıt Sil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Tablodan kayıt silme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DELETE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FROM tablo_adi WHERE koşu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SQL komutu ogrenci tablosunda bolum bilgisi”bilişim”olan tüm kayıtları sil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DELETE *FROM ogrenci WHERE bolum=‘bilişim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i)Kayıt Güncellem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1699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da bulunan kayıtlar üzerinde değişiklik yapmak istendiğinde UPDATE ifadesi kullanılır.Çoğunlukla where ifadesi ile kullanılır.Where ifadesi kullanılmaz ise tablodaki tüm kayıtlar güncellenec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tablo_adi SET alan1=değer1,alan2=değer2,……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WHERE Koşul cümlesi 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Öğrenci numarası 35 olan öğrencinin doğum tarihini 05/02/1991 olarak değiştirecek SQL komutu aşağıdaki gib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UPDATE ogrenci SET dogum_tarihi=‘1991/05/02’ WHERE no=3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Fonksiyon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79280" y="1341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) Standart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AVG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aritmetik ortalama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SUM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toplamını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IN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küç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MAX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en büyü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OUN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kayıt sayısını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ROUN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 verilen alanın değerinin virgülden sonraki kısmını yuvarla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00000"/>
                </a:solidFill>
                <a:latin typeface="Calibri"/>
              </a:rPr>
              <a:t>MYSQL Veritabanı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Veritabanı,içerisinde çeşitli verileri bulunduran birbirleriyle ilişkili tablolardan oluşmaktadır. MySQL veritabanı da SQL ve Access gibi farklı tablolardan ve bu tablo içerisindeki alanlardan meydana ge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600" spc="-1" strike="noStrike">
                <a:solidFill>
                  <a:srgbClr val="000000"/>
                </a:solidFill>
                <a:latin typeface="Calibri"/>
              </a:rPr>
              <a:t>MySQL veritabanında sayısal bilgiler INT,string bilgiler VARCHAR türünde tanım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250920" y="76464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b)Karşılaştırma Operatörleri ve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tir “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1 =0; SONUÇ=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‘0’ =0; 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Eşit Değildir”&lt;&gt;” ,”!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’.O1’&lt;&gt; ‘0.01’;SONUÇ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üçüktür veya Küçük eşittir “&lt;“ , “&l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lt;2; SONUÇ=1 </a:t>
            </a:r>
            <a:r>
              <a:rPr b="0" lang="tr-TR" sz="1800" spc="-1" strike="noStrike">
                <a:solidFill>
                  <a:srgbClr val="ff0000"/>
                </a:solidFill>
                <a:latin typeface="Calibri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Büyüktür  veya büyük eşittir “&gt;” , “&gt;=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2&gt;=2;SONUÇ =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GREATEST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en büy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GREATEST (2,0) ;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LEAST (değer1,değer2,….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 olarak verilen değerlerden  en küçük olan değer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LEAST  (2,0) ;               sonuç =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24000" y="1125000"/>
            <a:ext cx="822960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)Matematiksel Fonksiyonla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ABS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mutlak değerini bulu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ABS(2);                  Sonuç 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OD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iki değerin bölümünden kalanını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MOD(234,10);     Sonuç=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SQRT()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arametre olarak verilen değerin karekökünü ver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QRT (4) ;              Sonuç=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521560" cy="1908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7030a0"/>
                </a:solidFill>
                <a:latin typeface="Calibri"/>
              </a:rPr>
              <a:t>MySQL Sunucusuna Bağlantı </a:t>
            </a:r>
            <a:br>
              <a:rPr sz="20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 dilinde veritabanı ile işlem yapılacağı zaman ilk olarak web sunucusu aracılığıyla veritabanı dosyası ile bağlantı kuru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bir değişkene atanır ve MySQL sunucu kurulumunda şifre konulmamışsa şifre parametresi boş bırakılmalı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mysql_connect(sunucu,kullanıcı_Adi,sifre;yeni_baglant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”bağlantı kurulacak MySQL sunucusunun ism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localhost sunucusunda root kullanıcı adı ve root şifresiyle bağlantı için aşağıdaki ifade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baglanti=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connect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localhost” ,”root” ,”root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tr-TR" sz="1800" spc="-1" strike="noStrike">
                <a:solidFill>
                  <a:srgbClr val="000000"/>
                </a:solidFill>
                <a:latin typeface="Calibri"/>
              </a:rPr>
              <a:t>Yerel sunucuda sunucu localhost ismini a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Veritabanı Seçim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24000" y="1557360"/>
            <a:ext cx="822960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ile bağlantı kurulduktan sonra kullanılacak veritabanının seçilmesi gerekir.Veritabanı seçim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select_db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 başarı ile çalışırsa TRUE, çalışmazsa FALSE değeri döndür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select_db(“veritabanı”,”bağlantı_değişkeni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“veritabanı”)=Bağlantı kurulacak veritabanı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(”bağlantı_değişkeni”)= mysql_connect fonksiyonunun atandığı bağlantı değişken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PHP ile MySQL Veritabanı  Oluşturma 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stemci yazılımı veya mysqladmin kullanmadan MySQL veritabanı oluşturmak için mysql_create_db() fonksiyonu kullanılı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;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sunucu üzerinde personel isminde bir veritabanı oluşturmak için aşağıdaki ifade kullanılab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&lt;?PH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$bg=@mysql_connect(“localhost”,”root”,”mysql”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MySQL e Bağlanılamıyor!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(“CREATE DATABASE personel”,$bg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or die (“Veritabanı oluşturulamadı”.mysql_error()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SQL İfadelerinin Kullanımı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2400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 kurulan veritabanı üzerine SQL ifadelerini kullan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query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fadesi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nuc=mysql_query(“sql_ifadesi”,”bağlantı_değişkeni”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ql_ifadesi=Çalıştırılmak istenen SQL ifades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ağlantı_değişkeni=mysql_connect fonksiyonunun atandığı bağlantı değişkenidi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MySQL Sunucu İşlem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9528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unucu üzerinde çalıştırılan UPDATE,INSERT ve DELETE işlemleri geriye değer döndürmez.Sadece SELECT  ifadelerinde geriye sonuç döner.Bu sonuçlar üzerinde işlem yapmak için aşağıdaki fonksiyonlar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a) mysql_num_field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Bu komut SQL ifadesinde seçilen alanların sayısını bulmak için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b) mysql_num_rows 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sorgusunun çalışması sonucu elde edilen kayıt sayısını bulmak için kullanılır.INSERT,UPDATE veya DELETE gibi tablo üzerinde değişiklik yapan SQL ifadeleri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affected_rows()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u kullanıl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c)mysql_fetch_row(“sorgu_değişkeni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ELECT ifadesi sonucu dönen kayıtları almak için kullanılır.Sorgudan dönen alanlar mysql_fetch_row()fonksiyonun atandığı değişkene dizi şeklinde atanacaktır.Daha fazla döndürecek kayıt kalmadığında “false” değeri dön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528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result(“sorgu_değişkeni”,kayit”,”alan”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Sorgu sonucu dönen değerlerden istenilen kaydın alan bilgisi alınabilir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ayıt” parametresi sayısal bir değerdir.”alan” parametresi sayısal olabileceği gibi alan ismide olabilir.Örneğin,sorgudan dönen değerlerden 5.satırdaki kaydın ad bilgisi için mysql_result($sorgu,5,”ad”)veya mysql_result($sorgu,5,5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c00000"/>
                </a:solidFill>
                <a:latin typeface="Calibri"/>
              </a:rPr>
              <a:t>d) mysql_error() ve mysql_errno(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 ifadelerinin çalışması esnasında oluşan hata mesajlarını yazılı olarak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or();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hata kodunu almak için </a:t>
            </a: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mysql_errno ()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fonksiyonları kullanılır.Parametre olarak bağlantı değişkeninin adını alır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Sunucu Bağlantısını Kapatma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Veritabanına bağlantı sayısı sınırlı olabileceği için veritabanıyla ilgili işlemler bittiğinde bağlantının kapatılması gerekir .Aksi Takdirde diğer kullanıcılar bağlanmak istediğinde sorun oluşabilir.Bağşantı kapatmak için mysql_close fonksiyonu kullanılı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baglanti_degiskeni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alibri"/>
              </a:rPr>
              <a:t>Örnek : </a:t>
            </a: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Aşağıdaki kullanım $baglanti değişkenine atanan  MySQL bağlantısını kapatmaktadı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Mysql_close($connec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4617b"/>
                </a:solidFill>
                <a:latin typeface="Calibri"/>
              </a:rPr>
              <a:t>MySQL Kurulumu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kurulumunun en son versiyonu www.mysql.com  adresinden indirelebilir.Kurulum dosyasını çalıştırdıktan sonra ilk ekranda”Next”butonuna tıklayarak devam edilir.Kurulum tipi belirlenip “Install “butonuna basılır.Next butonlarıyla ilerlenip kurulum tamamlanı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MySQL sunucunun veritabanına  erişimi için yapılandırılması gerekir. Standart ve detaylı olmak üzere iki şekilde yapılır. Yapılandırma işlemleri “Execute”butonuna basılarak aktif hale getirili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tr-TR" sz="2400" spc="-1" strike="noStrike">
                <a:solidFill>
                  <a:srgbClr val="000000"/>
                </a:solidFill>
                <a:latin typeface="Calibri"/>
              </a:rPr>
              <a:t>Finish”butonuna basılarak aktif hale getirilir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PHPMyAdmin Kurulumu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PHPMyAdmin,MySQL veri tabanına kolayca erişimi sağlayarak veri tabanı işlemlerinin görsel yolla yapılabilmesi hazırlanmış arayüzdü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Kuruluma gerek yoktur.Sıkıştırılmış klasör içinde bulunan dosyaları açarak web sunucusu klasörüne(apache web sunucusu için htdocs klasörü)kaydetmek yeterlid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5400" spc="-1" strike="noStrike">
                <a:solidFill>
                  <a:srgbClr val="089ca3"/>
                </a:solidFill>
                <a:latin typeface="Calibri"/>
              </a:rPr>
              <a:t>KURULUM AŞAMALARI 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Gerekli dosyalar www.phpmyadmin.net adresinden indirileb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İndirilen dosya açılarak htdocs klasörü altına kopyalanı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yapılandırılması için aşağıdaki adımlar uygulanı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PhpMyAdmin klasörü içinde bulunan config.inc dosyasını açılarak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;satır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$cfg [‘PmaAbsoluteUri’]=“http ://localhost/phpmyadmin/’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alibri"/>
              </a:rPr>
              <a:t>olarak değiştirili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i][User’]=‘root’;satırında kullanıcı adının root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$cfg [‘Servers’][$][‘password’]=“;root kullanıcı adı ile bağlantı yapılıyorsa şifre kısmının boş olması gerek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Config.inc dosyası kaydedil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alibri"/>
              </a:rPr>
              <a:t>İnternet tarayıcının adres çubuğuna http://localhost/phpmyadmin/ yazdığınızda hata ile karşılaşılmıyorsa phpMyAdmin yazılımı başarıyla kurulmuş demekti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04617b"/>
                </a:solidFill>
                <a:latin typeface="Calibri"/>
              </a:rPr>
              <a:t>MySQL Yazılım Kuralları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50920" y="1988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7030a0"/>
                </a:solidFill>
                <a:latin typeface="Calibri"/>
              </a:rPr>
              <a:t>a) Veritabanı Oluşturm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oluşturma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CREATE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komutu veril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adında bir veritabanı oluşturulmuştu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CREATE DATABASE ogre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68360" y="1196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b) Veritabanı Silm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MYSQL’de veritabanı silmek için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DROP DATABASE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komutu kullanılır.Komut çalıştırıldığında silinen veritabanın içerisindeki tüm tablolar ve kayıtlarda silinmiş olacaktır.Silinen kayıtlar geri getirilemez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Kullanım Şekl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veritabanı_adı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alibri"/>
              </a:rPr>
              <a:t>Örnek:</a:t>
            </a: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Aşağıdaki komutla okul veritabanı silinecekti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DROP DATABASE okul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11280" y="69228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900"/>
            </a:br>
            <a:r>
              <a:rPr b="1" lang="tr-TR" sz="2800" spc="-1" strike="noStrike">
                <a:solidFill>
                  <a:srgbClr val="7030a0"/>
                </a:solidFill>
                <a:latin typeface="Calibri"/>
              </a:rPr>
              <a:t>c)MySQL Veri Türleri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8360" y="1413000"/>
          <a:ext cx="8229600" cy="5121000"/>
        </p:xfrm>
        <a:graphic>
          <a:graphicData uri="http://schemas.openxmlformats.org/drawingml/2006/table">
            <a:tbl>
              <a:tblPr/>
              <a:tblGrid>
                <a:gridCol w="1871640"/>
                <a:gridCol w="635796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eri Tür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çıklam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NY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28 ile 127 arasında tamsayı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ALL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2768 ile 32768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8388608 ile 838860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2147483648 ile -2147483647 arasında tam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G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9223372036854775808-9223372036854775807 arası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A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ülden sonra 4 yada 8 haneli ondalık say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STAMP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andaki sistem zamanını tu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:MM:SS,HHMMSS,HHMM,HH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TIM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YYY-MM-DD HH:MM:SS  formatında za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 sayısını geçmemek şartıyla değişen boyutta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esinlikle n sayısı kadar karak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8T16:07:00Z</dcterms:created>
  <dc:creator>pc</dc:creator>
  <dc:description/>
  <dc:language>en-US</dc:language>
  <cp:lastModifiedBy>Vento</cp:lastModifiedBy>
  <dcterms:modified xsi:type="dcterms:W3CDTF">2013-11-26T12:38:50Z</dcterms:modified>
  <cp:revision>33</cp:revision>
  <dc:subject/>
  <dc:title>PHP ve MYSQL</dc:title>
</cp:coreProperties>
</file>