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82B0A6-0B48-4A10-B8F2-4FF36FBF08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77F2D2-4B23-4CFE-9E35-A17BA96446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836DDD-E49E-46D8-A372-67500FAFAC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0F7FF6-446C-4E81-A86C-C7D3B3246E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AA9836-6065-424A-8980-1B12F6EEDF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CB81E4-E15E-4087-B69F-D9665137F3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87434E-A561-455B-9812-240BDE685F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6FA570-B998-487D-9BE3-1BC649A820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7188BE-CD1C-4151-BDA0-AD4D9F3F60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00A9AA-B9CF-4FA8-A52F-4A0BE8E716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E8D37A-2B4B-4E10-AA33-94B33A631E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94DF83-9080-4525-B294-88A81775D9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47A108-D88E-464E-851E-6573BB54C8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53C804-19C3-4AE8-B6EE-6A6005E1FD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02D043-8D6D-4B30-9F19-433FA900BB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66D938-A239-42FB-B2F1-68B75B5005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F62F49-2C05-4DAB-B067-2E04ACBF7E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03B12D4-B415-417D-B46D-E421B8E29B4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1523C5-E155-44B6-98A4-15C5686382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BB9E0E-6BB2-44C4-A13C-6346F999CA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955291-3D5F-4364-84F9-5B26D6018E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EFF552-C1B8-4684-92B3-A4C4FFBF49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B0FECF-D49B-44E3-A7FC-DD6D187F57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87BCDA-024E-45F3-9982-E4338D3794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4C462D-9705-48B8-9D6A-4D58827F64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0B5851-ABA1-47EF-8200-0839ECA9DB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DAA505-0805-4814-B112-152B243421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B5D07A-8747-4D00-BBC4-6248821749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F29AFC8-C911-4A62-93FA-621510C68FE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9ED8CF7-E680-4543-B57E-2880592F7C4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0E2465B-D915-4FFB-AFF5-74BE3657040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0D761E-E034-4939-B85A-8DE5122DE1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1117C08-DA78-4EE4-9396-77E89B2734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0AEDAF-8DE5-49B0-A24F-5CFD7E940C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93C42C-443D-44A5-AC52-B462ED4083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8155F0-376C-41E3-9876-CA522446B9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72FCB0-AF71-424A-874E-D351E9D703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2E10E8-B285-4C78-AD5E-90B655CE63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6F6235-FFA1-4474-8E73-1FFE47560F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F2192C-0305-4FEE-8112-90C68853A5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A0E431-6DC6-41A6-B0DB-78E455970D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94FEB5E-0525-4736-9FA7-9BC0E77EB5F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1C3EDF8-AFAC-4C69-AB9B-569F19FD6F0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C481C6-3513-4972-B06B-9C0F6B989F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FF6A37-702E-444D-BBAF-C2B0DF0F3C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8155EF-58EF-42B3-AD38-A650BB5D2D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06BF6-69AE-4136-816B-6D8CE2667F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23A4B-971C-45EC-A734-242CF5FD48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FC9F0-277F-4D9B-9C49-36A20C383AED}"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12FA9-8915-42EF-9550-18C995AC108B}"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09341-67D6-4201-A887-85FEEF08C4C8}"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1671A-655B-4B72-9338-00115BB69480}"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ffffff"/>
                </a:solidFill>
                <a:latin typeface="Constantia"/>
              </a:rPr>
              <a:t>Grafik İşlemleri</a:t>
            </a:r>
            <a:endParaRPr b="0" lang="en-US" sz="4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250920" y="836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_değişkeni=imagecreate(genişlik_değeri,yükseklik_değer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genişlik ve yükseklik değerlerinin türü pixe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 1</a:t>
            </a:r>
            <a:r>
              <a:rPr b="0" lang="tr-TR" sz="1800" spc="-1" strike="noStrike">
                <a:solidFill>
                  <a:srgbClr val="000000"/>
                </a:solidFill>
                <a:latin typeface="Constantia"/>
              </a:rPr>
              <a:t>00*50 boyutlarında jpeg formatında boş bir resim oluşturalı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Content-type:image/jpeg”);</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ate(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p:txBody>
      </p:sp>
      <p:sp>
        <p:nvSpPr>
          <p:cNvPr id="219" name="3 Dikdörtgen"/>
          <p:cNvSpPr/>
          <p:nvPr/>
        </p:nvSpPr>
        <p:spPr>
          <a:xfrm>
            <a:off x="5435640" y="3357720"/>
            <a:ext cx="1512720" cy="50292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truecolor( )</a:t>
            </a:r>
            <a:endParaRPr b="0" lang="en-US" sz="4800" spc="-1" strike="noStrike">
              <a:solidFill>
                <a:srgbClr val="04617b"/>
              </a:solidFill>
              <a:latin typeface="Calibri"/>
            </a:endParaRPr>
          </a:p>
        </p:txBody>
      </p:sp>
      <p:sp>
        <p:nvSpPr>
          <p:cNvPr id="221"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oyutları belirtilen gerçek renkli boş bir resim alanı oluşturur. Fonksiyonun</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Çalışması sırasında hata  oluşursa FALSE değeri döndürür aksi takdirde resim değişkenini döndürü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a:t>
            </a:r>
            <a:r>
              <a:rPr b="1" lang="tr-TR" sz="1800" spc="-1" strike="noStrike">
                <a:solidFill>
                  <a:srgbClr val="000000"/>
                </a:solidFill>
                <a:latin typeface="Constantia"/>
              </a:rPr>
              <a:t>magecreate </a:t>
            </a:r>
            <a:r>
              <a:rPr b="0" lang="tr-TR" sz="1800" spc="-1" strike="noStrike">
                <a:solidFill>
                  <a:srgbClr val="000000"/>
                </a:solidFill>
                <a:latin typeface="Constantia"/>
              </a:rPr>
              <a:t>fonksiyonu yerine bu fonksiyonun kullanılması tavsiye edilmektedi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_değişkeni =imagecreatetruecolor(genişlik_değeri,yükseklik_değer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1800" spc="-1" strike="noStrike">
                <a:solidFill>
                  <a:srgbClr val="000000"/>
                </a:solidFill>
                <a:latin typeface="Constantia"/>
              </a:rPr>
              <a:t>header(“Content-type:image/jpeg”);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truecolor (100,50);</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t;</a:t>
            </a:r>
            <a:endParaRPr b="0" lang="en-US" sz="1800" spc="-1" strike="noStrike">
              <a:solidFill>
                <a:srgbClr val="000000"/>
              </a:solidFill>
              <a:latin typeface="Constantia"/>
            </a:endParaRPr>
          </a:p>
        </p:txBody>
      </p:sp>
      <p:sp>
        <p:nvSpPr>
          <p:cNvPr id="222" name="3 Dikdörtgen"/>
          <p:cNvSpPr/>
          <p:nvPr/>
        </p:nvSpPr>
        <p:spPr>
          <a:xfrm>
            <a:off x="5724360" y="4149720"/>
            <a:ext cx="1511640" cy="503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jpeg( )</a:t>
            </a:r>
            <a:endParaRPr b="0" lang="en-US" sz="48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JPEG formatında oluşturmak için kullanılır. Oluşturulan resim sadece sayfada görüntülenebileceği gibi dosya olarak sak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color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isteğe bağlı olarak 0(en kötü-en küçük boyut)-100(en iyi-en fazla boyut)arasında değerler  alabilir. Kullanılması zorunlu deği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im dosya olarak saklanmayacaksa veya kalitesi üzerinde değişiklik yapılmayacaksa bir parametre ile çalışab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jp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1800" spc="-1" strike="noStrike">
                <a:solidFill>
                  <a:srgbClr val="000000"/>
                </a:solidFill>
                <a:latin typeface="Constantia"/>
              </a:rPr>
              <a:t>$resim=imagecreatetruecolor(100,50);</a:t>
            </a:r>
            <a:br>
              <a:rPr sz="1800"/>
            </a:br>
            <a:r>
              <a:rPr b="0" lang="tr-TR" sz="1800" spc="-1" strike="noStrike">
                <a:solidFill>
                  <a:srgbClr val="000000"/>
                </a:solidFill>
                <a:latin typeface="Constantia"/>
              </a:rPr>
              <a:t>    </a:t>
            </a:r>
            <a:r>
              <a:rPr b="0" i="1" lang="tr-TR" sz="1800" spc="-1" strike="noStrike">
                <a:solidFill>
                  <a:srgbClr val="000000"/>
                </a:solidFill>
                <a:latin typeface="Constantia"/>
              </a:rPr>
              <a:t>/*    a.jpg isminde ve 75 kalite değer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tı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jpg”,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a:t>
            </a:r>
            <a:r>
              <a:rPr b="0" i="1" lang="tr-TR" sz="1800" spc="-1" strike="noStrike">
                <a:solidFill>
                  <a:srgbClr val="000000"/>
                </a:solidFill>
                <a:latin typeface="Constantia"/>
              </a:rPr>
              <a:t>//Resmi bellekten sil</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gif()</a:t>
            </a:r>
            <a:endParaRPr b="0" lang="en-US" sz="48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elirtilen boyutlar ve özelliklere göre bir resmi GIF formatında oluşturmak için kullanılır. Oluşturulan resim sadece sayfada görüntülenebileceği gibi dosya olarak saklanabil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Kullanım şekl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gif(resim_değişkeni,dosya_ism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resim_değişkeni” resim alanı oluşturmak için kullanılan imagecreatetruecolor fonksiyonundan dönen değer. </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dosya_ismi”oluşturulan resim dosya olarak saklanacaksa kullanılır.Dosya ismi yoluyla birlikte tırnak içerisinde  yazılır.Kullanılması zorunlu değildir.Resim dosya olarak saklandığında sayfada görünmeyecektir.Ayrıca çağrılması gerek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gif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a.gif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dosyamızla aynı yere oluşturacaklardır.    */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gif($resim,”a.gif”,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Resmi bellekten sil</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wbmp( )</a:t>
            </a:r>
            <a:endParaRPr b="0" lang="en-US" sz="48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WBMP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wbmp(resim_değişkeni,dosya_ismi,arka pla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 Dosya ismi yoluyla birlikte tırnak içerisinde yazılır.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100*50 boyutlarında wbmp formatında ve oluşturulan zemin renginde bir resim oluşturalım ve sayfada görüntüleyel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resim=imagecreatetruecolor(100,50);</a:t>
            </a:r>
            <a:br>
              <a:rPr sz="2400"/>
            </a:br>
            <a:r>
              <a:rPr b="0" lang="tr-TR" sz="2400" spc="-1" strike="noStrike">
                <a:solidFill>
                  <a:srgbClr val="000000"/>
                </a:solidFill>
                <a:latin typeface="Constantia"/>
              </a:rPr>
              <a:t>        $zemin_rengi=image colorallocate ($resim,255,12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wbmp($resim,NULL,$zemin_rengi);</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destroy($resim);</a:t>
            </a:r>
            <a:br>
              <a:rPr sz="2400"/>
            </a:b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png( )</a:t>
            </a:r>
            <a:endParaRPr b="0" lang="en-US" sz="4800" spc="-1" strike="noStrike">
              <a:solidFill>
                <a:srgbClr val="04617b"/>
              </a:solidFill>
              <a:latin typeface="Calibri"/>
            </a:endParaRPr>
          </a:p>
        </p:txBody>
      </p:sp>
      <p:sp>
        <p:nvSpPr>
          <p:cNvPr id="236" name=""/>
          <p:cNvSpPr txBox="1"/>
          <p:nvPr/>
        </p:nvSpPr>
        <p:spPr>
          <a:xfrm>
            <a:off x="179280" y="1267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PNG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Dosya ismi yoluyla birlikte tırnak içerisinde yazılır. 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sıkıştırma düzeyidir. 0-9 arası değer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PNG formatında boş bir resim oluşturalım ve a.pn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i="1" lang="tr-TR" sz="1800" spc="-1" strike="noStrike">
                <a:solidFill>
                  <a:srgbClr val="000000"/>
                </a:solidFill>
                <a:latin typeface="Constantia"/>
              </a:rPr>
              <a:t>/*       a.png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lardır       </a:t>
            </a:r>
            <a:r>
              <a:rPr b="0" lang="tr-TR" sz="1800" spc="-1" strike="noStrike">
                <a:solidFill>
                  <a:srgbClr val="000000"/>
                </a:solidFill>
                <a:latin typeface="Constantia"/>
              </a:rPr>
              <a: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png”,”2”);</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Resmi bellekten sil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Grafik işlemleri </a:t>
            </a:r>
            <a:endParaRPr b="0" lang="en-US" sz="48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adece HTML tabanlı çıktı almak için kullanılmaz. Çeşitli formatlardaki (gif,png,jpeg,wbmp,xpm)resim dosyaları oluşturmak, bu dosyalar üzerinde değişiklik yapmak çeşitli grafik tabanlı nesneler oluşturmak için de kullanılmaktadır. PHP içerisinde grafik işlemlerini kullanabilmek için GD kütüphanesinin eklenmesi gerekmekted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unucu üzerinde GD kütüphanesi yoksa http://www.libgd.org/</a:t>
            </a:r>
            <a:r>
              <a:rPr b="0" lang="tr-TR" sz="2400" spc="-1" strike="noStrike" u="sng">
                <a:solidFill>
                  <a:srgbClr val="000000"/>
                </a:solidFill>
                <a:uFillTx/>
                <a:latin typeface="Constantia"/>
              </a:rPr>
              <a:t>adresinden </a:t>
            </a:r>
            <a:r>
              <a:rPr b="0" lang="tr-TR" sz="2400" spc="-1" strike="noStrike">
                <a:solidFill>
                  <a:srgbClr val="000000"/>
                </a:solidFill>
                <a:latin typeface="Constantia"/>
              </a:rPr>
              <a:t>temin edilebilir. Kullanılabilecek resim formatları yüklü olan GD kütüphanesine bağlıdır. Örneğin; gd-1.6’dan eski olan GD kütüphanelerinde GIF formatı kullanılabilirken PNG formatını destekleyememektedir.    </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1" name="7 Metin kutusu"/>
          <p:cNvSpPr/>
          <p:nvPr/>
        </p:nvSpPr>
        <p:spPr>
          <a:xfrm>
            <a:off x="2268360" y="2349360"/>
            <a:ext cx="22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8 Metin kutusu"/>
          <p:cNvSpPr/>
          <p:nvPr/>
        </p:nvSpPr>
        <p:spPr>
          <a:xfrm>
            <a:off x="2421000" y="250200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10 Metin kutusu"/>
          <p:cNvSpPr/>
          <p:nvPr/>
        </p:nvSpPr>
        <p:spPr>
          <a:xfrm>
            <a:off x="468360" y="1773360"/>
            <a:ext cx="777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destroy ( )</a:t>
            </a:r>
            <a:endParaRPr b="0" lang="en-US" sz="4800" spc="-1" strike="noStrike">
              <a:solidFill>
                <a:srgbClr val="04617b"/>
              </a:solidFill>
              <a:latin typeface="Calibri"/>
            </a:endParaRPr>
          </a:p>
        </p:txBody>
      </p:sp>
      <p:sp>
        <p:nvSpPr>
          <p:cNvPr id="240"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luşturulan resimler bellekte yer kaplayacağı için oluşturduktan sonra bellekten silmek amacıyla kullanılır. Resim sadece bellekten silinir sayfada görünmeye devam eder.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Örnekler olarak resim oluşturma fonksiyonlarında kullanılmıştı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42" name="PlaceHolder 2"/>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7200" spc="-1" strike="noStrike">
                <a:solidFill>
                  <a:srgbClr val="7030a0"/>
                </a:solidFill>
                <a:latin typeface="Constantia"/>
              </a:rPr>
              <a:t>R</a:t>
            </a:r>
            <a:r>
              <a:rPr b="1" lang="tr-TR" sz="7200" spc="-1" strike="noStrike">
                <a:solidFill>
                  <a:srgbClr val="ff0000"/>
                </a:solidFill>
                <a:latin typeface="Constantia"/>
              </a:rPr>
              <a:t>e</a:t>
            </a:r>
            <a:r>
              <a:rPr b="1" lang="tr-TR" sz="7200" spc="-1" strike="noStrike">
                <a:solidFill>
                  <a:srgbClr val="8e8d8c"/>
                </a:solidFill>
                <a:latin typeface="Constantia"/>
              </a:rPr>
              <a:t>n</a:t>
            </a:r>
            <a:r>
              <a:rPr b="1" lang="tr-TR" sz="7200" spc="-1" strike="noStrike">
                <a:solidFill>
                  <a:srgbClr val="ffc000"/>
                </a:solidFill>
                <a:latin typeface="Constantia"/>
              </a:rPr>
              <a:t>k</a:t>
            </a:r>
            <a:r>
              <a:rPr b="1" lang="tr-TR" sz="7200" spc="-1" strike="noStrike">
                <a:solidFill>
                  <a:srgbClr val="8e8d8c"/>
                </a:solidFill>
                <a:latin typeface="Constantia"/>
              </a:rPr>
              <a:t> Kullanımı</a:t>
            </a:r>
            <a:endParaRPr b="0" lang="en-US" sz="7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2400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colorallocate( )</a:t>
            </a:r>
            <a:endParaRPr b="0" lang="en-US" sz="4400" spc="-1" strike="noStrike">
              <a:solidFill>
                <a:srgbClr val="04617b"/>
              </a:solidFill>
              <a:latin typeface="Calibri"/>
            </a:endParaRPr>
          </a:p>
        </p:txBody>
      </p:sp>
      <p:sp>
        <p:nvSpPr>
          <p:cNvPr id="244" name=""/>
          <p:cNvSpPr txBox="1"/>
          <p:nvPr/>
        </p:nvSpPr>
        <p:spPr>
          <a:xfrm>
            <a:off x="250920" y="1628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cak resim için renk tanımlamada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renk_değişkeni=imagecolorallocate </a:t>
            </a:r>
            <a:r>
              <a:rPr b="0" lang="tr-TR" sz="1800" spc="-1" strike="noStrike">
                <a:solidFill>
                  <a:srgbClr val="000000"/>
                </a:solidFill>
                <a:latin typeface="Constantia"/>
              </a:rPr>
              <a:t> (resim_değişkeni,kırmızı,yeşil,mav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ırmızı”, “yeşil”, “mavi” renklerin 0-255 arasındaki değerler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oluşturmak için </a:t>
            </a:r>
            <a:r>
              <a:rPr b="1" lang="tr-TR" sz="1800" spc="-1" strike="noStrike">
                <a:solidFill>
                  <a:srgbClr val="000000"/>
                </a:solidFill>
                <a:latin typeface="Constantia"/>
              </a:rPr>
              <a:t>imagecreate  </a:t>
            </a:r>
            <a:r>
              <a:rPr b="0" lang="tr-TR" sz="1800" spc="-1" strike="noStrike">
                <a:solidFill>
                  <a:srgbClr val="000000"/>
                </a:solidFill>
                <a:latin typeface="Constantia"/>
              </a:rPr>
              <a:t>fonksiyonu kullanılırsa yazılan kodlar içerisindeki ilk tanımlanan renk herhangi bir işleme gerek kalmadan oluşturulan resim için zemin rengi olarak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4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imagecreate fonksiyonu ile oluşturularak yeşil bir renk tanımlayalım. Kodlar  çalıştırıldığında görüleceği gibi resmin zemin rengi yeşil olacakt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100,50);</a:t>
            </a:r>
            <a:br>
              <a:rPr sz="1800"/>
            </a:br>
            <a:r>
              <a:rPr b="0" lang="tr-TR" sz="1800" spc="-1" strike="noStrike">
                <a:solidFill>
                  <a:srgbClr val="000000"/>
                </a:solidFill>
                <a:latin typeface="Constantia"/>
              </a:rPr>
              <a:t>           $yesil=</a:t>
            </a:r>
            <a:r>
              <a:rPr b="1" lang="tr-TR" sz="1800" spc="-1" strike="noStrike">
                <a:solidFill>
                  <a:srgbClr val="000000"/>
                </a:solidFill>
                <a:latin typeface="Constantia"/>
              </a:rPr>
              <a:t>imagecolorallocate </a:t>
            </a:r>
            <a:r>
              <a:rPr b="0" lang="tr-TR" sz="1800" spc="-1" strike="noStrike">
                <a:solidFill>
                  <a:srgbClr val="000000"/>
                </a:solidFill>
                <a:latin typeface="Constantia"/>
              </a:rPr>
              <a:t> ($resim,0,25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jpeg($resim);</a:t>
            </a:r>
            <a:br>
              <a:rPr sz="1800"/>
            </a:br>
            <a:r>
              <a:rPr b="0" lang="tr-TR" sz="1800" spc="-1" strike="noStrike">
                <a:solidFill>
                  <a:srgbClr val="000000"/>
                </a:solidFill>
                <a:latin typeface="Constantia"/>
              </a:rPr>
              <a:t>           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47" name="3 Dikdörtgen"/>
          <p:cNvSpPr/>
          <p:nvPr/>
        </p:nvSpPr>
        <p:spPr>
          <a:xfrm>
            <a:off x="6084720" y="3429000"/>
            <a:ext cx="165600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fill( )</a:t>
            </a:r>
            <a:endParaRPr b="0" lang="en-US" sz="48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koordinattan başlayarak resmi belirtilen renk ile boya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_değişkeni,x,y,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başlangıç noktasının x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başlangıç noktasının Y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nk_değişkeni” imagecolorallocate fonksiyonu ile oluşturulan renk 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mi parametre olarak verilen x ve y koordinatlarından başlayarak diğer parametre olan renk ile  boyar.Tek bir resim oluşturuluyorsa veya tek bir alan boyanacaksa x,y koordinatları  0,0 ver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şağıdaki örneğimizde imagecreatetruecolor fonksiyonu ile resim oluşturulur ve imagefill fonksiyonu yardımıyla resmin kırmızı olmasını sağlar.</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sim=imagecreatetruecolor(10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nk_kirmizi=imagecolorallocate($resim,255,0,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fill($resim,0,0,$renk_kirmizi);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png($resim);</a:t>
            </a:r>
            <a:br>
              <a:rPr sz="2400"/>
            </a:br>
            <a:r>
              <a:rPr b="0" lang="tr-TR" sz="2400" spc="-1" strike="noStrike">
                <a:solidFill>
                  <a:srgbClr val="000000"/>
                </a:solidFill>
                <a:latin typeface="Constantia"/>
              </a:rPr>
              <a:t>imagedestroy($res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2" name="3 Dikdörtgen"/>
          <p:cNvSpPr/>
          <p:nvPr/>
        </p:nvSpPr>
        <p:spPr>
          <a:xfrm>
            <a:off x="6372360" y="4797360"/>
            <a:ext cx="165708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54" name="PlaceHolder 2"/>
          <p:cNvSpPr>
            <a:spLocks noGrp="1"/>
          </p:cNvSpPr>
          <p:nvPr>
            <p:ph/>
          </p:nvPr>
        </p:nvSpPr>
        <p:spPr>
          <a:xfrm>
            <a:off x="530280" y="2705040"/>
            <a:ext cx="7772400" cy="1509840"/>
          </a:xfrm>
          <a:prstGeom prst="rect">
            <a:avLst/>
          </a:prstGeom>
          <a:noFill/>
          <a:ln w="0">
            <a:noFill/>
          </a:ln>
        </p:spPr>
        <p:txBody>
          <a:bodyPr lIns="45720" rIns="45720" anchor="t">
            <a:normAutofit fontScale="88000"/>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8e8d8c"/>
                </a:solidFill>
                <a:latin typeface="Constantia"/>
              </a:rPr>
              <a:t>Çizim Fonksiyonları</a:t>
            </a:r>
            <a:endParaRPr b="0" lang="en-US" sz="6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5092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tr-TR" sz="4400" spc="-1" strike="noStrike">
                <a:solidFill>
                  <a:srgbClr val="04617b"/>
                </a:solidFill>
                <a:latin typeface="Calibri"/>
              </a:rPr>
              <a:t>imagefilledrectangle( )</a:t>
            </a:r>
            <a:endParaRPr b="0" lang="en-US" sz="4400" spc="-1" strike="noStrike">
              <a:solidFill>
                <a:srgbClr val="04617b"/>
              </a:solidFill>
              <a:latin typeface="Calibri"/>
            </a:endParaRPr>
          </a:p>
        </p:txBody>
      </p:sp>
      <p:sp>
        <p:nvSpPr>
          <p:cNvPr id="256" name=""/>
          <p:cNvSpPr txBox="1"/>
          <p:nvPr/>
        </p:nvSpPr>
        <p:spPr>
          <a:xfrm>
            <a:off x="179280" y="1483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dikdörtgen çizmek için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rectangle(resim_değişkeni,x1,y1,x2,y2, 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dörtgenin başlangıç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dörtgenin başlangıç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dörtgenin bitiş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dörtgenin bitiş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100*50 boyutundaki resim alanı içerisine 80*30 ebatında kırmızı renkte 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100,5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Kırmızı renkte dik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10,10,90,40,$kirmiz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oluşturalım </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1" i="1" lang="tr-TR" sz="1700" spc="-1" strike="noStrike">
                <a:solidFill>
                  <a:srgbClr val="000000"/>
                </a:solidFill>
                <a:latin typeface="Constantia"/>
              </a:rPr>
              <a:t>?&gt;</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425*50 boyutundaki resim alanı içerisine dört farklı renkte dörtgen çizel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truecolor(4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Beyaz,Kırmızı,Yeşil,Mavi renklerin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beyaz=imagecolorallocate($resim,255,255,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yesil=imagecolorallocate($resim,0,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mavi=imagecolorallocate($resim,0,0,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beyaz);</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kirmiz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yesil);</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mav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png($res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bellekten sileli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61" name="3 Dikdörtgen"/>
          <p:cNvSpPr/>
          <p:nvPr/>
        </p:nvSpPr>
        <p:spPr>
          <a:xfrm>
            <a:off x="2700360" y="5900760"/>
            <a:ext cx="1295280" cy="50472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4 Dikdörtgen"/>
          <p:cNvSpPr/>
          <p:nvPr/>
        </p:nvSpPr>
        <p:spPr>
          <a:xfrm>
            <a:off x="3995640" y="5900760"/>
            <a:ext cx="129564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5 Dikdörtgen"/>
          <p:cNvSpPr/>
          <p:nvPr/>
        </p:nvSpPr>
        <p:spPr>
          <a:xfrm>
            <a:off x="6588000" y="5900760"/>
            <a:ext cx="1297080" cy="50472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6 Dikdörtgen"/>
          <p:cNvSpPr/>
          <p:nvPr/>
        </p:nvSpPr>
        <p:spPr>
          <a:xfrm>
            <a:off x="5292720" y="5900760"/>
            <a:ext cx="129528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şağıdaki tabloda desteklenen resim biçimleri ve GD sürümleri verilmişt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Biçim    </a:t>
            </a:r>
            <a:r>
              <a:rPr b="0" lang="tr-TR" sz="2000" spc="-1" strike="noStrike">
                <a:solidFill>
                  <a:srgbClr val="000000"/>
                </a:solidFill>
                <a:latin typeface="Constantia"/>
              </a:rPr>
              <a:t>                                              </a:t>
            </a:r>
            <a:r>
              <a:rPr b="1" lang="tr-TR" sz="2000" spc="-1" strike="noStrike">
                <a:solidFill>
                  <a:srgbClr val="000000"/>
                </a:solidFill>
                <a:latin typeface="Constantia"/>
              </a:rPr>
              <a:t>      Açıklama</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GIF                  GD-1.6 dan eski ve GD-2.0.28’den yeni GD kütüphaneleri destekle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JPEG                Tüm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NG                 Sadece GD-1.6’dan yeni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inde bulunan ;</a:t>
            </a:r>
            <a:r>
              <a:rPr b="1" lang="tr-TR" sz="2000" spc="-1" strike="noStrike">
                <a:solidFill>
                  <a:srgbClr val="000000"/>
                </a:solidFill>
                <a:latin typeface="Constantia"/>
              </a:rPr>
              <a:t>extension=php_gd2.dll </a:t>
            </a:r>
            <a:r>
              <a:rPr b="0" lang="tr-TR" sz="2000" spc="-1" strike="noStrike">
                <a:solidFill>
                  <a:srgbClr val="000000"/>
                </a:solidFill>
                <a:latin typeface="Constantia"/>
              </a:rPr>
              <a:t>satırının önünde bulunan noktalı virgül kaldırıldığı zaman GD kütüphanesi aktif olacaktı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erisinde böyle bir satır  yoksa e</a:t>
            </a:r>
            <a:r>
              <a:rPr b="1" lang="tr-TR" sz="2000" spc="-1" strike="noStrike">
                <a:solidFill>
                  <a:srgbClr val="000000"/>
                </a:solidFill>
                <a:latin typeface="Constantia"/>
              </a:rPr>
              <a:t>xtension=php_gd2.dll </a:t>
            </a:r>
            <a:r>
              <a:rPr b="0" lang="tr-TR" sz="2000" spc="-1" strike="noStrike">
                <a:solidFill>
                  <a:srgbClr val="000000"/>
                </a:solidFill>
                <a:latin typeface="Constantia"/>
              </a:rPr>
              <a:t>ifadesini dosyanın sonuna ekleyerek kaydedip sunucuyu yeniden başlatmak gereklidir.</a:t>
            </a:r>
            <a:endParaRPr b="0" lang="en-US" sz="2000" spc="-1" strike="noStrike">
              <a:solidFill>
                <a:srgbClr val="000000"/>
              </a:solidFill>
              <a:latin typeface="Constantia"/>
            </a:endParaRPr>
          </a:p>
        </p:txBody>
      </p:sp>
      <p:sp>
        <p:nvSpPr>
          <p:cNvPr id="206" name="3 Metin kutusu"/>
          <p:cNvSpPr/>
          <p:nvPr/>
        </p:nvSpPr>
        <p:spPr>
          <a:xfrm>
            <a:off x="250920" y="907920"/>
            <a:ext cx="8137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240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filledellipse( )</a:t>
            </a:r>
            <a:endParaRPr b="0" lang="en-US" sz="4000" spc="-1" strike="noStrike">
              <a:solidFill>
                <a:srgbClr val="04617b"/>
              </a:solidFill>
              <a:latin typeface="Calibri"/>
            </a:endParaRPr>
          </a:p>
        </p:txBody>
      </p:sp>
      <p:sp>
        <p:nvSpPr>
          <p:cNvPr id="266" name=""/>
          <p:cNvSpPr txBox="1"/>
          <p:nvPr/>
        </p:nvSpPr>
        <p:spPr>
          <a:xfrm>
            <a:off x="250920" y="1268280"/>
            <a:ext cx="7850160" cy="482472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elips çizmek için kullanılır. Daire çizmek için genişlik ve yükseklik parametreleri verilmel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ellipse(resim_değişkeni,x,y,genişlik,yükseklik,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elipsin merkezini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elipsin merkezini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genişlik” 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ükseklik”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68"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300*100 boyutundaki resim alanı içerisine kesim şeklinde iki adet elips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300,1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zemin_rengi=imagecolorallocate($resim,222,150,1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imagefill($resim,0,0,$zemin_rengi);</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n rengin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d=imagecolorallocate($resim,255,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100,50,200,90,$yesil);</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200,50,200,90,$red);</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
        <p:nvSpPr>
          <p:cNvPr id="269" name="3 Dikdörtgen"/>
          <p:cNvSpPr/>
          <p:nvPr/>
        </p:nvSpPr>
        <p:spPr>
          <a:xfrm>
            <a:off x="4427640" y="5143680"/>
            <a:ext cx="3457440" cy="1295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0" name="4 Oval"/>
          <p:cNvSpPr/>
          <p:nvPr/>
        </p:nvSpPr>
        <p:spPr>
          <a:xfrm>
            <a:off x="4427640" y="5286240"/>
            <a:ext cx="1873080" cy="936720"/>
          </a:xfrm>
          <a:prstGeom prst="ellipse">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5 Oval"/>
          <p:cNvSpPr/>
          <p:nvPr/>
        </p:nvSpPr>
        <p:spPr>
          <a:xfrm>
            <a:off x="5869080" y="5286240"/>
            <a:ext cx="1871640" cy="936720"/>
          </a:xfrm>
          <a:prstGeom prst="ellipse">
            <a:avLst/>
          </a:prstGeom>
          <a:solidFill>
            <a:srgbClr val="c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4617b"/>
                </a:solidFill>
                <a:latin typeface="Calibri"/>
              </a:rPr>
              <a:t>imagefilledpolygon( )</a:t>
            </a:r>
            <a:endParaRPr b="0" lang="en-US" sz="36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çokgen çizme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_değişkeni,noktalar,nokta_sayis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a:t>
            </a:r>
            <a:r>
              <a:rPr b="0" i="1" lang="tr-TR" sz="1800" spc="-1" strike="noStrike">
                <a:solidFill>
                  <a:srgbClr val="000000"/>
                </a:solidFill>
                <a:latin typeface="Constantia"/>
              </a:rPr>
              <a:t>noktalar”</a:t>
            </a:r>
            <a:r>
              <a:rPr b="0" lang="tr-TR" sz="1800" spc="-1" strike="noStrike">
                <a:solidFill>
                  <a:srgbClr val="000000"/>
                </a:solidFill>
                <a:latin typeface="Constantia"/>
              </a:rPr>
              <a:t>çokgeni oluşturan noktaların koordinatlarını içeren dizi değişken.</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nokta_sayısı”</a:t>
            </a:r>
            <a:r>
              <a:rPr b="0" lang="tr-TR" sz="1800" spc="-1" strike="noStrike">
                <a:solidFill>
                  <a:srgbClr val="000000"/>
                </a:solidFill>
                <a:latin typeface="Constantia"/>
              </a:rPr>
              <a:t>çokgeni oluşturan noktaların sayısıdır.3’den fazla olmalıd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nk _değişkeni</a:t>
            </a:r>
            <a:r>
              <a:rPr b="0" lang="tr-TR" sz="1800" spc="-1" strike="noStrike">
                <a:solidFill>
                  <a:srgbClr val="000000"/>
                </a:solidFill>
                <a:latin typeface="Constantia"/>
              </a:rPr>
              <a:t>”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75"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Çokgen ve elips kullanarak Türk bayrağını çizelim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2400" spc="-1" strike="noStrike">
                <a:solidFill>
                  <a:srgbClr val="000000"/>
                </a:solidFill>
                <a:latin typeface="Constantia"/>
              </a:rPr>
              <a:t>Yıldızın birinci bölümünü oluşturacak noktalar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noktalar 1 =arra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0,70                  //Nokta 1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9,130                //Nokta 2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20,105                 //Nokta 3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48,110                  //Nokta 4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7" name=""/>
          <p:cNvSpPr txBox="1"/>
          <p:nvPr/>
        </p:nvSpPr>
        <p:spPr>
          <a:xfrm>
            <a:off x="457200" y="1934640"/>
            <a:ext cx="8229600" cy="4389480"/>
          </a:xfrm>
          <a:prstGeom prst="rect">
            <a:avLst/>
          </a:prstGeom>
          <a:noFill/>
          <a:ln w="0">
            <a:noFill/>
          </a:ln>
        </p:spPr>
        <p:txBody>
          <a:bodyPr anchor="t">
            <a:normAutofit/>
          </a:bodyPr>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Yıldızın ikinci bölümünü oluşturacak noktalar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noktalar2=array(</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182,105,                       //Nokta 1(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35,70 ,                      //Nokta 2(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20,108,                     //Nokta 3(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Bayrağın ebatlar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truecolor(300,2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y,Yıldız  ve Zemin Rengi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İki elips üst üste getirilerek ay oluşturmas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Noktaları belirtilen çokgenler  ile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yıldız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1,  4,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2,  3,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ayrağın zemin renginin dold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kirmiz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Bayrağ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null,10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p:txBody>
      </p:sp>
      <p:sp>
        <p:nvSpPr>
          <p:cNvPr id="280" name="3 Dikdörtgen"/>
          <p:cNvSpPr/>
          <p:nvPr/>
        </p:nvSpPr>
        <p:spPr>
          <a:xfrm>
            <a:off x="5003640" y="4005360"/>
            <a:ext cx="3168720" cy="165564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4 Ay"/>
          <p:cNvSpPr/>
          <p:nvPr/>
        </p:nvSpPr>
        <p:spPr>
          <a:xfrm>
            <a:off x="5508720" y="4292640"/>
            <a:ext cx="792000" cy="936720"/>
          </a:xfrm>
          <a:custGeom>
            <a:avLst/>
            <a:gdLst/>
            <a:ahLst/>
            <a:rect l="l" t="t" r="r" b="b"/>
            <a:pathLst>
              <a:path w="21600" h="21600">
                <a:moveTo>
                  <a:pt x="21600" y="0"/>
                </a:moveTo>
                <a:cubicBezTo>
                  <a:pt x="14724" y="1408"/>
                  <a:pt x="7848" y="5080"/>
                  <a:pt x="7848" y="10800"/>
                </a:cubicBezTo>
                <a:cubicBezTo>
                  <a:pt x="7848" y="16520"/>
                  <a:pt x="14724" y="20192"/>
                  <a:pt x="21600" y="21600"/>
                </a:cubicBezTo>
                <a:cubicBezTo>
                  <a:pt x="9740" y="21600"/>
                  <a:pt x="0" y="16730"/>
                  <a:pt x="0" y="10800"/>
                </a:cubicBezTo>
                <a:cubicBezTo>
                  <a:pt x="0" y="4870"/>
                  <a:pt x="9740" y="0"/>
                  <a:pt x="21600" y="0"/>
                </a:cubicBez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5 5-Nokta Yıldız"/>
          <p:cNvSpPr/>
          <p:nvPr/>
        </p:nvSpPr>
        <p:spPr>
          <a:xfrm>
            <a:off x="6659640" y="4581360"/>
            <a:ext cx="649080" cy="432000"/>
          </a:xfrm>
          <a:prstGeom prst="pi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line( )</a:t>
            </a:r>
            <a:endParaRPr b="0" lang="en-US" sz="48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8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izgi çizmek için kullanılır.Çizginin kalınlığı değiştirilemez.Kalın çizgi çizmek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teniyorsa yakın koordinatlar verilerek yapılabili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line(resim_değişkeni,x1,y1,x2,y2,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 çizginin başlangıç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çizginin başlangıç noktasının y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çizginin bitiş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 çizginin bitiş noktasını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86" name=""/>
          <p:cNvSpPr txBox="1"/>
          <p:nvPr/>
        </p:nvSpPr>
        <p:spPr>
          <a:xfrm>
            <a:off x="457200" y="1599840"/>
            <a:ext cx="7067520" cy="4800600"/>
          </a:xfrm>
          <a:prstGeom prst="rect">
            <a:avLst/>
          </a:prstGeom>
          <a:noFill/>
          <a:ln w="0">
            <a:noFill/>
          </a:ln>
        </p:spPr>
        <p:txBody>
          <a:bodyPr anchor="t">
            <a:normAutofit fontScale="98000"/>
          </a:bodyPr>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şağıdaki örneğimiz çizgi kullanarak dörtgen oluşturacak ve içerisine birisi kalın iki çizgiyi çapraz olarak çizecektir.</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201,101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beyaz=imagecolorallocate($resim,255,255,255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mor=imagecolorallocate($resim,100,50,1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imagefill($resim,0,0,$beyaz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0,$kirmizi);    //</a:t>
            </a:r>
            <a:r>
              <a:rPr b="0" i="1" lang="tr-TR" sz="1500" spc="-1" strike="noStrike">
                <a:solidFill>
                  <a:srgbClr val="000000"/>
                </a:solidFill>
                <a:latin typeface="Constantia"/>
              </a:rPr>
              <a:t>üs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100,$kirmizi);    //</a:t>
            </a:r>
            <a:r>
              <a:rPr b="0" i="1" lang="tr-TR" sz="1500" spc="-1" strike="noStrike">
                <a:solidFill>
                  <a:srgbClr val="000000"/>
                </a:solidFill>
                <a:latin typeface="Constantia"/>
              </a:rPr>
              <a:t>al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0,100,$kirmizi);    //</a:t>
            </a:r>
            <a:r>
              <a:rPr b="0" i="1" lang="tr-TR" sz="1500" spc="-1" strike="noStrike">
                <a:solidFill>
                  <a:srgbClr val="000000"/>
                </a:solidFill>
                <a:latin typeface="Constantia"/>
              </a:rPr>
              <a:t>sol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200,0,200,100,$kirmizi);    //</a:t>
            </a:r>
            <a:r>
              <a:rPr b="0" i="1" lang="tr-TR" sz="1500" spc="-1" strike="noStrike">
                <a:solidFill>
                  <a:srgbClr val="000000"/>
                </a:solidFill>
                <a:latin typeface="Constantia"/>
              </a:rPr>
              <a:t>sağ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100,$mor);    //</a:t>
            </a:r>
            <a:r>
              <a:rPr b="0" i="1" lang="tr-TR" sz="1500" spc="-1" strike="noStrike">
                <a:solidFill>
                  <a:srgbClr val="000000"/>
                </a:solidFill>
                <a:latin typeface="Constantia"/>
              </a:rPr>
              <a:t>ilk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0,$mor);    //</a:t>
            </a:r>
            <a:r>
              <a:rPr b="0" i="1" lang="tr-TR" sz="1500" spc="-1" strike="noStrike">
                <a:solidFill>
                  <a:srgbClr val="000000"/>
                </a:solidFill>
                <a:latin typeface="Constantia"/>
              </a:rPr>
              <a:t>ikinci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1,100,200,1,$mor);    //</a:t>
            </a:r>
            <a:r>
              <a:rPr b="0" i="1" lang="tr-TR" sz="1500" spc="-1" strike="noStrike">
                <a:solidFill>
                  <a:srgbClr val="000000"/>
                </a:solidFill>
                <a:latin typeface="Constantia"/>
              </a:rPr>
              <a:t>ikinci çapraz biraz kalınlaştırıldı</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jpeg($resim);                  //</a:t>
            </a:r>
            <a:r>
              <a:rPr b="0" i="1" lang="tr-TR" sz="1500" spc="-1" strike="noStrike">
                <a:solidFill>
                  <a:srgbClr val="000000"/>
                </a:solidFill>
                <a:latin typeface="Constantia"/>
              </a:rPr>
              <a:t>resim oluşturuldu</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destroy($resim);            //</a:t>
            </a:r>
            <a:r>
              <a:rPr b="0" i="1" lang="tr-TR" sz="1500" spc="-1" strike="noStrike">
                <a:solidFill>
                  <a:srgbClr val="000000"/>
                </a:solidFill>
                <a:latin typeface="Constantia"/>
              </a:rPr>
              <a:t>resim bellekten silin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87" name="3 Dikdörtgen"/>
          <p:cNvSpPr/>
          <p:nvPr/>
        </p:nvSpPr>
        <p:spPr>
          <a:xfrm>
            <a:off x="6156360" y="5229360"/>
            <a:ext cx="2087640" cy="100800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8" name="5 Düz Bağlayıcı"/>
          <p:cNvSpPr/>
          <p:nvPr/>
        </p:nvSpPr>
        <p:spPr>
          <a:xfrm>
            <a:off x="6156360" y="5229360"/>
            <a:ext cx="2087640" cy="1008000"/>
          </a:xfrm>
          <a:prstGeom prst="line">
            <a:avLst/>
          </a:prstGeom>
          <a:ln w="93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89" name="9 Düz Bağlayıcı" descr=""/>
          <p:cNvPicPr/>
          <p:nvPr/>
        </p:nvPicPr>
        <p:blipFill>
          <a:blip r:embed="rId1"/>
          <a:stretch/>
        </p:blipFill>
        <p:spPr>
          <a:xfrm>
            <a:off x="6076800" y="5218200"/>
            <a:ext cx="2176560" cy="1030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string( )</a:t>
            </a:r>
            <a:endParaRPr b="0" lang="en-US" sz="48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atay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_değişkeni,yazı_tipi,x,y,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 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 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famıza “Merhaba Dünya” yazan bir resim oluşturalı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150,3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zemin_rengi=imagecolorallocate($resim,255,100,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yazi_rengi=imagecolorallocate($resim,255,255,2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Yazıyı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5,15,5,”Merhaba Dünya”,$yazi_reng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94" name="3 Dikdörtgen"/>
          <p:cNvSpPr/>
          <p:nvPr/>
        </p:nvSpPr>
        <p:spPr>
          <a:xfrm>
            <a:off x="5508720" y="4178160"/>
            <a:ext cx="2232000" cy="50508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MERHABA DÜNY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4617b"/>
                </a:solidFill>
                <a:latin typeface="Calibri"/>
              </a:rPr>
              <a:t>imagetypes( ) Fonksiyonu</a:t>
            </a:r>
            <a:endParaRPr b="0" lang="en-US" sz="32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lan PHP versiyonu tarafından desteklenen resim formatlarını öğrenmek için </a:t>
            </a:r>
            <a:r>
              <a:rPr b="1" lang="tr-TR" sz="2600" spc="-1" strike="noStrike">
                <a:solidFill>
                  <a:srgbClr val="000000"/>
                </a:solidFill>
                <a:latin typeface="Constantia"/>
              </a:rPr>
              <a:t>imagetypes() </a:t>
            </a:r>
            <a:r>
              <a:rPr b="0" lang="tr-TR" sz="2600" spc="-1" strike="noStrike">
                <a:solidFill>
                  <a:srgbClr val="000000"/>
                </a:solidFill>
                <a:latin typeface="Constantia"/>
              </a:rPr>
              <a:t>fonksiyon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ile ilişkilendirilmiş GD kütüphanesinin desteklediği resim biçimleri ile ilgili bir bit alanı döndürü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alanla sınanabilecek sabitlerin isimleri: </a:t>
            </a:r>
            <a:r>
              <a:rPr b="1" lang="tr-TR" sz="2600" spc="-1" strike="noStrike">
                <a:solidFill>
                  <a:srgbClr val="000000"/>
                </a:solidFill>
                <a:latin typeface="Constantia"/>
              </a:rPr>
              <a:t>IMG_GIF</a:t>
            </a:r>
            <a:r>
              <a:rPr b="0" lang="tr-TR" sz="2600" spc="-1" strike="noStrike">
                <a:solidFill>
                  <a:srgbClr val="000000"/>
                </a:solidFill>
                <a:latin typeface="Constantia"/>
              </a:rPr>
              <a:t> | </a:t>
            </a:r>
            <a:r>
              <a:rPr b="1" lang="tr-TR" sz="2600" spc="-1" strike="noStrike">
                <a:solidFill>
                  <a:srgbClr val="000000"/>
                </a:solidFill>
                <a:latin typeface="Constantia"/>
              </a:rPr>
              <a:t>IMG_JPG</a:t>
            </a:r>
            <a:r>
              <a:rPr b="0" lang="tr-TR" sz="2600" spc="-1" strike="noStrike">
                <a:solidFill>
                  <a:srgbClr val="000000"/>
                </a:solidFill>
                <a:latin typeface="Constantia"/>
              </a:rPr>
              <a:t> | </a:t>
            </a:r>
            <a:r>
              <a:rPr b="1" lang="tr-TR" sz="2600" spc="-1" strike="noStrike">
                <a:solidFill>
                  <a:srgbClr val="000000"/>
                </a:solidFill>
                <a:latin typeface="Constantia"/>
              </a:rPr>
              <a:t>IMG_PNG</a:t>
            </a:r>
            <a:r>
              <a:rPr b="0" lang="tr-TR" sz="2600" spc="-1" strike="noStrike">
                <a:solidFill>
                  <a:srgbClr val="000000"/>
                </a:solidFill>
                <a:latin typeface="Constantia"/>
              </a:rPr>
              <a:t> | </a:t>
            </a:r>
            <a:r>
              <a:rPr b="1" lang="tr-TR" sz="2600" spc="-1" strike="noStrike">
                <a:solidFill>
                  <a:srgbClr val="000000"/>
                </a:solidFill>
                <a:latin typeface="Constantia"/>
              </a:rPr>
              <a:t>IMG_WBMP</a:t>
            </a:r>
            <a:r>
              <a:rPr b="0" lang="tr-TR" sz="2600" spc="-1" strike="noStrike">
                <a:solidFill>
                  <a:srgbClr val="000000"/>
                </a:solidFill>
                <a:latin typeface="Constantia"/>
              </a:rPr>
              <a:t> | </a:t>
            </a:r>
            <a:r>
              <a:rPr b="1" lang="tr-TR" sz="2600" spc="-1" strike="noStrike">
                <a:solidFill>
                  <a:srgbClr val="000000"/>
                </a:solidFill>
                <a:latin typeface="Constantia"/>
              </a:rPr>
              <a:t>IMG_XPM</a:t>
            </a:r>
            <a:r>
              <a:rPr b="0" lang="tr-TR" sz="2600" spc="-1" strike="noStrike">
                <a:solidFill>
                  <a:srgbClr val="000000"/>
                </a:solidFill>
                <a:latin typeface="Constantia"/>
              </a:rPr>
              <a:t>.  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stringup( )</a:t>
            </a:r>
            <a:endParaRPr b="0" lang="en-US" sz="4000" spc="-1" strike="noStrike">
              <a:solidFill>
                <a:srgbClr val="04617b"/>
              </a:solidFill>
              <a:latin typeface="Calibri"/>
            </a:endParaRPr>
          </a:p>
        </p:txBody>
      </p:sp>
      <p:sp>
        <p:nvSpPr>
          <p:cNvPr id="296" name=""/>
          <p:cNvSpPr txBox="1"/>
          <p:nvPr/>
        </p:nvSpPr>
        <p:spPr>
          <a:xfrm>
            <a:off x="457200" y="1934640"/>
            <a:ext cx="8229600" cy="4389480"/>
          </a:xfrm>
          <a:prstGeom prst="rect">
            <a:avLst/>
          </a:prstGeom>
          <a:noFill/>
          <a:ln w="0">
            <a:noFill/>
          </a:ln>
        </p:spPr>
        <p:txBody>
          <a:bodyPr anchor="t">
            <a:normAutofit fontScale="99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90 derece döndürülmüş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up(resim_değişkeni,yazı_tipi,x,y,yaz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 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i”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98" name=""/>
          <p:cNvSpPr txBox="1"/>
          <p:nvPr/>
        </p:nvSpPr>
        <p:spPr>
          <a:xfrm>
            <a:off x="457200" y="1934640"/>
            <a:ext cx="8229600" cy="4389480"/>
          </a:xfrm>
          <a:prstGeom prst="rect">
            <a:avLst/>
          </a:prstGeom>
          <a:noFill/>
          <a:ln w="0">
            <a:noFill/>
          </a:ln>
        </p:spPr>
        <p:txBody>
          <a:bodyPr anchor="t">
            <a:normAutofit fontScale="96000"/>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ğimiz Ankara Ünv. yazısını yatay ve dikey yazdırılmış resmini oluşturulur.</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imagecreate(201,101);</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kirmizi=imagecolorallocate($resim,255,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mor=imagecolorallocate($resim,100,50,1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10,” Ankara Ünv. ”,$kirmizi); //üs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0,100,” Ankara Ünv. ”,$mor); //  sol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85,” Ankara Ünv. ”,$kirmizi); //al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25,100,” Ankara Ünv. ”,$mor); //sağ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ttftext( )</a:t>
            </a:r>
            <a:endParaRPr b="0" lang="en-US" sz="44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vcut yazı tiplerini kullanarak grafik tabanlı yazı oluşturu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Kullanım Şekl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_değişkeni,boyut,açı,x,y,renk_değişkeni,yazı_tipi,yaz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resim_değişkeni”resim alanı oluşturmak için kullanılan imagecreatetruecolor veya imagecreate fonksiyonundan dönen değe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boyut”yazının yüksek değeri.GD1’de pixel,GD2’de punto türünded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açı”derece cinsinden açı değeri.Soldan sağa yazı için açı 0 kullanılır.Dikey için 90 derece kullanılır.İstenilen açı değeri girilebil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x” yazının üst sol köşesinin x koordinat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y”yazının üst sol köşesinin y koordinatı.</a:t>
            </a:r>
            <a:endParaRPr b="0" lang="en-US" sz="17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renk_değişkeni”tanımlanan rengin tutulması için kullanılan değişken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ı_tipi”kullanılacak yazı tipi ttf  uzantısı ile birlikte yazılır.Yazı tipi dosyası dosyanızla aynı yerde bulunmalıdır veya yazı tipi dosyasının yolu tam olarak  belirtilmeli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i”oluşturulacak yazı.</a:t>
            </a:r>
            <a:endParaRPr b="0" lang="en-US" sz="1500" spc="-1" strike="noStrike">
              <a:solidFill>
                <a:srgbClr val="000000"/>
              </a:solidFill>
              <a:latin typeface="Constantia"/>
            </a:endParaRPr>
          </a:p>
          <a:p>
            <a:pPr lvl="1" marL="639720" indent="-2458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30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nkara Ünv. ” yazısını üç farklı  şekilde ve iki farklı yazı tipinde grafik tabanlı olarak sayfaya yazdı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Not:Kullanılan  iki yazı tipi dosyasını kodlarınızın bulunduğu yere kopyalamayı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Unutmayını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imagecreatetruecolor(250,200);//Resmi boş olarak oluştu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nkleri tanımlay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ri=imagecolorallocate($resim,128,128,128);</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iyah=imagecolorallocate($resim,0,0,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esil=imagecolorallocate($resim,0,255,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avi=imagecolorallocate($resim,0,0,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250920" y="836280"/>
            <a:ext cx="8229600" cy="57610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in=‘Ankara Ünv. ’;   //Görüntülenecek yaz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broadw.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2=‘comic.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7,21,$gri,$font,$metin);  //Yazıya gölge ver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6,20,$siyah,$font,$metin); //Yazıy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apraz yazılar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0,35,$mavi,$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30,170,$yesil,$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04" name="3 İkizkenar Üçgen"/>
          <p:cNvSpPr/>
          <p:nvPr/>
        </p:nvSpPr>
        <p:spPr>
          <a:xfrm rot="10800000">
            <a:off x="6300360" y="4508280"/>
            <a:ext cx="1366920" cy="1584360"/>
          </a:xfrm>
          <a:prstGeom prst="triangle">
            <a:avLst>
              <a:gd name="adj" fmla="val 50000"/>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raya kadar  anlatılan grafik işlemlerinin tamamında sıfırdan başlayarak resimler oluşturuld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zır olarak bulunan resimler üzerinde de yukarıda bahsedilen işlemlerin tamamı uygu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oluşturulurken imagecreate veya imagecreatetruecolor fonksiyonlarını kullanmıştık.Hazır resim üzerinde değişiklik yapılacaksa bu fonksiyonlar yerine hazır resmi çalışma alanı olarak kullanmak için aşağıdaki fonksiyonlar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gif():</a:t>
            </a:r>
            <a:r>
              <a:rPr b="0" lang="tr-TR" sz="1800" spc="-1" strike="noStrike">
                <a:solidFill>
                  <a:srgbClr val="000000"/>
                </a:solidFill>
                <a:latin typeface="Constantia"/>
              </a:rPr>
              <a:t>Mevcut olan bir gif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jpeg():</a:t>
            </a:r>
            <a:r>
              <a:rPr b="0" lang="tr-TR" sz="1800" spc="-1" strike="noStrike">
                <a:solidFill>
                  <a:srgbClr val="000000"/>
                </a:solidFill>
                <a:latin typeface="Constantia"/>
              </a:rPr>
              <a:t>Mevcut olan bir jpe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png():</a:t>
            </a:r>
            <a:r>
              <a:rPr b="0" lang="tr-TR" sz="1800" spc="-1" strike="noStrike">
                <a:solidFill>
                  <a:srgbClr val="000000"/>
                </a:solidFill>
                <a:latin typeface="Constantia"/>
              </a:rPr>
              <a:t>Mevcut olan bir pn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wbmp():</a:t>
            </a:r>
            <a:r>
              <a:rPr b="0" lang="tr-TR" sz="1800" spc="-1" strike="noStrike">
                <a:solidFill>
                  <a:srgbClr val="000000"/>
                </a:solidFill>
                <a:latin typeface="Constantia"/>
              </a:rPr>
              <a:t>Mevcut olan bir wbmp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fonksiyonların tamamı parametre olarak sadece mevcut dosya adını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şağıdaki örneğimiz png formatında var olan resim dosyamızın üzerindeki yazıyı silerek yenisini yazmaktadır.</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 Php </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700" spc="-1" strike="noStrike">
                <a:solidFill>
                  <a:srgbClr val="000000"/>
                </a:solidFill>
                <a:latin typeface="Constantia"/>
              </a:rPr>
              <a:t>//</a:t>
            </a:r>
            <a:r>
              <a:rPr b="0" i="1" lang="tr-TR" sz="1700" spc="-1" strike="noStrike">
                <a:solidFill>
                  <a:srgbClr val="000000"/>
                </a:solidFill>
                <a:latin typeface="Constantia"/>
              </a:rPr>
              <a:t>buton.png dosyamızı aç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frompng(“buton.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i="1" lang="tr-TR" sz="1700" spc="-1" strike="noStrike">
                <a:solidFill>
                  <a:srgbClr val="000000"/>
                </a:solidFill>
                <a:latin typeface="Constantia"/>
              </a:rPr>
              <a:t>//Renk tanımlamalarımızı yap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avi=imagecolorallocate($resim,0,0,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im üzerinde bulunan kırmızı bölgeyi yeşile boyay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4,5,145,45,$yesil);</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eni yazımız olan “Kadromuz” yazısını yaz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15,0,20,30,$mavi,”verdana.ttf”, “Kadromuz”)</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apılan değişiklikleri PNG formatında resim dosyası haline getirel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butonyeni.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1187280" y="2491920"/>
            <a:ext cx="4897440" cy="12970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p:txBody>
      </p:sp>
      <p:sp>
        <p:nvSpPr>
          <p:cNvPr id="312" name="3 Dikdörtgen"/>
          <p:cNvSpPr/>
          <p:nvPr/>
        </p:nvSpPr>
        <p:spPr>
          <a:xfrm>
            <a:off x="1258920" y="2781360"/>
            <a:ext cx="2089080" cy="718920"/>
          </a:xfrm>
          <a:prstGeom prst="rect">
            <a:avLst/>
          </a:prstGeom>
          <a:solidFill>
            <a:srgbClr val="ff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na Sayfa</a:t>
            </a:r>
            <a:endParaRPr b="0" lang="en-US" sz="1800" spc="-1" strike="noStrike">
              <a:solidFill>
                <a:srgbClr val="000000"/>
              </a:solidFill>
              <a:latin typeface="Calibri"/>
            </a:endParaRPr>
          </a:p>
        </p:txBody>
      </p:sp>
      <p:sp>
        <p:nvSpPr>
          <p:cNvPr id="313" name="4 Dikdörtgen"/>
          <p:cNvSpPr/>
          <p:nvPr/>
        </p:nvSpPr>
        <p:spPr>
          <a:xfrm>
            <a:off x="3780000" y="2781360"/>
            <a:ext cx="2016000" cy="718920"/>
          </a:xfrm>
          <a:prstGeom prst="rect">
            <a:avLst/>
          </a:prstGeom>
          <a:solidFill>
            <a:srgbClr val="55a83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Kadromuz</a:t>
            </a:r>
            <a:endParaRPr b="0" lang="en-US" sz="1800" spc="-1" strike="noStrike">
              <a:solidFill>
                <a:srgbClr val="000000"/>
              </a:solidFill>
              <a:latin typeface="Calibri"/>
            </a:endParaRPr>
          </a:p>
        </p:txBody>
      </p:sp>
      <p:sp>
        <p:nvSpPr>
          <p:cNvPr id="314" name="6 Metin kutusu"/>
          <p:cNvSpPr/>
          <p:nvPr/>
        </p:nvSpPr>
        <p:spPr>
          <a:xfrm>
            <a:off x="111600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Önceki Hali</a:t>
            </a:r>
            <a:endParaRPr b="0" lang="en-US" sz="1800" spc="-1" strike="noStrike">
              <a:solidFill>
                <a:srgbClr val="000000"/>
              </a:solidFill>
              <a:latin typeface="Calibri"/>
            </a:endParaRPr>
          </a:p>
        </p:txBody>
      </p:sp>
      <p:sp>
        <p:nvSpPr>
          <p:cNvPr id="315" name="7 Metin kutusu"/>
          <p:cNvSpPr/>
          <p:nvPr/>
        </p:nvSpPr>
        <p:spPr>
          <a:xfrm>
            <a:off x="370836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Sonraki Hal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üklü olan PHP’nin desteklediği resim formatlarını belirleyelim.</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 (imagetypes()&amp;IMG_PNG) echo “PN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 PNG desteği yok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stypes()&amp;IMG_JPG) echo “JP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JPG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types()&amp;IMG_GIF) echo”GIF desteği var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GIF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250920" y="1125000"/>
            <a:ext cx="8229600" cy="438804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rafik oluşturmaya başlarken ilk olarak bu sayfanın grafik olarak  kullanılacağı </a:t>
            </a:r>
            <a:r>
              <a:rPr b="1" lang="tr-TR" sz="1800" spc="-1" strike="noStrike">
                <a:solidFill>
                  <a:srgbClr val="000000"/>
                </a:solidFill>
                <a:latin typeface="Constantia"/>
              </a:rPr>
              <a:t>header() </a:t>
            </a:r>
            <a:r>
              <a:rPr b="0" lang="tr-TR" sz="1800" spc="-1" strike="noStrike">
                <a:solidFill>
                  <a:srgbClr val="000000"/>
                </a:solidFill>
                <a:latin typeface="Constantia"/>
              </a:rPr>
              <a:t>fonksiyonu yardımıyla belirtilmesi gerekir.</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 (“Content-type:image/jpeg”);</a:t>
            </a:r>
            <a:br>
              <a:rPr sz="1800"/>
            </a:b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ukardaki kodlama jpeg formatında bir grafik işlemi yapılacağını gösteriyor.  Çalışma PNG formatında olursa </a:t>
            </a:r>
            <a:r>
              <a:rPr b="1" lang="tr-TR" sz="1800" spc="-1" strike="noStrike">
                <a:solidFill>
                  <a:srgbClr val="000000"/>
                </a:solidFill>
                <a:latin typeface="Constantia"/>
              </a:rPr>
              <a:t>image/png </a:t>
            </a:r>
            <a:r>
              <a:rPr b="0" lang="tr-TR" sz="1800" spc="-1" strike="noStrike">
                <a:solidFill>
                  <a:srgbClr val="000000"/>
                </a:solidFill>
                <a:latin typeface="Constantia"/>
              </a:rPr>
              <a:t>yazılması gerek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Resim Oluşturma </a:t>
            </a:r>
            <a:endParaRPr b="0" lang="en-US" sz="4400" spc="-1" strike="noStrike">
              <a:solidFill>
                <a:srgbClr val="04617b"/>
              </a:solidFill>
              <a:latin typeface="Calibri"/>
            </a:endParaRPr>
          </a:p>
        </p:txBody>
      </p:sp>
      <p:sp>
        <p:nvSpPr>
          <p:cNvPr id="213" name=""/>
          <p:cNvSpPr txBox="1"/>
          <p:nvPr/>
        </p:nvSpPr>
        <p:spPr>
          <a:xfrm>
            <a:off x="324000" y="1773000"/>
            <a:ext cx="79200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HP’nin GD kütüphanesi yardımıyla sıfırdan bir resim oluşturulabilir ve istenilirse oluşturulan resim istenilen formatta resim dosya olarak kayded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Örneğin;s itenizde  kullandığınız düğmeleri her düğmeyi ayrı ayrı oluşturmak yerine hazırlayacağınız bir fonksiyon ve GD kütüphanesinin fonksiyonları yardımıyla resim işleme programlarına ihtiyaç  duymadan gerçek zamanlı oluşturabilirsiniz.</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Title 3" descr=""/>
          <p:cNvPicPr/>
          <p:nvPr/>
        </p:nvPicPr>
        <p:blipFill>
          <a:blip r:embed="rId1"/>
          <a:stretch/>
        </p:blipFill>
        <p:spPr>
          <a:xfrm>
            <a:off x="530280" y="1365120"/>
            <a:ext cx="8308800" cy="1890720"/>
          </a:xfrm>
          <a:prstGeom prst="rect">
            <a:avLst/>
          </a:prstGeom>
          <a:ln w="0">
            <a:noFill/>
          </a:ln>
        </p:spPr>
      </p:pic>
      <p:sp>
        <p:nvSpPr>
          <p:cNvPr id="215" name="PlaceHolder 1"/>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600" spc="-1" strike="noStrike">
              <a:solidFill>
                <a:srgbClr val="8e8d8c"/>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 )</a:t>
            </a:r>
            <a:endParaRPr b="0" lang="en-US" sz="48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oyutları belirtilen boş bir resim alanı oluşturur. Fonksiyonun çalışması sırasında hata oluşursa FALSE değeri döndürür aksi takdirde resim değişkenini döndürü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9T16:25:15Z</dcterms:created>
  <dc:creator>pc</dc:creator>
  <dc:description/>
  <dc:language>en-US</dc:language>
  <cp:lastModifiedBy>Vento</cp:lastModifiedBy>
  <dcterms:modified xsi:type="dcterms:W3CDTF">2013-11-26T13:45:12Z</dcterms:modified>
  <cp:revision>109</cp:revision>
  <dc:subject/>
  <dc:title>Slayt 1</dc:title>
</cp:coreProperties>
</file>