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C829BB-8AE9-49B0-8091-06F7B2CE0C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3DBA7E-575C-47EA-9410-3E7A791B59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513B78-EE93-47EB-907F-A8E94DD686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CB529D-4C21-43B9-8C02-674D181960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9560B6-D9E9-4A5F-A71A-F4FAC17D80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651084-78C3-4897-978A-5DF51D06C8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5D6745-374F-465E-8161-8F20A024E0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BD667F-D852-4930-BBD3-D19C11896E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747F0B-AAB2-44F6-BD52-317E9271E4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19ECF4-1AE0-482F-9A88-39DA00130D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F1AA15-09C8-4B25-8334-13FC815B86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9B30F0-A8A3-4267-B797-68845B567E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070E81-244C-4D46-91FA-639DCBD763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9A599D-3AB1-4AC5-A7CF-1895AEEE31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D2B04F-4530-4AA0-B51B-BC8FD711FF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75151C-CF50-4A50-8ECF-6D8340F4C6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6AEA28-5E29-41EE-89A5-7995556EA3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CEC9EAA-7B76-466A-A536-BD642F528C4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380860-AB6D-4501-A9A3-5D07E033E1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1899DA-57DC-467C-B9EB-D0EFD954BF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C0AB87-CA6F-47E6-B90A-8F909E8FF1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EC333F-4E6B-461E-9B0E-608D683850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4EB02D-3642-43CE-8EEF-7F30EDE2F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22BAE7-B297-4FDC-800A-1D50A26014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2E5F23-CC93-4A2A-A710-E6591D6AAA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872500-C93E-47BC-A4AB-CABF558156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88650B-900E-4F55-8048-C25252C459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9CD0A4-2EB4-4491-ADA0-E979FF2D5B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958DC5D-12D6-4268-AD6C-67A9099F2C3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162FD60-B6F9-4CED-8AEA-A7958CDDF4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D7E015F-7006-4C3A-832A-B44630F1066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F1E06C-0E6A-4161-B299-1AB3792A7E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BA7B25-9291-4D32-B54E-1004106167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70F960-65D4-4DA8-B6B6-EFA1003D10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9538E1-28AC-4B0F-8ED3-8E64A9D8FC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85C978-6E3E-4DBE-85F4-95E7FAF9E4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FA7B6C-9C18-45E8-98FB-2EC1A9B131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0E2223-61DC-4180-89E6-651818ABAF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831B86-C296-45DD-87EA-8A21BE5111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E0946E-A924-4FFE-B267-10A503645C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5BAFA1-A8C9-4AC0-B4F5-14F57AFB75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76435AD-DD56-4398-8DDB-31A67620F3C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9EEC80C-268B-4F28-82B8-3B47A7A594F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62C7A8-2256-4091-836A-0BC25A512D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E86514-68E2-470F-83A0-8950B1A88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917A5-B903-4261-9C4C-14750A101E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18BB4-17FE-427C-891A-ACE9930F83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919EF-1389-4761-8C29-CE404634AC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C5C1A-058C-4E2B-B399-61F31513E6B0}"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480BF-302B-4073-8585-79AA979413ED}"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68204-470A-4010-B36D-4F0B08AB06C1}"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2ED65-0CE8-49BE-AC06-B8EF87C12C80}"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1"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Çerez(Cookie) Kullanımı</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Oturum Yönetimi</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Kontrolü</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Cookie’nin tanımlı olup olmadığını kontrol etmek için isset() fonksiyonunu kullanabilirsiniz.</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f(isset($_COOKIE["çerezim"]))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lse</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a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graphicFrame>
        <p:nvGraphicFramePr>
          <p:cNvPr id="220" name=""/>
          <p:cNvGraphicFramePr/>
          <p:nvPr/>
        </p:nvGraphicFramePr>
        <p:xfrm>
          <a:off x="457200" y="2079720"/>
          <a:ext cx="8229600" cy="274680"/>
        </p:xfrm>
        <a:graphic>
          <a:graphicData uri="http://schemas.openxmlformats.org/drawingml/2006/table">
            <a:tbl>
              <a:tblPr/>
              <a:tblGrid>
                <a:gridCol w="8229600"/>
              </a:tblGrid>
              <a:tr h="274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Oturum Yönetimi </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nternet üzerinde SESSION olarak bildiğimiz terimin Türkçe karışılığı oturumdur.  Siz, kullanıcı olarak bir web sitesine girdiğinizde, o domain üzerinde sizin için bir oturum açılmış olur. Oturumun açıldığı sayfadan itibaren sizin bir session id'niz yani oturum numaranız olur ve sunucu sizi bu numara ile tanır. Sitenin programatik altyapısını hazırlayan kişi de sizin siteye verdiğiniz bazı bilgileri session'a kaydederek bu bilgileri sayfalar arasında aktarır. Buna en güzel örnek olarak bu sitedeki kullanıcı adını gösterebiliriz. Gördüğünüz gibi her sayafada sağ üstte kullanıcı adınız session yardımıyla sayfalara taşı ve sitenin üyesi olarak bu sayede işlem yaparsınız.</a:t>
            </a:r>
            <a:br>
              <a:rPr sz="2000"/>
            </a:br>
            <a:br>
              <a:rPr sz="2000"/>
            </a:br>
            <a:r>
              <a:rPr b="0" lang="tr-TR" sz="2000" spc="-1" strike="noStrike">
                <a:solidFill>
                  <a:srgbClr val="000000"/>
                </a:solidFill>
                <a:latin typeface="Constantia"/>
              </a:rPr>
              <a:t>Session için yapabileceğimiz 3 işlem var.</a:t>
            </a:r>
            <a:br>
              <a:rPr sz="2000"/>
            </a:br>
            <a:r>
              <a:rPr b="0" lang="tr-TR" sz="2000" spc="-1" strike="noStrike">
                <a:solidFill>
                  <a:srgbClr val="000000"/>
                </a:solidFill>
                <a:latin typeface="Constantia"/>
              </a:rPr>
              <a:t>1- Session'ı başlatmak</a:t>
            </a:r>
            <a:br>
              <a:rPr sz="2000"/>
            </a:br>
            <a:r>
              <a:rPr b="0" lang="tr-TR" sz="2000" spc="-1" strike="noStrike">
                <a:solidFill>
                  <a:srgbClr val="000000"/>
                </a:solidFill>
                <a:latin typeface="Constantia"/>
              </a:rPr>
              <a:t>2- Session kaydetmek</a:t>
            </a:r>
            <a:br>
              <a:rPr sz="2000"/>
            </a:br>
            <a:r>
              <a:rPr b="0" lang="tr-TR" sz="2000" spc="-1" strike="noStrike">
                <a:solidFill>
                  <a:srgbClr val="000000"/>
                </a:solidFill>
                <a:latin typeface="Constantia"/>
              </a:rPr>
              <a:t>3- Session'ı bitirmek</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Session oluşturma</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kullanımına ya da oluşturulmasına başlamadan önce bir kere her sayfanın en başında </a:t>
            </a:r>
            <a:r>
              <a:rPr b="1" lang="tr-TR" sz="2600" spc="-1" strike="noStrike">
                <a:solidFill>
                  <a:srgbClr val="000000"/>
                </a:solidFill>
                <a:latin typeface="Constantia"/>
              </a:rPr>
              <a:t>session_start()</a:t>
            </a:r>
            <a:r>
              <a:rPr b="0" lang="tr-TR" sz="2600" spc="-1" strike="noStrike">
                <a:solidFill>
                  <a:srgbClr val="000000"/>
                </a:solidFill>
                <a:latin typeface="Constantia"/>
              </a:rPr>
              <a:t> fonksiyonunu yazmalıyız, bu fonksiyon session olayını kullanıma hazırlar ve olmazsa olmaz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azı sunucularda session kullanımı otomatik olarak hep açıktır, açık olan sunucularda </a:t>
            </a:r>
            <a:r>
              <a:rPr b="1" lang="tr-TR" sz="2600" spc="-1" strike="noStrike">
                <a:solidFill>
                  <a:srgbClr val="000000"/>
                </a:solidFill>
                <a:latin typeface="Constantia"/>
              </a:rPr>
              <a:t>session_start()</a:t>
            </a:r>
            <a:r>
              <a:rPr b="0" lang="tr-TR" sz="2600" spc="-1" strike="noStrike">
                <a:solidFill>
                  <a:srgbClr val="000000"/>
                </a:solidFill>
                <a:latin typeface="Constantia"/>
              </a:rPr>
              <a:t> yazmaya çalışırsanız </a:t>
            </a:r>
            <a:r>
              <a:rPr b="1" lang="tr-TR" sz="2600" spc="-1" strike="noStrike">
                <a:solidFill>
                  <a:srgbClr val="000000"/>
                </a:solidFill>
                <a:latin typeface="Constantia"/>
              </a:rPr>
              <a:t>hata verir</a:t>
            </a:r>
            <a:r>
              <a:rPr b="0" lang="tr-TR" sz="2600" spc="-1" strike="noStrike">
                <a:solidFill>
                  <a:srgbClr val="000000"/>
                </a:solidFill>
                <a:latin typeface="Constantia"/>
              </a:rPr>
              <a:t>. Bu durumda bu fonksiyonu kullanmaya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ession_start()</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fontScale="97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_SESSION['mesaj'] = 'Selam dünya!';</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Yukarıda ilk önce session kullanımını başlattık ve ardından aynı bir dizi tanımlarmış gibi $_SESSION global dizisine </a:t>
            </a:r>
            <a:r>
              <a:rPr b="1" lang="tr-TR" sz="2200" spc="-1" strike="noStrike">
                <a:solidFill>
                  <a:srgbClr val="000000"/>
                </a:solidFill>
                <a:latin typeface="Constantia"/>
              </a:rPr>
              <a:t>mesaj</a:t>
            </a:r>
            <a:r>
              <a:rPr b="0" lang="tr-TR" sz="2200" spc="-1" strike="noStrike">
                <a:solidFill>
                  <a:srgbClr val="000000"/>
                </a:solidFill>
                <a:latin typeface="Constantia"/>
              </a:rPr>
              <a:t> anahtarına </a:t>
            </a:r>
            <a:r>
              <a:rPr b="1" lang="tr-TR" sz="2200" spc="-1" strike="noStrike">
                <a:solidFill>
                  <a:srgbClr val="000000"/>
                </a:solidFill>
                <a:latin typeface="Constantia"/>
              </a:rPr>
              <a:t>Selam dünya!</a:t>
            </a:r>
            <a:r>
              <a:rPr b="0" lang="tr-TR" sz="2200" spc="-1" strike="noStrike">
                <a:solidFill>
                  <a:srgbClr val="000000"/>
                </a:solidFill>
                <a:latin typeface="Constantia"/>
              </a:rPr>
              <a:t> değerini verdik. Yani mesaj adında bir session oluşturduk ve değerini Selam dünya! yaptı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oluşturduğumuz değer giren kişinin tarayıcısı kapatılmadığı sürece gezdiği her sayfaya tekrar geri gönderilecek ve bir önceki sayfada yaptığı işlemleri, kullanıcı adı ya da şifre gibi verileri bu şekilde yeniden hatırlanmasını sağlayaca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silme</a:t>
            </a:r>
            <a:br>
              <a:rPr sz="4500"/>
            </a:br>
            <a:endParaRPr b="0" lang="en-US" sz="45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silme işleminde </a:t>
            </a:r>
            <a:r>
              <a:rPr b="1" lang="tr-TR" sz="2600" spc="-1" strike="noStrike">
                <a:solidFill>
                  <a:srgbClr val="000000"/>
                </a:solidFill>
                <a:latin typeface="Constantia"/>
              </a:rPr>
              <a:t>unset()</a:t>
            </a:r>
            <a:r>
              <a:rPr b="0" lang="tr-TR" sz="2600" spc="-1" strike="noStrike">
                <a:solidFill>
                  <a:srgbClr val="000000"/>
                </a:solidFill>
                <a:latin typeface="Constantia"/>
              </a:rPr>
              <a:t> fonksiyonunu kullanı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gezegen'] = 'dünya'; unset($_SESSION['gezege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 önce bir session oluşturduk ve hemen ardından da onu sild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Tüm sessionları silmek</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işlem için </a:t>
            </a:r>
            <a:r>
              <a:rPr b="1" lang="tr-TR" sz="2600" spc="-1" strike="noStrike">
                <a:solidFill>
                  <a:srgbClr val="000000"/>
                </a:solidFill>
                <a:latin typeface="Constantia"/>
              </a:rPr>
              <a:t>session_destroy()</a:t>
            </a:r>
            <a:r>
              <a:rPr b="0" lang="tr-TR" sz="2600" spc="-1" strike="noStrike">
                <a:solidFill>
                  <a:srgbClr val="000000"/>
                </a:solidFill>
                <a:latin typeface="Constantia"/>
              </a:rPr>
              <a:t> fonksiyonunu kullanılır. Bu fonksiyon tanımlanmış tüm sessionları yok ed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destro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var mı diye kontrol etmek</a:t>
            </a:r>
            <a:endParaRPr b="0" lang="en-US" sz="45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ine diğer çalışmalarda varlığını kontrol etmekte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nu kullanacağız. Bu fonksiyon eğer içine yazdığımız session varsa olumlu yoksa olumsuz dön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cho isset($_SESSION['dene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a:t>
            </a:r>
            <a:endParaRPr b="0" lang="en-US" sz="50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ncelikle ilk.php adında bir php dosyası oluşturalım ve içinde bir session oluşturup bir başka php sayfasında o veriyi okutmayı deneyelim.</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lk.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isim'] = 'emyo';</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Sessionumuzu oluşturduk.';</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Devam</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sayfayı oluşturup çalıştırdıktan sonra 2. php sayfamızıda yapalım. Bunun adıda </a:t>
            </a:r>
            <a:r>
              <a:rPr b="1" lang="tr-TR" sz="2200" spc="-1" strike="noStrike">
                <a:solidFill>
                  <a:srgbClr val="000000"/>
                </a:solidFill>
                <a:latin typeface="Constantia"/>
              </a:rPr>
              <a:t>son.php</a:t>
            </a:r>
            <a:r>
              <a:rPr b="0" lang="tr-TR" sz="2200" spc="-1" strike="noStrike">
                <a:solidFill>
                  <a:srgbClr val="000000"/>
                </a:solidFill>
                <a:latin typeface="Constantia"/>
              </a:rPr>
              <a:t> olsun</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on.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Daha önceden kaydedilmiş isim: ' . $_SESSION['isim'];</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lk.php yi ziyaret ettikten sonra bu sayfaya geldiğimizde ekranda </a:t>
            </a:r>
            <a:r>
              <a:rPr b="1" lang="tr-TR" sz="2200" spc="-1" strike="noStrike">
                <a:solidFill>
                  <a:srgbClr val="000000"/>
                </a:solidFill>
                <a:latin typeface="Constantia"/>
              </a:rPr>
              <a:t>Daha önceden kaydedilmiş isim: emyo </a:t>
            </a:r>
            <a:r>
              <a:rPr b="0" lang="tr-TR" sz="2200" spc="-1" strike="noStrike">
                <a:solidFill>
                  <a:srgbClr val="000000"/>
                </a:solidFill>
                <a:latin typeface="Constantia"/>
              </a:rPr>
              <a:t>yazacaktır. Eğer ilk.php ye uğramadan yani sessionumuzu oluşturmadan son.php ye girmeye çalışırsak böyle bir session oluşturulmadığı için kod hata verecektir.</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iriş bilgilerini içinde tutacağımız </a:t>
            </a:r>
            <a:r>
              <a:rPr b="1" lang="tr-TR" sz="2600" spc="-1" strike="noStrike">
                <a:solidFill>
                  <a:srgbClr val="000000"/>
                </a:solidFill>
                <a:latin typeface="Constantia"/>
              </a:rPr>
              <a:t>ayarlar.php</a:t>
            </a:r>
            <a:r>
              <a:rPr b="0" lang="tr-TR" sz="2600" spc="-1" strike="noStrike">
                <a:solidFill>
                  <a:srgbClr val="000000"/>
                </a:solidFill>
                <a:latin typeface="Constantia"/>
              </a:rPr>
              <a:t> dosyamız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yarlar.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39" name=""/>
          <p:cNvGraphicFramePr/>
          <p:nvPr/>
        </p:nvGraphicFramePr>
        <p:xfrm>
          <a:off x="457200" y="3314880"/>
          <a:ext cx="2314440" cy="1096920"/>
        </p:xfrm>
        <a:graphic>
          <a:graphicData uri="http://schemas.openxmlformats.org/drawingml/2006/table">
            <a:tbl>
              <a:tblPr/>
              <a:tblGrid>
                <a:gridCol w="2314440"/>
              </a:tblGrid>
              <a:tr h="10976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kullanici = "admin";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parola = "1234";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erez Kullanımı</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irilen sitelerin tarayıcılar(browserlar) üzerinde bıraktığı izlere </a:t>
            </a:r>
            <a:r>
              <a:rPr b="1" lang="tr-TR" sz="2400" spc="-1" strike="noStrike">
                <a:solidFill>
                  <a:srgbClr val="000000"/>
                </a:solidFill>
                <a:latin typeface="Constantia"/>
              </a:rPr>
              <a:t>cookie</a:t>
            </a:r>
            <a:r>
              <a:rPr b="0" lang="tr-TR" sz="2400" spc="-1" strike="noStrike">
                <a:solidFill>
                  <a:srgbClr val="000000"/>
                </a:solidFill>
                <a:latin typeface="Constantia"/>
              </a:rPr>
              <a:t>, Türkçesiyle de </a:t>
            </a:r>
            <a:r>
              <a:rPr b="1" lang="tr-TR" sz="2400" spc="-1" strike="noStrike">
                <a:solidFill>
                  <a:srgbClr val="000000"/>
                </a:solidFill>
                <a:latin typeface="Constantia"/>
              </a:rPr>
              <a:t>çerez</a:t>
            </a:r>
            <a:r>
              <a:rPr b="0" lang="tr-TR" sz="2400" spc="-1" strike="noStrike">
                <a:solidFill>
                  <a:srgbClr val="000000"/>
                </a:solidFill>
                <a:latin typeface="Constantia"/>
              </a:rPr>
              <a:t> denir. Bu izler siteye tekrar ziyaret edildiğinde yeniden gönderilerek bazı şeylerin yeniden hatırlanmasını sağla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Mesela giriş formlarında kullanıcının şifresini ve kullanıcı adını cookieler sayesinde tarayıcıya kaydederek bir sonraki gelişinde bilgilerini yeniden girmek zorunda kalmadan direkt giriş yapabil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Temel olarak kullanıcı bilgilerini hatırlanmasında kullanılan çerezleri hayal gücünüzün el verdiği kadar bir çok alanda da kullanmak mümkün.</a:t>
            </a:r>
            <a:endParaRPr b="0" lang="en-US" sz="2400" spc="-1" strike="noStrike">
              <a:solidFill>
                <a:srgbClr val="000000"/>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ziyaretçinin giriş yapacağı </a:t>
            </a:r>
            <a:r>
              <a:rPr b="1" lang="tr-TR" sz="2600" spc="-1" strike="noStrike">
                <a:solidFill>
                  <a:srgbClr val="000000"/>
                </a:solidFill>
                <a:latin typeface="Constantia"/>
              </a:rPr>
              <a:t>index.php</a:t>
            </a:r>
            <a:r>
              <a:rPr b="0" lang="tr-TR" sz="2600" spc="-1" strike="noStrike">
                <a:solidFill>
                  <a:srgbClr val="000000"/>
                </a:solidFill>
                <a:latin typeface="Constantia"/>
              </a:rPr>
              <a:t> dosyamızı oluşturalım. Ziyaretçi bu sayfadan giriş yapaca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2" name=""/>
          <p:cNvGraphicFramePr/>
          <p:nvPr/>
        </p:nvGraphicFramePr>
        <p:xfrm>
          <a:off x="611280" y="3357720"/>
          <a:ext cx="8229600" cy="2743200"/>
        </p:xfrm>
        <a:graphic>
          <a:graphicData uri="http://schemas.openxmlformats.org/drawingml/2006/table">
            <a:tbl>
              <a:tblPr/>
              <a:tblGrid>
                <a:gridCol w="8229600"/>
              </a:tblGrid>
              <a:tr h="27432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 action="denetim.php" method="POST"&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cı A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text" name="kullanici"&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arol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password" name="parola"&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submit" value="Giriş Yap"&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4" name=""/>
          <p:cNvSpPr txBox="1"/>
          <p:nvPr/>
        </p:nvSpPr>
        <p:spPr>
          <a:xfrm>
            <a:off x="456840" y="1600200"/>
            <a:ext cx="325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giriş bilgilerinin denetleneceği ve sonucuna göre işlem yapacağımız </a:t>
            </a:r>
            <a:r>
              <a:rPr b="1" lang="tr-TR" sz="2600" spc="-1" strike="noStrike">
                <a:solidFill>
                  <a:srgbClr val="000000"/>
                </a:solidFill>
                <a:latin typeface="Constantia"/>
              </a:rPr>
              <a:t>denetim.php</a:t>
            </a:r>
            <a:r>
              <a:rPr b="0" lang="tr-TR" sz="2600" spc="-1" strike="noStrike">
                <a:solidFill>
                  <a:srgbClr val="000000"/>
                </a:solidFill>
                <a:latin typeface="Constantia"/>
              </a:rPr>
              <a:t> dosyasın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5" name=""/>
          <p:cNvGraphicFramePr/>
          <p:nvPr/>
        </p:nvGraphicFramePr>
        <p:xfrm>
          <a:off x="3924360" y="1700280"/>
          <a:ext cx="5075280" cy="4557600"/>
        </p:xfrm>
        <a:graphic>
          <a:graphicData uri="http://schemas.openxmlformats.org/drawingml/2006/table">
            <a:tbl>
              <a:tblPr/>
              <a:tblGrid>
                <a:gridCol w="5075280"/>
              </a:tblGrid>
              <a:tr h="47523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lt;?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nclude("ayarlar.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session_star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f(($_POST["kullanici"]==$kullanici) and ($_POST["parola"]==$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giris"] = true;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kullanici"] = $kullanici;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parola"] = $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header("Location:yonetim.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lse</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Kullanıcı adı veya Şifre Yanlış.&lt;br&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lt;a href=index.php&gt;Geri dön&lt;/a&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gt;</a:t>
                      </a:r>
                      <a:endParaRPr b="0" lang="en-US" sz="13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denetim.php</a:t>
            </a:r>
            <a:r>
              <a:rPr b="0" lang="tr-TR" sz="2600" spc="-1" strike="noStrike">
                <a:solidFill>
                  <a:srgbClr val="000000"/>
                </a:solidFill>
                <a:latin typeface="Constantia"/>
              </a:rPr>
              <a:t> dosyasında $_SESSION özelliğini kullanarak 3 yeni session tanımladık. Bunlardan giris isimli olan true değerini taşır ve diğer sayfalarda bu değişken yardımıyla giriş yapılıp yapılmadığını kontrol ederiz. kullanici ve parola session’ları da giriş yapan ziyaretçinin kullanıcı adı ve şifre bilgisini tutacak, gerektiğinde yine bu bilgiler kullanılabil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a:t>
            </a:r>
            <a:r>
              <a:rPr b="1" lang="tr-TR" sz="2600" spc="-1" strike="noStrike">
                <a:solidFill>
                  <a:srgbClr val="000000"/>
                </a:solidFill>
                <a:latin typeface="Constantia"/>
              </a:rPr>
              <a:t>yonetim.php</a:t>
            </a:r>
            <a:r>
              <a:rPr b="0" lang="tr-TR" sz="2600" spc="-1" strike="noStrike">
                <a:solidFill>
                  <a:srgbClr val="000000"/>
                </a:solidFill>
                <a:latin typeface="Constantia"/>
              </a:rPr>
              <a:t> isimli yönetim sayf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0" name=""/>
          <p:cNvGraphicFramePr/>
          <p:nvPr/>
        </p:nvGraphicFramePr>
        <p:xfrm>
          <a:off x="998640" y="2840040"/>
          <a:ext cx="6526080" cy="3902040"/>
        </p:xfrm>
        <a:graphic>
          <a:graphicData uri="http://schemas.openxmlformats.org/drawingml/2006/table">
            <a:tbl>
              <a:tblPr/>
              <a:tblGrid>
                <a:gridCol w="6526080"/>
              </a:tblGrid>
              <a:tr h="3902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nclude("ayarlar.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session_star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isset($_SESSION["giris"]))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Bu sayfayı görüntüleme yetkiniz yoktur.&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index.php&gt;Giriş sayfası&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Admin Paneli&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cikis.php\"&gt;Çıkış Yap&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yonetim.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 içerisine gönderilen değişkenlerin var olup olmadığını kontrol eder. Yani bir değişken daha önceden tanımlanmışsa </a:t>
            </a:r>
            <a:r>
              <a:rPr b="1" lang="tr-TR" sz="2600" spc="-1" strike="noStrike">
                <a:solidFill>
                  <a:srgbClr val="000000"/>
                </a:solidFill>
                <a:latin typeface="Constantia"/>
              </a:rPr>
              <a:t>TRUE </a:t>
            </a:r>
            <a:r>
              <a:rPr b="0" lang="tr-TR" sz="2600" spc="-1" strike="noStrike">
                <a:solidFill>
                  <a:srgbClr val="000000"/>
                </a:solidFill>
                <a:latin typeface="Constantia"/>
              </a:rPr>
              <a:t>tanımlanmamışsa </a:t>
            </a:r>
            <a:r>
              <a:rPr b="1" lang="tr-TR" sz="2600" spc="-1" strike="noStrike">
                <a:solidFill>
                  <a:srgbClr val="000000"/>
                </a:solidFill>
                <a:latin typeface="Constantia"/>
              </a:rPr>
              <a:t>FALSE </a:t>
            </a:r>
            <a:r>
              <a:rPr b="0" lang="tr-TR" sz="2600" spc="-1" strike="noStrike">
                <a:solidFill>
                  <a:srgbClr val="000000"/>
                </a:solidFill>
                <a:latin typeface="Constantia"/>
              </a:rPr>
              <a:t>değerini döndürür. Biz giriş yapan ziyaretçi için giris isimli bir session tanımlamıştık, bu sayfada onun var olup olmadığını kontrol ett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giriş yapan kullanıcının çıkış yapması için </a:t>
            </a:r>
            <a:r>
              <a:rPr b="1" lang="tr-TR" sz="2600" spc="-1" strike="noStrike">
                <a:solidFill>
                  <a:srgbClr val="000000"/>
                </a:solidFill>
                <a:latin typeface="Constantia"/>
              </a:rPr>
              <a:t>cikis.php</a:t>
            </a:r>
            <a:r>
              <a:rPr b="0" lang="tr-TR" sz="2600" spc="-1" strike="noStrike">
                <a:solidFill>
                  <a:srgbClr val="000000"/>
                </a:solidFill>
                <a:latin typeface="Constantia"/>
              </a:rPr>
              <a:t> dosy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cikis.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session_destroy()</a:t>
            </a:r>
            <a:r>
              <a:rPr b="0" lang="tr-TR" sz="2600" spc="-1" strike="noStrike">
                <a:solidFill>
                  <a:srgbClr val="000000"/>
                </a:solidFill>
                <a:latin typeface="Constantia"/>
              </a:rPr>
              <a:t> komutu açılmış olan oturumun tüm bilgilerini silmek için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5" name=""/>
          <p:cNvGraphicFramePr/>
          <p:nvPr/>
        </p:nvGraphicFramePr>
        <p:xfrm>
          <a:off x="457200" y="2903400"/>
          <a:ext cx="8229600" cy="1920960"/>
        </p:xfrm>
        <a:graphic>
          <a:graphicData uri="http://schemas.openxmlformats.org/drawingml/2006/table">
            <a:tbl>
              <a:tblPr/>
              <a:tblGrid>
                <a:gridCol w="8229600"/>
              </a:tblGrid>
              <a:tr h="19209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star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destroy();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Çıkış işlemi tamamlan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lt;br&gt;&lt;a href=index.php&gt;Anasayfa&lt;/a&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ookie oluşturma işlemi </a:t>
            </a:r>
            <a:r>
              <a:rPr b="0" lang="tr-TR" sz="2600" spc="-1" strike="noStrike">
                <a:solidFill>
                  <a:srgbClr val="ff0000"/>
                </a:solidFill>
                <a:latin typeface="Constantia"/>
              </a:rPr>
              <a:t>setcookie() </a:t>
            </a:r>
            <a:r>
              <a:rPr b="0" lang="tr-TR" sz="2600" spc="-1" strike="noStrike">
                <a:solidFill>
                  <a:srgbClr val="000000"/>
                </a:solidFill>
                <a:latin typeface="Constantia"/>
              </a:rPr>
              <a:t>fonksiyonu ile yap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isim", "değer","zaman aşımı");</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ki örnekte </a:t>
            </a:r>
            <a:r>
              <a:rPr b="1" lang="tr-TR" sz="2600" spc="-1" strike="noStrike">
                <a:solidFill>
                  <a:srgbClr val="000000"/>
                </a:solidFill>
                <a:latin typeface="Constantia"/>
              </a:rPr>
              <a:t>çerezim</a:t>
            </a:r>
            <a:r>
              <a:rPr b="0" lang="tr-TR" sz="2600" spc="-1" strike="noStrike">
                <a:solidFill>
                  <a:srgbClr val="000000"/>
                </a:solidFill>
                <a:latin typeface="Constantia"/>
              </a:rPr>
              <a:t> adında bir cookie oluşturduk ve değerinide </a:t>
            </a:r>
            <a:r>
              <a:rPr b="1" lang="tr-TR" sz="2600" spc="-1" strike="noStrike">
                <a:solidFill>
                  <a:srgbClr val="000000"/>
                </a:solidFill>
                <a:latin typeface="Constantia"/>
              </a:rPr>
              <a:t>selam dünya</a:t>
            </a:r>
            <a:r>
              <a:rPr b="0" lang="tr-TR" sz="2600" spc="-1" strike="noStrike">
                <a:solidFill>
                  <a:srgbClr val="000000"/>
                </a:solidFill>
                <a:latin typeface="Constantia"/>
              </a:rPr>
              <a:t> yaptık. Ve 3. parametre olarak hiç bir şey girmediğimiz için varsayılan olarak tarayıcı kapatıldığında çerez silin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4000"/>
          </a:bodyPr>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ğer çerezin bizim istediğimiz bir gelecek tarihte silinmesini istiyorsakta 3. parametreyi devreye sokacağız.</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Constantia"/>
              </a:rPr>
              <a:t>setcookie("çerezim", "selam dünya", time() + (60*60*24));</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3. olarak girdiğimiz </a:t>
            </a:r>
            <a:r>
              <a:rPr b="1" lang="tr-TR" sz="2400" spc="-1" strike="noStrike">
                <a:solidFill>
                  <a:srgbClr val="000000"/>
                </a:solidFill>
                <a:latin typeface="Constantia"/>
              </a:rPr>
              <a:t>time() + (60*60*24)</a:t>
            </a:r>
            <a:r>
              <a:rPr b="0" lang="tr-TR" sz="2400" spc="-1" strike="noStrike">
                <a:solidFill>
                  <a:srgbClr val="000000"/>
                </a:solidFill>
                <a:latin typeface="Constantia"/>
              </a:rPr>
              <a:t> bu parametre şu anki zamana saniye cinsinden </a:t>
            </a:r>
            <a:r>
              <a:rPr b="1" lang="tr-TR" sz="2400" spc="-1" strike="noStrike">
                <a:solidFill>
                  <a:srgbClr val="000000"/>
                </a:solidFill>
                <a:latin typeface="Constantia"/>
              </a:rPr>
              <a:t>60*60*24</a:t>
            </a:r>
            <a:r>
              <a:rPr b="0" lang="tr-TR" sz="2400" spc="-1" strike="noStrike">
                <a:solidFill>
                  <a:srgbClr val="000000"/>
                </a:solidFill>
                <a:latin typeface="Constantia"/>
              </a:rPr>
              <a:t> tam olarak </a:t>
            </a:r>
            <a:r>
              <a:rPr b="1" lang="tr-TR" sz="2400" spc="-1" strike="noStrike">
                <a:solidFill>
                  <a:srgbClr val="000000"/>
                </a:solidFill>
                <a:latin typeface="Constantia"/>
              </a:rPr>
              <a:t>24</a:t>
            </a:r>
            <a:r>
              <a:rPr b="0" lang="tr-TR" sz="2400" spc="-1" strike="noStrike">
                <a:solidFill>
                  <a:srgbClr val="000000"/>
                </a:solidFill>
                <a:latin typeface="Constantia"/>
              </a:rPr>
              <a:t> saat yani 1 gün eklemiş olduk.</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 oluşturduğumuz çerezin son kullanma tarihi şuandan itibaren + 24 saat sonra demek oluyor. 1 gün sonrasında bu çerez siteye girildiğinde </a:t>
            </a:r>
            <a:r>
              <a:rPr b="1" lang="tr-TR" sz="2400" spc="-1" strike="noStrike">
                <a:solidFill>
                  <a:srgbClr val="000000"/>
                </a:solidFill>
                <a:latin typeface="Constantia"/>
              </a:rPr>
              <a:t>gönderilmiyor olacak</a:t>
            </a:r>
            <a:r>
              <a:rPr b="0" lang="tr-TR" sz="2400" spc="-1" strike="noStrike">
                <a:solidFill>
                  <a:srgbClr val="000000"/>
                </a:solidFill>
                <a:latin typeface="Constantia"/>
              </a:rPr>
              <a:t>.</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kuma</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ulmuş cookie yi görüntülemek için </a:t>
            </a:r>
            <a:r>
              <a:rPr b="0" lang="tr-TR" sz="2600" spc="-1" strike="noStrike">
                <a:solidFill>
                  <a:srgbClr val="ff0000"/>
                </a:solidFill>
                <a:latin typeface="Constantia"/>
              </a:rPr>
              <a:t>$_COOKIE </a:t>
            </a:r>
            <a:r>
              <a:rPr b="0" lang="tr-TR" sz="2600" spc="-1" strike="noStrike">
                <a:solidFill>
                  <a:srgbClr val="000000"/>
                </a:solidFill>
                <a:latin typeface="Constantia"/>
              </a:rPr>
              <a:t>komutu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mı şu şekilde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echo $_COOKIE["</a:t>
            </a:r>
            <a:r>
              <a:rPr b="1" i="1" lang="tr-TR" sz="2600" spc="-1" strike="noStrike">
                <a:solidFill>
                  <a:srgbClr val="000000"/>
                </a:solidFill>
                <a:latin typeface="Constantia"/>
              </a:rPr>
              <a:t>çerez adı</a:t>
            </a:r>
            <a:r>
              <a:rPr b="1" i="1"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75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 ve Okuma</a:t>
            </a:r>
            <a:endParaRPr b="0" lang="en-US" sz="5000" spc="-1" strike="noStrike">
              <a:solidFill>
                <a:srgbClr val="04617b"/>
              </a:solidFill>
              <a:latin typeface="Calibri"/>
            </a:endParaRPr>
          </a:p>
        </p:txBody>
      </p:sp>
      <p:sp>
        <p:nvSpPr>
          <p:cNvPr id="211" name=""/>
          <p:cNvSpPr txBox="1"/>
          <p:nvPr/>
        </p:nvSpPr>
        <p:spPr>
          <a:xfrm>
            <a:off x="456840" y="1599840"/>
            <a:ext cx="7643880" cy="319716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lttaki örnekte setcookie komutu ile emyo isimli bir cookie oluşturduk. Cookie’nin değerini 1234 olarak tanımladık. Zaman aşımı olarak time() fonksiyonunu kullandık ve 3600 sn. yani 1 saat geçerli olacak şekilde belirttik. Son olarak echo komutu ile emyo isimli cookie’nin değerini ekrana yazdırdık. Bu örneği test ettiğimizde ekrandaki çıktı 1234 olacaktır.</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Rectangle 2"/>
          <p:cNvSpPr/>
          <p:nvPr/>
        </p:nvSpPr>
        <p:spPr>
          <a:xfrm>
            <a:off x="611280" y="4869000"/>
            <a:ext cx="4032000" cy="1465560"/>
          </a:xfrm>
          <a:prstGeom prst="rect">
            <a:avLst/>
          </a:prstGeom>
          <a:solidFill>
            <a:srgbClr val="009dd9"/>
          </a:solidFill>
          <a:ln w="3816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etcookie("</a:t>
            </a:r>
            <a:r>
              <a:rPr b="0" lang="tr-TR" sz="1800" spc="-1" strike="noStrike">
                <a:solidFill>
                  <a:srgbClr val="ffffff"/>
                </a:solidFill>
                <a:latin typeface="Constantia"/>
              </a:rPr>
              <a:t>emyo</a:t>
            </a:r>
            <a:r>
              <a:rPr b="0" lang="en-US" sz="1800" spc="-1" strike="noStrike">
                <a:solidFill>
                  <a:srgbClr val="ffffff"/>
                </a:solidFill>
                <a:latin typeface="Constantia"/>
              </a:rPr>
              <a:t>","1234",time()+3600);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echo $_COOKIE["</a:t>
            </a:r>
            <a:r>
              <a:rPr b="0" lang="tr-TR" sz="1800" spc="-1" strike="noStrike">
                <a:solidFill>
                  <a:srgbClr val="ffffff"/>
                </a:solidFill>
                <a:latin typeface="Constantia"/>
              </a:rPr>
              <a:t>emyo</a:t>
            </a:r>
            <a:r>
              <a:rPr b="0" lang="en-US" sz="1800" spc="-1" strike="noStrike">
                <a:solidFill>
                  <a:srgbClr val="ffffff"/>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gt;</a:t>
            </a:r>
            <a:endParaRPr b="0" lang="en-US" sz="1800" spc="-1" strike="noStrike">
              <a:solidFill>
                <a:srgbClr val="000000"/>
              </a:solidFill>
              <a:latin typeface="Calibri"/>
            </a:endParaRPr>
          </a:p>
        </p:txBody>
      </p:sp>
      <p:sp>
        <p:nvSpPr>
          <p:cNvPr id="213" name="Rectangle 3"/>
          <p:cNvSpPr/>
          <p:nvPr/>
        </p:nvSpPr>
        <p:spPr>
          <a:xfrm>
            <a:off x="5076720" y="5013360"/>
            <a:ext cx="3743280" cy="1310760"/>
          </a:xfrm>
          <a:prstGeom prst="rect">
            <a:avLst/>
          </a:prstGeom>
          <a:solidFill>
            <a:srgbClr val="10cf9b"/>
          </a:solidFill>
          <a:ln w="38160">
            <a:solidFill>
              <a:srgbClr val="ffffff"/>
            </a:solidFill>
            <a:miter/>
          </a:ln>
          <a:effectLst>
            <a:outerShdw dist="38160" dir="5400000" blurRad="0" rotWithShape="0">
              <a:srgbClr val="004531">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değişkenler internet explorer tarayıcısında şu klasörde C:/Documents and Settings/isminiz/Cookies içerisinde bir yazı dosyasında tutulu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Silme</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duğumuz bir çerezi silmek için yine normal bir çerez tanımlarmış gibi </a:t>
            </a:r>
            <a:r>
              <a:rPr b="1" lang="tr-TR" sz="2600" spc="-1" strike="noStrike">
                <a:solidFill>
                  <a:srgbClr val="000000"/>
                </a:solidFill>
                <a:latin typeface="Constantia"/>
              </a:rPr>
              <a:t>setcookie()</a:t>
            </a:r>
            <a:r>
              <a:rPr b="0" lang="tr-TR" sz="2600" spc="-1" strike="noStrike">
                <a:solidFill>
                  <a:srgbClr val="000000"/>
                </a:solidFill>
                <a:latin typeface="Constantia"/>
              </a:rPr>
              <a:t> fonksiyonunu kullanıyoruz. Tek fark 3. son kullanma tarihi paramtremize geçmiş bir zaman giriyoruz. Bu sayede çerezin tarihi dolmuş varsayılıp hemen siliniyor. Örnek olarak bu çereze </a:t>
            </a:r>
            <a:r>
              <a:rPr b="1" lang="tr-TR" sz="2600" spc="-1" strike="noStrike">
                <a:solidFill>
                  <a:srgbClr val="000000"/>
                </a:solidFill>
                <a:latin typeface="Constantia"/>
              </a:rPr>
              <a:t>time() – 3600</a:t>
            </a:r>
            <a:r>
              <a:rPr b="0" lang="tr-TR" sz="2600" spc="-1" strike="noStrike">
                <a:solidFill>
                  <a:srgbClr val="000000"/>
                </a:solidFill>
                <a:latin typeface="Constantia"/>
              </a:rPr>
              <a:t> diyerek 1 saat öncesini göstereceğiz ve çerez silinmiş olacak:</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600" spc="-1" strike="noStrike">
                <a:solidFill>
                  <a:srgbClr val="000000"/>
                </a:solidFill>
                <a:latin typeface="Constantia"/>
              </a:rPr>
              <a:t>setcookie("çerezim", "selam dünya", time() - 3600);</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Değerini Değiştirme</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erezleri oluşturmakta ve silmekte olduğu gibi değerini değiştirmekte de </a:t>
            </a:r>
            <a:r>
              <a:rPr b="0" lang="tr-TR" sz="2600" spc="-1" strike="noStrike">
                <a:solidFill>
                  <a:srgbClr val="ff0000"/>
                </a:solidFill>
                <a:latin typeface="Constantia"/>
              </a:rPr>
              <a:t>setcookie() </a:t>
            </a:r>
            <a:r>
              <a:rPr b="0" lang="tr-TR" sz="2600" spc="-1" strike="noStrike">
                <a:solidFill>
                  <a:srgbClr val="000000"/>
                </a:solidFill>
                <a:latin typeface="Constantia"/>
              </a:rPr>
              <a:t>fonksiyonunu kullanıyoruz. Ve oluşturmakta olduğu gibi değerini değiştirmekte aynıdır. Sadece çerez adına önceden tanımladığımız adı yazmamız yeterli. Eğer çerez yoksa oluşturulur varsa değeri değiştirilir.</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merhaba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_COOKIE['çerezim'];</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6T21:23:45Z</dcterms:created>
  <dc:creator>Emre&amp;Ceyda</dc:creator>
  <dc:description/>
  <dc:language>en-US</dc:language>
  <cp:lastModifiedBy>Vento</cp:lastModifiedBy>
  <dcterms:modified xsi:type="dcterms:W3CDTF">2013-11-26T12:37:35Z</dcterms:modified>
  <cp:revision>38</cp:revision>
  <dc:subject/>
  <dc:title>PowerPoint Presentation</dc:title>
</cp:coreProperties>
</file>